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8.png" ContentType="image/png"/>
  <Override PartName="/ppt/media/chimes.wav" ContentType="audio/x-wav"/>
  <Override PartName="/ppt/media/image16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7F4-5FFF-4809-BF5D-909215765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48C-4861-44C0-8548-0A27933A5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4789-4EB0-4416-803E-72C07CA3E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5CC4-19FF-4575-B560-23972CC32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0FF-7C1F-407A-9497-05B9B3678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0675-D1EC-4C3C-8480-8A080497F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9231-F43E-4007-87F5-34E6998DA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B88-F43E-47F1-B2A2-66979EBA8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3E5C-B762-4F47-91CC-C3C80800A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12C-C1F6-4C59-A51B-DAC35CB26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F97-BA89-4B8E-A2BB-A296E0438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EACA-454E-4992-B4E3-C15078F96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01B-28FA-48CD-B3A1-08CEF0E4E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433-90CC-485F-A11F-2A0774AE3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51E-205B-4FE4-9353-2E0877AB9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000C-24A6-427D-BFF5-604D418DD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A12-D751-4E3E-8B39-B7F554988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0BE-BD3C-47F4-B00F-DC26E3B13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2860-92C5-40C1-8546-DCDEF3778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B73-9673-4FE8-8629-64ED15B33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E00-7D53-423D-8DD3-AF8C2DCB6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FC28-1B77-4E17-BCF1-5296CA48E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69E-6652-4EF1-A66A-85DCDC5CB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249-5BB6-443A-8260-57BEB8573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0A0E-F738-4D97-A8DD-A68022ABA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CB0-A925-46BB-88A1-C8BC73865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CC5-0A35-4181-A1A3-2AFF1FA3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1EF-2A97-4D08-AB54-738FE6D5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602-23FB-4C65-9EAD-E4EACE6D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738-415F-4256-A858-E3AFAE1F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F0B-090A-4118-99C7-CA7EB021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3E2C-842D-4A8C-B763-D0C948B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B3B-7CE4-4CDA-B0F6-188752A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894D-1C50-42CD-9CF6-CA9AD50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AA26-9E49-4FB3-8271-42AA93D4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AEA-370A-436C-AF1D-C549CEED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96F9-92E1-423E-8790-DA565A5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C60-E468-4E00-9D74-CEB967D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001E-4FDF-4777-AFDE-30AD093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36AC-3F1A-4DB0-9F25-C904A4E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755C-0BD8-414C-A1A1-58D6524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F456-3516-464C-8B85-EF634A1B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3D83-2EE5-4A20-A5A4-248D25D0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5BB6-FC06-46F5-AF2F-0E432F0A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E91F-1B40-46F5-BAC6-3EA8E37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2305-A005-49E5-B6D7-18453C1A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E048-E79A-4537-A986-9A721409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7854-FFC9-4182-8668-6BAB539B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A3E-D17B-4A64-B338-ED3609CC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AF2B7-F061-4B6A-A0AF-A42AA59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DA7A-6882-4183-965A-5033CB6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7CB0-279B-4544-B818-1D8B982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00BB-393D-4221-B237-9E1750D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6BE4-6A64-4977-AB2F-5A85A75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CD39-2C3B-4D4A-B200-1D2FBA4F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8090-58CD-4619-8380-47C732E9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594F-596B-405F-83D2-B9A10EC8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820B-C1B3-4080-88D7-E08C0B8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5555-A07C-46C1-8D33-592416C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BD2-8122-42D5-8C26-B32E0509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2D9A-D44C-46CD-A68D-9F7060DC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0522-1FC6-4EF4-8EA3-7D49B5F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44A6-F41D-483D-85DA-4D9A17A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0BCE-2362-4017-996F-5003922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5CB0-5D38-4C3B-BBDF-B60EB19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0AE7-4F6B-4C82-A019-2C31348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96504-1D89-4D79-8FDA-781504FA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AC29-AF84-4FD1-89AC-1991D947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BBEE-F161-44A0-8C0A-B9A5EA18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3FAB5-571E-41D4-8493-793B7C76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F57-A7E3-43B7-BF5E-008036EB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5299-A123-4629-8A2E-21D6B7F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B1AF-46BA-4FA5-87E7-C3EBC3EB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101B-7AFA-41DF-A048-54F13D84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7145-2FF9-420D-8125-019C6D41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12D9-935A-4603-8577-1B0BFDFD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0816-35D8-4487-86BF-643A9B2B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E2D1-617D-40E3-9C3F-AF68F7BE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6030-2851-4986-8F75-AAC6F2C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6DC1-CCF4-494B-880C-8C1A9F7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CE2E3-95B9-430A-AAF0-DED4A113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9AF-43B2-4C99-AEF6-13D1C76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6255-E0F2-4CFC-B031-4AF3F83A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157-01C4-428A-9539-E884305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0EE-FBB9-4845-8A93-6F131AD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B26-5768-4F0F-B57D-8E47B83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0FF-F5AD-45EB-B4B2-6DD5CD70C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8F85-6B16-48FB-B88A-3F44B37E7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416-7FF3-4A84-B26A-7A103A75D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0A2-6D4E-41DF-B4CF-058CD2453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7C0-E291-412B-8DC0-A5588EDB9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108000" y="0"/>
            <a:ext cx="9036000" cy="66009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3564000" y="39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ЕЗОПАСНАЯ ДОР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автозаправка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автозаправка"/>
          <p:cNvPicPr/>
          <p:nvPr/>
        </p:nvPicPr>
        <p:blipFill>
          <a:blip r:embed="rId1"/>
          <a:stretch/>
        </p:blipFill>
        <p:spPr>
          <a:xfrm>
            <a:off x="2916360" y="476280"/>
            <a:ext cx="3313080" cy="2482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755640" y="407664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Автозаправочная стан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пункт первой медицинской помощи"/>
          <p:cNvPicPr/>
          <p:nvPr/>
        </p:nvPicPr>
        <p:blipFill>
          <a:blip r:embed="rId1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пункт первой медицинской помощи"/>
          <p:cNvPicPr/>
          <p:nvPr/>
        </p:nvPicPr>
        <p:blipFill>
          <a:blip r:embed="rId1"/>
          <a:stretch/>
        </p:blipFill>
        <p:spPr>
          <a:xfrm>
            <a:off x="684360" y="1268280"/>
            <a:ext cx="2624040" cy="3716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924360" y="1628640"/>
            <a:ext cx="46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Пункт      первой медицинск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пункт первой медицинской помощи"/>
          <p:cNvPicPr/>
          <p:nvPr/>
        </p:nvPicPr>
        <p:blipFill>
          <a:blip r:embed="rId2"/>
          <a:stretch/>
        </p:blipFill>
        <p:spPr>
          <a:xfrm>
            <a:off x="684360" y="1268280"/>
            <a:ext cx="2624040" cy="371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наки серв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автозаправка"/>
          <p:cNvPicPr/>
          <p:nvPr/>
        </p:nvPicPr>
        <p:blipFill>
          <a:blip r:embed="rId1"/>
          <a:stretch/>
        </p:blipFill>
        <p:spPr>
          <a:xfrm>
            <a:off x="250920" y="18900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пункт питания"/>
          <p:cNvPicPr/>
          <p:nvPr/>
        </p:nvPicPr>
        <p:blipFill>
          <a:blip r:embed="rId2"/>
          <a:stretch/>
        </p:blipFill>
        <p:spPr>
          <a:xfrm>
            <a:off x="3780000" y="260280"/>
            <a:ext cx="1674720" cy="237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пункт первой медицинской помощи"/>
          <p:cNvPicPr/>
          <p:nvPr/>
        </p:nvPicPr>
        <p:blipFill>
          <a:blip r:embed="rId3"/>
          <a:stretch/>
        </p:blipFill>
        <p:spPr>
          <a:xfrm>
            <a:off x="6443640" y="260280"/>
            <a:ext cx="16779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проезд запрещён"/>
          <p:cNvPicPr/>
          <p:nvPr/>
        </p:nvPicPr>
        <p:blipFill>
          <a:blip r:embed="rId1"/>
          <a:stretch/>
        </p:blipFill>
        <p:spPr>
          <a:xfrm>
            <a:off x="1332000" y="-674640"/>
            <a:ext cx="6635520" cy="92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проезд запрещён"/>
          <p:cNvPicPr/>
          <p:nvPr/>
        </p:nvPicPr>
        <p:blipFill>
          <a:blip r:embed="rId1"/>
          <a:stretch/>
        </p:blipFill>
        <p:spPr>
          <a:xfrm>
            <a:off x="3308400" y="476280"/>
            <a:ext cx="2367000" cy="3313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684360" y="5013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Въезд запрещё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движение на велосипеде запрещено 2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движение на велосипеде запрещено 2"/>
          <p:cNvPicPr/>
          <p:nvPr/>
        </p:nvPicPr>
        <p:blipFill>
          <a:blip r:embed="rId1"/>
          <a:stretch/>
        </p:blipFill>
        <p:spPr>
          <a:xfrm>
            <a:off x="3132000" y="333360"/>
            <a:ext cx="2868840" cy="28684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755640" y="40053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Движение на велосипеде запрещ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движение пешеходов запрещено 2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дорожные знаки - копия"/>
          <p:cNvPicPr/>
          <p:nvPr/>
        </p:nvPicPr>
        <p:blipFill>
          <a:blip r:embed="rId1"/>
          <a:stretch/>
        </p:blipFill>
        <p:spPr>
          <a:xfrm>
            <a:off x="0" y="-919080"/>
            <a:ext cx="9144000" cy="84772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395280" y="836640"/>
            <a:ext cx="84247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00"/>
                </a:solidFill>
                <a:latin typeface="Arial"/>
              </a:rPr>
              <a:t>Парк дорожных знаков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движение пешеходов запрещено 2"/>
          <p:cNvPicPr/>
          <p:nvPr/>
        </p:nvPicPr>
        <p:blipFill>
          <a:blip r:embed="rId1"/>
          <a:stretch/>
        </p:blipFill>
        <p:spPr>
          <a:xfrm>
            <a:off x="3276720" y="62064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042920" y="414972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Движение пешеходов запрещ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движение пешеходов запрещено 2"/>
          <p:cNvPicPr/>
          <p:nvPr/>
        </p:nvPicPr>
        <p:blipFill>
          <a:blip r:embed="rId1"/>
          <a:stretch/>
        </p:blipFill>
        <p:spPr>
          <a:xfrm>
            <a:off x="179280" y="26028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проезд запрещён 2"/>
          <p:cNvPicPr/>
          <p:nvPr/>
        </p:nvPicPr>
        <p:blipFill>
          <a:blip r:embed="rId2"/>
          <a:stretch/>
        </p:blipFill>
        <p:spPr>
          <a:xfrm>
            <a:off x="2987640" y="333360"/>
            <a:ext cx="2952720" cy="253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движение на велосипеде запрещено 2"/>
          <p:cNvPicPr/>
          <p:nvPr/>
        </p:nvPicPr>
        <p:blipFill>
          <a:blip r:embed="rId3"/>
          <a:stretch/>
        </p:blipFill>
        <p:spPr>
          <a:xfrm>
            <a:off x="6372360" y="3207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остановка автобуса и троллейбуса"/>
          <p:cNvPicPr/>
          <p:nvPr/>
        </p:nvPicPr>
        <p:blipFill>
          <a:blip r:embed="rId1"/>
          <a:stretch/>
        </p:blipFill>
        <p:spPr>
          <a:xfrm>
            <a:off x="2335320" y="0"/>
            <a:ext cx="44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остановка автобуса и троллейбуса"/>
          <p:cNvPicPr/>
          <p:nvPr/>
        </p:nvPicPr>
        <p:blipFill>
          <a:blip r:embed="rId1"/>
          <a:stretch/>
        </p:blipFill>
        <p:spPr>
          <a:xfrm>
            <a:off x="3419640" y="189000"/>
            <a:ext cx="2207880" cy="33843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1042920" y="4581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Остановка автоб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пешеходный переход 2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пешеходный переход 2"/>
          <p:cNvPicPr/>
          <p:nvPr/>
        </p:nvPicPr>
        <p:blipFill>
          <a:blip r:embed="rId1"/>
          <a:stretch/>
        </p:blipFill>
        <p:spPr>
          <a:xfrm>
            <a:off x="3348000" y="404640"/>
            <a:ext cx="2662200" cy="26625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476360" y="400536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остановка автобуса и троллейбуса"/>
          <p:cNvPicPr/>
          <p:nvPr/>
        </p:nvPicPr>
        <p:blipFill>
          <a:blip r:embed="rId1"/>
          <a:stretch/>
        </p:blipFill>
        <p:spPr>
          <a:xfrm>
            <a:off x="468360" y="333360"/>
            <a:ext cx="2208240" cy="338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пешеходный переход 2"/>
          <p:cNvPicPr/>
          <p:nvPr/>
        </p:nvPicPr>
        <p:blipFill>
          <a:blip r:embed="rId2"/>
          <a:stretch/>
        </p:blipFill>
        <p:spPr>
          <a:xfrm>
            <a:off x="3348000" y="404640"/>
            <a:ext cx="2662200" cy="266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остановка троллейбуса"/>
          <p:cNvPicPr/>
          <p:nvPr/>
        </p:nvPicPr>
        <p:blipFill>
          <a:blip r:embed="rId3"/>
          <a:stretch/>
        </p:blipFill>
        <p:spPr>
          <a:xfrm>
            <a:off x="6611760" y="404640"/>
            <a:ext cx="2132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ильное поведение на дорогах -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удьте воспитанными пешехода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95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0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3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6" dur="2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9" dur="20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железнодорожный переезд, шлагбаум 2"/>
          <p:cNvPicPr/>
          <p:nvPr/>
        </p:nvPicPr>
        <p:blipFill>
          <a:blip r:embed="rId1"/>
          <a:stretch/>
        </p:blipFill>
        <p:spPr>
          <a:xfrm>
            <a:off x="684360" y="-17640"/>
            <a:ext cx="777528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железнодорожный переезд, шлагбаум 2"/>
          <p:cNvPicPr/>
          <p:nvPr/>
        </p:nvPicPr>
        <p:blipFill>
          <a:blip r:embed="rId1"/>
          <a:stretch/>
        </p:blipFill>
        <p:spPr>
          <a:xfrm>
            <a:off x="2987640" y="260280"/>
            <a:ext cx="3240000" cy="2871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76360" y="43657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елезнодорожный переезд со шлагба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железнодорожный переезд, шлагбаум 2"/>
          <p:cNvPicPr/>
          <p:nvPr/>
        </p:nvPicPr>
        <p:blipFill>
          <a:blip r:embed="rId2"/>
          <a:stretch/>
        </p:blipFill>
        <p:spPr>
          <a:xfrm>
            <a:off x="2987640" y="260280"/>
            <a:ext cx="3240000" cy="28717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дорожные работы"/>
          <p:cNvPicPr/>
          <p:nvPr/>
        </p:nvPicPr>
        <p:blipFill>
          <a:blip r:embed="rId1"/>
          <a:stretch/>
        </p:blipFill>
        <p:spPr>
          <a:xfrm>
            <a:off x="684360" y="-17640"/>
            <a:ext cx="777528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дорожные работы"/>
          <p:cNvPicPr/>
          <p:nvPr/>
        </p:nvPicPr>
        <p:blipFill>
          <a:blip r:embed="rId1"/>
          <a:stretch/>
        </p:blipFill>
        <p:spPr>
          <a:xfrm>
            <a:off x="2987640" y="476280"/>
            <a:ext cx="3384720" cy="3000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68360" y="45813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Дорожные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дорожные работы"/>
          <p:cNvPicPr/>
          <p:nvPr/>
        </p:nvPicPr>
        <p:blipFill>
          <a:blip r:embed="rId2"/>
          <a:stretch/>
        </p:blipFill>
        <p:spPr>
          <a:xfrm>
            <a:off x="2987640" y="476280"/>
            <a:ext cx="3384720" cy="30002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осторожно 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осторожно дети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067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826920" y="4437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Дет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осторожно дети"/>
          <p:cNvPicPr/>
          <p:nvPr/>
        </p:nvPicPr>
        <p:blipFill>
          <a:blip r:embed="rId1"/>
          <a:stretch/>
        </p:blipFill>
        <p:spPr>
          <a:xfrm>
            <a:off x="2987640" y="260280"/>
            <a:ext cx="3043440" cy="2874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железнодорожный переезд, шлагбаум 2"/>
          <p:cNvPicPr/>
          <p:nvPr/>
        </p:nvPicPr>
        <p:blipFill>
          <a:blip r:embed="rId2"/>
          <a:stretch/>
        </p:blipFill>
        <p:spPr>
          <a:xfrm>
            <a:off x="0" y="119700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дорожные работы"/>
          <p:cNvPicPr/>
          <p:nvPr/>
        </p:nvPicPr>
        <p:blipFill>
          <a:blip r:embed="rId3"/>
          <a:stretch/>
        </p:blipFill>
        <p:spPr>
          <a:xfrm>
            <a:off x="6286680" y="1197000"/>
            <a:ext cx="2857320" cy="2533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8:23:51Z</dcterms:created>
  <dc:creator>Пользователь</dc:creator>
  <dc:description/>
  <dc:language>en-US</dc:language>
  <cp:lastModifiedBy>5</cp:lastModifiedBy>
  <dcterms:modified xsi:type="dcterms:W3CDTF">2018-11-15T14:34:28Z</dcterms:modified>
  <cp:revision>12</cp:revision>
  <dc:subject/>
  <dc:title>Слайд 1</dc:title>
</cp:coreProperties>
</file>