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8.png" ContentType="image/png"/>
  <Override PartName="/ppt/media/chimes.wav" ContentType="audio/x-wav"/>
  <Override PartName="/ppt/media/image16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6631-9E90-48DF-A343-1EA71FD80F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A8DB-33DB-4517-A9AE-4AFC4DB868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060C-055E-422A-89BF-F2A9CE18CD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A292-B1DD-4359-AA20-90CD4A8C0D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8287-13DA-4613-9042-F8184AF282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E7A3-0305-469B-9514-8718AFEBFB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3DEF-1D0F-40EC-9490-89C9BB72FE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A5ED-AEB2-426C-8909-EFF75275D0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93BD-0FE1-4317-B7C8-DCE2800140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57E8-7ADB-40DD-9D2A-A800EB2D9D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FB74-EE5B-43A3-8B00-5EF65E00BB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AB28-CDA4-4A31-B40D-40DDFD6345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7681-8A6D-41BD-BDDC-CA73FFDCBB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5F67-5F7E-4C67-B803-8CC4210FCE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F91A-0284-4E5F-8A41-DFF1E01D35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B56F-9FBC-479D-9F3F-A52C03DBA4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0B24-6952-4645-B08B-C4503085E0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6382-0675-49A5-8018-85FB0AC310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7239-3593-453A-9E7C-BF8EBD7AD4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1DB9-5663-4223-9E33-650081C4FA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F0BA-0B80-4205-91E2-55A88EAE5D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19A7-75B1-4D8C-AF07-E1456FAEAE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8130-E364-4E30-B7AD-C246821D04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1165-C4A8-41C1-93BF-AEA6FCD536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AC3A-E97D-4C68-AF39-03CF0F513D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954C-B567-41E0-B97B-2077D3FC49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090-CF46-4173-8C78-62824C54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48E-0D91-4B4F-9C83-FB259749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6DF-9D27-4F7F-BD12-FDCB3688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7524-1E00-4FAB-9881-2EAF4391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8912-141B-4739-8FAB-CD22CFD7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120D-B07A-437A-AED3-CC78C53A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A5F1-51BB-4CCC-983B-D79DE56D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6240-ED8C-4D1C-B8DA-9D91A8C5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3F9A-31DE-4E6B-896B-86343679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59F3-DED2-4A4D-B5D9-FA7628E2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39A5-06FD-4F77-B576-5AF85F3E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0CE3-1D83-475D-84C2-B1D89811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89C6-F034-4608-9927-18216A57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FECF-4E3C-4DB9-922C-1D342E36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12E3-5860-46E4-8C15-2589FF29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785C-D51D-4E50-BA3A-62003941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6D9D-D35F-4D83-82F7-7DBCD8FE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63D2C-A153-45CD-B5A4-DD129BD5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A6800-6342-4829-B9F6-383B91D2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15FE7-859F-4AE2-AF86-459A6324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95C1E-E0C2-455E-B161-D044FB44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A99E2-8D7D-413F-8FB8-8F7771BA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863-BAE4-494E-BFF1-325A4118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AACEC-D46D-4F6A-8CEE-FB6C8F79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4BC34-2ECE-4F7F-8AB7-160A1261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81637-B6EC-48C0-94E6-DEDF6837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C5073-1CCF-4340-9F80-0A334318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3326E-11BE-454E-82E9-A5ACF13D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2191B-2552-4496-B45E-F53A94C2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C3C6E-72A8-4A16-BBA8-291C009C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FC12D-4B18-408B-9D19-CD09C2EF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1CC35-555C-44CB-B670-14EFBF2F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07E7D-1E6F-4CBA-AF96-7FA5374B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FCFD-0903-4F6C-A448-848D354D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25EA5-ACCF-4BF0-A063-BB950A92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FE83D-2263-4070-B470-7A2C3F1B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01F60-EA1A-44FF-9C01-C9F9D5B4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75300-DC1C-4A42-864F-8E984578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A8428-60F4-4A7E-B432-3AB5BDBB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54168-9893-4A9D-9CE4-D9F99E8E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9658A-7F78-42B2-B5AE-BC405510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A35E8-68C0-4312-BB75-FDB43EDF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04240-BA09-4B61-846D-7564ED77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A67BD-B488-4DCC-AB29-8A0F1728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30C5-80A6-4833-A2DD-8B4C06D4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362F0-15F9-4A7E-8948-7DEF98AC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883AE-EFC1-4508-AA8B-127622F9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D276F-A232-4A2C-A66B-E6B14C0C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43BE9-B682-4B7D-9685-0F1315A7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E6D47-50A0-4004-B722-B7DEBCE1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27C8B-1942-4361-9230-0C0D7389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D523D-79AA-4690-9EDB-606D10AE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209D2-9325-4D4F-B704-48394F9C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3D1F7-FD9E-4A4C-9A5C-33F5168F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61199-4C77-4CC9-96DD-42E244C0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D76-9AE1-43DD-BDBD-DC955E11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3C08C-F729-4F9E-8AAD-CCA0FC00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22BC-798B-4430-A49D-C067B359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3996-52F3-46BE-A689-9FB7BA2C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011-59CE-4819-BE04-292764D9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219D-5F72-46E8-8CCA-8B107EBEB7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85BE-9094-45B4-A9B5-7325EBE247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FFA2-BEE6-437E-9A84-79703F4642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CDE9-76CC-499E-A751-6450BB311F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7CBB-7DFC-48D6-A63E-2ED622F132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108000" y="0"/>
            <a:ext cx="9036000" cy="66009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3"/>
          <p:cNvSpPr/>
          <p:nvPr/>
        </p:nvSpPr>
        <p:spPr>
          <a:xfrm>
            <a:off x="3564000" y="393372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БЕЗОПАСНАЯ ДОР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автозаправка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автозаправка"/>
          <p:cNvPicPr/>
          <p:nvPr/>
        </p:nvPicPr>
        <p:blipFill>
          <a:blip r:embed="rId1"/>
          <a:stretch/>
        </p:blipFill>
        <p:spPr>
          <a:xfrm>
            <a:off x="2916360" y="476280"/>
            <a:ext cx="3313080" cy="24829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755640" y="407664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Автозаправочная стан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пункт первой медицинской помощи"/>
          <p:cNvPicPr/>
          <p:nvPr/>
        </p:nvPicPr>
        <p:blipFill>
          <a:blip r:embed="rId1"/>
          <a:stretch/>
        </p:blipFill>
        <p:spPr>
          <a:xfrm>
            <a:off x="2151000" y="0"/>
            <a:ext cx="484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пункт первой медицинской помощи"/>
          <p:cNvPicPr/>
          <p:nvPr/>
        </p:nvPicPr>
        <p:blipFill>
          <a:blip r:embed="rId1"/>
          <a:stretch/>
        </p:blipFill>
        <p:spPr>
          <a:xfrm>
            <a:off x="684360" y="1268280"/>
            <a:ext cx="2624040" cy="3716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3924360" y="1628640"/>
            <a:ext cx="468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Пункт      первой медицинской помощ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пункт первой медицинской помощи"/>
          <p:cNvPicPr/>
          <p:nvPr/>
        </p:nvPicPr>
        <p:blipFill>
          <a:blip r:embed="rId2"/>
          <a:stretch/>
        </p:blipFill>
        <p:spPr>
          <a:xfrm>
            <a:off x="684360" y="1268280"/>
            <a:ext cx="2624040" cy="3716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5"/>
          <p:cNvSpPr/>
          <p:nvPr/>
        </p:nvSpPr>
        <p:spPr>
          <a:xfrm>
            <a:off x="826920" y="472428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Предупреждаю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684360" y="3860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прещающ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684360" y="551664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наки серви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автозаправка"/>
          <p:cNvPicPr/>
          <p:nvPr/>
        </p:nvPicPr>
        <p:blipFill>
          <a:blip r:embed="rId1"/>
          <a:stretch/>
        </p:blipFill>
        <p:spPr>
          <a:xfrm>
            <a:off x="250920" y="189000"/>
            <a:ext cx="3228840" cy="2419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пункт питания"/>
          <p:cNvPicPr/>
          <p:nvPr/>
        </p:nvPicPr>
        <p:blipFill>
          <a:blip r:embed="rId2"/>
          <a:stretch/>
        </p:blipFill>
        <p:spPr>
          <a:xfrm>
            <a:off x="3780000" y="260280"/>
            <a:ext cx="1674720" cy="2376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пункт первой медицинской помощи"/>
          <p:cNvPicPr/>
          <p:nvPr/>
        </p:nvPicPr>
        <p:blipFill>
          <a:blip r:embed="rId3"/>
          <a:stretch/>
        </p:blipFill>
        <p:spPr>
          <a:xfrm>
            <a:off x="6443640" y="260280"/>
            <a:ext cx="16779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проезд запрещён"/>
          <p:cNvPicPr/>
          <p:nvPr/>
        </p:nvPicPr>
        <p:blipFill>
          <a:blip r:embed="rId1"/>
          <a:stretch/>
        </p:blipFill>
        <p:spPr>
          <a:xfrm>
            <a:off x="1332000" y="-674640"/>
            <a:ext cx="6635520" cy="92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проезд запрещён"/>
          <p:cNvPicPr/>
          <p:nvPr/>
        </p:nvPicPr>
        <p:blipFill>
          <a:blip r:embed="rId1"/>
          <a:stretch/>
        </p:blipFill>
        <p:spPr>
          <a:xfrm>
            <a:off x="3308400" y="476280"/>
            <a:ext cx="2367000" cy="33130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684360" y="501336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Въезд запрещё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движение на велосипеде запрещено 2"/>
          <p:cNvPicPr/>
          <p:nvPr/>
        </p:nvPicPr>
        <p:blipFill>
          <a:blip r:embed="rId1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движение на велосипеде запрещено 2"/>
          <p:cNvPicPr/>
          <p:nvPr/>
        </p:nvPicPr>
        <p:blipFill>
          <a:blip r:embed="rId1"/>
          <a:stretch/>
        </p:blipFill>
        <p:spPr>
          <a:xfrm>
            <a:off x="3132000" y="333360"/>
            <a:ext cx="2868840" cy="28684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755640" y="4005360"/>
            <a:ext cx="77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Движение на велосипеде запреще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движение пешеходов запрещено 2"/>
          <p:cNvPicPr/>
          <p:nvPr/>
        </p:nvPicPr>
        <p:blipFill>
          <a:blip r:embed="rId1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дорожные знаки - копия"/>
          <p:cNvPicPr/>
          <p:nvPr/>
        </p:nvPicPr>
        <p:blipFill>
          <a:blip r:embed="rId1"/>
          <a:stretch/>
        </p:blipFill>
        <p:spPr>
          <a:xfrm>
            <a:off x="0" y="-919080"/>
            <a:ext cx="9144000" cy="84772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395280" y="836640"/>
            <a:ext cx="842472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f0000"/>
                </a:solidFill>
                <a:latin typeface="Arial"/>
              </a:rPr>
              <a:t>Парк дорожных знаков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движение пешеходов запрещено 2"/>
          <p:cNvPicPr/>
          <p:nvPr/>
        </p:nvPicPr>
        <p:blipFill>
          <a:blip r:embed="rId1"/>
          <a:stretch/>
        </p:blipFill>
        <p:spPr>
          <a:xfrm>
            <a:off x="3276720" y="620640"/>
            <a:ext cx="2663640" cy="26640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1042920" y="4149720"/>
            <a:ext cx="73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Движение пешеходов запреще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5"/>
          <p:cNvSpPr/>
          <p:nvPr/>
        </p:nvSpPr>
        <p:spPr>
          <a:xfrm>
            <a:off x="826920" y="472428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Предупреждаю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684360" y="3860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прещающ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684360" y="551664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Информацион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8" descr="движение пешеходов запрещено 2"/>
          <p:cNvPicPr/>
          <p:nvPr/>
        </p:nvPicPr>
        <p:blipFill>
          <a:blip r:embed="rId1"/>
          <a:stretch/>
        </p:blipFill>
        <p:spPr>
          <a:xfrm>
            <a:off x="179280" y="26028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проезд запрещён 2"/>
          <p:cNvPicPr/>
          <p:nvPr/>
        </p:nvPicPr>
        <p:blipFill>
          <a:blip r:embed="rId2"/>
          <a:stretch/>
        </p:blipFill>
        <p:spPr>
          <a:xfrm>
            <a:off x="2987640" y="333360"/>
            <a:ext cx="2952720" cy="2538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движение на велосипеде запрещено 2"/>
          <p:cNvPicPr/>
          <p:nvPr/>
        </p:nvPicPr>
        <p:blipFill>
          <a:blip r:embed="rId3"/>
          <a:stretch/>
        </p:blipFill>
        <p:spPr>
          <a:xfrm>
            <a:off x="6372360" y="32076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остановка автобуса и троллейбуса"/>
          <p:cNvPicPr/>
          <p:nvPr/>
        </p:nvPicPr>
        <p:blipFill>
          <a:blip r:embed="rId1"/>
          <a:stretch/>
        </p:blipFill>
        <p:spPr>
          <a:xfrm>
            <a:off x="2335320" y="0"/>
            <a:ext cx="447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остановка автобуса и троллейбуса"/>
          <p:cNvPicPr/>
          <p:nvPr/>
        </p:nvPicPr>
        <p:blipFill>
          <a:blip r:embed="rId1"/>
          <a:stretch/>
        </p:blipFill>
        <p:spPr>
          <a:xfrm>
            <a:off x="3419640" y="189000"/>
            <a:ext cx="2207880" cy="33843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5"/>
          <p:cNvSpPr/>
          <p:nvPr/>
        </p:nvSpPr>
        <p:spPr>
          <a:xfrm>
            <a:off x="1042920" y="458136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Остановка автобу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пешеходный переход 2"/>
          <p:cNvPicPr/>
          <p:nvPr/>
        </p:nvPicPr>
        <p:blipFill>
          <a:blip r:embed="rId1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пешеходный переход 2"/>
          <p:cNvPicPr/>
          <p:nvPr/>
        </p:nvPicPr>
        <p:blipFill>
          <a:blip r:embed="rId1"/>
          <a:stretch/>
        </p:blipFill>
        <p:spPr>
          <a:xfrm>
            <a:off x="3348000" y="404640"/>
            <a:ext cx="2662200" cy="266256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"/>
          <p:cNvSpPr/>
          <p:nvPr/>
        </p:nvSpPr>
        <p:spPr>
          <a:xfrm>
            <a:off x="1476360" y="4005360"/>
            <a:ext cx="64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Пешеходный перех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5"/>
          <p:cNvSpPr/>
          <p:nvPr/>
        </p:nvSpPr>
        <p:spPr>
          <a:xfrm>
            <a:off x="826920" y="472428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Предупреждаю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684360" y="3860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прещающ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684360" y="551664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Информацион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остановка автобуса и троллейбуса"/>
          <p:cNvPicPr/>
          <p:nvPr/>
        </p:nvPicPr>
        <p:blipFill>
          <a:blip r:embed="rId1"/>
          <a:stretch/>
        </p:blipFill>
        <p:spPr>
          <a:xfrm>
            <a:off x="468360" y="333360"/>
            <a:ext cx="2208240" cy="3384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пешеходный переход 2"/>
          <p:cNvPicPr/>
          <p:nvPr/>
        </p:nvPicPr>
        <p:blipFill>
          <a:blip r:embed="rId2"/>
          <a:stretch/>
        </p:blipFill>
        <p:spPr>
          <a:xfrm>
            <a:off x="3348000" y="404640"/>
            <a:ext cx="2662200" cy="2662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остановка троллейбуса"/>
          <p:cNvPicPr/>
          <p:nvPr/>
        </p:nvPicPr>
        <p:blipFill>
          <a:blip r:embed="rId3"/>
          <a:stretch/>
        </p:blipFill>
        <p:spPr>
          <a:xfrm>
            <a:off x="6611760" y="404640"/>
            <a:ext cx="21322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500040" y="28548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авильное поведение на дорогах -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казатель культуры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Желаю всем безопасных доро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удьте воспитанными пешеходам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 новых встреч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95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100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103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106" dur="20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109" dur="20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железнодорожный переезд, шлагбаум 2"/>
          <p:cNvPicPr/>
          <p:nvPr/>
        </p:nvPicPr>
        <p:blipFill>
          <a:blip r:embed="rId1"/>
          <a:stretch/>
        </p:blipFill>
        <p:spPr>
          <a:xfrm>
            <a:off x="684360" y="-17640"/>
            <a:ext cx="7775280" cy="68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железнодорожный переезд, шлагбаум 2"/>
          <p:cNvPicPr/>
          <p:nvPr/>
        </p:nvPicPr>
        <p:blipFill>
          <a:blip r:embed="rId1"/>
          <a:stretch/>
        </p:blipFill>
        <p:spPr>
          <a:xfrm>
            <a:off x="2987640" y="260280"/>
            <a:ext cx="3240000" cy="2871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1476360" y="436572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Железнодорожный переезд со шлагбаум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железнодорожный переезд, шлагбаум 2"/>
          <p:cNvPicPr/>
          <p:nvPr/>
        </p:nvPicPr>
        <p:blipFill>
          <a:blip r:embed="rId2"/>
          <a:stretch/>
        </p:blipFill>
        <p:spPr>
          <a:xfrm>
            <a:off x="2987640" y="260280"/>
            <a:ext cx="3240000" cy="287172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дорожные работы"/>
          <p:cNvPicPr/>
          <p:nvPr/>
        </p:nvPicPr>
        <p:blipFill>
          <a:blip r:embed="rId1"/>
          <a:stretch/>
        </p:blipFill>
        <p:spPr>
          <a:xfrm>
            <a:off x="684360" y="-17640"/>
            <a:ext cx="7775280" cy="68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дорожные работы"/>
          <p:cNvPicPr/>
          <p:nvPr/>
        </p:nvPicPr>
        <p:blipFill>
          <a:blip r:embed="rId1"/>
          <a:stretch/>
        </p:blipFill>
        <p:spPr>
          <a:xfrm>
            <a:off x="2987640" y="476280"/>
            <a:ext cx="3384720" cy="30002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468360" y="458136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Дорожные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дорожные работы"/>
          <p:cNvPicPr/>
          <p:nvPr/>
        </p:nvPicPr>
        <p:blipFill>
          <a:blip r:embed="rId2"/>
          <a:stretch/>
        </p:blipFill>
        <p:spPr>
          <a:xfrm>
            <a:off x="2987640" y="476280"/>
            <a:ext cx="3384720" cy="300024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осторожно 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70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осторожно дети"/>
          <p:cNvPicPr/>
          <p:nvPr/>
        </p:nvPicPr>
        <p:blipFill>
          <a:blip r:embed="rId1"/>
          <a:stretch/>
        </p:blipFill>
        <p:spPr>
          <a:xfrm>
            <a:off x="2627280" y="476280"/>
            <a:ext cx="3816360" cy="30672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826920" y="443700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Дет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осторожно дети"/>
          <p:cNvPicPr/>
          <p:nvPr/>
        </p:nvPicPr>
        <p:blipFill>
          <a:blip r:embed="rId1"/>
          <a:stretch/>
        </p:blipFill>
        <p:spPr>
          <a:xfrm>
            <a:off x="2987640" y="260280"/>
            <a:ext cx="3043440" cy="2874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железнодорожный переезд, шлагбаум 2"/>
          <p:cNvPicPr/>
          <p:nvPr/>
        </p:nvPicPr>
        <p:blipFill>
          <a:blip r:embed="rId2"/>
          <a:stretch/>
        </p:blipFill>
        <p:spPr>
          <a:xfrm>
            <a:off x="0" y="1197000"/>
            <a:ext cx="2857680" cy="2533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дорожные работы"/>
          <p:cNvPicPr/>
          <p:nvPr/>
        </p:nvPicPr>
        <p:blipFill>
          <a:blip r:embed="rId3"/>
          <a:stretch/>
        </p:blipFill>
        <p:spPr>
          <a:xfrm>
            <a:off x="6286680" y="1197000"/>
            <a:ext cx="2857320" cy="25336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826920" y="472428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Предупреждаю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4360" y="3860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прещающ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4360" y="551664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Информацион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8:23:51Z</dcterms:created>
  <dc:creator>Пользователь</dc:creator>
  <dc:description/>
  <dc:language>en-US</dc:language>
  <cp:lastModifiedBy>5</cp:lastModifiedBy>
  <dcterms:modified xsi:type="dcterms:W3CDTF">2018-11-15T14:34:28Z</dcterms:modified>
  <cp:revision>12</cp:revision>
  <dc:subject/>
  <dc:title>Слайд 1</dc:title>
</cp:coreProperties>
</file>