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78E-3D28-44A9-82F1-CE6EFD22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9C8-118B-417F-86C8-E5A1090D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7D3-8BA2-4A90-A53B-51EBDEEC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31D-7EE7-4D5E-869E-EB2F6CB4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6D32-B284-45FE-AB96-199D9229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39CC-0E22-43F6-9690-6254D12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B53-004B-4903-AEED-A96077B1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EAA3-62CC-4B98-9556-A90D9DD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0668-D80A-4085-AC58-DA4DAF6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0831-FCC0-4BE2-9F42-8961B97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8E06-BAD6-410A-9794-51CFCEC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EF2-7A33-47C6-918C-F1FD3E94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DD68-B7FD-448B-B1EA-E97CC33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D992-6305-4EC3-9558-CDED5A0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30C-65B8-4841-B3B4-03B9E760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D25-0EDC-4734-941B-06A65B06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AA5-184C-4990-B31F-BF18675B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3D3-DEBE-4B58-8360-918274CB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5ED-72FD-4A3D-8C8A-4A88071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154-5FAF-44A2-AB09-4CF5A96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4E8-A5E2-487F-BA87-D54BA94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CEA-09A1-4EF0-9391-6195739A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8C2-ADFB-40F2-AECB-62CDF11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1C3-5724-4A94-BAF8-9F5A03E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211-C320-45D0-AC6F-3D5428104A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08D-F39F-4A97-8F2E-BF813F331F5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000" y="2781360"/>
            <a:ext cx="755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«Работа по развитию у детей познавательно-речевой активности, любознательности, стремлении к самостоятельному познанию и размышлению через организацию проектной деятельност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1"/>
          <a:stretch/>
        </p:blipFill>
        <p:spPr>
          <a:xfrm>
            <a:off x="237960" y="103320"/>
            <a:ext cx="1609920" cy="16095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826920" y="213372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Консультация для воспит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92468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Narrow"/>
              </a:rPr>
              <a:t>Совершенствование тонкой моторики рук-развития психической сферы детей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611280" y="1515960"/>
            <a:ext cx="3313080" cy="2849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"/>
          <p:cNvPicPr/>
          <p:nvPr/>
        </p:nvPicPr>
        <p:blipFill>
          <a:blip r:embed="rId2"/>
          <a:stretch/>
        </p:blipFill>
        <p:spPr>
          <a:xfrm>
            <a:off x="4273560" y="1515960"/>
            <a:ext cx="3394080" cy="283680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"/>
          <p:cNvPicPr/>
          <p:nvPr/>
        </p:nvPicPr>
        <p:blipFill>
          <a:blip r:embed="rId3"/>
          <a:stretch/>
        </p:blipFill>
        <p:spPr>
          <a:xfrm>
            <a:off x="2700360" y="458136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09120" y="259920"/>
            <a:ext cx="69152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Так же мы создавали краткосрочные мини-проекты, один из котор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«Наблюдение за живой и неживой природой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Объект 1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3349800" cy="22989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456000" cy="2298960"/>
          </a:xfrm>
          <a:prstGeom prst="rect">
            <a:avLst/>
          </a:prstGeom>
          <a:ln w="0">
            <a:noFill/>
          </a:ln>
        </p:spPr>
      </p:pic>
      <p:pic>
        <p:nvPicPr>
          <p:cNvPr id="222" name="Объект 1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3311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69134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Цель краткосрочного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9280" y="1628640"/>
            <a:ext cx="72010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ть умение замечать изменения в природ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блюдать за живой и неживой природ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водить простейшие опыты со снегом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сширять представления о том, что вода на морозе превращается в лед, а лед, снег и сосульки тают в теп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1360" y="404640"/>
            <a:ext cx="7591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сенний праздник» под руководством Кофтун М.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MOV00659.MPG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9481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MOV00662.MPG" descr=""/>
          <p:cNvPicPr/>
          <p:nvPr/>
        </p:nvPicPr>
        <p:blipFill>
          <a:blip r:embed="rId2"/>
          <a:stretch/>
        </p:blipFill>
        <p:spPr>
          <a:xfrm>
            <a:off x="4052880" y="3645000"/>
            <a:ext cx="3921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60501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Работа с родителя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0920" y="1773360"/>
            <a:ext cx="712476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дбор необходимой информации для род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формление стенд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апки-передвиж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нсультации специалистов (логопеда, психолог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Список используемой литературы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еракса Н.Е. «Проектная деятельность дошкольник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Холодова О.Л. «Развитие познавательных способностей дошкольник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ыбина О.В «Ознакомление с предметным и социальным окружением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оломенникова О.А. «Ознакомление с природой в детском саду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Гербова В.В. «Развитие речи в детском саду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640" y="764640"/>
            <a:ext cx="648000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algn="ctr"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Arial Narrow"/>
              </a:rPr>
              <a:t>Спасибо за внимание</a:t>
            </a: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1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Горбунова В.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4360" y="549000"/>
            <a:ext cx="69120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DFKai-SB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DFKai-SB"/>
              </a:rPr>
              <a:t>Развитие познавательно-речевой активности у детей дошкольного возраста – одна из важнейших задач современного образования.  Изучение проектной деятельности занимает одно из первых мест в практике дошкольного учереждения. Дети должны быть вовлечены в проекты, в ходе которых они научатся изобретать, понимать, осваивать новое, быть открытыми и способными выражать собственные мысли, уметь принимать решения, помогать друг другу, формулировать интересы и осознавать возможности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DFKai-S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549000"/>
            <a:ext cx="7489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продуктивной деятельности значительно быстрее происходи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развитие восприятия и осознания речи детьми, так как речь приобрета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ействительно практическую направленность и имеет большое знач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ля выполнения той или иной деятель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Arial Narrow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онести до родителей основную задачу проектной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buClr>
                <a:srgbClr val="c5e1fe"/>
              </a:buClr>
              <a:buFont typeface="Arial Narrow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 Narrow"/>
              </a:rPr>
              <a:t>поддержать и развить в ребенке интерес к исследованиям,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ткрытия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. Создать в саду условия для проектной деятельности дет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3. В преобразовании предметно-развивающей среды, создающей ребёнк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вободу выбора и обеспечивающей успех в реализации поставле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цел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55640" y="620280"/>
            <a:ext cx="684072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авильно организованная проектная  деятельность дает возможность удовлетворить потребность детей в новых знаниях, впечатлениях, способствует воспитанию любознательного, самостоятельного, успешного ребенка. Детям необходим  определенный период для осмысления полученной информации, усвоив ее, они сделают более сложный виток в познании окружающего ми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6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764640"/>
            <a:ext cx="7200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376f"/>
                </a:solidFill>
                <a:latin typeface="Arial Narrow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Игры по развитию речи можно разделись </a:t>
            </a:r>
            <a:r>
              <a:rPr b="1" i="1" lang="en-US" sz="2400" spc="-1" strike="noStrike">
                <a:solidFill>
                  <a:srgbClr val="002060"/>
                </a:solidFill>
                <a:latin typeface="Arial Narrow"/>
              </a:rPr>
              <a:t>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 Narrow"/>
              </a:rPr>
              <a:t>по основным направления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Обогащения и закрепления словар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грамматического строя реч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диалогической речи, связной</a:t>
            </a:r>
            <a:r>
              <a:rPr b="0" lang="en-US" sz="2400" spc="-1" strike="noStrike">
                <a:solidFill>
                  <a:srgbClr val="002060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е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Развития фонематического слуха и звуковой культуры ре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Arial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Совершенствования тонкой моторики рук; для развития психической сферы дет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Обогащение и закрепление словаря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456000" cy="35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Рисунок 2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3422880" cy="35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924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Развитие грамматического строя реч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730080" y="1501920"/>
            <a:ext cx="7010640" cy="45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46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Развитие диалогической и связной реч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755640" y="1708200"/>
            <a:ext cx="338472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Рисунок 4" descr=""/>
          <p:cNvPicPr/>
          <p:nvPr/>
        </p:nvPicPr>
        <p:blipFill>
          <a:blip r:embed="rId2"/>
          <a:stretch/>
        </p:blipFill>
        <p:spPr>
          <a:xfrm>
            <a:off x="4486320" y="2276640"/>
            <a:ext cx="33526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79246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Narrow"/>
              </a:rPr>
              <a:t>Развитие фонематического слуха и звуковой культуры речи 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Объект 1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73480" cy="3384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1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0:40:01Z</dcterms:created>
  <dc:creator>валентина</dc:creator>
  <dc:description/>
  <dc:language>en-US</dc:language>
  <cp:lastModifiedBy>DO2-Gruppa5</cp:lastModifiedBy>
  <dcterms:modified xsi:type="dcterms:W3CDTF">2023-02-06T14:12:54Z</dcterms:modified>
  <cp:revision>209</cp:revision>
  <dc:subject/>
  <dc:title>Презентация PowerPoint</dc:title>
</cp:coreProperties>
</file>