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EBD-3274-409C-AA73-950E4E79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92E-E179-40E2-8486-9E946921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A22-A87B-477A-97DD-7AA2BF7B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FE66-3E90-4CE7-8672-72AE747A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F525-0FC0-4DCC-A3BE-1F867F06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FB3A-640B-4E30-AB2B-457C1F9C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89B4-470C-4F1A-BD49-BA0498BD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B827-F309-4990-A878-5DECF452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F95B-632B-4D4B-BF9D-B10CA70A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5A58-A9AD-4533-A72E-5ADCD321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7B4C-44CC-43D4-A916-DBAB2229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5B7D-D854-42FD-BA6E-6DC52437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A0FB-C33C-4EA1-A03C-EC6C2782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6FB1-5C2C-47D1-9165-17164CB8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EABE-0D49-4620-9B91-D2A92AC7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13CD-9CB3-4549-8A24-3064CC6E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3EC4-F7FC-4DB4-9F02-23AC441A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0E6-C1D6-4FD1-BB6A-58FB8F1D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478-F0EA-479E-9F8F-215EB015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F05-7D71-4353-BB26-8719F164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1573-885E-4472-85A1-1D3C1CDC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5EE-74F0-439F-9E9E-99BC3E82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7F0C-DA8C-4D14-AB9D-2734D11E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FBB-320C-4B57-98A2-17234974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B1B0-FE80-4695-AFFA-457C86F069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B2AC-2482-4C60-A5BF-7BA34230947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рганизация работы в ДОУ по приобщению детей дошкольного возраста и педагогов к ВФСК «ГТО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з моего опыта работ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Microsoft Sans Serif"/>
              </a:rPr>
              <a:t>Инструктор по ФК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Microsoft Sans Serif"/>
              </a:rPr>
              <a:t>Преснакова А.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DSC_0458+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DSC_0391+"/>
          <p:cNvPicPr/>
          <p:nvPr/>
        </p:nvPicPr>
        <p:blipFill>
          <a:blip r:embed="rId2"/>
          <a:stretch/>
        </p:blipFill>
        <p:spPr>
          <a:xfrm>
            <a:off x="250920" y="3789360"/>
            <a:ext cx="20462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етание теннисного мяча в цель, дистанция 6 м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чень сложный вид испытания. Пришлось включить его в программ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чиная с января месяца приглашаю отдельно ребят в спортзал, чтобы отработать этот нормати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Picture 4" descr="DSC_0458+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7740720" cy="5607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DSC_0458+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ыжок в длину с мес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значально детям делаю ориентиры где бронза, серебро, золото. Так мы тренируемся перепрыгнуть или допрыгнуть до золот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 время тренировочного процесса дети прыгают в грузиках или утежелителя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Picture 4" descr="DSC_0458+"/>
          <p:cNvPicPr/>
          <p:nvPr/>
        </p:nvPicPr>
        <p:blipFill>
          <a:blip r:embed="rId3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Челночный бег и бег 30м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полняем оба вида, наилучший результат выбирает программ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мешанное передвижение  по пересеченной местности на 1 км ходим выполнять на школьный стадион, часиков в 11.00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ньше бегала с ними, но теперь мы ставим на каждом углу стадиона воспитателей или родителей, которые подбадривают, не дают детям останавливаться, напоминают о времени. Вот этот метод очень действенен. Надо дать понять ребенку, что на золото времени на ходьбу нет, лучше бежать медленно, в одном темпе, где то сделав передышку и дальше в бо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Picture 5" descr="DSC_0458+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Нам важен результат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Picture 4" descr="DSC_0458+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DSC_0466+"/>
          <p:cNvPicPr/>
          <p:nvPr/>
        </p:nvPicPr>
        <p:blipFill>
          <a:blip r:embed="rId2"/>
          <a:stretch/>
        </p:blipFill>
        <p:spPr>
          <a:xfrm>
            <a:off x="250920" y="1204920"/>
            <a:ext cx="735948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алее заполняю протоколы и ждем знаки Отлич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отовим торжественное награждение с приглашенным почетным гостем и его воспитанниками, которые демонстрируют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свои показательные выступл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Picture 5" descr="DSC_0458+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7" name="Picture 4" descr="DSC_0458+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0" y="549360"/>
            <a:ext cx="761832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четные гост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1" name="Picture 4" descr="DSC_0458+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0" y="1139760"/>
            <a:ext cx="762300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ливайтесь в движение, это ни только интересно, но и очень полезно!!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4" descr="DSC_0458+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ишу объявления на подготовительные группы, всех желающих приглашаем присоединиться к движению ВФСК ГТ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 группах старшего дошкольного возраста выясняю количество детей шестилетнего возраста. Если ребенок с хорошей физической подготовкой предлагаю родителям поучаствовать в выполнении норм ГТО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4" descr="DSC_0458+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3. Создаю группу в вотсап, объясняю как правильно зарегистрироваться на сайте ГТО, скидываю ссылки на видео, где показана правильная техника выполнения данного норматив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4. На занятиях по физическому развитию наблюдаю за этими детками, если ребенок не справляется, сообщаю об этом родителям и даю домашнее задание подтянуть ребенка в данном испытан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4" descr="DSC_0458+"/>
          <p:cNvPicPr/>
          <p:nvPr/>
        </p:nvPicPr>
        <p:blipFill>
          <a:blip r:embed="rId1"/>
          <a:stretch/>
        </p:blipFill>
        <p:spPr>
          <a:xfrm>
            <a:off x="7740720" y="0"/>
            <a:ext cx="140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. Пишу план сдачи нормативов ГТО, который утверждает заведующий и судейская комисс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6. Если вдруг отсутствует один из судей, мы назначаем контролирующего или родителя, или воспитател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4" descr="DSC_0458+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DSC_0458+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4" descr="Screenshot_1"/>
          <p:cNvPicPr/>
          <p:nvPr/>
        </p:nvPicPr>
        <p:blipFill>
          <a:blip r:embed="rId1"/>
          <a:stretch/>
        </p:blipFill>
        <p:spPr>
          <a:xfrm>
            <a:off x="1116000" y="0"/>
            <a:ext cx="5688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DSC_0458+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ля испытания – «плавание», договариваюсь с бассейном МАОУСШ №27. Педагоги, которые тоже выполняют нормативы ходят вместе с детьми в бассейн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одители помогают переодеть детей и высушить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5" descr="DSC_0458+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змин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4" descr="DSC_0458+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4789440" cy="3427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3"/>
          <a:stretch/>
        </p:blipFill>
        <p:spPr>
          <a:xfrm>
            <a:off x="5003640" y="2104920"/>
            <a:ext cx="26877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4" descr="DSC_0458+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734364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1432080" y="0"/>
            <a:ext cx="440028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DSC_0458+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02T09:49:38Z</dcterms:created>
  <dc:creator>Настя</dc:creator>
  <dc:description/>
  <dc:language>en-US</dc:language>
  <cp:lastModifiedBy>Настя</cp:lastModifiedBy>
  <dcterms:modified xsi:type="dcterms:W3CDTF">2023-02-06T03:04:39Z</dcterms:modified>
  <cp:revision>33</cp:revision>
  <dc:subject/>
  <dc:title>Организация работы в ДОУ по приобщению детей дошкольного возраста и педагогов к ВФСК «ГТО»</dc:title>
</cp:coreProperties>
</file>