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9A7-4017-42EE-B440-D76B8836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1CE-9CDF-44AC-9928-B7001266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8F1-32FD-4E37-8062-FC1F5120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264-C824-4B62-B34A-8A6BAA55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C882-272E-45C9-A7E1-B4A67854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A091-7F78-4B5B-B719-427E0DAF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E691-D659-48E8-9355-DD5B200B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DC67-CCAB-4A11-A7C0-378AFC0A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A08A-BE87-4DFE-8D00-D4EEFD62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BA25-9F9B-47F3-973B-CA7EAA87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1B7A-7F73-496B-A186-DD5F88F6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A5F-02E4-4962-BCFD-0267EECF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1E9A-6997-4B4B-B62E-C6085F6F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B40A-68BA-4679-B54C-272B127D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06E9-C58D-47A7-B10D-E64483B8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25B2-2D3A-49E1-924A-23B214ED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6406-B059-4F63-88B8-4CD28879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B87-0748-4F43-9A1C-DD4C1803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C2C-20B2-4014-9A84-69C9F93A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C33-458D-4D7F-949A-972FD30C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566-9B8D-4225-9F52-B0C2F52E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A7D-95A9-4F7A-93FF-6CB18775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E10-D99F-416D-8CFD-C4816BE8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162-D2D7-4BE8-B64C-3AEBD2D8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879B-0F91-483A-B6B5-D6F1AED2F9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86E6-98B8-461F-A6A3-97574BA9147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рганизация работы в ДОУ по приобщению детей дошкольного возраста и педагогов к ВФСК «ГТО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 моего опыта работ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icrosoft Sans Serif"/>
              </a:rPr>
              <a:t>Инструктор по ФК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icrosoft Sans Serif"/>
              </a:rPr>
              <a:t>Преснакова А.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DSC_0458+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SC_0391+"/>
          <p:cNvPicPr/>
          <p:nvPr/>
        </p:nvPicPr>
        <p:blipFill>
          <a:blip r:embed="rId2"/>
          <a:stretch/>
        </p:blipFill>
        <p:spPr>
          <a:xfrm>
            <a:off x="250920" y="3789360"/>
            <a:ext cx="20462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етание теннисного мяча в цель, дистанция 6 м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чень сложный вид испытания. Пришлось включить его в програм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чиная с января месяца приглашаю отдельно ребят в спортзал, чтобы отработать этот нормати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7740720" cy="5607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DSC_0458+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ыжок в длину с ме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начально детям делаю ориентиры где бронза, серебро, золото. Так мы тренируемся перепрыгнуть или допрыгнуть до золот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 время тренировочного процесса дети прыгают в грузиках или утежелителя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Picture 4" descr="DSC_0458+"/>
          <p:cNvPicPr/>
          <p:nvPr/>
        </p:nvPicPr>
        <p:blipFill>
          <a:blip r:embed="rId3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Челночный бег и бег 30м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полняем оба вида, наилучший результат выбирает программ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мешанное передвижение  по пересеченной местности на 1 км ходим выполнять на школьный стадион, часиков в 11.00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ньше бегала с ними, но теперь мы ставим на каждом углу стадиона воспитателей или родителей, которые подбадривают, не дают детям останавливаться, напоминают о времени. Вот этот метод очень действенен. Надо дать понять ребенку, что на золото времени на ходьбу нет, лучше бежать медленно, в одном темпе, где то сделав передышку и дальше в б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5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м важен результат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DSC_0466+"/>
          <p:cNvPicPr/>
          <p:nvPr/>
        </p:nvPicPr>
        <p:blipFill>
          <a:blip r:embed="rId2"/>
          <a:stretch/>
        </p:blipFill>
        <p:spPr>
          <a:xfrm>
            <a:off x="250920" y="1204920"/>
            <a:ext cx="73594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лее заполняю протоколы и ждем знаки Отлич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отовим торжественное награждение с приглашенным почетным гостем и его воспитанниками, которые демонстрируют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свои показательные выступл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5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0" y="549360"/>
            <a:ext cx="761832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четные гост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0" y="1139760"/>
            <a:ext cx="7623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ливайтесь в движение, это ни только интересно, но и очень полезно!!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ишу объявления на подготовительные группы, всех желающих приглашаем присоединиться к движению ВФСК ГТ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группах старшего дошкольного возраста выясняю количество детей шестилетнего возраста. Если ребенок с хорошей физической подготовкой предлагаю родителям поучаствовать в выполнении норм ГТО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4" descr="DSC_0458+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. Создаю группу в вотсап, объясняю как правильно зарегистрироваться на сайте ГТО, скидываю ссылки на видео, где показана правильная техника выполнения данного норматив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4. На занятиях по физическому развитию наблюдаю за этими детками, если ребенок не справляется, сообщаю об этом родителям и даю домашнее задание подтянуть ребенка в данном испытан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4" descr="DSC_0458+"/>
          <p:cNvPicPr/>
          <p:nvPr/>
        </p:nvPicPr>
        <p:blipFill>
          <a:blip r:embed="rId1"/>
          <a:stretch/>
        </p:blipFill>
        <p:spPr>
          <a:xfrm>
            <a:off x="7740720" y="0"/>
            <a:ext cx="140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 Пишу план сдачи нормативов ГТО, который утверждает заведующий и судейская комисс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. Если вдруг отсутствует один из судей, мы назначаем контролирующего или родителя, или воспитател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DSC_0458+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Screenshot_1"/>
          <p:cNvPicPr/>
          <p:nvPr/>
        </p:nvPicPr>
        <p:blipFill>
          <a:blip r:embed="rId1"/>
          <a:stretch/>
        </p:blipFill>
        <p:spPr>
          <a:xfrm>
            <a:off x="1116000" y="0"/>
            <a:ext cx="5688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DSC_0458+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ля испытания – «плавание», договариваюсь с бассейном МАОУСШ №27. Педагоги, которые тоже выполняют нормативы ходят вместе с детьми в бассейн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дители помогают переодеть детей и высушить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5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змин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4789440" cy="3427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5003640" y="2104920"/>
            <a:ext cx="2687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734364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1432080" y="0"/>
            <a:ext cx="440028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DSC_0458+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2T09:49:38Z</dcterms:created>
  <dc:creator>Настя</dc:creator>
  <dc:description/>
  <dc:language>en-US</dc:language>
  <cp:lastModifiedBy>Настя</cp:lastModifiedBy>
  <dcterms:modified xsi:type="dcterms:W3CDTF">2023-02-06T03:04:39Z</dcterms:modified>
  <cp:revision>33</cp:revision>
  <dc:subject/>
  <dc:title>Организация работы в ДОУ по приобщению детей дошкольного возраста и педагогов к ВФСК «ГТО»</dc:title>
</cp:coreProperties>
</file>