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5C4-4B54-441B-8038-C59AD655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4BA-37FC-41BA-AA08-45153A2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9B3-376D-4CC5-BDF1-257A83BA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16F-1152-4150-9273-46532A8F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4B8-5282-4E0F-9E8A-041F972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07B-CFE3-484D-831C-98225A34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B7B-3C56-4511-B0E5-0506549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E4E-D30D-426A-8893-0465A27E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22F-3235-44FC-8DD8-6C527C6A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5E4-C82E-41D6-9D12-E5AF20E0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522-2D06-4733-AC55-24D66EEF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156-A88B-4C2A-9718-E83D8D1F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235-8DEE-4D45-B893-D4E82BC46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Литературная викториин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2421000"/>
            <a:ext cx="4824720" cy="25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«В гостях у сказки»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4" descr="24-659"/>
          <p:cNvPicPr/>
          <p:nvPr/>
        </p:nvPicPr>
        <p:blipFill>
          <a:blip r:embed="rId1"/>
          <a:stretch/>
        </p:blipFill>
        <p:spPr>
          <a:xfrm>
            <a:off x="3276720" y="3068640"/>
            <a:ext cx="3120840" cy="1989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0580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Заюшкина изб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ÐÐ°ÑÑÐ¸Ð½ÐºÐ¸ Ð¿Ð¾ Ð·Ð°Ð¿ÑÐ¾ÑÑ Ð·Ð°ÑÑÐºÐ¸Ð½Ð° Ð¸Ð·Ð±ÑÑÐºÐ° ÑÑÑÑÐºÐ°Ñ Ð½Ð°ÑÐ¾Ð´Ð½Ð°Ñ ÑÐºÐ°Ð·ÐºÐ°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47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Тере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Ира\Desktop\2826bc6aff730cd731e3c2af01fcc074.jpg"/>
          <p:cNvPicPr/>
          <p:nvPr/>
        </p:nvPicPr>
        <p:blipFill>
          <a:blip r:embed="rId1"/>
          <a:stretch/>
        </p:blipFill>
        <p:spPr>
          <a:xfrm>
            <a:off x="971640" y="1133640"/>
            <a:ext cx="7380360" cy="553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5"/>
          <p:cNvSpPr/>
          <p:nvPr/>
        </p:nvSpPr>
        <p:spPr>
          <a:xfrm>
            <a:off x="2286000" y="2136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В мире много сказок,</a:t>
            </a:r>
            <a:br>
              <a:rPr sz="1800"/>
            </a:b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Грустных и смешных, </a:t>
            </a:r>
            <a:br>
              <a:rPr sz="1800"/>
            </a:b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И прожить на свете,</a:t>
            </a:r>
            <a:br>
              <a:rPr sz="1800"/>
            </a:br>
            <a:r>
              <a:rPr b="1" lang="ru-RU" sz="1800" spc="-1" strike="noStrike">
                <a:solidFill>
                  <a:srgbClr val="0520eb"/>
                </a:solidFill>
                <a:latin typeface="Arial Black"/>
              </a:rPr>
              <a:t>Нам нельзя без них</a:t>
            </a:r>
            <a:r>
              <a:rPr b="0" lang="ru-RU" sz="1800" spc="-1" strike="noStrike">
                <a:solidFill>
                  <a:srgbClr val="0520eb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https://encrypted-tbn1.gstatic.com/images?q=tbn:ANd9GcR-dEGUqjhKsBqiZC1BZsAsolRytdoCAtBK77umiT4muww0xhgO3g"/>
          <p:cNvPicPr/>
          <p:nvPr/>
        </p:nvPicPr>
        <p:blipFill>
          <a:blip r:embed="rId1"/>
          <a:stretch/>
        </p:blipFill>
        <p:spPr>
          <a:xfrm rot="21199800">
            <a:off x="406080" y="380520"/>
            <a:ext cx="224784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s://encrypted-tbn3.gstatic.com/images?q=tbn:ANd9GcT_AX4SNt8BfP2GqzC0t3LUSky4Cf-S7GE6m_tH0dFpbodxl-DWVg"/>
          <p:cNvPicPr/>
          <p:nvPr/>
        </p:nvPicPr>
        <p:blipFill>
          <a:blip r:embed="rId2"/>
          <a:stretch/>
        </p:blipFill>
        <p:spPr>
          <a:xfrm rot="393600">
            <a:off x="6137280" y="522360"/>
            <a:ext cx="2637000" cy="264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https://encrypted-tbn1.gstatic.com/images?q=tbn:ANd9GcQlSd7mjRHrsHKglHpc5Koj0uwW4ZImknxbJ6ZmRjBbGk5E5TKbjQ"/>
          <p:cNvPicPr/>
          <p:nvPr/>
        </p:nvPicPr>
        <p:blipFill>
          <a:blip r:embed="rId3"/>
          <a:stretch/>
        </p:blipFill>
        <p:spPr>
          <a:xfrm>
            <a:off x="2916360" y="2602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https://encrypted-tbn3.gstatic.com/images?q=tbn:ANd9GcSoAcxJ26i1_0k8f4xvHpmT99CtwTRRCWgWpBe2mcamTKRqYDsqSg"/>
          <p:cNvPicPr/>
          <p:nvPr/>
        </p:nvPicPr>
        <p:blipFill>
          <a:blip r:embed="rId4"/>
          <a:stretch/>
        </p:blipFill>
        <p:spPr>
          <a:xfrm>
            <a:off x="3059280" y="4724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https://encrypted-tbn1.gstatic.com/images?q=tbn:ANd9GcSLn-UASsiPmh5ohF1Eyt-6Mt6ts2q3IJyfzDUhIOQa-KVtr6sh"/>
          <p:cNvPicPr/>
          <p:nvPr/>
        </p:nvPicPr>
        <p:blipFill>
          <a:blip r:embed="rId5"/>
          <a:stretch/>
        </p:blipFill>
        <p:spPr>
          <a:xfrm rot="21014400">
            <a:off x="324000" y="4292280"/>
            <a:ext cx="2257200" cy="201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ttps://encrypted-tbn2.gstatic.com/images?q=tbn:ANd9GcQakbpLV7CQ7KYhwYcLcJPUO6fj41AQ7VV3Uw2Ks1uYlZUWB9YBfg"/>
          <p:cNvPicPr/>
          <p:nvPr/>
        </p:nvPicPr>
        <p:blipFill>
          <a:blip r:embed="rId6"/>
          <a:stretch/>
        </p:blipFill>
        <p:spPr>
          <a:xfrm rot="429000">
            <a:off x="6156000" y="4221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8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ÐÐ°ÑÑÐ¸Ð½ÐºÐ¸ Ð¿Ð¾ Ð·Ð°Ð¿ÑÐ¾ÑÑ Ð¼Ð¸ÑÑÑÐºÐ° Ð¸Ð· ÑÐºÐ°Ð·ÐºÐ¸"/>
          <p:cNvPicPr/>
          <p:nvPr/>
        </p:nvPicPr>
        <p:blipFill>
          <a:blip r:embed="rId1"/>
          <a:stretch/>
        </p:blipFill>
        <p:spPr>
          <a:xfrm>
            <a:off x="1835280" y="115920"/>
            <a:ext cx="5632200" cy="624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олк и Семеро козл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Ждали маму с молоком,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А пустили волка в дом…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Кем же были эти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Маленькие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encrypted-tbn0.gstatic.com/images?q=tbn:ANd9GcSKz8E5jX_tcDcxtobY_UwOzjKkt7tj17-9yUxUsz1SVV7JNzSZ"/>
          <p:cNvPicPr/>
          <p:nvPr/>
        </p:nvPicPr>
        <p:blipFill>
          <a:blip r:embed="rId1"/>
          <a:stretch/>
        </p:blipFill>
        <p:spPr>
          <a:xfrm>
            <a:off x="755640" y="365040"/>
            <a:ext cx="4753080" cy="5988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урочка Ряба </a:t>
            </a:r>
            <a:br>
              <a:rPr sz="36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Жил себе дед да баба. И была у них курочка Ряба. Снесла курочка яичк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А какое яичко снесла кур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Ира\Desktop\Kurochka-Ryaba-3.jpg"/>
          <p:cNvPicPr/>
          <p:nvPr/>
        </p:nvPicPr>
        <p:blipFill>
          <a:blip r:embed="rId1"/>
          <a:stretch/>
        </p:blipFill>
        <p:spPr>
          <a:xfrm>
            <a:off x="841320" y="836640"/>
            <a:ext cx="4516560" cy="53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негур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Красна девица грустна: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Ей не нравится весна,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Ей на солнце тяжко!</a:t>
            </a:r>
            <a:br>
              <a:rPr sz="2800"/>
            </a:br>
            <a:r>
              <a:rPr b="0" lang="ru-RU" sz="2800" spc="-1" strike="noStrike">
                <a:solidFill>
                  <a:srgbClr val="0520eb"/>
                </a:solidFill>
                <a:latin typeface="Arial"/>
              </a:rPr>
              <a:t>Слезы льет бедняж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s://encrypted-tbn0.gstatic.com/images?q=tbn:ANd9GcSH35eedOJlEPo7DLLVCVh8DDxq4_GRHL8ylUCM8nY4-sT0duvONA"/>
          <p:cNvPicPr/>
          <p:nvPr/>
        </p:nvPicPr>
        <p:blipFill>
          <a:blip r:embed="rId1"/>
          <a:stretch/>
        </p:blipFill>
        <p:spPr>
          <a:xfrm>
            <a:off x="1116000" y="189000"/>
            <a:ext cx="3095640" cy="403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Из муки он был печен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На сметане был мешен.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На окошке он студился,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4643280" y="836640"/>
            <a:ext cx="30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По дорожке он катился.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Был он весел, был он смел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И в пути он песню п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https://encrypted-tbn3.gstatic.com/images?q=tbn:ANd9GcTQ9GM9SjrZ2Dc2kPEgodXdI4oUyS7Q8TtNAEgFk5jec5850B5i"/>
          <p:cNvPicPr/>
          <p:nvPr/>
        </p:nvPicPr>
        <p:blipFill>
          <a:blip r:embed="rId1"/>
          <a:stretch/>
        </p:blipFill>
        <p:spPr>
          <a:xfrm>
            <a:off x="1476360" y="2282760"/>
            <a:ext cx="5543640" cy="389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Три медв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Возле леса, на опушке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Трое их живет в избушке.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Там три стула и три кружки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Три кроватки, три подушки.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Угадайте без подсказки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герои этой сказ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s://encrypted-tbn3.gstatic.com/images?q=tbn:ANd9GcQWR9WO8oVOWBqYanRoaBhzpMfaZp6b5Pu_02D6FjWFtkh-CyPuEw"/>
          <p:cNvPicPr/>
          <p:nvPr/>
        </p:nvPicPr>
        <p:blipFill>
          <a:blip r:embed="rId1"/>
          <a:stretch/>
        </p:blipFill>
        <p:spPr>
          <a:xfrm>
            <a:off x="3132000" y="1341360"/>
            <a:ext cx="5969160" cy="4175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Гуси-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000" y="5445000"/>
            <a:ext cx="78469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Гуси-лебеди полетали-полетали, покричали-покричали и ни с чем улетели к бабе-я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Маша сказала печи спасибо и вместе с братцем прибежал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Ира\Desktop\1342323472_gusi-lebedi.jpeg"/>
          <p:cNvPicPr/>
          <p:nvPr/>
        </p:nvPicPr>
        <p:blipFill>
          <a:blip r:embed="rId1"/>
          <a:stretch/>
        </p:blipFill>
        <p:spPr>
          <a:xfrm>
            <a:off x="2340000" y="388800"/>
            <a:ext cx="5897520" cy="42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Р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Что за сказка: кошка, внучка,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Мышь, ещё собака Жучка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Деду с бабой помогали,</a:t>
            </a:r>
            <a:br>
              <a:rPr sz="2000"/>
            </a:br>
            <a:r>
              <a:rPr b="0" lang="ru-RU" sz="2000" spc="-1" strike="noStrike">
                <a:solidFill>
                  <a:srgbClr val="0520eb"/>
                </a:solidFill>
                <a:latin typeface="Arial"/>
              </a:rPr>
              <a:t>Корнеплоды собир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s://encrypted-tbn0.gstatic.com/images?q=tbn:ANd9GcS9Uy_K_f8IgVYAWG62PFqFc6HGE75VumneNL_mxbxA83dWg30EXw"/>
          <p:cNvPicPr/>
          <p:nvPr/>
        </p:nvPicPr>
        <p:blipFill>
          <a:blip r:embed="rId1"/>
          <a:stretch/>
        </p:blipFill>
        <p:spPr>
          <a:xfrm>
            <a:off x="1979640" y="333360"/>
            <a:ext cx="5545080" cy="380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аша и 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Отвечайте на вопрос: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в корзине Машу нёс,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садился на пенёк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И хотел съесть пирожок?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Сказочку ты знаешь ведь?</a:t>
            </a:r>
            <a:br>
              <a:rPr sz="2400"/>
            </a:br>
            <a:r>
              <a:rPr b="0" lang="ru-RU" sz="2400" spc="-1" strike="noStrike">
                <a:solidFill>
                  <a:srgbClr val="0520eb"/>
                </a:solidFill>
                <a:latin typeface="Arial"/>
              </a:rPr>
              <a:t>Кто же это был?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s://encrypted-tbn2.gstatic.com/images?q=tbn:ANd9GcRwJcFNij-6u3csrNBdy2hzep3Dec3RHJ_K163kS8VJP7R-77Bu"/>
          <p:cNvPicPr/>
          <p:nvPr/>
        </p:nvPicPr>
        <p:blipFill>
          <a:blip r:embed="rId1"/>
          <a:stretch/>
        </p:blipFill>
        <p:spPr>
          <a:xfrm>
            <a:off x="3132000" y="2924280"/>
            <a:ext cx="251964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Ира</cp:lastModifiedBy>
  <dcterms:modified xsi:type="dcterms:W3CDTF">2019-04-07T18:33:50Z</dcterms:modified>
  <cp:revision>40</cp:revision>
  <dc:subject/>
  <dc:title>Автор стихов и рисунков Валентина Черняева</dc:title>
</cp:coreProperties>
</file>