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7C08-22F0-410B-8AB2-E3D2D943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7DDE-FEB0-48C2-ADEA-B882BFCB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421F-19FF-41FE-8A27-7BDD6ADE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80FD-05CD-43ED-A97A-7D053682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E7CE-0D4E-45E3-8B27-DE7D82A8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32A-D836-4F4F-B0E7-69FF8200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A53-80CD-4084-903E-41361BA0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1740-BF3C-4474-AA75-8E3B4059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68C-0166-404A-BF98-F19532C5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5F3-56D4-4EF3-B820-272A2322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02F4-8B76-4CD3-B59E-ED4011DB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0F61-52C1-4BCA-A984-1A43483B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fab"/>
            </a:gs>
            <a:gs pos="100000">
              <a:srgbClr val="ffe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1029-B589-41AA-BACC-E13E098731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65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55640" y="1413000"/>
            <a:ext cx="7777080" cy="23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a50021"/>
                  </a:solidFill>
                  <a:miter/>
                </a:ln>
                <a:solidFill>
                  <a:srgbClr val="ffc000"/>
                </a:solidFill>
                <a:latin typeface="Arial"/>
              </a:rPr>
              <a:t>Литературная викториина</a:t>
            </a:r>
            <a:endParaRPr b="1" lang="en-US" sz="1800" spc="1" strike="noStrike">
              <a:ln w="38160">
                <a:solidFill>
                  <a:srgbClr val="a50021"/>
                </a:solidFill>
                <a:miter/>
              </a:ln>
              <a:solidFill>
                <a:srgbClr val="ffc000"/>
              </a:solidFill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268360" y="2421000"/>
            <a:ext cx="4824720" cy="25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66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«В гостях у сказки»</a:t>
            </a:r>
            <a:endParaRPr b="1" lang="en-US" sz="1800" spc="1" strike="noStrike">
              <a:ln w="38160">
                <a:solidFill>
                  <a:srgbClr val="000066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4" name="Picture 4" descr="24-659"/>
          <p:cNvPicPr/>
          <p:nvPr/>
        </p:nvPicPr>
        <p:blipFill>
          <a:blip r:embed="rId1"/>
          <a:stretch/>
        </p:blipFill>
        <p:spPr>
          <a:xfrm>
            <a:off x="3276720" y="3068640"/>
            <a:ext cx="3120840" cy="1989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05800" cy="1052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Заюшкина изб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ÐÐ°ÑÑÐ¸Ð½ÐºÐ¸ Ð¿Ð¾ Ð·Ð°Ð¿ÑÐ¾ÑÑ Ð·Ð°ÑÑÐºÐ¸Ð½Ð° Ð¸Ð·Ð±ÑÑÐºÐ° ÑÑÑÑÐºÐ°Ñ Ð½Ð°ÑÐ¾Ð´Ð½Ð°Ñ ÑÐºÐ°Ð·ÐºÐ°"/>
          <p:cNvPicPr/>
          <p:nvPr/>
        </p:nvPicPr>
        <p:blipFill>
          <a:blip r:embed="rId1"/>
          <a:stretch/>
        </p:blipFill>
        <p:spPr>
          <a:xfrm>
            <a:off x="1619280" y="1557360"/>
            <a:ext cx="5977080" cy="4478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Терем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5292720" y="4076640"/>
            <a:ext cx="35272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C:\Users\Ира\Desktop\2826bc6aff730cd731e3c2af01fcc074.jpg"/>
          <p:cNvPicPr/>
          <p:nvPr/>
        </p:nvPicPr>
        <p:blipFill>
          <a:blip r:embed="rId1"/>
          <a:stretch/>
        </p:blipFill>
        <p:spPr>
          <a:xfrm>
            <a:off x="971640" y="1133640"/>
            <a:ext cx="7380360" cy="5535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5"/>
          <p:cNvSpPr/>
          <p:nvPr/>
        </p:nvSpPr>
        <p:spPr>
          <a:xfrm>
            <a:off x="2286000" y="21366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0eb"/>
                </a:solidFill>
                <a:latin typeface="Arial Black"/>
              </a:rPr>
              <a:t>В мире много сказок,</a:t>
            </a:r>
            <a:br>
              <a:rPr sz="1800"/>
            </a:br>
            <a:r>
              <a:rPr b="1" lang="ru-RU" sz="1800" spc="-1" strike="noStrike">
                <a:solidFill>
                  <a:srgbClr val="0520eb"/>
                </a:solidFill>
                <a:latin typeface="Arial Black"/>
              </a:rPr>
              <a:t>Грустных и смешных, </a:t>
            </a:r>
            <a:br>
              <a:rPr sz="1800"/>
            </a:br>
            <a:r>
              <a:rPr b="1" lang="ru-RU" sz="1800" spc="-1" strike="noStrike">
                <a:solidFill>
                  <a:srgbClr val="0520eb"/>
                </a:solidFill>
                <a:latin typeface="Arial Black"/>
              </a:rPr>
              <a:t>И прожить на свете,</a:t>
            </a:r>
            <a:br>
              <a:rPr sz="1800"/>
            </a:br>
            <a:r>
              <a:rPr b="1" lang="ru-RU" sz="1800" spc="-1" strike="noStrike">
                <a:solidFill>
                  <a:srgbClr val="0520eb"/>
                </a:solidFill>
                <a:latin typeface="Arial Black"/>
              </a:rPr>
              <a:t>Нам нельзя без них</a:t>
            </a:r>
            <a:r>
              <a:rPr b="0" lang="ru-RU" sz="1800" spc="-1" strike="noStrike">
                <a:solidFill>
                  <a:srgbClr val="0520eb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4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8" descr="https://encrypted-tbn1.gstatic.com/images?q=tbn:ANd9GcR-dEGUqjhKsBqiZC1BZsAsolRytdoCAtBK77umiT4muww0xhgO3g"/>
          <p:cNvPicPr/>
          <p:nvPr/>
        </p:nvPicPr>
        <p:blipFill>
          <a:blip r:embed="rId1"/>
          <a:stretch/>
        </p:blipFill>
        <p:spPr>
          <a:xfrm rot="21199800">
            <a:off x="406080" y="380520"/>
            <a:ext cx="2247840" cy="280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0" descr="https://encrypted-tbn3.gstatic.com/images?q=tbn:ANd9GcT_AX4SNt8BfP2GqzC0t3LUSky4Cf-S7GE6m_tH0dFpbodxl-DWVg"/>
          <p:cNvPicPr/>
          <p:nvPr/>
        </p:nvPicPr>
        <p:blipFill>
          <a:blip r:embed="rId2"/>
          <a:stretch/>
        </p:blipFill>
        <p:spPr>
          <a:xfrm rot="393600">
            <a:off x="6137280" y="522360"/>
            <a:ext cx="2637000" cy="264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https://encrypted-tbn1.gstatic.com/images?q=tbn:ANd9GcQlSd7mjRHrsHKglHpc5Koj0uwW4ZImknxbJ6ZmRjBbGk5E5TKbjQ"/>
          <p:cNvPicPr/>
          <p:nvPr/>
        </p:nvPicPr>
        <p:blipFill>
          <a:blip r:embed="rId3"/>
          <a:stretch/>
        </p:blipFill>
        <p:spPr>
          <a:xfrm>
            <a:off x="2916360" y="260280"/>
            <a:ext cx="2543040" cy="180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4" descr="https://encrypted-tbn3.gstatic.com/images?q=tbn:ANd9GcSoAcxJ26i1_0k8f4xvHpmT99CtwTRRCWgWpBe2mcamTKRqYDsqSg"/>
          <p:cNvPicPr/>
          <p:nvPr/>
        </p:nvPicPr>
        <p:blipFill>
          <a:blip r:embed="rId4"/>
          <a:stretch/>
        </p:blipFill>
        <p:spPr>
          <a:xfrm>
            <a:off x="3059280" y="4724280"/>
            <a:ext cx="2590560" cy="1762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6" descr="https://encrypted-tbn1.gstatic.com/images?q=tbn:ANd9GcSLn-UASsiPmh5ohF1Eyt-6Mt6ts2q3IJyfzDUhIOQa-KVtr6sh"/>
          <p:cNvPicPr/>
          <p:nvPr/>
        </p:nvPicPr>
        <p:blipFill>
          <a:blip r:embed="rId5"/>
          <a:stretch/>
        </p:blipFill>
        <p:spPr>
          <a:xfrm rot="21014400">
            <a:off x="324000" y="4292280"/>
            <a:ext cx="2257200" cy="2019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8" descr="https://encrypted-tbn2.gstatic.com/images?q=tbn:ANd9GcQakbpLV7CQ7KYhwYcLcJPUO6fj41AQ7VV3Uw2Ks1uYlZUWB9YBfg"/>
          <p:cNvPicPr/>
          <p:nvPr/>
        </p:nvPicPr>
        <p:blipFill>
          <a:blip r:embed="rId6"/>
          <a:stretch/>
        </p:blipFill>
        <p:spPr>
          <a:xfrm rot="429000">
            <a:off x="6156000" y="42210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8"/>
          <p:cNvSpPr/>
          <p:nvPr/>
        </p:nvSpPr>
        <p:spPr>
          <a:xfrm>
            <a:off x="2286000" y="2136600"/>
            <a:ext cx="4572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ÐÐ°ÑÑÐ¸Ð½ÐºÐ¸ Ð¿Ð¾ Ð·Ð°Ð¿ÑÐ¾ÑÑ Ð¼Ð¸ÑÑÑÐºÐ° Ð¸Ð· ÑÐºÐ°Ð·ÐºÐ¸"/>
          <p:cNvPicPr/>
          <p:nvPr/>
        </p:nvPicPr>
        <p:blipFill>
          <a:blip r:embed="rId1"/>
          <a:stretch/>
        </p:blipFill>
        <p:spPr>
          <a:xfrm>
            <a:off x="1835280" y="115920"/>
            <a:ext cx="5632200" cy="624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09744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Волк и Семеро козл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91280" y="1916280"/>
            <a:ext cx="295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0eb"/>
                </a:solidFill>
                <a:latin typeface="Arial"/>
              </a:rPr>
              <a:t>Ждали маму с молоком,</a:t>
            </a:r>
            <a:br>
              <a:rPr sz="2800"/>
            </a:br>
            <a:r>
              <a:rPr b="0" lang="ru-RU" sz="2800" spc="-1" strike="noStrike">
                <a:solidFill>
                  <a:srgbClr val="0520eb"/>
                </a:solidFill>
                <a:latin typeface="Arial"/>
              </a:rPr>
              <a:t>А пустили волка в дом…</a:t>
            </a:r>
            <a:br>
              <a:rPr sz="2800"/>
            </a:br>
            <a:r>
              <a:rPr b="0" lang="ru-RU" sz="2800" spc="-1" strike="noStrike">
                <a:solidFill>
                  <a:srgbClr val="0520eb"/>
                </a:solidFill>
                <a:latin typeface="Arial"/>
              </a:rPr>
              <a:t>Кем же были эти</a:t>
            </a:r>
            <a:br>
              <a:rPr sz="2800"/>
            </a:br>
            <a:r>
              <a:rPr b="0" lang="ru-RU" sz="2800" spc="-1" strike="noStrike">
                <a:solidFill>
                  <a:srgbClr val="0520eb"/>
                </a:solidFill>
                <a:latin typeface="Arial"/>
              </a:rPr>
              <a:t>Маленькие де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s://encrypted-tbn0.gstatic.com/images?q=tbn:ANd9GcSKz8E5jX_tcDcxtobY_UwOzjKkt7tj17-9yUxUsz1SVV7JNzSZ"/>
          <p:cNvPicPr/>
          <p:nvPr/>
        </p:nvPicPr>
        <p:blipFill>
          <a:blip r:embed="rId1"/>
          <a:stretch/>
        </p:blipFill>
        <p:spPr>
          <a:xfrm>
            <a:off x="755640" y="365040"/>
            <a:ext cx="4753080" cy="5988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92720" y="0"/>
            <a:ext cx="3672000" cy="1052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урочка Ряба </a:t>
            </a:r>
            <a:br>
              <a:rPr sz="3600"/>
            </a:b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867280" y="1267920"/>
            <a:ext cx="345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0eb"/>
                </a:solidFill>
                <a:latin typeface="Arial"/>
              </a:rPr>
              <a:t>Жил себе дед да баба. И была у них курочка Ряба. Снесла курочка яичко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0eb"/>
                </a:solidFill>
                <a:latin typeface="Arial"/>
              </a:rPr>
              <a:t>А какое яичко снесла куроч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Ира\Desktop\Kurochka-Ryaba-3.jpg"/>
          <p:cNvPicPr/>
          <p:nvPr/>
        </p:nvPicPr>
        <p:blipFill>
          <a:blip r:embed="rId1"/>
          <a:stretch/>
        </p:blipFill>
        <p:spPr>
          <a:xfrm>
            <a:off x="841320" y="836640"/>
            <a:ext cx="4516560" cy="5329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3499920"/>
            <a:ext cx="568980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Снегур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0560" y="4508280"/>
            <a:ext cx="4537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0eb"/>
                </a:solidFill>
                <a:latin typeface="Arial"/>
              </a:rPr>
              <a:t>Красна девица грустна:</a:t>
            </a:r>
            <a:br>
              <a:rPr sz="2800"/>
            </a:br>
            <a:r>
              <a:rPr b="0" lang="ru-RU" sz="2800" spc="-1" strike="noStrike">
                <a:solidFill>
                  <a:srgbClr val="0520eb"/>
                </a:solidFill>
                <a:latin typeface="Arial"/>
              </a:rPr>
              <a:t>Ей не нравится весна,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788000" y="4581360"/>
            <a:ext cx="41767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520eb"/>
                </a:solidFill>
                <a:latin typeface="Arial"/>
              </a:rPr>
              <a:t>Ей на солнце тяжко!</a:t>
            </a:r>
            <a:br>
              <a:rPr sz="2800"/>
            </a:br>
            <a:r>
              <a:rPr b="0" lang="ru-RU" sz="2800" spc="-1" strike="noStrike">
                <a:solidFill>
                  <a:srgbClr val="0520eb"/>
                </a:solidFill>
                <a:latin typeface="Arial"/>
              </a:rPr>
              <a:t>Слезы льет бедняж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https://encrypted-tbn0.gstatic.com/images?q=tbn:ANd9GcSH35eedOJlEPo7DLLVCVh8DDxq4_GRHL8ylUCM8nY4-sT0duvONA"/>
          <p:cNvPicPr/>
          <p:nvPr/>
        </p:nvPicPr>
        <p:blipFill>
          <a:blip r:embed="rId1"/>
          <a:stretch/>
        </p:blipFill>
        <p:spPr>
          <a:xfrm>
            <a:off x="1116000" y="189000"/>
            <a:ext cx="3095640" cy="403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4464000" cy="765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Коло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9640" y="836280"/>
            <a:ext cx="3600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Из муки он был печен,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На сметане был мешен.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На окошке он студился,</a:t>
            </a:r>
            <a:br>
              <a:rPr sz="24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5148360" y="620640"/>
            <a:ext cx="360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"/>
          <p:cNvSpPr/>
          <p:nvPr/>
        </p:nvSpPr>
        <p:spPr>
          <a:xfrm>
            <a:off x="4643280" y="836640"/>
            <a:ext cx="309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20eb"/>
                </a:solidFill>
                <a:latin typeface="Arial"/>
              </a:rPr>
              <a:t>По дорожке он катился.</a:t>
            </a:r>
            <a:br>
              <a:rPr sz="2000"/>
            </a:br>
            <a:r>
              <a:rPr b="0" lang="ru-RU" sz="2000" spc="-1" strike="noStrike">
                <a:solidFill>
                  <a:srgbClr val="0520eb"/>
                </a:solidFill>
                <a:latin typeface="Arial"/>
              </a:rPr>
              <a:t>Был он весел, был он смел</a:t>
            </a:r>
            <a:br>
              <a:rPr sz="2000"/>
            </a:br>
            <a:r>
              <a:rPr b="0" lang="ru-RU" sz="2000" spc="-1" strike="noStrike">
                <a:solidFill>
                  <a:srgbClr val="0520eb"/>
                </a:solidFill>
                <a:latin typeface="Arial"/>
              </a:rPr>
              <a:t>И в пути он песню п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https://encrypted-tbn3.gstatic.com/images?q=tbn:ANd9GcTQ9GM9SjrZ2Dc2kPEgodXdI4oUyS7Q8TtNAEgFk5jec5850B5i"/>
          <p:cNvPicPr/>
          <p:nvPr/>
        </p:nvPicPr>
        <p:blipFill>
          <a:blip r:embed="rId1"/>
          <a:stretch/>
        </p:blipFill>
        <p:spPr>
          <a:xfrm>
            <a:off x="1476360" y="2282760"/>
            <a:ext cx="5543640" cy="3890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33796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Три медве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24000" y="1915920"/>
            <a:ext cx="29844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Возле леса, на опушке,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Трое их живет в избушке.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Там три стула и три кружки,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Три кроватки, три подушки.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Угадайте без подсказки,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Кто герои этой сказ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https://encrypted-tbn3.gstatic.com/images?q=tbn:ANd9GcQWR9WO8oVOWBqYanRoaBhzpMfaZp6b5Pu_02D6FjWFtkh-CyPuEw"/>
          <p:cNvPicPr/>
          <p:nvPr/>
        </p:nvPicPr>
        <p:blipFill>
          <a:blip r:embed="rId1"/>
          <a:stretch/>
        </p:blipFill>
        <p:spPr>
          <a:xfrm>
            <a:off x="3132000" y="1341360"/>
            <a:ext cx="5969160" cy="4175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3933360"/>
            <a:ext cx="7488360" cy="50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Гуси-леб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000" y="5445000"/>
            <a:ext cx="78469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Гуси-лебеди полетали-полетали, покричали-покричали и ни с чем улетели к бабе-я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Маша сказала печи спасибо и вместе с братцем прибежала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643280" y="4221000"/>
            <a:ext cx="367200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:\Users\Ира\Desktop\1342323472_gusi-lebedi.jpeg"/>
          <p:cNvPicPr/>
          <p:nvPr/>
        </p:nvPicPr>
        <p:blipFill>
          <a:blip r:embed="rId1"/>
          <a:stretch/>
        </p:blipFill>
        <p:spPr>
          <a:xfrm>
            <a:off x="2340000" y="388800"/>
            <a:ext cx="5897520" cy="4286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920" y="4436640"/>
            <a:ext cx="5042160" cy="3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Реп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94920" y="5013000"/>
            <a:ext cx="3887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20eb"/>
                </a:solidFill>
                <a:latin typeface="Arial"/>
              </a:rPr>
              <a:t>Что за сказка: кошка, внучка,</a:t>
            </a:r>
            <a:br>
              <a:rPr sz="2000"/>
            </a:br>
            <a:r>
              <a:rPr b="0" lang="ru-RU" sz="2000" spc="-1" strike="noStrike">
                <a:solidFill>
                  <a:srgbClr val="0520eb"/>
                </a:solidFill>
                <a:latin typeface="Arial"/>
              </a:rPr>
              <a:t>Мышь, ещё собака Жучка</a:t>
            </a:r>
            <a:br>
              <a:rPr sz="2000"/>
            </a:br>
            <a:r>
              <a:rPr b="0" lang="ru-RU" sz="2000" spc="-1" strike="noStrike">
                <a:solidFill>
                  <a:srgbClr val="0520eb"/>
                </a:solidFill>
                <a:latin typeface="Arial"/>
              </a:rPr>
              <a:t>Деду с бабой помогали,</a:t>
            </a:r>
            <a:br>
              <a:rPr sz="2000"/>
            </a:br>
            <a:r>
              <a:rPr b="0" lang="ru-RU" sz="2000" spc="-1" strike="noStrike">
                <a:solidFill>
                  <a:srgbClr val="0520eb"/>
                </a:solidFill>
                <a:latin typeface="Arial"/>
              </a:rPr>
              <a:t>Корнеплоды собира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822920" y="5013360"/>
            <a:ext cx="432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https://encrypted-tbn0.gstatic.com/images?q=tbn:ANd9GcS9Uy_K_f8IgVYAWG62PFqFc6HGE75VumneNL_mxbxA83dWg30EXw"/>
          <p:cNvPicPr/>
          <p:nvPr/>
        </p:nvPicPr>
        <p:blipFill>
          <a:blip r:embed="rId1"/>
          <a:stretch/>
        </p:blipFill>
        <p:spPr>
          <a:xfrm>
            <a:off x="1979640" y="333360"/>
            <a:ext cx="5545080" cy="3805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4932360" cy="4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Маша и медв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339640" y="404640"/>
            <a:ext cx="44276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Отвечайте на вопрос: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Кто в корзине Машу нёс,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Кто садился на пенёк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И хотел съесть пирожок?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Сказочку ты знаешь ведь?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Кто же это был?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https://encrypted-tbn2.gstatic.com/images?q=tbn:ANd9GcRwJcFNij-6u3csrNBdy2hzep3Dec3RHJ_K163kS8VJP7R-77Bu"/>
          <p:cNvPicPr/>
          <p:nvPr/>
        </p:nvPicPr>
        <p:blipFill>
          <a:blip r:embed="rId1"/>
          <a:stretch/>
        </p:blipFill>
        <p:spPr>
          <a:xfrm>
            <a:off x="3132000" y="2924280"/>
            <a:ext cx="2519640" cy="3673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4:26:21Z</dcterms:created>
  <dc:creator>лрвапшиывар</dc:creator>
  <dc:description/>
  <dc:language>en-US</dc:language>
  <cp:lastModifiedBy>Ира</cp:lastModifiedBy>
  <dcterms:modified xsi:type="dcterms:W3CDTF">2019-04-07T18:33:50Z</dcterms:modified>
  <cp:revision>40</cp:revision>
  <dc:subject/>
  <dc:title>Автор стихов и рисунков Валентина Черняева</dc:title>
</cp:coreProperties>
</file>