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AD3-F256-4D7F-AF21-41A7DD78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EC8-9B55-4B70-8DC9-33FF2A77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519-30C0-4281-A71C-362C94B7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884-6E5A-47B1-AF5B-1FA44BCD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1F8-58B8-4BD8-B811-51ABA5A9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F50-0747-416F-BDD5-8F8733DF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771-925D-4834-8F82-D06A24F8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21D-437C-4948-A9C3-5FA8A2D6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2F9-710F-4D4A-A573-7C34790C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135-FF10-4537-8933-C340CDC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ADA-1770-4AB3-B741-631256F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C5C-9C05-4DA2-8177-F8FB801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2E61-EA48-48C3-9DEC-F8112FE6C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7715160" cy="557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Использование технологии «мнемотехника» в работе с детьми старшего дошкольного возраста с ТНР(ОНР)</a:t>
            </a:r>
            <a:br>
              <a:rPr sz="3600"/>
            </a:br>
            <a:br>
              <a:rPr sz="4000"/>
            </a:br>
            <a:br>
              <a:rPr sz="3600"/>
            </a:br>
            <a:r>
              <a:rPr b="1" i="1" lang="ru-RU" sz="2900" spc="-1" strike="noStrike">
                <a:solidFill>
                  <a:srgbClr val="7030a0"/>
                </a:solidFill>
                <a:latin typeface="Calibri"/>
              </a:rPr>
              <a:t>учитель-логопед     Юсова Л.А.</a:t>
            </a: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                                         </a:t>
            </a:r>
            <a:br>
              <a:rPr sz="16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46c0a"/>
              </a:solidFill>
              <a:latin typeface="Calibri"/>
            </a:endParaRPr>
          </a:p>
        </p:txBody>
      </p:sp>
      <p:pic>
        <p:nvPicPr>
          <p:cNvPr id="71" name="Содержимое 7" descr="IMG-0b4e95acd4b4a79342281a6e91b3c180-V.jpg"/>
          <p:cNvPicPr/>
          <p:nvPr/>
        </p:nvPicPr>
        <p:blipFill>
          <a:blip r:embed="rId1"/>
          <a:stretch/>
        </p:blipFill>
        <p:spPr>
          <a:xfrm>
            <a:off x="4714920" y="1500120"/>
            <a:ext cx="4138560" cy="408636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11" descr="IMG_20210426_093806.jpg"/>
          <p:cNvPicPr/>
          <p:nvPr/>
        </p:nvPicPr>
        <p:blipFill>
          <a:blip r:embed="rId2"/>
          <a:stretch/>
        </p:blipFill>
        <p:spPr>
          <a:xfrm>
            <a:off x="357120" y="207180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4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немотаблица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– это целая схема, в которую заложен текст ( рассказ, стихотворение, сказка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C:\Users\Пользователь\Загрузки\А434П.jpg"/>
          <p:cNvPicPr/>
          <p:nvPr/>
        </p:nvPicPr>
        <p:blipFill>
          <a:blip r:embed="rId2"/>
          <a:stretch/>
        </p:blipFill>
        <p:spPr>
          <a:xfrm>
            <a:off x="1800360" y="2565360"/>
            <a:ext cx="5543280" cy="295128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Использование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немотаблицы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в работе с детьми старшей логопедическо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10" descr="IMG_20210426_094858.jpg"/>
          <p:cNvPicPr/>
          <p:nvPr/>
        </p:nvPicPr>
        <p:blipFill>
          <a:blip r:embed="rId1"/>
          <a:stretch/>
        </p:blipFill>
        <p:spPr>
          <a:xfrm>
            <a:off x="4714920" y="185724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12" descr="IMG-784a613dc3467c3162d497a945b82274-V.jpg"/>
          <p:cNvPicPr/>
          <p:nvPr/>
        </p:nvPicPr>
        <p:blipFill>
          <a:blip r:embed="rId2"/>
          <a:stretch/>
        </p:blipFill>
        <p:spPr>
          <a:xfrm>
            <a:off x="357120" y="1857240"/>
            <a:ext cx="4038840" cy="349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немотехника»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в работе с детьми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дготовительной логопедическо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9" descr="IMG-3ccf6e10952dc22bd51baa42427fbb5d-V.jpg"/>
          <p:cNvPicPr/>
          <p:nvPr/>
        </p:nvPicPr>
        <p:blipFill>
          <a:blip r:embed="rId1"/>
          <a:stretch/>
        </p:blipFill>
        <p:spPr>
          <a:xfrm>
            <a:off x="285840" y="1714680"/>
            <a:ext cx="4500360" cy="407160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8" descr="IMG-c71bad12d628dc5b1946381fb03296cd-V.jpg"/>
          <p:cNvPicPr/>
          <p:nvPr/>
        </p:nvPicPr>
        <p:blipFill>
          <a:blip r:embed="rId2"/>
          <a:stretch/>
        </p:blipFill>
        <p:spPr>
          <a:xfrm>
            <a:off x="5072040" y="1714680"/>
            <a:ext cx="3714840" cy="4071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Прямоугольник 1"/>
          <p:cNvSpPr/>
          <p:nvPr/>
        </p:nvSpPr>
        <p:spPr>
          <a:xfrm>
            <a:off x="431640" y="285840"/>
            <a:ext cx="8280720" cy="6555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- у детей увеличивается круг знаний об окружающем мир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- появляется желание пересказывать тексты, придумывать   интересные истор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- появляется интерес к заучиванию стихов и потеше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- словарный запас выходит на более высокий уров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у детей автоматизация звуков речи происходит быстрее и интереснее;</a:t>
            </a:r>
            <a:br>
              <a:rPr sz="2400"/>
            </a:br>
            <a:r>
              <a:rPr b="0" lang="ru-RU" sz="2400" spc="-1" strike="noStrike">
                <a:solidFill>
                  <a:srgbClr val="31859c"/>
                </a:solidFill>
                <a:latin typeface="Calibri"/>
              </a:rPr>
              <a:t>                    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Овладение приемами работы с мнемотаблицами помогает в развитии основных психических процессов - памяти, внимания, образного мышления, а так же сокращает время обучения связной речи детей дошкольного возраста. Мнемотехника помогает сделать процесс запоминания более простым, интересным, твор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86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6286320"/>
            <a:ext cx="822960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1071720" y="264312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Желаю творческих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86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6286320"/>
            <a:ext cx="822960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1071720" y="26431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-101520" y="0"/>
            <a:ext cx="92455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Box 1"/>
          <p:cNvSpPr/>
          <p:nvPr/>
        </p:nvSpPr>
        <p:spPr>
          <a:xfrm>
            <a:off x="2610000" y="714240"/>
            <a:ext cx="3992400" cy="5205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тгадывание заг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477800" y="1844640"/>
            <a:ext cx="5855040" cy="3665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МНЕМОТАБЛИЦЫ: Загадка (Лук); © Аверина Кристина"/>
          <p:cNvPicPr/>
          <p:nvPr/>
        </p:nvPicPr>
        <p:blipFill>
          <a:blip r:embed="rId1"/>
          <a:stretch/>
        </p:blipFill>
        <p:spPr>
          <a:xfrm>
            <a:off x="857160" y="928800"/>
            <a:ext cx="757260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-12600" y="-792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1042920" y="1197000"/>
          <a:ext cx="6480360" cy="1401840"/>
        </p:xfrm>
        <a:graphic>
          <a:graphicData uri="http://schemas.openxmlformats.org/drawingml/2006/table">
            <a:tbl>
              <a:tblPr/>
              <a:tblGrid>
                <a:gridCol w="1440000"/>
                <a:gridCol w="1728720"/>
                <a:gridCol w="1800360"/>
                <a:gridCol w="1511280"/>
              </a:tblGrid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Рисунок 3" descr="http://krepmaster12.ru/templates/Default/img/izmeritelnyy/3.jpg"/>
          <p:cNvPicPr/>
          <p:nvPr/>
        </p:nvPicPr>
        <p:blipFill>
          <a:blip r:embed="rId2"/>
          <a:stretch/>
        </p:blipFill>
        <p:spPr>
          <a:xfrm>
            <a:off x="2749680" y="1792440"/>
            <a:ext cx="1133280" cy="152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http://i26.tinypic.com/xcizjr.png"/>
          <p:cNvPicPr/>
          <p:nvPr/>
        </p:nvPicPr>
        <p:blipFill>
          <a:blip r:embed="rId3"/>
          <a:stretch/>
        </p:blipFill>
        <p:spPr>
          <a:xfrm rot="4529400">
            <a:off x="6432120" y="1284120"/>
            <a:ext cx="72216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042920" y="2708280"/>
          <a:ext cx="6572160" cy="1427040"/>
        </p:xfrm>
        <a:graphic>
          <a:graphicData uri="http://schemas.openxmlformats.org/drawingml/2006/table">
            <a:tbl>
              <a:tblPr/>
              <a:tblGrid>
                <a:gridCol w="1440000"/>
                <a:gridCol w="1728720"/>
                <a:gridCol w="1782720"/>
                <a:gridCol w="1620720"/>
              </a:tblGrid>
              <a:tr h="14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Рисунок 18" descr="https://im3-tub-ru.yandex.net/i?id=e76183faa8ad40d94a7e86d8bc41cf6f&amp;n=33&amp;h=190&amp;w=219"/>
          <p:cNvPicPr/>
          <p:nvPr/>
        </p:nvPicPr>
        <p:blipFill>
          <a:blip r:embed="rId4"/>
          <a:stretch/>
        </p:blipFill>
        <p:spPr>
          <a:xfrm>
            <a:off x="1214280" y="2924280"/>
            <a:ext cx="1074960" cy="9381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8" descr="https://im3-tub-ru.yandex.net/i?id=e76183faa8ad40d94a7e86d8bc41cf6f&amp;n=33&amp;h=190&amp;w=219"/>
          <p:cNvPicPr/>
          <p:nvPr/>
        </p:nvPicPr>
        <p:blipFill>
          <a:blip r:embed="rId5"/>
          <a:stretch/>
        </p:blipFill>
        <p:spPr>
          <a:xfrm>
            <a:off x="4572000" y="2916360"/>
            <a:ext cx="1095480" cy="954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http://fs00.infourok.ru/images/doc/171/196101/img7.jpg"/>
          <p:cNvPicPr/>
          <p:nvPr/>
        </p:nvPicPr>
        <p:blipFill>
          <a:blip r:embed="rId6"/>
          <a:stretch/>
        </p:blipFill>
        <p:spPr>
          <a:xfrm>
            <a:off x="2484360" y="2941560"/>
            <a:ext cx="1663920" cy="11541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3" descr="https://im1-tub-ru.yandex.net/i?id=6f5c2c7f8e94dd3d36f528812b7a0e7e&amp;n=33&amp;h=190&amp;w=190"/>
          <p:cNvPicPr/>
          <p:nvPr/>
        </p:nvPicPr>
        <p:blipFill>
          <a:blip r:embed="rId7"/>
          <a:stretch/>
        </p:blipFill>
        <p:spPr>
          <a:xfrm>
            <a:off x="6283440" y="2855880"/>
            <a:ext cx="1128600" cy="113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958680" y="4437000"/>
          <a:ext cx="6637680" cy="1287360"/>
        </p:xfrm>
        <a:graphic>
          <a:graphicData uri="http://schemas.openxmlformats.org/drawingml/2006/table">
            <a:tbl>
              <a:tblPr/>
              <a:tblGrid>
                <a:gridCol w="1524240"/>
                <a:gridCol w="1728720"/>
                <a:gridCol w="1800360"/>
                <a:gridCol w="1584360"/>
              </a:tblGrid>
              <a:tr h="128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Рисунок 36" descr="https://im0-tub-ru.yandex.net/i?id=589afae5ddf0753be2e95ffdaf6c9e53&amp;n=33&amp;h=190&amp;w=286"/>
          <p:cNvPicPr/>
          <p:nvPr/>
        </p:nvPicPr>
        <p:blipFill>
          <a:blip r:embed="rId8"/>
          <a:stretch/>
        </p:blipFill>
        <p:spPr>
          <a:xfrm>
            <a:off x="1042920" y="4724280"/>
            <a:ext cx="1279440" cy="854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9" descr="https://im2-tub-ru.yandex.net/i?id=a937ac7e32e3a926a50072e84c64205e&amp;n=33&amp;h=190&amp;w=190"/>
          <p:cNvPicPr/>
          <p:nvPr/>
        </p:nvPicPr>
        <p:blipFill>
          <a:blip r:embed="rId9"/>
          <a:stretch/>
        </p:blipFill>
        <p:spPr>
          <a:xfrm>
            <a:off x="2749680" y="4475160"/>
            <a:ext cx="1133280" cy="1131840"/>
          </a:xfrm>
          <a:prstGeom prst="rect">
            <a:avLst/>
          </a:prstGeom>
          <a:ln w="0">
            <a:noFill/>
          </a:ln>
        </p:spPr>
      </p:pic>
      <p:cxnSp>
        <p:nvCxnSpPr>
          <p:cNvPr id="108" name="AutoShape 44"/>
          <p:cNvCxnSpPr/>
          <p:nvPr/>
        </p:nvCxnSpPr>
        <p:spPr>
          <a:xfrm>
            <a:off x="4714920" y="5714640"/>
            <a:ext cx="100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27"/>
          <p:cNvCxnSpPr/>
          <p:nvPr/>
        </p:nvCxnSpPr>
        <p:spPr>
          <a:xfrm>
            <a:off x="4932000" y="5040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Прямая со стрелкой 30"/>
          <p:cNvCxnSpPr/>
          <p:nvPr/>
        </p:nvCxnSpPr>
        <p:spPr>
          <a:xfrm>
            <a:off x="4932000" y="5040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Стрелка вправо 3072"/>
          <p:cNvSpPr/>
          <p:nvPr/>
        </p:nvSpPr>
        <p:spPr>
          <a:xfrm>
            <a:off x="4575240" y="4908600"/>
            <a:ext cx="977760" cy="485640"/>
          </a:xfrm>
          <a:prstGeom prst="rightArrow">
            <a:avLst>
              <a:gd name="adj1" fmla="val 44370"/>
              <a:gd name="adj2" fmla="val 5000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2" descr="http://www.motto.net.ua/pic/201209/1280x1024/motto.net.ua-29578.jpg"/>
          <p:cNvPicPr/>
          <p:nvPr/>
        </p:nvPicPr>
        <p:blipFill>
          <a:blip r:embed="rId10"/>
          <a:stretch/>
        </p:blipFill>
        <p:spPr>
          <a:xfrm>
            <a:off x="6156360" y="4518000"/>
            <a:ext cx="130500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572240" cy="57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роблемы речи детей с ОНР </a:t>
            </a:r>
            <a:r>
              <a:rPr b="1" i="1" lang="ru-RU" sz="3200" spc="-1" strike="noStrike">
                <a:solidFill>
                  <a:srgbClr val="31859c"/>
                </a:solidFill>
                <a:latin typeface="Calibri"/>
              </a:rPr>
              <a:t>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1.Недостаточный словарный запас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2.Неспособность грамматически правильно построить предложение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3.Неспособность построить монолог (пересказ, рассказ )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4.Трудности в разучивании стихотворений.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5.Недостаточно развиты психические процессы (внимание, память, воображение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1908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Прямоугольник 3"/>
          <p:cNvSpPr/>
          <p:nvPr/>
        </p:nvSpPr>
        <p:spPr>
          <a:xfrm>
            <a:off x="1023840" y="528480"/>
            <a:ext cx="7096320" cy="5205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Заучивание стихотворения «ЁЛОЧКА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3" descr="оплата за конкурс МБДОУ №72_0008"/>
          <p:cNvPicPr/>
          <p:nvPr/>
        </p:nvPicPr>
        <p:blipFill>
          <a:blip r:embed="rId2"/>
          <a:stretch/>
        </p:blipFill>
        <p:spPr>
          <a:xfrm>
            <a:off x="826920" y="1268280"/>
            <a:ext cx="151164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34" descr="оплата за конкурс МБДОУ №72_0007"/>
          <p:cNvPicPr/>
          <p:nvPr/>
        </p:nvPicPr>
        <p:blipFill>
          <a:blip r:embed="rId3"/>
          <a:stretch/>
        </p:blipFill>
        <p:spPr>
          <a:xfrm>
            <a:off x="2338560" y="1268280"/>
            <a:ext cx="151272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35" descr="оплата за конкурс МБДОУ №72_0006"/>
          <p:cNvPicPr/>
          <p:nvPr/>
        </p:nvPicPr>
        <p:blipFill>
          <a:blip r:embed="rId4"/>
          <a:stretch/>
        </p:blipFill>
        <p:spPr>
          <a:xfrm>
            <a:off x="3851280" y="1268280"/>
            <a:ext cx="136836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36" descr="оплата за конкурс МБДОУ №72_0005"/>
          <p:cNvPicPr/>
          <p:nvPr/>
        </p:nvPicPr>
        <p:blipFill>
          <a:blip r:embed="rId5"/>
          <a:stretch/>
        </p:blipFill>
        <p:spPr>
          <a:xfrm>
            <a:off x="826920" y="2922480"/>
            <a:ext cx="151164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37" descr="оплата за конкурс МБДОУ №72_0004"/>
          <p:cNvPicPr/>
          <p:nvPr/>
        </p:nvPicPr>
        <p:blipFill>
          <a:blip r:embed="rId6"/>
          <a:stretch/>
        </p:blipFill>
        <p:spPr>
          <a:xfrm>
            <a:off x="2338560" y="2922480"/>
            <a:ext cx="148716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Picture 38" descr="оплата за конкурс МБДОУ №72_0003"/>
          <p:cNvPicPr/>
          <p:nvPr/>
        </p:nvPicPr>
        <p:blipFill>
          <a:blip r:embed="rId7"/>
          <a:stretch/>
        </p:blipFill>
        <p:spPr>
          <a:xfrm>
            <a:off x="3851280" y="2924280"/>
            <a:ext cx="1368360" cy="165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Picture 39" descr="оплата за конкурс МБДОУ №72_0002"/>
          <p:cNvPicPr/>
          <p:nvPr/>
        </p:nvPicPr>
        <p:blipFill>
          <a:blip r:embed="rId8"/>
          <a:stretch/>
        </p:blipFill>
        <p:spPr>
          <a:xfrm>
            <a:off x="826920" y="4578480"/>
            <a:ext cx="151164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Picture 40" descr="оплата за конкурс МБДОУ №72_0001"/>
          <p:cNvPicPr/>
          <p:nvPr/>
        </p:nvPicPr>
        <p:blipFill>
          <a:blip r:embed="rId9"/>
          <a:stretch/>
        </p:blipFill>
        <p:spPr>
          <a:xfrm>
            <a:off x="2381400" y="4578480"/>
            <a:ext cx="146988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42" descr="оплата за конкурс МБДОУ №72"/>
          <p:cNvPicPr/>
          <p:nvPr/>
        </p:nvPicPr>
        <p:blipFill>
          <a:blip r:embed="rId10"/>
          <a:stretch/>
        </p:blipFill>
        <p:spPr>
          <a:xfrm>
            <a:off x="3851280" y="4578480"/>
            <a:ext cx="136836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Прямоугольник 4"/>
          <p:cNvSpPr/>
          <p:nvPr/>
        </p:nvSpPr>
        <p:spPr>
          <a:xfrm>
            <a:off x="5435640" y="1517760"/>
            <a:ext cx="39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нами ёлочк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шечки, иголоч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ики, фонар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йчики и свечк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ёзды, человеч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.Нищ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«ИГРУШ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МНЕМОТАБЛИЦЫ: Игрушки; © Аверина Кристина"/>
          <p:cNvPicPr/>
          <p:nvPr/>
        </p:nvPicPr>
        <p:blipFill>
          <a:blip r:embed="rId1"/>
          <a:stretch/>
        </p:blipFill>
        <p:spPr>
          <a:xfrm>
            <a:off x="1143000" y="500040"/>
            <a:ext cx="664380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828360"/>
            <a:ext cx="7286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Пересказ художественных текс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403280" y="1695600"/>
            <a:ext cx="5832720" cy="4084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735804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i="1" lang="ru-RU" sz="3200" spc="-1" strike="noStrike">
                <a:solidFill>
                  <a:srgbClr val="8064a2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Что такое мнемотехника ?</a:t>
            </a:r>
            <a:br>
              <a:rPr sz="28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немотехника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– это техника развития памят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немотехника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представляет собой совокупность методов и приёмов, облегчающих запоминание сохранение и воспроизведение информа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274320"/>
            <a:ext cx="821556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i="1" lang="ru-RU" sz="3200" spc="-1" strike="noStrike">
                <a:solidFill>
                  <a:srgbClr val="8064a2"/>
                </a:solidFill>
                <a:latin typeface="Calibri"/>
              </a:rPr>
              <a:t>       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«Учите ребёнка каким-нибудь неизвестным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ему пяти словам – он будет долго и напрасно мучиться, но свяжите двадцать таких слов с картинками, и он усвоит их на лету»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                                                        К. Д. Уши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-38160" y="9360"/>
            <a:ext cx="918216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4296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31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100" spc="-1" strike="noStrike">
                <a:solidFill>
                  <a:srgbClr val="7030a0"/>
                </a:solidFill>
                <a:latin typeface="Calibri"/>
              </a:rPr>
              <a:t>Актуальность :</a:t>
            </a:r>
            <a:br>
              <a:rPr sz="3100"/>
            </a:br>
            <a:br>
              <a:rPr sz="27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1. Обогащение словарного запаса ;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2. Обучение составлению рассказов по картине, серии сюжетных картин,  рассказов описаний, рассказов из личного опыта дошкольников; 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3.  Пересказ художественной литературы;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4.  Отгадывание и загадывание загадок; 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5   Проговаривание чистоговорок  и скороговорок;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6.  Заучивание стихов; 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7.  Автоматизация поставленных звук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85520" y="856800"/>
            <a:ext cx="735804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немотехника строи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т простого к сложном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571840" y="2571840"/>
            <a:ext cx="3929040" cy="571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немо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571840" y="3929040"/>
            <a:ext cx="392904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немодоро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643120" y="5286240"/>
            <a:ext cx="385776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немо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12"/>
          <p:cNvCxnSpPr/>
          <p:nvPr/>
        </p:nvCxnSpPr>
        <p:spPr>
          <a:xfrm flipH="1">
            <a:off x="4571640" y="3286080"/>
            <a:ext cx="2160" cy="60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4"/>
          <p:cNvCxnSpPr/>
          <p:nvPr/>
        </p:nvCxnSpPr>
        <p:spPr>
          <a:xfrm>
            <a:off x="4570920" y="4714560"/>
            <a:ext cx="1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857160" y="856800"/>
            <a:ext cx="7072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немоквадрат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-   одиночное изображение, которое обозначает одно слово, словосочетание или простое предложение</a:t>
            </a: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Пользователь\Desktop\Безымяwнный.png"/>
          <p:cNvPicPr/>
          <p:nvPr/>
        </p:nvPicPr>
        <p:blipFill>
          <a:blip r:embed="rId2"/>
          <a:stretch/>
        </p:blipFill>
        <p:spPr>
          <a:xfrm rot="21191400">
            <a:off x="1736640" y="3053880"/>
            <a:ext cx="2019240" cy="208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mg1"/>
          <p:cNvPicPr/>
          <p:nvPr/>
        </p:nvPicPr>
        <p:blipFill>
          <a:blip r:embed="rId3"/>
          <a:stretch/>
        </p:blipFill>
        <p:spPr>
          <a:xfrm rot="637800">
            <a:off x="5094360" y="3102120"/>
            <a:ext cx="1913040" cy="19285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p:transition spd="med">
    <p:wheel spokes="1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6800" y="857160"/>
            <a:ext cx="728676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57160" y="928440"/>
            <a:ext cx="67867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немодорожка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– ряд картинок (3-5), по которым можно составить небольшой рассказ в 2 - 4 предло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C:\Users\Пользователь\Загрузки\А434П.jpg"/>
          <p:cNvPicPr/>
          <p:nvPr/>
        </p:nvPicPr>
        <p:blipFill>
          <a:blip r:embed="rId2"/>
          <a:stretch/>
        </p:blipFill>
        <p:spPr>
          <a:xfrm>
            <a:off x="1403280" y="3068640"/>
            <a:ext cx="6193080" cy="22320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Использование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немоквадрата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и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немодорожки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в средней логопедической групп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8" descr="IMG-ab15777ef7fb35986173461c819a0c94-V.jpg"/>
          <p:cNvPicPr/>
          <p:nvPr/>
        </p:nvPicPr>
        <p:blipFill>
          <a:blip r:embed="rId1"/>
          <a:stretch/>
        </p:blipFill>
        <p:spPr>
          <a:xfrm>
            <a:off x="642960" y="1714680"/>
            <a:ext cx="3929040" cy="39290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11" descr="IMG_20210426_103723.jpg"/>
          <p:cNvPicPr/>
          <p:nvPr/>
        </p:nvPicPr>
        <p:blipFill>
          <a:blip r:embed="rId2"/>
          <a:stretch/>
        </p:blipFill>
        <p:spPr>
          <a:xfrm>
            <a:off x="4857840" y="1357200"/>
            <a:ext cx="3643200" cy="478656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11" descr="IMG_20210426_103723.jpg"/>
          <p:cNvPicPr/>
          <p:nvPr/>
        </p:nvPicPr>
        <p:blipFill>
          <a:blip r:embed="rId3"/>
          <a:stretch/>
        </p:blipFill>
        <p:spPr>
          <a:xfrm>
            <a:off x="4857840" y="1357200"/>
            <a:ext cx="3643200" cy="4786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07:46:32Z</dcterms:created>
  <dc:creator>Пользователь</dc:creator>
  <dc:description/>
  <dc:language>en-US</dc:language>
  <cp:lastModifiedBy>Admin</cp:lastModifiedBy>
  <dcterms:modified xsi:type="dcterms:W3CDTF">2023-02-06T17:23:09Z</dcterms:modified>
  <cp:revision>269</cp:revision>
  <dc:subject/>
  <dc:title>мнемотехника</dc:title>
</cp:coreProperties>
</file>