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"/>
            <p:cNvGrpSpPr/>
            <p:nvPr/>
          </p:nvGrpSpPr>
          <p:grpSpPr>
            <a:xfrm>
              <a:off x="549360" y="536400"/>
              <a:ext cx="8056440" cy="5770800"/>
              <a:chOff x="549360" y="536400"/>
              <a:chExt cx="8056440" cy="5770800"/>
            </a:xfrm>
          </p:grpSpPr>
          <p:pic>
            <p:nvPicPr>
              <p:cNvPr id="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6440" cy="577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4040" y="542880"/>
                <a:ext cx="8037360" cy="5754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pic>
          <p:nvPicPr>
            <p:cNvPr id="5" name="" descr=""/>
            <p:cNvPicPr/>
            <p:nvPr/>
          </p:nvPicPr>
          <p:blipFill>
            <a:blip r:embed="rId5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6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549360" y="536400"/>
              <a:ext cx="8056440" cy="5770800"/>
              <a:chOff x="549360" y="536400"/>
              <a:chExt cx="8056440" cy="5770800"/>
            </a:xfrm>
          </p:grpSpPr>
          <p:pic>
            <p:nvPicPr>
              <p:cNvPr id="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6440" cy="577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554040" y="542880"/>
                <a:ext cx="8037360" cy="5754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1278000" y="235440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335880"/>
            <a:ext cx="77752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59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разработка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ая игра как способ организации игровой деятельности с детьми старш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: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нькова Анна Валерьевна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Бийск 2022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Garamond"/>
              </a:rPr>
              <a:t>Показ презентации, мультфильмов, видеороликов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00000" y="2441520"/>
            <a:ext cx="1943280" cy="142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137040" y="2604960"/>
            <a:ext cx="2438280" cy="14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35040" y="4197240"/>
            <a:ext cx="3317760" cy="1839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867280" y="2441520"/>
            <a:ext cx="2376720" cy="176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046400" y="4314960"/>
            <a:ext cx="2160720" cy="160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300720" y="4432320"/>
            <a:ext cx="2197080" cy="16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Garamond"/>
              </a:rPr>
              <a:t>Чтение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275436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6920" y="3284640"/>
            <a:ext cx="489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«Зайчик и Медвежонок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«Маша и Медведь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«Нет места мусору на Земле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«Сказка про то, как Чистота Мусор победила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Иллюстрации на тему «Мусор вокруг нас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0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Garamond"/>
              </a:rPr>
              <a:t>Игровая деятельность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28640" y="2593800"/>
            <a:ext cx="2438280" cy="324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00400" y="2492280"/>
            <a:ext cx="2695680" cy="3591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935680" y="2593800"/>
            <a:ext cx="2457360" cy="33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0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Garamond"/>
              </a:rPr>
              <a:t>Игровая деятельность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87480" y="2624040"/>
            <a:ext cx="2595600" cy="345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33920" y="2427120"/>
            <a:ext cx="1469880" cy="1895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780000" y="4352760"/>
            <a:ext cx="1379520" cy="1838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462640" y="2519280"/>
            <a:ext cx="269712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0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Garamond"/>
              </a:rPr>
              <a:t>Художественное творчество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1280" y="2529000"/>
            <a:ext cx="2646360" cy="352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317760" y="2587680"/>
            <a:ext cx="2517840" cy="3371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896080" y="2529000"/>
            <a:ext cx="266364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0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Garamond"/>
              </a:rPr>
              <a:t>Художественное творчество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2651400" cy="21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736800" y="2565360"/>
            <a:ext cx="2305080" cy="3065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227640" y="3400560"/>
            <a:ext cx="2024280" cy="2782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204920" y="4656240"/>
            <a:ext cx="2041560" cy="15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0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148520" cy="4176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771640" y="5157720"/>
            <a:ext cx="388944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Garamond"/>
              </a:rPr>
              <a:t>Результативность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200320"/>
            <a:ext cx="77040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ольшинства детей группы расширились знания об источниках возникновения отходов, их классификации и способах утилизации;</a:t>
            </a: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лучили знания и умения о возможном вторичном использовании бытовых отходов;</a:t>
            </a: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оявляли активность и интерес к познавательной экспериментально-исследовательской деятельности, получили навык работы с бросовым материалом, познакомились со свойствами этих материалов;</a:t>
            </a: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деятельности развивалась речь и память;</a:t>
            </a: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лся уровень знания о бережном отношении к окружающей природе;</a:t>
            </a: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ли желание участвовать в совместной трудовой деятельности.</a:t>
            </a: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0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480" y="915840"/>
            <a:ext cx="67989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Garamond"/>
              </a:rPr>
              <a:t>Актуальность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2852640"/>
            <a:ext cx="731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з тех, кто принёс и приносит вред природе, когда-то был ребёнком. Вот почему так велика роль дошкольных учреждений в экологическом воспитании детей, начиная с раннего возраст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Garamond"/>
              </a:rPr>
              <a:t>Новизна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2492280"/>
            <a:ext cx="7056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DejaVu San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современных производств загрязняют окружающую среду выбросами в воздух и в воду своими отходами. Однако эти отходы содержат в себе нужные для хозяйства вещества: металлы, стекло, бумагу, пластик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з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ается в том, чтобы разработать механизмы выделения этих компонентов из отходов и использовать их вторично – когда отходы одного продукта используются в качестве сырья для другого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Garamond"/>
              </a:rPr>
              <a:t>Условие возникновения опыт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2924280"/>
            <a:ext cx="679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DejaVu Sans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работы по теме «Экологическая игра как способ организации игровой деятельности с детьми старшего дошкольного возраста» формировался на базе МБДОУ «Детский сад №59» города Бийска в течении месяца (январь)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задействованы дети старшей группы №2 «Смешарики»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0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Garamond"/>
              </a:rPr>
              <a:t>Цель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1335240" y="2637000"/>
            <a:ext cx="648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организации игровой деятельности и способствовать формированию у детей экологической культуры и экологического сознания через формирование бережного отношения к природным ресурсам и внедрения практики современного способа сбора отходов, подлежащих вторичной переработк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Garamond"/>
              </a:rPr>
              <a:t>Задачи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421000"/>
            <a:ext cx="720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ить знания детей об источниках возникновения отходов, их классификации и способах утилизации;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условия для получения детьми знаний и умений о возможном вторичном использовании бытовых отходов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познавательной экспериментально исследовательской деятельности; работать с различным бросовым материалом, знакомить с их свойствами;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звивать трудовые навыки и умения;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речь, память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воспитывать бережное отношение к окружающей природе;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желание участвовать в совместной трудовой деятельности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549360"/>
            <a:ext cx="792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явления уровня сформированности представлений о правилах поведения в природе у детей старшего дошкольного возраста была использова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 метод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логический светофор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втором которой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кова И.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81360" y="2060640"/>
            <a:ext cx="5499000" cy="321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43280" y="5273640"/>
            <a:ext cx="43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Рис.1 Уровень сформированности представлений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о правилах поведения в природе (Подготовительный этап)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692280"/>
            <a:ext cx="76327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Garamond"/>
              </a:rPr>
              <a:t>Для решения поставленных задач и повышение уровня представлений о рациональном взаимодействии человека с природой была </a:t>
            </a:r>
            <a:br>
              <a:rPr sz="1800"/>
            </a:br>
            <a:r>
              <a:rPr b="1" lang="ru-RU" sz="2400" spc="-1" strike="noStrike">
                <a:solidFill>
                  <a:srgbClr val="262626"/>
                </a:solidFill>
                <a:latin typeface="Garamond"/>
              </a:rPr>
              <a:t>проведена следующая работа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781360"/>
            <a:ext cx="33843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DejaVu Sans"/>
              </a:rPr>
              <a:t>Беседы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«Мусор – это хорошо или плохо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«Помогите природе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«Сортируя отходы - сохраняем природу!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«Как правильно утилизировать мусор?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«Что произойдет, если не убирать мусор?»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4456080" y="2781360"/>
            <a:ext cx="396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DejaVu Sans"/>
              </a:rPr>
              <a:t>Наблюдение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Куда он девается мусор?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Как поступают с отходами в детском саду?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Можно ли увидеть мусор в окрестностях детского сада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Откуда он там берется?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DejaVu Sans"/>
              </a:rPr>
              <a:t>Есть ли рядом с садом мусорные баки и урны?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5400" spc="-1" strike="noStrike">
                <a:solidFill>
                  <a:srgbClr val="262626"/>
                </a:solidFill>
                <a:latin typeface="Garamond"/>
              </a:rPr>
              <a:t>Экспериментальная деятельност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33320" y="2565360"/>
            <a:ext cx="2538360" cy="338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344760" y="2852640"/>
            <a:ext cx="2462400" cy="3283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864400" y="2565360"/>
            <a:ext cx="2523960" cy="33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9T19:27:50Z</dcterms:created>
  <dc:creator>anytka-artem</dc:creator>
  <dc:description/>
  <dc:language>en-US</dc:language>
  <cp:lastModifiedBy>Admin</cp:lastModifiedBy>
  <cp:lastPrinted>2022-02-24T15:00:15Z</cp:lastPrinted>
  <dcterms:modified xsi:type="dcterms:W3CDTF">2023-02-06T09:27:11Z</dcterms:modified>
  <cp:revision>8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