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B82-78CE-4748-A486-3958C520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91D-84E2-4D7E-B600-C9911DB8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A55-E32B-4E3E-9F66-DFAFB121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C2F-AC7D-4B8F-A6D8-8894253F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67E-0B3F-4D01-AE7B-CA536E78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F3A6-FBC6-42B9-9777-63169E8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C1A7-A161-455B-850C-B7E7B3F6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1E16-AD0F-4FB6-A8D6-38509414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9E3A-6FD3-42E4-B2BD-16C2FB9E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4D19-708C-49A8-8B60-7845DA35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2F9D-2A6E-43DE-9B34-783BF82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418-EE56-47AF-AAFE-21EB428A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15F5-EEDA-4EDE-91E7-4D2634A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A66-945A-4221-BE2D-153E97C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7353-C5FE-40FE-BB8F-2F675FFF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2CB0-9788-4D68-81BC-EA2D5917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BC4-0229-42DD-9090-6F028DC3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D8-4F1C-4DC2-81F2-3A2655D1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842-9481-48D7-9C75-AE161CAC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D6E-A566-4C17-9A92-4ED99C44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37C-6725-457A-968E-FF75A45E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345-7CB1-454F-9CDB-0CDA7BA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C39-DE63-44A8-8420-BC1942E1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6F3-DBBE-4C3E-B2D7-DACD69E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E771-8A59-423F-9235-9972DCE1E1E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A9B4-CC65-4CD1-B0A5-40D6C3D8497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539640" y="-17640"/>
            <a:ext cx="842508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ПРОСВЕЩЕН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е государственное бюджетное образовательное учреждение высшего образ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лтайский государственный гуманитарно-педагогический университет имени В.М. Шукшин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ГБОУ ВО «АГГПУ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педагогики и психологи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федра психолого-педагогического, дошкольного и начального образ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закаливан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на организм ребенка каждого ви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исциплине «Теория и технологии физического воспитания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 студент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ы П-ZДОЛ19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Шуньков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на Валерьев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ерил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Южаков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леся Николаев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йск – 202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здушные закаливающие процедуры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1"/>
          <a:stretch/>
        </p:blipFill>
        <p:spPr>
          <a:xfrm>
            <a:off x="938160" y="1805040"/>
            <a:ext cx="3902040" cy="2601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4840200" y="1676520"/>
            <a:ext cx="4087800" cy="3065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3" descr=""/>
          <p:cNvPicPr/>
          <p:nvPr/>
        </p:nvPicPr>
        <p:blipFill>
          <a:blip r:embed="rId3"/>
          <a:stretch/>
        </p:blipFill>
        <p:spPr>
          <a:xfrm>
            <a:off x="93600" y="4406760"/>
            <a:ext cx="356400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tretch/>
        </p:blipFill>
        <p:spPr>
          <a:xfrm>
            <a:off x="6443640" y="4743360"/>
            <a:ext cx="2560680" cy="2040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"/>
          <p:cNvPicPr/>
          <p:nvPr/>
        </p:nvPicPr>
        <p:blipFill>
          <a:blip r:embed="rId5"/>
          <a:stretch/>
        </p:blipFill>
        <p:spPr>
          <a:xfrm>
            <a:off x="3278160" y="4406760"/>
            <a:ext cx="3168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аливание солнц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213080" cy="3075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"/>
          <p:cNvPicPr/>
          <p:nvPr/>
        </p:nvPicPr>
        <p:blipFill>
          <a:blip r:embed="rId2"/>
          <a:stretch/>
        </p:blipFill>
        <p:spPr>
          <a:xfrm>
            <a:off x="4500720" y="4471920"/>
            <a:ext cx="4103640" cy="23335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3"/>
          <a:stretch/>
        </p:blipFill>
        <p:spPr>
          <a:xfrm>
            <a:off x="4957920" y="1832040"/>
            <a:ext cx="4103640" cy="2639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4"/>
          <a:stretch/>
        </p:blipFill>
        <p:spPr>
          <a:xfrm>
            <a:off x="1476360" y="4915080"/>
            <a:ext cx="3024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1365120" y="178452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4703760" y="1773360"/>
            <a:ext cx="3554280" cy="2368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3"/>
          <a:stretch/>
        </p:blipFill>
        <p:spPr>
          <a:xfrm>
            <a:off x="17640" y="4211640"/>
            <a:ext cx="273024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"/>
          <p:cNvPicPr/>
          <p:nvPr/>
        </p:nvPicPr>
        <p:blipFill>
          <a:blip r:embed="rId4"/>
          <a:stretch/>
        </p:blipFill>
        <p:spPr>
          <a:xfrm>
            <a:off x="6018120" y="4005360"/>
            <a:ext cx="2847960" cy="19303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"/>
          <p:cNvPicPr/>
          <p:nvPr/>
        </p:nvPicPr>
        <p:blipFill>
          <a:blip r:embed="rId5"/>
          <a:stretch/>
        </p:blipFill>
        <p:spPr>
          <a:xfrm>
            <a:off x="2741760" y="4141800"/>
            <a:ext cx="327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 Дорожка здоровья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1150920" y="1820880"/>
            <a:ext cx="3484440" cy="2317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2"/>
          <a:stretch/>
        </p:blipFill>
        <p:spPr>
          <a:xfrm>
            <a:off x="4635360" y="1820880"/>
            <a:ext cx="3997440" cy="2665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3"/>
          <a:stretch/>
        </p:blipFill>
        <p:spPr>
          <a:xfrm>
            <a:off x="679320" y="4146480"/>
            <a:ext cx="3111480" cy="2332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www.maam.ru/upload/blogs/detsad-118240-1534057631.jpg"/>
          <p:cNvPicPr/>
          <p:nvPr/>
        </p:nvPicPr>
        <p:blipFill>
          <a:blip r:embed="rId4"/>
          <a:stretch/>
        </p:blipFill>
        <p:spPr>
          <a:xfrm>
            <a:off x="3801960" y="4138560"/>
            <a:ext cx="188928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admkrsk.ru/press/news/PublishingImages/2013/%D0%A2%D1%80%D0%B5%D0%BD%D0%B0%D0%B6%D0%B5%D1%80%D1%8B%D0%BF%D0%BF%D1%80%D0%BE%D1%82%D0%B8%D0%B2-%D0%BF%D0%BB%D0%B0%D1%81%D0%BA%D0%BE%D1%81%D1%82%D0%BE%D0%BF%D0%B8%D1%8F-(3).jpg"/>
          <p:cNvPicPr/>
          <p:nvPr/>
        </p:nvPicPr>
        <p:blipFill>
          <a:blip r:embed="rId5"/>
          <a:stretch/>
        </p:blipFill>
        <p:spPr>
          <a:xfrm>
            <a:off x="5702400" y="4471920"/>
            <a:ext cx="30178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1508040" y="1747800"/>
            <a:ext cx="3279960" cy="22795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788000" y="1646280"/>
            <a:ext cx="381312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304920" y="4022640"/>
            <a:ext cx="314460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4"/>
          <a:stretch/>
        </p:blipFill>
        <p:spPr>
          <a:xfrm>
            <a:off x="5508720" y="4129200"/>
            <a:ext cx="356076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5"/>
          <a:stretch/>
        </p:blipFill>
        <p:spPr>
          <a:xfrm>
            <a:off x="3459240" y="3979800"/>
            <a:ext cx="2049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9:27:50Z</dcterms:created>
  <dc:creator>anytka-artem</dc:creator>
  <dc:description/>
  <dc:language>en-US</dc:language>
  <cp:lastModifiedBy>Admin</cp:lastModifiedBy>
  <dcterms:modified xsi:type="dcterms:W3CDTF">2023-02-06T09:15:08Z</dcterms:modified>
  <cp:revision>57</cp:revision>
  <dc:subject/>
  <dc:title>Слайд 1</dc:title>
</cp:coreProperties>
</file>