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E99-1970-4A54-994D-A1DD7034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EF0-0F39-4093-935F-D417B840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193-7BEE-439E-9623-6079E807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4BE-8049-446D-8FB4-745BC2E0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8DE0-FD56-45A5-AFC2-F8FEF1C0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3060-DFD9-4FAC-A3F1-42E7EDBC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BE61-D359-454F-B697-56670352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81C8-C2DB-4462-82DE-51462266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76DF-B25F-4F82-96F3-89607824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9D95-98F1-47DE-AE96-E2B92955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828A-5ADA-4D31-A9FC-6CE788D8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817-4F50-42AA-AADC-42733516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C51C-DB0C-45C9-8388-623D954B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5D3A-DAA3-4947-A58F-8EF90844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84B9-E570-4134-9CE2-EE478CB0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6EE9-94A8-4869-A8BF-3B8D9973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4A23-8048-4B6D-BC25-07A93612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61D-5005-4A19-8912-F0F3CBD3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45D-2FC6-4234-976C-08D0544A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E07-AC74-422D-B56E-B2EA9CFD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8EF-917A-4070-BB29-60491196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1B9-0872-4BE6-BC48-6E3CF64E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DD3-D4FF-4C7B-A7AC-B283E8E2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A03-DACA-4BE2-B826-7AB3FEA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12A7-1323-454D-A231-0D43B023860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A292-C7CF-40BD-B566-5F8A4774028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539640" y="-17640"/>
            <a:ext cx="8425080" cy="67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СТЕРСТВО ПРОСВЕЩЕНИ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ое государственное бюджетное образовательное учреждение высшего образ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Алтайский государственный гуманитарно-педагогический университет имени В.М. Шукшин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ГБОУ ВО «АГГПУ»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педагогики и психологи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федра психолого-педагогического, дошкольного и начального образ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закаливан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ияние на организм ребенка каждого ви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исциплине «Теория и технологии физического воспитания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 студент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ы П-ZДОЛ19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Шуньков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на Валерьев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верил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Южаков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леся Николаев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йск – 202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здушные закаливающие процедуры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Рисунок 10" descr=""/>
          <p:cNvPicPr/>
          <p:nvPr/>
        </p:nvPicPr>
        <p:blipFill>
          <a:blip r:embed="rId1"/>
          <a:stretch/>
        </p:blipFill>
        <p:spPr>
          <a:xfrm>
            <a:off x="938160" y="1805040"/>
            <a:ext cx="3902040" cy="2601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4840200" y="1676520"/>
            <a:ext cx="4087800" cy="30654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3" descr=""/>
          <p:cNvPicPr/>
          <p:nvPr/>
        </p:nvPicPr>
        <p:blipFill>
          <a:blip r:embed="rId3"/>
          <a:stretch/>
        </p:blipFill>
        <p:spPr>
          <a:xfrm>
            <a:off x="93600" y="4406760"/>
            <a:ext cx="3564000" cy="2376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tretch/>
        </p:blipFill>
        <p:spPr>
          <a:xfrm>
            <a:off x="6443640" y="4743360"/>
            <a:ext cx="2560680" cy="2040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7" descr=""/>
          <p:cNvPicPr/>
          <p:nvPr/>
        </p:nvPicPr>
        <p:blipFill>
          <a:blip r:embed="rId5"/>
          <a:stretch/>
        </p:blipFill>
        <p:spPr>
          <a:xfrm>
            <a:off x="3278160" y="4406760"/>
            <a:ext cx="3168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аливание солнце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213080" cy="3075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"/>
          <p:cNvPicPr/>
          <p:nvPr/>
        </p:nvPicPr>
        <p:blipFill>
          <a:blip r:embed="rId2"/>
          <a:stretch/>
        </p:blipFill>
        <p:spPr>
          <a:xfrm>
            <a:off x="4500720" y="4471920"/>
            <a:ext cx="4103640" cy="23335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"/>
          <p:cNvPicPr/>
          <p:nvPr/>
        </p:nvPicPr>
        <p:blipFill>
          <a:blip r:embed="rId3"/>
          <a:stretch/>
        </p:blipFill>
        <p:spPr>
          <a:xfrm>
            <a:off x="4957920" y="1832040"/>
            <a:ext cx="4103640" cy="26398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"/>
          <p:cNvPicPr/>
          <p:nvPr/>
        </p:nvPicPr>
        <p:blipFill>
          <a:blip r:embed="rId4"/>
          <a:stretch/>
        </p:blipFill>
        <p:spPr>
          <a:xfrm>
            <a:off x="1476360" y="4915080"/>
            <a:ext cx="3024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аливание водо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1365120" y="178452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2"/>
          <a:stretch/>
        </p:blipFill>
        <p:spPr>
          <a:xfrm>
            <a:off x="4703760" y="1773360"/>
            <a:ext cx="3554280" cy="2368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"/>
          <p:cNvPicPr/>
          <p:nvPr/>
        </p:nvPicPr>
        <p:blipFill>
          <a:blip r:embed="rId3"/>
          <a:stretch/>
        </p:blipFill>
        <p:spPr>
          <a:xfrm>
            <a:off x="17640" y="4211640"/>
            <a:ext cx="2730240" cy="20448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"/>
          <p:cNvPicPr/>
          <p:nvPr/>
        </p:nvPicPr>
        <p:blipFill>
          <a:blip r:embed="rId4"/>
          <a:stretch/>
        </p:blipFill>
        <p:spPr>
          <a:xfrm>
            <a:off x="6018120" y="4005360"/>
            <a:ext cx="2847960" cy="19303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9" descr=""/>
          <p:cNvPicPr/>
          <p:nvPr/>
        </p:nvPicPr>
        <p:blipFill>
          <a:blip r:embed="rId5"/>
          <a:stretch/>
        </p:blipFill>
        <p:spPr>
          <a:xfrm>
            <a:off x="2741760" y="4141800"/>
            <a:ext cx="327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 Дорожка здоровья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Рисунок 2" descr=""/>
          <p:cNvPicPr/>
          <p:nvPr/>
        </p:nvPicPr>
        <p:blipFill>
          <a:blip r:embed="rId1"/>
          <a:stretch/>
        </p:blipFill>
        <p:spPr>
          <a:xfrm>
            <a:off x="1150920" y="1820880"/>
            <a:ext cx="3484440" cy="23176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"/>
          <p:cNvPicPr/>
          <p:nvPr/>
        </p:nvPicPr>
        <p:blipFill>
          <a:blip r:embed="rId2"/>
          <a:stretch/>
        </p:blipFill>
        <p:spPr>
          <a:xfrm>
            <a:off x="4635360" y="1820880"/>
            <a:ext cx="3997440" cy="26654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"/>
          <p:cNvPicPr/>
          <p:nvPr/>
        </p:nvPicPr>
        <p:blipFill>
          <a:blip r:embed="rId3"/>
          <a:stretch/>
        </p:blipFill>
        <p:spPr>
          <a:xfrm>
            <a:off x="679320" y="4146480"/>
            <a:ext cx="3111480" cy="2332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s://www.maam.ru/upload/blogs/detsad-118240-1534057631.jpg"/>
          <p:cNvPicPr/>
          <p:nvPr/>
        </p:nvPicPr>
        <p:blipFill>
          <a:blip r:embed="rId4"/>
          <a:stretch/>
        </p:blipFill>
        <p:spPr>
          <a:xfrm>
            <a:off x="3801960" y="4138560"/>
            <a:ext cx="1889280" cy="252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www.admkrsk.ru/press/news/PublishingImages/2013/%D0%A2%D1%80%D0%B5%D0%BD%D0%B0%D0%B6%D0%B5%D1%80%D1%8B%D0%BF%D0%BF%D1%80%D0%BE%D1%82%D0%B8%D0%B2-%D0%BF%D0%BB%D0%B0%D1%81%D0%BA%D0%BE%D1%81%D1%82%D0%BE%D0%BF%D0%B8%D1%8F-(3).jpg"/>
          <p:cNvPicPr/>
          <p:nvPr/>
        </p:nvPicPr>
        <p:blipFill>
          <a:blip r:embed="rId5"/>
          <a:stretch/>
        </p:blipFill>
        <p:spPr>
          <a:xfrm>
            <a:off x="5702400" y="4471920"/>
            <a:ext cx="30178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а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Рисунок 2" descr=""/>
          <p:cNvPicPr/>
          <p:nvPr/>
        </p:nvPicPr>
        <p:blipFill>
          <a:blip r:embed="rId1"/>
          <a:stretch/>
        </p:blipFill>
        <p:spPr>
          <a:xfrm>
            <a:off x="1508040" y="1747800"/>
            <a:ext cx="3279960" cy="22795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4788000" y="1646280"/>
            <a:ext cx="381312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3"/>
          <a:stretch/>
        </p:blipFill>
        <p:spPr>
          <a:xfrm>
            <a:off x="304920" y="4022640"/>
            <a:ext cx="3144600" cy="23576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"/>
          <p:cNvPicPr/>
          <p:nvPr/>
        </p:nvPicPr>
        <p:blipFill>
          <a:blip r:embed="rId4"/>
          <a:stretch/>
        </p:blipFill>
        <p:spPr>
          <a:xfrm>
            <a:off x="5508720" y="4129200"/>
            <a:ext cx="356076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5"/>
          <a:stretch/>
        </p:blipFill>
        <p:spPr>
          <a:xfrm>
            <a:off x="3459240" y="3979800"/>
            <a:ext cx="20494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9T19:27:50Z</dcterms:created>
  <dc:creator>anytka-artem</dc:creator>
  <dc:description/>
  <dc:language>en-US</dc:language>
  <cp:lastModifiedBy>Admin</cp:lastModifiedBy>
  <dcterms:modified xsi:type="dcterms:W3CDTF">2023-02-06T09:15:08Z</dcterms:modified>
  <cp:revision>57</cp:revision>
  <dc:subject/>
  <dc:title>Слайд 1</dc:title>
</cp:coreProperties>
</file>