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538-D6B0-4463-AE80-5F0BD666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54D-C73A-49FC-931C-B53E39F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AB2-733E-4558-8C4E-6EA1C5B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A8E-5287-41B2-AEA4-27AA974C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7C97-0A6F-46C2-9C1A-C58ADB52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A49D-023B-4A1E-B2D9-0B77F5E3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E46C-4EE2-4F89-984B-340CFD8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E4AB-EB42-45EE-9E13-BFFD0D9E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03A5-5FD6-4FE4-9E6C-2055672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1D94-5969-4895-8E55-0F94D89E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7FAB-E7F9-441A-997D-062A9A5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D9D-54A0-40F1-AC9D-F6FF07F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24C1-4211-41F8-A3F3-5ED8DBB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9306-2DAD-4599-A0DC-6F4FCF7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C9C-B0E1-4CEB-9D7D-8F441031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7A7-9F34-4F8B-83FF-2803AED2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523-2715-481D-9224-F7157627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85397-BDD8-497F-81F8-FBA0617C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23415-C66A-4CCF-B43C-4FEFF8C9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93FBC-C077-4B5E-B7DC-704890E9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7C43E-4D44-4DC9-9D08-B5833605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7B0C7-18B7-4564-BD2E-96E8DF0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5D7-1BB5-4A3F-8BD7-C6E9105F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13865-2A62-4794-932F-485DD61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3673E-979B-45AB-8D3A-22EDB16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44937-85C1-43D8-93DC-BE6DA5F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095D9-EE16-4D46-B73A-9A97186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307A8-813B-4D3F-8C4E-6D792A59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82346-A176-45D2-8556-34E0804C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07A30-6A7D-46C2-AFD3-238E0F74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35A-1FD6-4E94-BE76-1EF16A4A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CD6-5CA7-473C-B15D-0F9AD4DF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BC2-9E89-4938-B66B-BF4D7D1B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410-831B-4889-8676-3FE8B45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1A5-5C9E-493B-BBB6-0471541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FFA-6EAC-40DA-BAE0-14F498C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E78E-5ADD-40A3-A6C5-CEF30DD7F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F142-9CC2-4605-8A8D-EC180BA4C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954F-DD44-4997-A352-D23BEB437C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роект: «Будем здоровы»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56000" y="4221000"/>
            <a:ext cx="6400800" cy="16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р проекта: Малинина А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питатель МА ДОУ № 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п проекта: педаг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астники проекта: дети 6-7 лет, воспитатели, родите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олжительность проекта: 1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11280" y="18900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линина Анастасия Виталье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ложение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-345960" y="3120480"/>
            <a:ext cx="9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50920" y="34765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6"/>
          <p:cNvSpPr/>
          <p:nvPr/>
        </p:nvSpPr>
        <p:spPr>
          <a:xfrm>
            <a:off x="3132000" y="5493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81"/>
          <p:cNvSpPr/>
          <p:nvPr/>
        </p:nvSpPr>
        <p:spPr>
          <a:xfrm flipH="1">
            <a:off x="2411280" y="2133720"/>
            <a:ext cx="64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80"/>
          <p:cNvSpPr/>
          <p:nvPr/>
        </p:nvSpPr>
        <p:spPr>
          <a:xfrm>
            <a:off x="6227640" y="213372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79"/>
          <p:cNvSpPr/>
          <p:nvPr/>
        </p:nvSpPr>
        <p:spPr>
          <a:xfrm>
            <a:off x="464328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32000" y="333360"/>
          <a:ext cx="6769080" cy="115092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:   «Будем здоров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Обновление содержания физкультурно - оздоровительной работы в ДОУ и формирование у детей основ культуры  з о 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691"/>
          <p:cNvSpPr/>
          <p:nvPr/>
        </p:nvSpPr>
        <p:spPr>
          <a:xfrm>
            <a:off x="-252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92"/>
          <p:cNvSpPr/>
          <p:nvPr/>
        </p:nvSpPr>
        <p:spPr>
          <a:xfrm>
            <a:off x="2987640" y="17409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     А     Д     А     Ч    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2997360"/>
          <a:ext cx="8569080" cy="2835000"/>
        </p:xfrm>
        <a:graphic>
          <a:graphicData uri="http://schemas.openxmlformats.org/drawingml/2006/table">
            <a:tbl>
              <a:tblPr/>
              <a:tblGrid>
                <a:gridCol w="2143080"/>
                <a:gridCol w="2176200"/>
                <a:gridCol w="2108520"/>
                <a:gridCol w="2141280"/>
              </a:tblGrid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дрение эффективных педагогических технологий, обеспечивающих широкий выбор оптимальных методов  физического развития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у детей основ культуры питания, как части общей культуры здоровь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условий , максимально обеспечивающих развитие и саморазвитие  детей  на основе психофизического благополуч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боты с родителями в интегрированном образовательном пространств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Line 1132"/>
          <p:cNvSpPr/>
          <p:nvPr/>
        </p:nvSpPr>
        <p:spPr>
          <a:xfrm>
            <a:off x="3059280" y="2133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79280" y="-165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  Р   Е   Д   С Т  В   А              Р     Е     А     Л      И      З     А     Ц     И   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404640"/>
          <a:ext cx="8856720" cy="1656000"/>
        </p:xfrm>
        <a:graphic>
          <a:graphicData uri="http://schemas.openxmlformats.org/drawingml/2006/table">
            <a:tbl>
              <a:tblPr/>
              <a:tblGrid>
                <a:gridCol w="2160720"/>
                <a:gridCol w="2233440"/>
                <a:gridCol w="2230560"/>
                <a:gridCol w="22320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ляция лучшего педагогического опыта,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мен инновационным опы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: «Азбука питания»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по развитию представлений о правильном питани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тей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полнение предметно - развивающей среды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ими играми, пособиями, детской художественной литературой, спортивным оборудование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ование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по    вопросам  организации питания и физического развития  детей в  семье через  уголки для родителей : «Секреты здоров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0"/>
          <p:cNvSpPr/>
          <p:nvPr/>
        </p:nvSpPr>
        <p:spPr>
          <a:xfrm>
            <a:off x="-1460520" y="168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2060640"/>
          <a:ext cx="8856720" cy="2225520"/>
        </p:xfrm>
        <a:graphic>
          <a:graphicData uri="http://schemas.openxmlformats.org/drawingml/2006/table">
            <a:tbl>
              <a:tblPr/>
              <a:tblGrid>
                <a:gridCol w="2160720"/>
                <a:gridCol w="2232000"/>
                <a:gridCol w="2232000"/>
                <a:gridCol w="223200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ический  совет  в форме деловой игры: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«Правильное питание – залог здоровья ребен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х форм работы с детьми по теме в образовательных областях «социально- коммуникативное», «познавательное», «речевое», «художественно- эстетическое», «физическо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интегрированных занятий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использованием современного спортивного оборудования и тренажер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емей и интервьюирование воспитанников и работников детского сада:  «Что такое здоровое питание?»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56"/>
          <p:cNvSpPr/>
          <p:nvPr/>
        </p:nvSpPr>
        <p:spPr>
          <a:xfrm>
            <a:off x="-146052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4292640"/>
          <a:ext cx="8856720" cy="2449440"/>
        </p:xfrm>
        <a:graphic>
          <a:graphicData uri="http://schemas.openxmlformats.org/drawingml/2006/table">
            <a:tbl>
              <a:tblPr/>
              <a:tblGrid>
                <a:gridCol w="2178000"/>
                <a:gridCol w="2251080"/>
                <a:gridCol w="2178360"/>
                <a:gridCol w="2249280"/>
              </a:tblGrid>
              <a:tr h="24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ая лаборатория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ский фитнес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 использованием элементов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бол- гимнас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й день: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Необычное кулинарное путешествие»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знакомство детей с историей отдельных продуктов, дид.игры, приготовление блюд детьм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детского  спортивного клуба «здоровичок»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овые родительские собрания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итание – основа здоровья дете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82"/>
          <p:cNvSpPr/>
          <p:nvPr/>
        </p:nvSpPr>
        <p:spPr>
          <a:xfrm>
            <a:off x="-1460520" y="36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3"/>
          <p:cNvSpPr/>
          <p:nvPr/>
        </p:nvSpPr>
        <p:spPr>
          <a:xfrm>
            <a:off x="-1460520" y="439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5"/>
          <p:cNvSpPr/>
          <p:nvPr/>
        </p:nvSpPr>
        <p:spPr>
          <a:xfrm>
            <a:off x="-1460520" y="56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2708280"/>
          <a:ext cx="9144000" cy="3832200"/>
        </p:xfrm>
        <a:graphic>
          <a:graphicData uri="http://schemas.openxmlformats.org/drawingml/2006/table">
            <a:tbl>
              <a:tblPr/>
              <a:tblGrid>
                <a:gridCol w="2050920"/>
                <a:gridCol w="2376720"/>
                <a:gridCol w="2232000"/>
                <a:gridCol w="248436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уск методического биллюте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тавка- конкурс  детского творчеств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з круп «Крупяные фантази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ые олимпийски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с рецепт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ежемесячной газете ДОУ: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юбимое блюдо нашей семь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кторина: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«Чтоб здоровым быть!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лечение:  «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тешествие в страну полезных продукто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выносного спортивного оборудования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развития движений детей на прогулке: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вижение с увлечением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товыставка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доровье и м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ации с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спольз.родительских уголко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ы рационального пита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050920" y="0"/>
          <a:ext cx="7093080" cy="2708280"/>
        </p:xfrm>
        <a:graphic>
          <a:graphicData uri="http://schemas.openxmlformats.org/drawingml/2006/table">
            <a:tbl>
              <a:tblPr/>
              <a:tblGrid>
                <a:gridCol w="2376720"/>
                <a:gridCol w="2232000"/>
                <a:gridCol w="2484360"/>
              </a:tblGrid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инар – практикум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«Использование спортивных игр, как одна из форм повышения двигательной активности ребен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«Путешествие в страну здоровья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  (занятия, беседы, игры по приобщению детей к здоровому образу жизни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е соревнова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стафета «мама, папа, я –спортивная семь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стические поход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63"/>
          <p:cNvSpPr/>
          <p:nvPr/>
        </p:nvSpPr>
        <p:spPr>
          <a:xfrm>
            <a:off x="0" y="0"/>
            <a:ext cx="205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местное с родителями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оздание коллаж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оведение  акции с голосованием «Вкусной и здоровой пище – ДА, химии- НЕТ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реализаци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ый эт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ентябрь – октябрь 2020 г.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 организация работы творческо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состояния физкультурно - оздоровительной работы в ДОУ, составление плана деятельности, распределение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 инновационных педагогических технологий, методик, опыта других образовательных учреждений по организации физкультурно- оздорови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ий этап реализации 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оябрь 20120 г. – апрель 2021 г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работы по повышению квалификации педагогов по вопросам организации  физкультурно- оздоровительной работы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дрение эффективных педагогических технологий и методик физического развит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работы  с детьми по формированию культуры здоровья в соответствии  годовым планом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технических условий для успешной реализации поставленн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бщающий этап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 202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деятельности педагогического  коллектива и обобщение накоплен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ук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я проекта, методический биллют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жидаемы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работы  по формированию культуры  здорового образа жизни у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омпетентности педагогов и родителей по вопросам организации правильного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5759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1:52:27Z</dcterms:created>
  <dc:creator>Александр</dc:creator>
  <dc:description/>
  <dc:language>en-US</dc:language>
  <cp:lastModifiedBy>Notebook</cp:lastModifiedBy>
  <dcterms:modified xsi:type="dcterms:W3CDTF">2023-02-06T04:13:25Z</dcterms:modified>
  <cp:revision>12</cp:revision>
  <dc:subject/>
  <dc:title>Проект: «Будем здоровы» </dc:title>
</cp:coreProperties>
</file>