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415-24F3-4A6D-A9A8-366AFBE1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C57-BD8E-45F0-A5EE-754C87C9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164-1677-4444-8B1F-7F789D3D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E2E-1B86-406E-961C-D843D3E4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D3BC-EDCE-4904-B709-27569FB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A61-D0E2-4B9C-B892-60DEA19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1DF8-0C83-45C5-A5CB-313C8EB4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F4DB-BC0F-48B4-BAC0-6D5168C3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B229-6719-4C88-AECB-8B0BB50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F5D2-E330-4294-B0FA-3CAD1B15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32B-FF5C-4F2C-B655-9CF9BB5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CA1-4694-4EA3-ADBF-93AA68E8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0622-EFBB-4448-BC02-C209111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EE3-3190-4109-B06A-1E01135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81D2-F2B6-4A90-9C71-231391B9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D297-A808-44A6-A24B-C905E5AE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EA89-598A-463F-AABC-8CEC5E7D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1DDA0-6CD7-42EA-8A23-F29878A1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A775E-9E73-47EF-AD89-D84EFDD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7C6A3-B672-4AB1-BCED-982A08D0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143B7-C7D1-4703-87D4-6C4401CE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28B4A-A289-4647-B844-5309F770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C03-E167-45E2-8F92-C980D785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9F7D9-AE15-4C9B-9B2D-F6EAEAEF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F17CE-9E36-462E-BB2E-3AEA654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806A5-D719-4AB8-8A36-A76A4EC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6B19F-83BF-4161-B4C2-D39B4064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D85A3-C7A6-4909-AB4D-6772D68C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51A83-1AE3-4F32-9680-59E1A6EE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FDCA7-A465-4A7D-A429-82022776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0BF-0C34-4968-B896-BA49909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9B8-6150-43F7-A73A-08284C28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E4E-33BD-4416-A61D-5B49C42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5A7-6D6B-4C93-9D3A-FCC4094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9E5-6D4E-4982-8870-65AACA6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868-E669-4116-924F-413EEEB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747C-D5AE-49BF-AF9C-665F0445A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CCF3-1126-4B84-AE91-E8185A035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D51-FAEA-45CE-8E29-0031A8D431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роект: «Будем здоровы»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56000" y="4221000"/>
            <a:ext cx="6400800" cy="16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р проекта: Малинина А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питатель МА ДОУ № 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п проекта: педаг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астники проекта: дети 6-7 лет, воспитатели, родите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олжительность проекта: 1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11280" y="18900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линина Анастасия Виталье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ложение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-345960" y="3120480"/>
            <a:ext cx="9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50920" y="34765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6"/>
          <p:cNvSpPr/>
          <p:nvPr/>
        </p:nvSpPr>
        <p:spPr>
          <a:xfrm>
            <a:off x="3132000" y="5493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81"/>
          <p:cNvSpPr/>
          <p:nvPr/>
        </p:nvSpPr>
        <p:spPr>
          <a:xfrm flipH="1">
            <a:off x="2411280" y="2133720"/>
            <a:ext cx="648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80"/>
          <p:cNvSpPr/>
          <p:nvPr/>
        </p:nvSpPr>
        <p:spPr>
          <a:xfrm>
            <a:off x="6227640" y="213372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79"/>
          <p:cNvSpPr/>
          <p:nvPr/>
        </p:nvSpPr>
        <p:spPr>
          <a:xfrm>
            <a:off x="464328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32000" y="333360"/>
          <a:ext cx="6769080" cy="115092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:   «Будем здоров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Обновление содержания физкультурно - оздоровительной работы в ДОУ и формирование у детей основ культуры  з о 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691"/>
          <p:cNvSpPr/>
          <p:nvPr/>
        </p:nvSpPr>
        <p:spPr>
          <a:xfrm>
            <a:off x="-252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92"/>
          <p:cNvSpPr/>
          <p:nvPr/>
        </p:nvSpPr>
        <p:spPr>
          <a:xfrm>
            <a:off x="2987640" y="17409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     А     Д     А     Ч    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2997360"/>
          <a:ext cx="8569080" cy="2835000"/>
        </p:xfrm>
        <a:graphic>
          <a:graphicData uri="http://schemas.openxmlformats.org/drawingml/2006/table">
            <a:tbl>
              <a:tblPr/>
              <a:tblGrid>
                <a:gridCol w="2143080"/>
                <a:gridCol w="2176200"/>
                <a:gridCol w="2108520"/>
                <a:gridCol w="2141280"/>
              </a:tblGrid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дрение эффективных педагогических технологий, обеспечивающих широкий выбор оптимальных методов  физического развития дет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у детей основ культуры питания, как части общей культуры здоровь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условий , максимально обеспечивающих развитие и саморазвитие  детей  на основе психофизического благополуч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боты с родителями в интегрированном образовательном пространств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Line 1132"/>
          <p:cNvSpPr/>
          <p:nvPr/>
        </p:nvSpPr>
        <p:spPr>
          <a:xfrm>
            <a:off x="3059280" y="2133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79280" y="-165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  Р   Е   Д   С Т  В   А              Р     Е     А     Л      И      З     А     Ц     И   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404640"/>
          <a:ext cx="8856720" cy="1656000"/>
        </p:xfrm>
        <a:graphic>
          <a:graphicData uri="http://schemas.openxmlformats.org/drawingml/2006/table">
            <a:tbl>
              <a:tblPr/>
              <a:tblGrid>
                <a:gridCol w="2160720"/>
                <a:gridCol w="2233440"/>
                <a:gridCol w="2230560"/>
                <a:gridCol w="22320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ляция лучшего педагогического опыта,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мен инновационным опы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: «Азбука питания»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по развитию представлений о правильном питани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етей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полнение предметно - развивающей среды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ими играми, пособиями, детской художественной литературой, спортивным оборудование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ование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по    вопросам  организации питания и физического развития  детей в  семье через  уголки для родителей : «Секреты здоровь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0"/>
          <p:cNvSpPr/>
          <p:nvPr/>
        </p:nvSpPr>
        <p:spPr>
          <a:xfrm>
            <a:off x="-1460520" y="168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2060640"/>
          <a:ext cx="8856720" cy="2225520"/>
        </p:xfrm>
        <a:graphic>
          <a:graphicData uri="http://schemas.openxmlformats.org/drawingml/2006/table">
            <a:tbl>
              <a:tblPr/>
              <a:tblGrid>
                <a:gridCol w="2160720"/>
                <a:gridCol w="2232000"/>
                <a:gridCol w="2232000"/>
                <a:gridCol w="2232000"/>
              </a:tblGrid>
              <a:tr h="22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ический  совет  в форме деловой игры: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«Правильное питание – залог здоровья ребен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х форм работы с детьми по теме в образовательных областях «социально- коммуникативное», «познавательное», «речевое», «художественно- эстетическое», «физическо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интегрированных занятий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использованием современного спортивного оборудования и тренажер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емей и интервьюирование воспитанников и работников детского сада:  «Что такое здоровое питание?»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56"/>
          <p:cNvSpPr/>
          <p:nvPr/>
        </p:nvSpPr>
        <p:spPr>
          <a:xfrm>
            <a:off x="-146052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4292640"/>
          <a:ext cx="8856720" cy="2449440"/>
        </p:xfrm>
        <a:graphic>
          <a:graphicData uri="http://schemas.openxmlformats.org/drawingml/2006/table">
            <a:tbl>
              <a:tblPr/>
              <a:tblGrid>
                <a:gridCol w="2178000"/>
                <a:gridCol w="2251080"/>
                <a:gridCol w="2178360"/>
                <a:gridCol w="2249280"/>
              </a:tblGrid>
              <a:tr h="24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ктическая лаборатория!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ский фитнес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 использованием элементов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бол- гимнас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й день: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Необычное кулинарное путешествие»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знакомство детей с историей отдельных продуктов, дид.игры, приготовление блюд детьм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детского  спортивного клуба «здоровичок»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овые родительские собрания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итание – основа здоровья дете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82"/>
          <p:cNvSpPr/>
          <p:nvPr/>
        </p:nvSpPr>
        <p:spPr>
          <a:xfrm>
            <a:off x="-1460520" y="36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3"/>
          <p:cNvSpPr/>
          <p:nvPr/>
        </p:nvSpPr>
        <p:spPr>
          <a:xfrm>
            <a:off x="-1460520" y="439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5"/>
          <p:cNvSpPr/>
          <p:nvPr/>
        </p:nvSpPr>
        <p:spPr>
          <a:xfrm>
            <a:off x="-1460520" y="56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2708280"/>
          <a:ext cx="9144000" cy="3832200"/>
        </p:xfrm>
        <a:graphic>
          <a:graphicData uri="http://schemas.openxmlformats.org/drawingml/2006/table">
            <a:tbl>
              <a:tblPr/>
              <a:tblGrid>
                <a:gridCol w="2050920"/>
                <a:gridCol w="2376720"/>
                <a:gridCol w="2232000"/>
                <a:gridCol w="248436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уск методического биллюте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тавка- конкурс  детского творчеств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з круп «Крупяные фантази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ые олимпийски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с рецептов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 ежемесячной газете ДОУ: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юбимое блюдо нашей семь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кторина: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«Чтоб здоровым быть!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лечение:  «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тешествие в страну полезных продукто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выносного спортивного оборудования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развития движений детей на прогулке: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Движение с увлечением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товыставка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Здоровье и м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ации с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спольз.родительских уголков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ы рационального пита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050920" y="0"/>
          <a:ext cx="7093080" cy="2708280"/>
        </p:xfrm>
        <a:graphic>
          <a:graphicData uri="http://schemas.openxmlformats.org/drawingml/2006/table">
            <a:tbl>
              <a:tblPr/>
              <a:tblGrid>
                <a:gridCol w="2376720"/>
                <a:gridCol w="2232000"/>
                <a:gridCol w="2484360"/>
              </a:tblGrid>
              <a:tr h="27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инар – практикум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«Использование спортивных игр, как одна из форм повышения двигательной активности ребен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«Путешествие в страну здоровья»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  (занятия, беседы, игры по приобщению детей к здоровому образу жизни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тивные соревнова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стафета «мама, папа, я –спортивная семь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стические поход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63"/>
          <p:cNvSpPr/>
          <p:nvPr/>
        </p:nvSpPr>
        <p:spPr>
          <a:xfrm>
            <a:off x="0" y="0"/>
            <a:ext cx="205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местное с родителями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оздание коллаж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оведение  акции с голосованием «Вкусной и здоровой пище – ДА, химии- НЕТ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ы реализаци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ационный эт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ентябрь – октябрь 2020 г.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 организация работы творческо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состояния физкультурно - оздоровительной работы в ДОУ, составление плана деятельности, распределение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учение  инновационных педагогических технологий, методик, опыта других образовательных учреждений по организации физкультурно- оздорови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ий этап реализации 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оябрь 20120 г. – апрель 2021 г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работы по повышению квалификации педагогов по вопросам организации  физкультурно- оздоровительной работы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дрение эффективных педагогических технологий и методик физического развит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работы  с детьми по формированию культуры здоровья в соответствии  годовым планом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технических условий для успешной реализации поставленны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бщающий этап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 202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деятельности педагогического  коллектива и обобщение накоплен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ук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я проекта, методический биллют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жидаемы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работы  по формированию культуры  здорового образа жизни у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омпетентности педагогов и родителей по вопросам организации правильного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5759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1:52:27Z</dcterms:created>
  <dc:creator>Александр</dc:creator>
  <dc:description/>
  <dc:language>en-US</dc:language>
  <cp:lastModifiedBy>Notebook</cp:lastModifiedBy>
  <dcterms:modified xsi:type="dcterms:W3CDTF">2023-02-06T04:13:25Z</dcterms:modified>
  <cp:revision>12</cp:revision>
  <dc:subject/>
  <dc:title>Проект: «Будем здоровы» </dc:title>
</cp:coreProperties>
</file>