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211-B01B-420F-A18C-06367300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E4B-532C-49CB-BB22-92C7AEFE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0F6-09B7-4144-848E-B2C39B25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CB5-DEF1-437F-8F73-27918245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3F8-B71D-4545-8962-228CEFFC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8D5-B953-4926-A5EF-5D92D512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262-F390-4700-9581-383B38EB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6BE-979F-425D-983D-A10C4067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57D-A8CD-418C-AFFE-688BB0AF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023-A963-422B-B02E-29EE947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1FB-5138-4B3E-8962-C8E5A462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7D5-9A7C-4312-A742-A2C3F999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7018-1C5A-494D-9863-6048BEAC7B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426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4d"/>
                </a:solidFill>
                <a:latin typeface="Times New Roman"/>
              </a:rPr>
              <a:t>МУНИЦИПАЛЬНОЕ АВТОНОМНОЕ  ДОШКОЛЬНОЕ 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19194d"/>
                </a:solidFill>
                <a:latin typeface="Times New Roman"/>
              </a:rPr>
              <a:t> «ДЕТСКИЙ САД № 9 «КАЛИНКА»</a:t>
            </a: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213920"/>
            <a:ext cx="8102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Интерактивные игры как средство развития логического мышления у детей старшего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Подготовил: Струкова И.В.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г. Назаро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2023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1" descr="4-7"/>
          <p:cNvPicPr/>
          <p:nvPr/>
        </p:nvPicPr>
        <p:blipFill>
          <a:blip r:embed="rId1"/>
          <a:stretch/>
        </p:blipFill>
        <p:spPr>
          <a:xfrm>
            <a:off x="642960" y="4286160"/>
            <a:ext cx="22096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trafaret-decor.ru/sites/default/files/2022-08/smile/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cache3.youla.io/files/images/720_720_out/5c/38/5c38fdf4821a99603a59dad7.jpg"/>
          <p:cNvPicPr/>
          <p:nvPr/>
        </p:nvPicPr>
        <p:blipFill>
          <a:blip r:embed="rId3"/>
          <a:stretch/>
        </p:blipFill>
        <p:spPr>
          <a:xfrm>
            <a:off x="2071800" y="2971800"/>
            <a:ext cx="5143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381513"/>
          <p:cNvPicPr/>
          <p:nvPr/>
        </p:nvPicPr>
        <p:blipFill>
          <a:blip r:embed="rId1"/>
          <a:stretch/>
        </p:blipFill>
        <p:spPr>
          <a:xfrm>
            <a:off x="785880" y="4460760"/>
            <a:ext cx="3281400" cy="1974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ы узнаете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06040" y="1557360"/>
            <a:ext cx="78915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интерактивные иг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д и польза использования ИК- технологи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компьютерные игры развивают у дошкольников логическое мышл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безопасные интернет ресурсы можно использо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6760" y="357120"/>
            <a:ext cx="8358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К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хнологии, использующие специальные программные и технические средства для доступа к различным информационным источникам и инструменты совместной деятельности, направленные на получение конкретного результ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s://cdn.culture.ru/images/1edaab4a-3162-56d6-8713-c9a54a8619f7"/>
          <p:cNvPicPr/>
          <p:nvPr/>
        </p:nvPicPr>
        <p:blipFill>
          <a:blip r:embed="rId1"/>
          <a:stretch/>
        </p:blipFill>
        <p:spPr>
          <a:xfrm>
            <a:off x="1042920" y="2571840"/>
            <a:ext cx="4510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950400"/>
            <a:ext cx="7572240" cy="550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лго привлекать и удержива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имание ребенка, благодаря сочетанию  в игре 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жения, звука, мультиплик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оступной, привлекательной, игровой форме достигать нового качества зн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 дошкольника исследовательские способности, познавательную активность, навыки и талант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ровать такие ситуации, которые нельзя или сложно увидеть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ть самооценку и развивать самостоятельность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ощрять ребенка при решении проблемных задач и преодолении труд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1322280" y="244440"/>
            <a:ext cx="679140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360" y="1676160"/>
            <a:ext cx="4140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2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активная обучающая игра, основой которой является процесс взаимодействия участника игры с компьютером, планшетом, доской и/или другими гаджет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Users\Воспитатель\Downloads\015963ec61_61de954672c77.jpg"/>
          <p:cNvPicPr/>
          <p:nvPr/>
        </p:nvPicPr>
        <p:blipFill>
          <a:blip r:embed="rId1"/>
          <a:stretch/>
        </p:blipFill>
        <p:spPr>
          <a:xfrm>
            <a:off x="3925800" y="981000"/>
            <a:ext cx="5199120" cy="4383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176040" y="476280"/>
            <a:ext cx="39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2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Интерактивная игр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c54"/>
                </a:solidFill>
                <a:latin typeface="Times New Roman"/>
              </a:rPr>
              <a:t>ЗАЧЕМ  РАЗВИВАТЬ  ЛОГИЧЕСКОЕ МЫШЛЕНИЕ  ДОШКОЛЬНИК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Users\Воспитатель\Downloads\белый-человек-d-с-большим-голубым-вопросительным-знаком-106882900.jpg"/>
          <p:cNvPicPr/>
          <p:nvPr/>
        </p:nvPicPr>
        <p:blipFill>
          <a:blip r:embed="rId1"/>
          <a:stretch/>
        </p:blipFill>
        <p:spPr>
          <a:xfrm>
            <a:off x="165240" y="2298600"/>
            <a:ext cx="2797200" cy="279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95280" y="1916280"/>
            <a:ext cx="6553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457200" algn="just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ормируется умение рассуждать, делать умозаключения, выстраивать причинно-следственные свя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457200" algn="just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ормируется мировоззр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457200" algn="just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бенку будет легко обучаться в школе, решать различные зада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457200" algn="just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8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ПРАВИЛА, КОТОРЫЕ ВАЖНО СОБЛЮДАТЬ!</a:t>
            </a:r>
            <a:r>
              <a:rPr b="1" lang="ru-RU" sz="2800" spc="-1" strike="noStrike">
                <a:solidFill>
                  <a:srgbClr val="11111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Схема 1" descr=""/>
          <p:cNvPicPr/>
          <p:nvPr/>
        </p:nvPicPr>
        <p:blipFill>
          <a:blip r:embed="rId1"/>
          <a:stretch/>
        </p:blipFill>
        <p:spPr>
          <a:xfrm>
            <a:off x="281160" y="1620720"/>
            <a:ext cx="8534160" cy="4853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116000" y="98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ременные ограни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560" y="99504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Содержание игры должно соответствовать возрасту ребе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Задания должны быть интересны, понятны и просты в управ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Объекты на экране должны быть большие по размеру и знакомые ребенк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Инструкция по выполнению задания должна озвучиваться диктором либо взрослы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Должен присутствовать элемент успех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158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ПРАВИЛА, КОТОРЫЕ ВАЖНО СОБЛЮДАТЬ!</a:t>
            </a:r>
            <a:r>
              <a:rPr b="1" lang="ru-RU" sz="2800" spc="-1" strike="noStrike">
                <a:solidFill>
                  <a:srgbClr val="11111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ремя логики с ЛогикЛайк! (logiclike.com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латформ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ие игры для дошкольников, познавательные игры (igraemsa.r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огические игры для детей 4, 5, 6 лет - Играй онлайн на всех устройствах! (bibusha.r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нтерактивные игры онлай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11</cp:lastModifiedBy>
  <dcterms:modified xsi:type="dcterms:W3CDTF">2023-02-06T06:12:32Z</dcterms:modified>
  <cp:revision>1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910000000000010243100207f6000400038000</vt:lpwstr>
  </property>
</Properties>
</file>