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gif" ContentType="image/gif"/>
  <Override PartName="/ppt/media/image6.png" ContentType="image/png"/>
  <Override PartName="/ppt/media/image3.jpeg" ContentType="image/jpeg"/>
  <Override PartName="/ppt/media/image4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C9E95-BCA3-4DBA-8ED8-880D9366A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403F2-7898-44E5-B4EA-5A9F33ADC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9066F-20A7-418D-8841-95BCC6DAA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E0D3E-B8EB-4C23-8DE0-7F176C486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A1832-26C3-4D26-8307-DD4DB88C7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5FD95-5FE0-4E8D-9507-F4992D77F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E912D-E76D-47E8-9D82-CE2FFE005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193CE-A366-4E8C-94C7-F15977D88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F8CA5-2730-4E7F-9364-B9517C3EA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B7AC7-88B4-4AF1-834C-C75EBF0E7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C9F57-FFE1-483C-AD31-51D73F5B8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7690E-09F8-4829-AD8A-3FFE33BA3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0ED93-A8FF-4992-A658-8A383132D8B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642600"/>
            <a:ext cx="77724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9194d"/>
                </a:solidFill>
                <a:latin typeface="Times New Roman"/>
              </a:rPr>
              <a:t>МУНИЦИПАЛЬНОЕ АВТОНОМНОЕ  ДОШКОЛЬНОЕ ОБРАЗОВАТЕЛЬНОЕ УЧРЕЖДЕНИЕ</a:t>
            </a:r>
            <a:br>
              <a:rPr sz="1200"/>
            </a:br>
            <a:r>
              <a:rPr b="1" lang="ru-RU" sz="1200" spc="-1" strike="noStrike">
                <a:solidFill>
                  <a:srgbClr val="19194d"/>
                </a:solidFill>
                <a:latin typeface="Times New Roman"/>
              </a:rPr>
              <a:t> «ДЕТСКИЙ САД № 9 «КАЛИНКА»</a:t>
            </a:r>
            <a:br>
              <a:rPr sz="1200"/>
            </a:b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 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4000" y="1213920"/>
            <a:ext cx="810252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2060"/>
                </a:solidFill>
                <a:latin typeface="Times New Roman"/>
              </a:rPr>
              <a:t>Интерактивные игры как средство развития логического мышления у детей старшего дошкольного возраст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baseline="-25000">
                <a:solidFill>
                  <a:srgbClr val="002060"/>
                </a:solidFill>
                <a:latin typeface="Times New Roman"/>
              </a:rPr>
              <a:t>Подготовил: Струкова И.В. 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baseline="-25000">
                <a:solidFill>
                  <a:srgbClr val="002060"/>
                </a:solidFill>
                <a:latin typeface="Times New Roman"/>
              </a:rPr>
              <a:t>педагог-психолог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baseline="-25000">
                <a:solidFill>
                  <a:srgbClr val="002060"/>
                </a:solidFill>
                <a:latin typeface="Times New Roman"/>
              </a:rPr>
              <a:t>г. Назарово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baseline="-25000">
                <a:solidFill>
                  <a:srgbClr val="002060"/>
                </a:solidFill>
                <a:latin typeface="Times New Roman"/>
              </a:rPr>
              <a:t>2023 г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11" descr="4-7"/>
          <p:cNvPicPr/>
          <p:nvPr/>
        </p:nvPicPr>
        <p:blipFill>
          <a:blip r:embed="rId1"/>
          <a:stretch/>
        </p:blipFill>
        <p:spPr>
          <a:xfrm>
            <a:off x="642960" y="4286160"/>
            <a:ext cx="220968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" descr="https://trafaret-decor.ru/sites/default/files/2022-08/smile/2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4" descr="https://cache3.youla.io/files/images/720_720_out/5c/38/5c38fdf4821a99603a59dad7.jpg"/>
          <p:cNvPicPr/>
          <p:nvPr/>
        </p:nvPicPr>
        <p:blipFill>
          <a:blip r:embed="rId3"/>
          <a:stretch/>
        </p:blipFill>
        <p:spPr>
          <a:xfrm>
            <a:off x="2071800" y="2971800"/>
            <a:ext cx="514332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2381513"/>
          <p:cNvPicPr/>
          <p:nvPr/>
        </p:nvPicPr>
        <p:blipFill>
          <a:blip r:embed="rId1"/>
          <a:stretch/>
        </p:blipFill>
        <p:spPr>
          <a:xfrm>
            <a:off x="785880" y="4460760"/>
            <a:ext cx="3281400" cy="197496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1128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Times New Roman"/>
              </a:rPr>
              <a:t>Вы узнаете: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806040" y="1557360"/>
            <a:ext cx="7891560" cy="27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Что такое интерактивные игры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ред и польза использования ИК- технологий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акие компьютерные игры развивают у дошкольников логическое мышление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акие безопасные интернет ресурсы можно использовать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356760" y="357120"/>
            <a:ext cx="835812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ИКТ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–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то технологии, использующие специальные программные и технические средства для доступа к различным информационным источникам и инструменты совместной деятельности, направленные на получение конкретного результат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5" descr="https://cdn.culture.ru/images/1edaab4a-3162-56d6-8713-c9a54a8619f7"/>
          <p:cNvPicPr/>
          <p:nvPr/>
        </p:nvPicPr>
        <p:blipFill>
          <a:blip r:embed="rId1"/>
          <a:stretch/>
        </p:blipFill>
        <p:spPr>
          <a:xfrm>
            <a:off x="1042920" y="2571840"/>
            <a:ext cx="451008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684360" y="950400"/>
            <a:ext cx="7572240" cy="550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80080" indent="-280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долго привлекать и удерживать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нимание ребенка, благодаря сочетанию  в игре д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ижения, звука, мультипликации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0080" indent="-280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доступной, привлекательной, игровой форме достигать нового качества знаний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0080" indent="-280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звивать у дошкольника исследовательские способности, познавательную активность, навыки и таланты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0080" indent="-280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оделировать такие ситуации, которые нельзя или сложно увидеть в повседневной жизни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0080" indent="-280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вышать самооценку и развивать самостоятельность ребенка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0080" indent="-280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ощрять ребенка при решении проблемных задач и преодолении трудносте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008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Прямоугольник 2" descr=""/>
          <p:cNvPicPr/>
          <p:nvPr/>
        </p:nvPicPr>
        <p:blipFill>
          <a:blip r:embed="rId1"/>
          <a:stretch/>
        </p:blipFill>
        <p:spPr>
          <a:xfrm>
            <a:off x="1322280" y="244440"/>
            <a:ext cx="6791400" cy="8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-360" y="1676160"/>
            <a:ext cx="414036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28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это активная обучающая игра, основой которой является процесс взаимодействия участника игры с компьютером, планшетом, доской и/или другими гаджетами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5" descr="C:\Users\Воспитатель\Downloads\015963ec61_61de954672c77.jpg"/>
          <p:cNvPicPr/>
          <p:nvPr/>
        </p:nvPicPr>
        <p:blipFill>
          <a:blip r:embed="rId1"/>
          <a:stretch/>
        </p:blipFill>
        <p:spPr>
          <a:xfrm>
            <a:off x="3925800" y="981000"/>
            <a:ext cx="5199120" cy="4383000"/>
          </a:xfrm>
          <a:prstGeom prst="rect">
            <a:avLst/>
          </a:prstGeom>
          <a:ln w="0">
            <a:noFill/>
          </a:ln>
        </p:spPr>
      </p:pic>
      <p:sp>
        <p:nvSpPr>
          <p:cNvPr id="53" name="Прямоугольник 3"/>
          <p:cNvSpPr/>
          <p:nvPr/>
        </p:nvSpPr>
        <p:spPr>
          <a:xfrm>
            <a:off x="176040" y="476280"/>
            <a:ext cx="3964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2520" indent="28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2060"/>
                </a:solidFill>
                <a:latin typeface="Times New Roman"/>
              </a:rPr>
              <a:t>Интерактивная игра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24000" y="404280"/>
            <a:ext cx="864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1c54"/>
                </a:solidFill>
                <a:latin typeface="Times New Roman"/>
              </a:rPr>
              <a:t>ЗАЧЕМ  РАЗВИВАТЬ  ЛОГИЧЕСКОЕ МЫШЛЕНИЕ  ДОШКОЛЬНИКОВ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9" descr="C:\Users\Воспитатель\Downloads\белый-человек-d-с-большим-голубым-вопросительным-знаком-106882900.jpg"/>
          <p:cNvPicPr/>
          <p:nvPr/>
        </p:nvPicPr>
        <p:blipFill>
          <a:blip r:embed="rId1"/>
          <a:stretch/>
        </p:blipFill>
        <p:spPr>
          <a:xfrm>
            <a:off x="165240" y="2298600"/>
            <a:ext cx="2797200" cy="27910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 txBox="1"/>
          <p:nvPr/>
        </p:nvSpPr>
        <p:spPr>
          <a:xfrm>
            <a:off x="2195280" y="1916280"/>
            <a:ext cx="6553080" cy="42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9360" indent="-457200" algn="just">
              <a:spcBef>
                <a:spcPts val="1199"/>
              </a:spcBef>
              <a:spcAft>
                <a:spcPts val="1199"/>
              </a:spcAft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</a:rPr>
              <a:t>Формируется умение рассуждать, делать умозаключения, выстраивать причинно-следственные связи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9360" indent="-457200" algn="just">
              <a:spcBef>
                <a:spcPts val="1199"/>
              </a:spcBef>
              <a:spcAft>
                <a:spcPts val="1199"/>
              </a:spcAft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</a:rPr>
              <a:t>Формируется мировоззрение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9360" indent="-457200" algn="just">
              <a:spcBef>
                <a:spcPts val="1199"/>
              </a:spcBef>
              <a:spcAft>
                <a:spcPts val="1199"/>
              </a:spcAft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</a:rPr>
              <a:t>Ребенку будет легко обучаться в школе, решать различные задач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9360" indent="-457200" algn="just">
              <a:spcBef>
                <a:spcPts val="700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15840"/>
            <a:ext cx="91440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Times New Roman"/>
              </a:rPr>
              <a:t>ПРАВИЛА, КОТОРЫЕ ВАЖНО СОБЛЮДАТЬ!</a:t>
            </a:r>
            <a:r>
              <a:rPr b="1" lang="ru-RU" sz="2800" spc="-1" strike="noStrike">
                <a:solidFill>
                  <a:srgbClr val="111115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Схема 1" descr=""/>
          <p:cNvPicPr/>
          <p:nvPr/>
        </p:nvPicPr>
        <p:blipFill>
          <a:blip r:embed="rId1"/>
          <a:stretch/>
        </p:blipFill>
        <p:spPr>
          <a:xfrm>
            <a:off x="281160" y="1620720"/>
            <a:ext cx="8534160" cy="4853160"/>
          </a:xfrm>
          <a:prstGeom prst="rect">
            <a:avLst/>
          </a:prstGeom>
          <a:ln w="0">
            <a:noFill/>
          </a:ln>
        </p:spPr>
      </p:pic>
      <p:sp>
        <p:nvSpPr>
          <p:cNvPr id="59" name="Прямоугольник 3"/>
          <p:cNvSpPr/>
          <p:nvPr/>
        </p:nvSpPr>
        <p:spPr>
          <a:xfrm>
            <a:off x="1116000" y="981000"/>
            <a:ext cx="720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Times New Roman"/>
              </a:rPr>
              <a:t>Временные ограничен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250560" y="995040"/>
            <a:ext cx="856908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-457200">
              <a:spcBef>
                <a:spcPts val="1199"/>
              </a:spcBef>
              <a:spcAft>
                <a:spcPts val="1199"/>
              </a:spcAft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002060"/>
                </a:solidFill>
                <a:latin typeface="Times New Roman"/>
              </a:rPr>
              <a:t>Содержание игры должно соответствовать возрасту ребенка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199"/>
              </a:spcBef>
              <a:spcAft>
                <a:spcPts val="1199"/>
              </a:spcAft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Times New Roman"/>
              </a:rPr>
              <a:t>Задания должны быть интересны, понятны и просты в управлении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199"/>
              </a:spcBef>
              <a:spcAft>
                <a:spcPts val="1199"/>
              </a:spcAft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Times New Roman"/>
              </a:rPr>
              <a:t>Объекты на экране должны быть большие по размеру и знакомые ребенку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199"/>
              </a:spcBef>
              <a:spcAft>
                <a:spcPts val="1199"/>
              </a:spcAft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Times New Roman"/>
              </a:rPr>
              <a:t>Инструкция по выполнению задания должна озвучиваться диктором либо взрослым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199"/>
              </a:spcBef>
              <a:spcAft>
                <a:spcPts val="1199"/>
              </a:spcAft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002060"/>
                </a:solidFill>
                <a:latin typeface="Times New Roman"/>
              </a:rPr>
              <a:t>Должен присутствовать элемент успеха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title"/>
          </p:nvPr>
        </p:nvSpPr>
        <p:spPr>
          <a:xfrm>
            <a:off x="0" y="15840"/>
            <a:ext cx="91440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Times New Roman"/>
              </a:rPr>
              <a:t>ПРАВИЛА, КОТОРЫЕ ВАЖНО СОБЛЮДАТЬ!</a:t>
            </a:r>
            <a:r>
              <a:rPr b="1" lang="ru-RU" sz="2800" spc="-1" strike="noStrike">
                <a:solidFill>
                  <a:srgbClr val="111115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Время логики с ЛогикЛайк! (logiclike.com)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(платформа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Дидактические игры для дошкольников, познавательные игры (igraemsa.ru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Логические игры для детей 4, 5, 6 лет - Играй онлайн на всех устройствах! (bibusha.ru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Times New Roman"/>
              </a:rPr>
              <a:t>    </a:t>
            </a:r>
            <a:r>
              <a:rPr b="1" i="1" lang="ru-RU" sz="3200" spc="-1" strike="noStrike">
                <a:solidFill>
                  <a:srgbClr val="002060"/>
                </a:solidFill>
                <a:latin typeface="Times New Roman"/>
              </a:rPr>
              <a:t>Интерактивные игры онлайн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8T19:05:21Z</dcterms:created>
  <dc:creator>Елена</dc:creator>
  <dc:description/>
  <dc:language>en-US</dc:language>
  <cp:lastModifiedBy>11</cp:lastModifiedBy>
  <dcterms:modified xsi:type="dcterms:W3CDTF">2023-02-06T06:12:32Z</dcterms:modified>
  <cp:revision>143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8c910000000000010243100207f6000400038000</vt:lpwstr>
  </property>
</Properties>
</file>