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21D-99A6-42B3-86B2-02DAC44A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8F7B-4627-469E-884D-446E4100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84B-5DD8-42C8-8612-7F510928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6FC9-03C3-492A-AF24-17B44791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C9DD-59B1-4623-BCF5-3204E462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6CBE-5A43-44C2-9354-CD07306D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A3DE-87D8-4C04-9283-6A91F3B3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44B2-6B09-4537-BAD1-5AB3CBB8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F1EC-F752-454A-811E-15E3A115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9224-3066-4C7A-BA7E-04E1EF64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A52D-4E08-4F0F-8974-C9580720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E550-3465-40F8-8BAA-6CECD40E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783B-CB70-4D13-A506-CDDF064C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3B40-D7B7-4769-BE84-CF3F026C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492C-D3F6-482B-9961-FFFF0DE4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4BFF-7B1A-4D0E-A1B7-F83D07C4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8CA8-2D89-4523-AD09-D2ECAFA4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A21FB-46DD-41DF-9E98-37299A56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228A6-5663-47A0-826B-706BA725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7FDFF-4161-4E8C-AC07-AD272A84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CF42A-299B-4048-80BD-993E3630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A1109-B322-4C5A-A3DD-9881EFBE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5C2D-4354-4649-B9F3-1EF4541D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B9812-A9B4-4B7C-B4C1-D7B7A455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0E42E-9189-4DD8-B28A-6A03C565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57935-7A48-409F-87B3-7D02668A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4A093-3FFD-405C-A249-1AE4CC39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46A09-F068-4266-B3FB-ACC3B7BD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C7F03-792A-4159-84E9-7991B654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5A2F8-E08B-40C1-AB6D-416CB7CE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2679F-B0E4-434B-86BA-BECDE76E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9EFC3-01BB-4BAF-9330-C275BDC2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DA9C7-37A0-444A-95E9-A06D1E90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5A3-E139-48E3-8D2A-EEA4236D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D7863-9AC7-4F42-9954-147D5A49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66380-E425-414E-A5C6-FD223CE0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2949B-453C-4F8B-9BCB-7A314C28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27CE9-BE8B-4FA1-B073-B999BA5A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54E5C-DBFF-45C6-8E51-A7CD9469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4E320-2A08-4121-B47A-EF82C35C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1BD7D-180D-4214-A86F-58D9F176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4D86E-D12E-48EF-AA70-A6331656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EB4EE-9CD7-498D-B849-603574EA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88EEC-752D-4D07-9652-60088D31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8974-5F78-4AB6-BCFF-686E2ADF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D7DE1-23C8-44C2-A038-DFE6D424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9F8BD-9EAD-49B0-A777-D2DB25FA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792CA-DA15-45B0-A614-F07471F9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34EA8-6A2A-46D3-9E58-771DB5E6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53435-4410-42A7-8969-C5159906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042CE-778A-486D-B296-96FAB167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A9E0F-C34F-43AE-B8DF-671E6EA4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133D8-6CD8-46E6-BAF9-BF8968A4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615A5-6A45-4D2B-B616-EEDC80DF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ACBE1-2BCF-4BD0-8F34-8F90CA39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A4C6-8A91-425F-8152-08F27E1D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77E6E-C279-4F3E-AA95-7DBA51A9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AAE-07D3-402D-B4CC-59C25BB8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9B29-F27D-4C09-B817-798DEBDF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A953-161C-4B0F-B8AB-8355C994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1EC928-3BE8-40D0-88B8-C2F3A70296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34831D-718D-49D7-BB67-CF6B127CBF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381AE7-3D98-452D-B02B-899BBA366C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CC612A-8A31-4B3E-A345-CECD3B1B7D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028A40-B31D-47E2-A020-EF6F9ECEEB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0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Теоретические основы олигофренопсихологии</a:t>
            </a:r>
            <a:endParaRPr b="0" lang="ru-RU" sz="4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зидент Джон Кеннеди, сестра которого страдала задержкой психического развития, сформировал Президентскую Комиссию по умственной отсталости в 1962 году и создал национальную программу для борьбы с умственной отсталостью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240" cy="907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38120" cy="5543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лигофрен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— форма психического недоразвития. Характеризуется недоразвитие всех нервно–психических процессов, в большей степени наблюдаются нарушения подвиж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сти внутренних процессов в инте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ктуально–речевой сфере и в меньше ст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ни — в сенсомот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й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    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3280" y="1125360"/>
            <a:ext cx="4038120" cy="5028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мен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— стойкое ослабление познава-тельной деятельности, приводящее к снижению критичнос-ти, ослаблению памя-ти, уплощению эмо-ций. Носит програди-ентный характер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В детском возрасте деменция может возникнуть в результате органических заболеваний мозга, воспалительных заболеваниях мозга, а также вследствие сотрясений и ушибов мозга.</a:t>
            </a:r>
            <a:endParaRPr b="0" lang="ru-RU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1547640" y="2060640"/>
            <a:ext cx="6335280" cy="10792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чины умственной отстал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547640" y="3718080"/>
            <a:ext cx="2736360" cy="10076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кзог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219640" y="3789360"/>
            <a:ext cx="2950920" cy="8647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ндог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 flipH="1">
            <a:off x="2411280" y="3141360"/>
            <a:ext cx="2232000" cy="576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4859280" y="3141360"/>
            <a:ext cx="2016000" cy="6480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тиологические</a:t>
            </a:r>
            <a:r>
              <a:rPr b="1" i="1" lang="ru-RU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5" name="AutoShape 19"/>
          <p:cNvSpPr/>
          <p:nvPr/>
        </p:nvSpPr>
        <p:spPr>
          <a:xfrm>
            <a:off x="1258920" y="155736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9"/>
          <p:cNvSpPr/>
          <p:nvPr/>
        </p:nvSpPr>
        <p:spPr>
          <a:xfrm>
            <a:off x="4140360" y="342900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9"/>
          <p:cNvSpPr/>
          <p:nvPr/>
        </p:nvSpPr>
        <p:spPr>
          <a:xfrm>
            <a:off x="7236000" y="191628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250920" y="2492280"/>
            <a:ext cx="2592000" cy="21949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ледственные, в том числе связанные с повреждением генеративных клет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3276720" y="4365720"/>
            <a:ext cx="2592000" cy="10976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утриутробные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йствующие на зародыш и пл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6227640" y="2997360"/>
            <a:ext cx="2592000" cy="10976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инатальные и первых 3 лет вне утробной жиз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Диагностический критерии умственной отсталости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линически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наличие органического поражения головного мозга;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сихологически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стойкое нарушение познавательной деятельности;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едагогически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низкая обучаемость</a:t>
            </a:r>
            <a:r>
              <a:rPr b="0" lang="ru-RU" sz="36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18080" cy="156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спространенность степеней 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мственной отсталости </a:t>
            </a:r>
            <a:br>
              <a:rPr sz="3200"/>
            </a:br>
            <a:endParaRPr b="0" lang="ru-RU" sz="32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244" name="Object 11"/>
          <p:cNvGraphicFramePr/>
          <p:nvPr/>
        </p:nvGraphicFramePr>
        <p:xfrm>
          <a:off x="-181080" y="1197000"/>
          <a:ext cx="9324720" cy="50400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24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197000"/>
                    <a:ext cx="9324720" cy="50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18080" cy="156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спространенность  умственной отсталост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обще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пуляции</a:t>
            </a:r>
            <a:br>
              <a:rPr sz="3200"/>
            </a:br>
            <a:endParaRPr b="0" lang="ru-RU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900000" y="2421000"/>
            <a:ext cx="7775280" cy="4176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66ff"/>
                </a:solidFill>
                <a:latin typeface="Times New Roman"/>
              </a:rPr>
              <a:t>Общая популя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6804000" y="4005360"/>
            <a:ext cx="1663200" cy="1152000"/>
          </a:xfrm>
          <a:prstGeom prst="ellipse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9525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66ff"/>
                </a:solidFill>
                <a:latin typeface="Times New Roman"/>
              </a:rPr>
              <a:t>Умствен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66ff"/>
                </a:solidFill>
                <a:latin typeface="Times New Roman"/>
              </a:rPr>
              <a:t>отстал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66ff"/>
                </a:solidFill>
                <a:latin typeface="Times New Roman"/>
              </a:rPr>
              <a:t>1-3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Соотношение клинических и психометрических оценок тяжести умственной отсталости (IQ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40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250" name="Group 120"/>
          <p:cNvGraphicFramePr/>
          <p:nvPr/>
        </p:nvGraphicFramePr>
        <p:xfrm>
          <a:off x="457200" y="1844640"/>
          <a:ext cx="8229240" cy="4644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Q (по тесту Векслера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иническое определ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 степени умственной отсталости по МКБ-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градации умственной отстал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-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ма (средняя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-8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раничные с нормой задержки развит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раничные фор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-7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би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г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ягкая фор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-5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беци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ре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тяже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35(4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яже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яже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ее 20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дио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уб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ень глуб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тепени 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мственной отсталости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огласно:</a:t>
            </a:r>
            <a:br>
              <a:rPr sz="3600"/>
            </a:br>
            <a:endParaRPr b="0" lang="ru-RU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6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КБ-9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биль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ая слабая степень умственной отсталости, обусловленная задержкой развития или органического поражения мозга плода. При нерезко выраженной дебильности ребёнок может внешне мало отличаться от сверстников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бециль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яя степень слабоумия. Речь и другие психические функции развиты больше, чем при идиотии, однако лица с имбецильностью не обучаемы, нетрудоспособны, им доступны лишь элементарные акты самообслуживания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диот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убокая умственная отсталость с почти полным отсутствием речи и мышления, потребностью в постоянном уходе и надзоре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бильность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60000"/>
          </a:bodyPr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резк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ыраженной дебильности ребёнок может ничем внешне не отличаться от сверстников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яются механическая память и эмоционально-волевая сфера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ние очень трудно привлечь и фиксировать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минание замедленно и непрочно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их преобладает конкретно-описательный тип мышления, в то время как способность к абстрагированию почти отсутствует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о воспринимают логические связи между предметами, понятия «пространство», «время» и т. д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о встречаются нарушения речи (отстаёт в развитии, искажение звуков, нарушения грамматического строя речи, бедный словарный запас). Обычно не могут пересказать прочитанное, услышанное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 и задачи олигофренопсихологии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ческие аспектыолигофренопсихологии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чины умственной отсталости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умственной отсталости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бильность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некоторым дебилам при задержке общего психического развития и малой продуктивности мышления свойственна частичная одарённость (отличная механическая или зрительная память, способность производить в уме сложные арифметические операции и др.)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оции преобладают актуальные на данный момент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я не целенаправленны, импульсивны, развит негативизм и агрессия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билы не способны долго работать, быстро устают, развит своеобразный бред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бильность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489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билы с программой общеобразовательной школы не справляются, обычно заканчивают вспомогательную школу, способны вести самостоятельную жизнь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а социальная адаптация и участие в самостоятельной трудовой деятельности. Замечено, однако, что пациенты с легкой степенью дебильности в большинстве своем — вполне неплохие супруги, малоконфликтные, послушные и управляемые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дебилов в основном различают эретичных (возбудимых), вялых апатичных, злобно-упрямых, мстительных и торпидных (заторможенных)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мбецильность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бецилы понимают речь окружающих, сами могут произносить короткие фразы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ь бедна и неправильна, но более или менее связна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шление конкретно и примитивно, но последовательно, отвлечения недоступны, запас сведений крайне узок, резкое недоразвитие внимания, памяти, воли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дающим имбецильностью удаётся привить элементарные трудовые навыки, обучить чтению, письму, счёту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мбецильность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8229240" cy="4857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имбецилы способны производить элементарные счетные операции, усваивать простейшие трудовые навыки и навыки самообслуживания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оции имбецилов более дифференцированы, чем у идиотов, они привязаны к родным, адекватно реагируют на похвалу или порицание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бецилы лишены инициативы, инертны, внушаемы, легко теряются при изменении обстановки, нуждаются в постоянном надзоре и уходе, при неблагоприятном окружении поведение может быть асоциальным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диотия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70000"/>
          </a:bodyPr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ные, страдающие идиотией, не могут ходить, у них нарушено строение внутренних органов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иотам недоступна осмысленная деятельность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ь не развивается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иоты произносят лишь отдельные нечленораздельные звуки и слова, часто не понимают речи окружающих, не отличают родственников от посторонних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не способны к самостоятельной жизни: не владеют элементарными навыками самообслуживания, не могут самостоятельно есть, иногда даже не пережёвывают пищу, неопрятны, нуждаются в постоянном уходе и надзоре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диотия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8229240" cy="4857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шление не развивается, реакция на окружающее резко снижена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оциональная жизнь исчерпывается примитивными реакциями удовольствия и неудовольствия. У одних преобладают вспышки немотивированного гнева, у других — вялость и безразличие ко всему окружающему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, страдающие идиотией, необучаемы и традиционно находятся (с согласия родителей) в специальных учреждениях (детских домах для глубоко умственно отстал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240" cy="5792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МКБ-10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легкая (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Q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40-69)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умеренная (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Q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35-49) 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тяжелая (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Q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20-34)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глубокая (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Q &lt;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20)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Oval 4"/>
          <p:cNvSpPr/>
          <p:nvPr/>
        </p:nvSpPr>
        <p:spPr>
          <a:xfrm>
            <a:off x="2268360" y="476280"/>
            <a:ext cx="4752720" cy="12967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65e76"/>
              </a:gs>
            </a:gsLst>
            <a:lin ang="5400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лигофр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5"/>
          <p:cNvSpPr/>
          <p:nvPr/>
        </p:nvSpPr>
        <p:spPr>
          <a:xfrm>
            <a:off x="504000" y="2925000"/>
            <a:ext cx="3528720" cy="1368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9"/>
              </a:gs>
            </a:gsLst>
            <a:lin ang="5400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фференцир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6"/>
          <p:cNvSpPr/>
          <p:nvPr/>
        </p:nvSpPr>
        <p:spPr>
          <a:xfrm>
            <a:off x="5003640" y="3068640"/>
            <a:ext cx="3889080" cy="1512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9"/>
              </a:gs>
            </a:gsLst>
            <a:lin ang="5400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дифференцируе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7"/>
          <p:cNvSpPr/>
          <p:nvPr/>
        </p:nvSpPr>
        <p:spPr>
          <a:xfrm flipH="1">
            <a:off x="2268360" y="1773000"/>
            <a:ext cx="2087640" cy="129528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356000" y="1773000"/>
            <a:ext cx="2376360" cy="129528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96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лигофрении,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условленные наследственными факторам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5" name="AutoShape 19"/>
          <p:cNvSpPr/>
          <p:nvPr/>
        </p:nvSpPr>
        <p:spPr>
          <a:xfrm>
            <a:off x="1116000" y="134136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9"/>
          <p:cNvSpPr/>
          <p:nvPr/>
        </p:nvSpPr>
        <p:spPr>
          <a:xfrm>
            <a:off x="1042920" y="328464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9"/>
          <p:cNvSpPr/>
          <p:nvPr/>
        </p:nvSpPr>
        <p:spPr>
          <a:xfrm>
            <a:off x="7667640" y="141300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250920" y="2205000"/>
            <a:ext cx="2592000" cy="73188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тинная микроцефал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3348000" y="1773360"/>
            <a:ext cx="2592000" cy="146340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зостотические фор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ндром Круз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д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6551640" y="2060640"/>
            <a:ext cx="2592000" cy="10976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серодермические фор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синдром Рада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9"/>
          <p:cNvSpPr/>
          <p:nvPr/>
        </p:nvSpPr>
        <p:spPr>
          <a:xfrm>
            <a:off x="4140360" y="112536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9"/>
          <p:cNvSpPr/>
          <p:nvPr/>
        </p:nvSpPr>
        <p:spPr>
          <a:xfrm>
            <a:off x="3851280" y="357336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9"/>
          <p:cNvSpPr/>
          <p:nvPr/>
        </p:nvSpPr>
        <p:spPr>
          <a:xfrm>
            <a:off x="7885080" y="328464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9"/>
          <p:cNvSpPr/>
          <p:nvPr/>
        </p:nvSpPr>
        <p:spPr>
          <a:xfrm>
            <a:off x="5724360" y="479736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179280" y="4221000"/>
            <a:ext cx="2592000" cy="256068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нзимопатические фор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нилкетонурия, галактоземия, гаргоилиз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ндром Марфанаи др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3059280" y="4221000"/>
            <a:ext cx="2592000" cy="10976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езнь Лоуренса- Муна-Барде-Бидля и д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3851280" y="5589720"/>
            <a:ext cx="2592000" cy="10976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условленные хромосомными аберраци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6551640" y="4076640"/>
            <a:ext cx="2592000" cy="1829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званные мутагенным поражением генеративных клеток родител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96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лигофрении, вызванные внутриутробным поражением зародыша и плод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0" name="AutoShape 19"/>
          <p:cNvSpPr/>
          <p:nvPr/>
        </p:nvSpPr>
        <p:spPr>
          <a:xfrm>
            <a:off x="1187280" y="170028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9"/>
          <p:cNvSpPr/>
          <p:nvPr/>
        </p:nvSpPr>
        <p:spPr>
          <a:xfrm>
            <a:off x="7164360" y="170028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250920" y="2852640"/>
            <a:ext cx="2592000" cy="1829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русными инфекциями, например краснухой беремен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3276720" y="4149720"/>
            <a:ext cx="2592000" cy="21949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ожденным сифилисом, токсоплазмозом, листериозом и другими инфекц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6227640" y="2924280"/>
            <a:ext cx="2592000" cy="256068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мональными нарушениями и другими эндогенными и экзогенными токсическими фактор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9"/>
          <p:cNvSpPr/>
          <p:nvPr/>
        </p:nvSpPr>
        <p:spPr>
          <a:xfrm>
            <a:off x="4211640" y="328464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mbria"/>
              </a:rPr>
              <a:t>Предмет и задачи олигофренопсихологии</a:t>
            </a:r>
            <a:br>
              <a:rPr sz="4400"/>
            </a:br>
            <a:endParaRPr b="0" lang="ru-RU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</a:rPr>
              <a:t>Олигофренопсихолог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трасль специальной психологии, рассмтривающая динамику развития познавательной деятельности и личности умственно отсталых детей дошкольного и школьного возра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лигофрении, обусловленные вредными факторами перинатального периода и первых 3 лет вне утробной жизн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7" name="AutoShape 19"/>
          <p:cNvSpPr/>
          <p:nvPr/>
        </p:nvSpPr>
        <p:spPr>
          <a:xfrm>
            <a:off x="1258920" y="177336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9"/>
          <p:cNvSpPr/>
          <p:nvPr/>
        </p:nvSpPr>
        <p:spPr>
          <a:xfrm>
            <a:off x="3924360" y="162864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9"/>
          <p:cNvSpPr/>
          <p:nvPr/>
        </p:nvSpPr>
        <p:spPr>
          <a:xfrm>
            <a:off x="7164360" y="162864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0" y="2492280"/>
            <a:ext cx="2842920" cy="256068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условленные иммунологической несовместимостью крови матери и плода, например, конфлик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резус-фактор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3059280" y="2349360"/>
            <a:ext cx="2592000" cy="1829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званные асфиксией плода  новорожденно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также родовой травм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5867280" y="2349360"/>
            <a:ext cx="3276360" cy="21949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званные перенесенными в раннем детстве инфекциями и черепно-мозговыми травм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9"/>
          <p:cNvSpPr/>
          <p:nvPr/>
        </p:nvSpPr>
        <p:spPr>
          <a:xfrm>
            <a:off x="3995640" y="414972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2843280" y="4667400"/>
            <a:ext cx="5832000" cy="21949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ипичные, обусловленные врожденной гидроцефалией или краниостенозом, сочетающиеся с ДЦП, недоразвитием отдельных систем головного мозга, тяжелыми нарушениями сенсорных функ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-531720"/>
            <a:ext cx="8229240" cy="167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дход к исследованию умственной отсталости путем деления ее на два вид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306" name="Group 48"/>
          <p:cNvGraphicFramePr/>
          <p:nvPr/>
        </p:nvGraphicFramePr>
        <p:xfrm>
          <a:off x="611280" y="620640"/>
          <a:ext cx="8229240" cy="5624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ru-RU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ческий ви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но-семейный ви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человека имеются четкие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ческие причины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ственной отсталост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человека не имеется очевидных причин отстал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огда умственная отсталость есть и у другого члена семь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ен для людей с    умеренной, тяжелой и глубокой умственной отсталость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тречается примерно с одинаковой частотой во всех этнических группах и социально-экономических уровн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ще связан с другими физическими нарушениям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ен для людей с легкой умственной отсталость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ще встречается у людей, принадлежащих к этническим меньшинствам и низкому социально-экономическому уровн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дко связан с физическими нарушения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натальные (генетические  заболевания, нарушения внутриутробного развития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натальные (преждевременные роды, аноксия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натальные (черепно-мозговые травмы, менингиты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игенные (например низкий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Q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одителе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овая деприв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наруженные органические состоя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Риск повторного возникновения умственной отсталости в семь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40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308" name="Group 32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лены семь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умственной отсталостью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нт детей, страдающих умственной отсталостью, %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кто из родите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т или сест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 из родите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а род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240" cy="14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Физические нарушения у детей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 умственной отсталостью</a:t>
            </a:r>
            <a:endParaRPr b="0" lang="ru-RU" sz="40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310" name="Group 50"/>
          <p:cNvGraphicFramePr/>
          <p:nvPr/>
        </p:nvGraphicFramePr>
        <p:xfrm>
          <a:off x="539640" y="1268280"/>
          <a:ext cx="8229240" cy="5235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1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1" lang="ru-RU" sz="2800" spc="-1" strike="noStrike">
                        <a:solidFill>
                          <a:srgbClr val="0066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ственная отсталость                от умеренной             до глубоко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Q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&lt; 50), %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гкая умственная отстал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Q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50-70), 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нсорные наруш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пилеп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ребральный парали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 М. С. Певзнер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ходя из клинико-этиопатогенетических принципов, ею выделено пять основных форм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сложненная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игофрения, осложненная нарушением нейродинамики (возбудимые и тормозные)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игофрения в сочетании с нарушениями различных анализаторов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игофрения с психопатоподобными формами поведения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игофрения с выраженной лобной недостаточностью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еосложнённая олигофрения</a:t>
            </a:r>
            <a:endParaRPr b="0" lang="ru-RU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7640" y="1268640"/>
            <a:ext cx="4320000" cy="4918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5000"/>
          </a:bodyPr>
          <a:p>
            <a:pPr marL="352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линическая картина: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52080" indent="-352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о  поверхностное (не глубокое) диффузное поражение полушарий головного мозга при   сохранности подкорковых образований и отсутствии  нарушений  ликвообращения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52080" indent="-352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данной категории детей нет грубых нарушений органов чувств, двигательной, познавательной и эмоциональной сферы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C:\Documents and Settings\admin\Рабочий стол\уо\Изображение 378.jpg"/>
          <p:cNvPicPr/>
          <p:nvPr/>
        </p:nvPicPr>
        <p:blipFill>
          <a:blip r:embed="rId1"/>
          <a:stretch/>
        </p:blipFill>
        <p:spPr>
          <a:xfrm>
            <a:off x="4788000" y="1172880"/>
            <a:ext cx="4161240" cy="55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0640"/>
            <a:ext cx="8074800" cy="1110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лигофрения, сопровождающаяся нейродинамическими нарушениями.</a:t>
            </a:r>
            <a:endParaRPr b="0" lang="ru-RU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лигофрении, характеризующейся неустойчивостью эмоционально-волевой сферы по типу возбудимости или заторможенности, присущие ребенку нарушения отчётливо проявляются в изменениях поведения и снижении работоспособности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ллектуальное недоразвитие сочетается с явлениями нарушения процессов активного возбуждения или торможения. Лабильные дети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ные периоды жизни или деятельности процессы возбуждения могут преобладать над процессами торможения, и наоборот. Смена процессов происходит через пароксизмальные состояния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дети с преобладанием процессов активного возбуждения. Психическое развитие в целом страдает от двигательной расторможенности, отвлекаемости, повышенной импульсивности, а также аффективной неуравновешенности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Дети с преобладанием процессов торможения вялые, замедленные, инертные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5680" y="0"/>
            <a:ext cx="7497720" cy="1340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лигофрения с нарушением функций анализаторов</a:t>
            </a:r>
            <a:endParaRPr b="0" lang="ru-RU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7889760" cy="4979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олигофренов с нарушениями анализаторов диффузное поражение коры сочетается с более глубокими поражениями той или иной мозговой системы. Эти дети дополнительно имеют локальные дефекты речи, слуха, зрения, опорно-двигательного аппарата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этиологическим факторам данного вида олигофрении относят генетические формы, связанные с нарушениями обмена, внутриутробного развития плода, а также асфиксии новорожденных, родовые травмы, ранние постнатальные поражения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C:\Documents and Settings\admin\Рабочий стол\уо\147.jpg"/>
          <p:cNvPicPr/>
          <p:nvPr/>
        </p:nvPicPr>
        <p:blipFill>
          <a:blip r:embed="rId1"/>
          <a:stretch/>
        </p:blipFill>
        <p:spPr>
          <a:xfrm>
            <a:off x="3771000" y="3285000"/>
            <a:ext cx="5372640" cy="357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5680" y="0"/>
            <a:ext cx="7497720" cy="14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лигофрения с выраженной лобной недостаточностью</a:t>
            </a:r>
            <a:endParaRPr b="0" lang="ru-RU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7640" y="1268640"/>
            <a:ext cx="8465760" cy="4979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людается грубое нарушение познавательной деятельности, целенаправленности деятельности. Одни дети вялые, двигательно заторможенные, пассивные. Другие дети расторможенные, импульсивные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" descr="C:\Documents and Settings\admin\Рабочий стол\уо\321.jpg"/>
          <p:cNvPicPr/>
          <p:nvPr/>
        </p:nvPicPr>
        <p:blipFill>
          <a:blip r:embed="rId1"/>
          <a:stretch/>
        </p:blipFill>
        <p:spPr>
          <a:xfrm>
            <a:off x="3377160" y="2736360"/>
            <a:ext cx="57664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собенности развития познавательной сферы</a:t>
            </a:r>
            <a:endParaRPr b="0" lang="ru-RU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97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руктура психики умственно отсталого ребенка чрезвычайно сложна. Первичный дефект приводит к возникновению многих других вторичных и третичных отклонений.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́мственная отста́л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 — стойкое недоразвитие уровня психической, в первую очередь интеллектуальной деятельности, связанное с врожденной или приобретенной до трехлетнего возраста органической патологией головного мозга. Наряду с умственной недостаточностью всегда имеет место недоразвитие эмоционально-волевой сферы, речи, моторики и всей личности в целом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рушения познавательной деятельности и личности ребенка с общим психическим недоразвитием отчетливо обнаруживаются в самых различных его проявлениях. Дефекты познания и поведения невольно привлекают к себе внимание окружающих. Однако наряду с недостатками этим детям присуши и некоторые положительные возможности, наличие которых служит опорой, обеспечивающей процесс развития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и-олигофрены способны к развитию, которое осуществляется замедленно, атипично, со многими, подчас весьма резкими отклонениями от нормы. Тем не менее оно представляет собой поступательный процесс, вносящий качественные изменения в психическую деятельность детей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умственно отсталого ребенка определяется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иологическими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оциальными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кторами. К первым из них относятся выраженность дефекта, качественное своеобразие его структуры, время его возникновения. Социальные факторы — это ближайшее окружение ребенка: семья, в которой он живет; взрослые и дети, с которыми он общается и проводит время; школа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240" cy="5792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очная познавательная активность, слабость ориентировочной деятельности — это симптомы, прямо вытекающие из особенностей протекания нейрофизиологических процессов в коре головного мозга у умственно отсталых детей. Многие ученые, занимавшиеся изучением детей с данной патологией развития, отмечали их сниженный интерес к окружающему миру, вялость и отсутствие инициативы. Умственно отсталые дошкольники характеризуются сниженностью интереса к ближайшему предметному окружению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озбудимые дети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будимые дети хватают все, что попадает в поле их зрения, не задумываясь о том, можно ли это делать. Однако ими руководит не интерес, а свойственная им импульсивность. Они тут же бросают взятое, поскольку предмет сам по себе им не нуже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929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Заторможенные дети</a:t>
            </a:r>
            <a:endParaRPr b="0" lang="ru-RU" sz="4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240" cy="392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торможенные олигофрены как бы не замечают того, что вокруг них находится. Ничто не привлекает их внимания.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Дети с сохранным поведением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и с сохранным поведением ведут себя несколько более адекватно. Они с удовольствием берут в руки ярко окрашенные или новые для них предметы, некоторое время смотрят на них. Однако дети не задают взрослым вопросов, не пытаются об этих предметах узнать что-то новое самостоятельно. Единственное, что , они делают, — пытаются засунуть предмет в рот или стучат им по столу или полу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и стереотипные действия не проявление любознательности, а плохая привычка. Нередко дошкольники безжалостно и бездумно ломают новые игрушки, разбивают и уничтожают их. Но такая деятельность не представляет собой попытку практического анализа предмета, осуществление желания выяснить присущие ему качества и свойства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Изменения в развитии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2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ственная отсталость не всегда является заболеванием на всю жизнь. Хотя она — относительно стабильное состояние в течение детства и зрелого возраста, показател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любого человека может повышаться или понижаться в зависимости от уровня нарушений и типа отсталости. Дети, страдающие легкой умственной отсталостью могут при надлежащем обучении и возможностях сформировать хорошие адаптивные навыки в других областях, и их уровень нарушений станет недостаточным для диагноза «умственная отсталость»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240" cy="6048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ая причина умственной отсталости ребенка, безусловно, влияет на степень, в которой могут меняться ег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адаптивные способности. Дети с синдромом Дауна в целом не являющиеся типичным примером протекания умственной отсталости, могут достичь успехов в среднем школьном возрасте, а затем, со временем, и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ожет снижаться. Например, от года до шести лет дети с синдромом Дауна зачастую демонстрируют значительные возрастные успехи в адаптивном функционировании, но по мере взросления их темп развития выравнивается или даже замедляется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Cambria"/>
              </a:rPr>
              <a:t>Задачи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своеобразия общих, особых и индивидуальных черт, присущих психике УО детей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ление характерных для них недостатков и имеющихся положительных возможностей, обусловливающих развитие ребенка и его способность социально адаптироватьс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240" cy="572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гда они становятся старше, в социальном развитии их так же наблюдается замедление темпа. Это наблюдение получило названи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гипотезы замедления и стабиль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торая утверждает, что у детей с синдромом Дауна периоды успехов функционирования могут чередоваться с периодами медленного продвижения, вплоть до нулевого. Хотя такие дети продолжают развивать свой интеллект, в течение детства у них это получается все медленнее и медленнее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фференциальная диагностика УО от сходных состояний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вопросов, связанных с коррекционно-развивающим обучением и воспитанием, предусматривающих подготовку УО детей к интеграции в окружающую среду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Эмиль Крепелин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15.02.1856-07.101926 гг.)</a:t>
            </a:r>
            <a:endParaRPr b="0" lang="ru-RU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рмин «олигофрения» был впервые введен в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ке немецким психиатром Эмилем Крепелином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9" descr="krepelin"/>
          <p:cNvPicPr/>
          <p:nvPr/>
        </p:nvPicPr>
        <p:blipFill>
          <a:blip r:embed="rId1"/>
          <a:stretch/>
        </p:blipFill>
        <p:spPr>
          <a:xfrm>
            <a:off x="5073480" y="1608120"/>
            <a:ext cx="3187440" cy="4508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Исторические аспекты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240" cy="5327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е упоминания о людях с интеллектуальными нарушениями были обнаружены у римлян, которые иногда держали «дураков» для развлечения домовладельцев и их гостей. Эти люди находились на содержании у богатых, и с ними неплохо обращались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VI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Мартин Лютер, немецкий теолог, отец Реформации 1517 года, объяснял, как странная внешность и поведение ребенка (наиболее вероятно, ребенка с умственной отсталостью, но это заболевание еще не было известно в то время) связаны с одержимостью дьяволом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160" cy="5649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Господствующее неправильное понимание и лечение людей с умственной отсталостью начало изменяться к конц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толетия, подпитываемое обнаружением одичавших или «диких» детей, таких как Виктор, «дикий мальчик из Авейрона», и распространением гуманистических усилий помочь другим угнетаемым или игнорируемым группам, таким как рабы, заключенные, душевнобольные и люди с физическими недостатка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 середин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ека доктор Самуэль Дж. Хоу открыл первое гуманистическое учреждение в Северной Америке для людей с умственной отсталостью — Массачусетскую Школу для слабоумных детей и детей-идиотов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  <Words>2461</Words>
  <Paragraphs>24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05:59:57Z</dcterms:created>
  <dc:creator>TZ</dc:creator>
  <dc:description/>
  <dc:language>en-US</dc:language>
  <cp:lastModifiedBy>aed</cp:lastModifiedBy>
  <dcterms:modified xsi:type="dcterms:W3CDTF">2015-03-26T04:00:55Z</dcterms:modified>
  <cp:revision>22</cp:revision>
  <dc:subject/>
  <dc:title>Умственная отстало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50</vt:r8>
  </property>
</Properties>
</file>