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FE0-0714-429F-9053-1B83C241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BE4-7C2E-45AD-BB08-F7950199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687-64FA-4ADF-B4D3-D7176CA0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690-D046-4D9E-887D-A74FE7BD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8612-BBCA-4C39-A5F9-F9DFE9A2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B7FD-25CF-414B-BE3F-C6434A89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3CD9-259F-47E7-9308-81A21174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A6F1-5B1D-480A-A40C-2B9233B5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28C9-F4F3-45E9-A820-91A84281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ECD5-58E5-4EBD-AD32-165B5CF6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3AFA-E404-47CF-8A43-A4E25837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A4F-D746-4E81-BFC2-EF0BA3A7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6412-B182-4E2A-BFBD-D3925A98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A5CD-DDBC-48FD-B283-2556A9FF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2A08-B9E7-45C8-A66D-4890881B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A757-0BC0-4C3A-8D59-6B63453E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19C7-1340-4616-BACC-8F004588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7550-558A-4008-B2D6-1104F8C5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9FD4A-2C7A-45AF-B064-B1377F1A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353C-FB1D-4166-B7ED-834EF025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609F-B694-404A-A747-ACE57B07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171D-A349-4E86-A6FB-CFA5A2BB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F48-51CE-4558-BB31-DA311B99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D7CD-74E3-4D0B-BF67-B1525BE8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AF79-EADF-4390-B96A-F6AD5EED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1492-B572-4837-9FF0-1CD6F3C8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DAFC6-C25E-4CFA-B503-B3D5C9F8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B11DD-9E5F-40D1-B157-84FE457B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A98D-96BE-4D14-B15B-1C1EA959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7CF3-ED3A-44AD-8DD5-95D7E7C0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C2456-88D7-4047-89FC-E1CBE1DE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8BC84-106D-44D2-8731-EA20EA8F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33795-972E-4E30-B199-960E21E7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8E5-4A3D-4AC8-8240-ED6F03B8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AD85-2042-43CB-B2B0-D9AB1108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F87A5-6329-43F2-B9EC-6E6E566E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0F21A-B7A3-405B-8611-B0F5596A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9E45F-D229-4D47-8595-663E2D9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0F82E-C41F-49D1-8DBA-618035A4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C196-2F25-4B1D-BA2E-F71170B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D8B78-7D62-4750-A837-192F06FA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5DDEB-5F57-4001-80CC-A7B7A3E4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474D-7CEA-4164-AAED-9D09F0DA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F30E-5114-40CC-8A9C-055ABF41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437-BBF1-435E-92D2-21F6FB96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CCED5-EF3E-4FF6-A481-170AD5FD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A0491-5C1B-4364-994B-AA27BC2B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3CA94-0972-4269-A94E-61F9000F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C9B6E-16FB-46F6-B313-8E0E8D99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3AA5-9D81-425E-8600-672493BA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26D4-F644-48FB-B847-B8A80096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6948C-B844-4CB7-91E3-4C071C96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7F623-7936-4D41-A674-7411573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8FEBB-7BDE-45D3-92A3-41E1C20E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52F8F-EEE9-445E-B1B0-198E471F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C3C-C788-443E-BF3A-CF090EF1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5FD75-6748-4669-A3F6-DE3F0A3B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7F3-15D5-4A93-8870-B53D6E2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D04-3A11-4E40-AE3A-1E430448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40A-7967-4DD5-B1A7-4CE3A30F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D33BB2-C509-4DA0-89CD-2AE0E11FB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1B58D1-D5AB-447E-99B8-AA42E473D7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CBAF72-A0D5-47DA-9100-D127BEDC23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9DECFF-FBA2-4B50-9F19-6960C9F7F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3FA1D7-CEBE-4B3D-A798-67E20994B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Теоретические основы олигофренопсихологии</a:t>
            </a:r>
            <a:endParaRPr b="0" lang="ru-RU" sz="4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зидент Джон Кеннеди, сестра которого страдала задержкой психического развития, сформировал Президентскую Комиссию по умственной отсталости в 1962 году и создал национальную программу для борьбы с умственной отсталостью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907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120" cy="554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лигофрен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— форма психического недоразвития. Характеризуется недоразвитие всех нервно–психических процессов, в большей степени наблюдаются нарушения подви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сти внутренних процессов в инте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ктуально–речевой сфере и в меньше ст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ни — в сенсомо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й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3280" y="1125360"/>
            <a:ext cx="4038120" cy="502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ен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стойкое ослабление познава-тельной деятельности, приводящее к снижению критичнос-ти, ослаблению памя-ти, уплощению эмо-ций. Носит програди-ентный характер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 детском возрасте деменция может возникнуть в результате органических заболеваний мозга, воспалительных заболеваниях мозга, а также вследствие сотрясений и ушибов мозга.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1547640" y="2060640"/>
            <a:ext cx="6335280" cy="1079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чины умственной отста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547640" y="3718080"/>
            <a:ext cx="2736360" cy="1007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з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219640" y="3789360"/>
            <a:ext cx="2950920" cy="8647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нд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H="1">
            <a:off x="2411280" y="3141360"/>
            <a:ext cx="2232000" cy="576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4859280" y="3141360"/>
            <a:ext cx="2016000" cy="6480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иологические</a:t>
            </a:r>
            <a:r>
              <a:rPr b="1" i="1" lang="ru-RU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1258920" y="1557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4140360" y="342900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9"/>
          <p:cNvSpPr/>
          <p:nvPr/>
        </p:nvSpPr>
        <p:spPr>
          <a:xfrm>
            <a:off x="7236000" y="191628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250920" y="2492280"/>
            <a:ext cx="2592000" cy="21949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ледственные, в том числе связанные с повреждением генеративных клет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3276720" y="4365720"/>
            <a:ext cx="2592000" cy="10976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утриутробные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зародыш и пл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6227640" y="2997360"/>
            <a:ext cx="2592000" cy="10976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натальные и первых 3 лет вне утробной жиз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иагностический критерии умственной отсталости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линически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наличие органического поражения головного мозга;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и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стойкое нарушение познавательной деятельности;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едагогически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низкая обучаемость</a:t>
            </a:r>
            <a:r>
              <a:rPr b="0" lang="ru-RU" sz="3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18080" cy="156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ность степеней 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мственной отсталости </a:t>
            </a:r>
            <a:br>
              <a:rPr sz="3200"/>
            </a:br>
            <a:endParaRPr b="0" lang="ru-RU" sz="32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244" name="Object 11"/>
          <p:cNvGraphicFramePr/>
          <p:nvPr/>
        </p:nvGraphicFramePr>
        <p:xfrm>
          <a:off x="-181080" y="1197000"/>
          <a:ext cx="9324720" cy="50400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4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197000"/>
                    <a:ext cx="9324720" cy="50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18080" cy="156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ность  умственной отсталост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обще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пуляции</a:t>
            </a:r>
            <a:br>
              <a:rPr sz="3200"/>
            </a:br>
            <a:endParaRPr b="0" lang="ru-RU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900000" y="2421000"/>
            <a:ext cx="7775280" cy="4176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Общая попу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804000" y="4005360"/>
            <a:ext cx="1663200" cy="115200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9525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Умстве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отстал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1-3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Соотношение клинических и психометрических оценок тяжести умственной отсталости (IQ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250" name="Group 120"/>
          <p:cNvGraphicFramePr/>
          <p:nvPr/>
        </p:nvGraphicFramePr>
        <p:xfrm>
          <a:off x="457200" y="1844640"/>
          <a:ext cx="8229240" cy="4644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Q (по тесту Векслер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иническое опреде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 степени умственной отсталости по МКБ-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градации умственной отстал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-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 (средняя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-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раничные с нормой задержки развит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раничные фор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ягкая фор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бец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р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35(4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 20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дио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уб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 глуб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тепени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мственной отсталости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огласно:</a:t>
            </a:r>
            <a:br>
              <a:rPr sz="3600"/>
            </a:br>
            <a:endParaRPr b="0" lang="ru-RU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6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КБ-9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биль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ая слабая степень умственной отсталости, обусловленная задержкой развития или органического поражения мозга плода. При нерезко выраженной дебильности ребёнок может внешне мало отличаться от сверстников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бециль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яя степень слабоумия. Речь и другие психические функции развиты больше, чем при идиотии, однако лица с имбецильностью не обучаемы, нетрудоспособны, им доступны лишь элементарные акты самообслуживания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иот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убокая умственная отсталость с почти полным отсутствием речи и мышления, потребностью в постоянном уходе и надзоре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бильн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рез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раженной дебильности ребёнок может ничем внешне не отличаться от сверстников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ются механическая память и эмоционально-волевая сфера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 очень трудно привлечь и фиксироват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минание замедленно и непрочно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их преобладает конкретно-описательный тип мышления, в то время как способность к абстрагированию почти отсутствует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о воспринимают логические связи между предметами, понятия «пространство», «время» и т. д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 встречаются нарушения речи (отстаёт в развитии, искажение звуков, нарушения грамматического строя речи, бедный словарный запас). Обычно не могут пересказать прочитанное, услышанное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задачи олигофренопсихологи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ческие аспектыолигофренопсихологи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ы умственной отсталост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умственной отсталост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бильн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некоторым дебилам при задержке общего психического развития и малой продуктивности мышления свойственна частичная одарённость (отличная механическая или зрительная память, способность производить в уме сложные арифметические операции и др.)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и преобладают актуальные на данный момент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я не целенаправленны, импульсивны, развит негативизм и агрессия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билы не способны долго работать, быстро устают, развит своеобразный бред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бильн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89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билы с программой общеобразовательной школы не справляются, обычно заканчивают вспомогательную школу, способны вести самостоятельную жизнь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а социальная адаптация и участие в самостоятельной трудовой деятельности. Замечено, однако, что пациенты с легкой степенью дебильности в большинстве своем — вполне неплохие супруги, малоконфликтные, послушные и управляемые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дебилов в основном различают эретичных (возбудимых), вялых апатичных, злобно-упрямых, мстительных и торпидных (заторможенных)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бецильн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бецилы понимают речь окружающих, сами могут произносить короткие фразы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бедна и неправильна, но более или менее связна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 конкретно и примитивно, но последовательно, отвлечения недоступны, запас сведений крайне узок, резкое недоразвитие внимания, памяти, воли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дающим имбецильностью удаётся привить элементарные трудовые навыки, обучить чтению, письму, счёту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бецильн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имбецилы способны производить элементарные счетные операции, усваивать простейшие трудовые навыки и навыки самообслуживания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и имбецилов более дифференцированы, чем у идиотов, они привязаны к родным, адекватно реагируют на похвалу или порицание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бецилы лишены инициативы, инертны, внушаемы, легко теряются при изменении обстановки, нуждаются в постоянном надзоре и уходе, при неблагоприятном окружении поведение может быть асоциальны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диотия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0000"/>
          </a:bodyPr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ные, страдающие идиотией, не могут ходить, у них нарушено строение внутренних органов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иотам недоступна осмысленная деятельность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не развивается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иоты произносят лишь отдельные нечленораздельные звуки и слова, часто не понимают речи окружающих, не отличают родственников от посторонних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не способны к самостоятельной жизни: не владеют элементарными навыками самообслуживания, не могут самостоятельно есть, иногда даже не пережёвывают пищу, неопрятны, нуждаются в постоянном уходе и надзоре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диотия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шление не развивается, реакция на окружающее резко снижена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ая жизнь исчерпывается примитивными реакциями удовольствия и неудовольствия. У одних преобладают вспышки немотивированного гнева, у других — вялость и безразличие ко всему окружающему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, страдающие идиотией, необучаемы и традиционно находятся (с согласия родителей) в специальных учреждениях (детских домах для глубоко умственно отстал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240" cy="579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МКБ-10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легкая 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40-69)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меренная 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35-49) 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яжелая 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20-34)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глубокая 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Q &lt;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0)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Oval 4"/>
          <p:cNvSpPr/>
          <p:nvPr/>
        </p:nvSpPr>
        <p:spPr>
          <a:xfrm>
            <a:off x="2268360" y="476280"/>
            <a:ext cx="4752720" cy="1296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65e76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лигоф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"/>
          <p:cNvSpPr/>
          <p:nvPr/>
        </p:nvSpPr>
        <p:spPr>
          <a:xfrm>
            <a:off x="504000" y="2925000"/>
            <a:ext cx="3528720" cy="1368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9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фференцир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5003640" y="3068640"/>
            <a:ext cx="3889080" cy="151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9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ифференциру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 flipH="1">
            <a:off x="2268360" y="1773000"/>
            <a:ext cx="2087640" cy="12952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356000" y="1773000"/>
            <a:ext cx="2376360" cy="12952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24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9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лигофрении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условленные наследственными фактора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5" name="AutoShape 19"/>
          <p:cNvSpPr/>
          <p:nvPr/>
        </p:nvSpPr>
        <p:spPr>
          <a:xfrm>
            <a:off x="1116000" y="1341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9"/>
          <p:cNvSpPr/>
          <p:nvPr/>
        </p:nvSpPr>
        <p:spPr>
          <a:xfrm>
            <a:off x="1042920" y="328464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9"/>
          <p:cNvSpPr/>
          <p:nvPr/>
        </p:nvSpPr>
        <p:spPr>
          <a:xfrm>
            <a:off x="7667640" y="141300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250920" y="2205000"/>
            <a:ext cx="2592000" cy="7318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инная микроцефал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3348000" y="1773360"/>
            <a:ext cx="2592000" cy="146340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зостотические фор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дром Круз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д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6551640" y="2060640"/>
            <a:ext cx="2592000" cy="10976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серодермические 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индром Рада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9"/>
          <p:cNvSpPr/>
          <p:nvPr/>
        </p:nvSpPr>
        <p:spPr>
          <a:xfrm>
            <a:off x="4140360" y="1125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9"/>
          <p:cNvSpPr/>
          <p:nvPr/>
        </p:nvSpPr>
        <p:spPr>
          <a:xfrm>
            <a:off x="3851280" y="3573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7885080" y="328464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5724360" y="4797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79280" y="4221000"/>
            <a:ext cx="2592000" cy="25606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зимопатические фор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нилкетонурия, галактоземия, гаргоилиз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дром Марфанаи др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3059280" y="4221000"/>
            <a:ext cx="2592000" cy="10976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езнь Лоуренса- Муна-Барде-Бидля и д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51280" y="5589720"/>
            <a:ext cx="2592000" cy="10976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словленные хромосомными аберр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6551640" y="4076640"/>
            <a:ext cx="2592000" cy="1829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званные мутагенным поражением генеративных клеток родите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9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лигофрении, вызванные внутриутробным поражением зародыша и пло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1187280" y="170028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/>
          <p:cNvSpPr/>
          <p:nvPr/>
        </p:nvSpPr>
        <p:spPr>
          <a:xfrm>
            <a:off x="7164360" y="170028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250920" y="2852640"/>
            <a:ext cx="2592000" cy="1829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русными инфекциями, например краснухой беремен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3276720" y="4149720"/>
            <a:ext cx="2592000" cy="21949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ожденным сифилисом, токсоплазмозом, листериозом и другими инфекц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227640" y="2924280"/>
            <a:ext cx="2592000" cy="25606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мональными нарушениями и другими эндогенными и экзогенными токсическими фактор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9"/>
          <p:cNvSpPr/>
          <p:nvPr/>
        </p:nvSpPr>
        <p:spPr>
          <a:xfrm>
            <a:off x="4211640" y="328464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Предмет и задачи олигофренопсихологии</a:t>
            </a:r>
            <a:br>
              <a:rPr sz="4400"/>
            </a:br>
            <a:endParaRPr b="0" lang="ru-RU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Олигофренопсих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трасль специальной психологии, рассмтривающая динамику развития познавательной деятельности и личности умственно отсталых детей дошкольного и школьного возра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лигофрении, обусловленные вредными факторами перинатального периода и первых 3 лет вне утробной жизн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7" name="AutoShape 19"/>
          <p:cNvSpPr/>
          <p:nvPr/>
        </p:nvSpPr>
        <p:spPr>
          <a:xfrm>
            <a:off x="1258920" y="177336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9"/>
          <p:cNvSpPr/>
          <p:nvPr/>
        </p:nvSpPr>
        <p:spPr>
          <a:xfrm>
            <a:off x="3924360" y="162864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9"/>
          <p:cNvSpPr/>
          <p:nvPr/>
        </p:nvSpPr>
        <p:spPr>
          <a:xfrm>
            <a:off x="7164360" y="162864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0" y="2492280"/>
            <a:ext cx="2842920" cy="25606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словленные иммунологической несовместимостью крови матери и плода, например, конфлик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резус-фактор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3059280" y="2349360"/>
            <a:ext cx="2592000" cy="1829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званные асфиксией плода  новорожденн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также родовой травм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5867280" y="2349360"/>
            <a:ext cx="3276360" cy="21949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званные перенесенными в раннем детстве инфекциями и черепно-мозговыми травм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3995640" y="4149720"/>
            <a:ext cx="761760" cy="60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2843280" y="4667400"/>
            <a:ext cx="5832000" cy="21949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ипичные, обусловленные врожденной гидроцефалией или краниостенозом, сочетающиеся с ДЦП, недоразвитием отдельных систем головного мозга, тяжелыми нарушениями сенсорных функ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-531720"/>
            <a:ext cx="8229240" cy="16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ход к исследованию умственной отсталости путем деления ее на два ви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06" name="Group 48"/>
          <p:cNvGraphicFramePr/>
          <p:nvPr/>
        </p:nvGraphicFramePr>
        <p:xfrm>
          <a:off x="611280" y="620640"/>
          <a:ext cx="8229240" cy="5624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ru-RU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ческий ви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но-семейный ви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человека имеются четкие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ческие причины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ственной отстало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человека не имеется очевидных причин отстал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огда умственная отсталость есть и у другого члена семь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ен для людей с    умеренной, тяжелой и глубокой умственной отсталост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речается примерно с одинаковой частотой во всех этнических группах и социально-экономических уровн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ще связан с другими физическими нарушениям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ен для людей с легкой умственной отсталост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ще встречается у людей, принадлежащих к этническим меньшинствам и низкому социально-экономическому уровн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дко связан с физическими нарушения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натальные (генетические  заболевания, нарушения внутриутробного развит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натальные (преждевременные роды, анокс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натальные (черепно-мозговые травмы, менингиты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игенные (например низки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Q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одителе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овая деприв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наруженные органические состоя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иск повторного возникновения умственной отсталости в семь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08" name="Group 32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лены семь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умственной отсталостью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детей, страдающих умственной отсталостью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кто из род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т или сест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из род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а род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240" cy="14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изические нарушения у детей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 умственной отсталостью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310" name="Group 50"/>
          <p:cNvGraphicFramePr/>
          <p:nvPr/>
        </p:nvGraphicFramePr>
        <p:xfrm>
          <a:off x="539640" y="1268280"/>
          <a:ext cx="8229240" cy="5235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ru-RU" sz="2800" spc="-1" strike="noStrike">
                        <a:solidFill>
                          <a:srgbClr val="0066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ственная отсталость                от умеренной             до глубок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Q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lt; 50), %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кая умственная отстал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Q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50-70), 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сорные наруш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пилеп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ребральный парал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 М. С. Певзнер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я из клинико-этиопатогенетических принципов, ею выделено пять основных форм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сложненная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гофрения, осложненная нарушением нейродинамики (возбудимые и тормозные)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гофрения в сочетании с нарушениями различных анализаторов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гофрения с психопатоподобными формами поведения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гофрения с выраженной лобной недостаточностью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осложнённая олигофрения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4320000" cy="4918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5000"/>
          </a:bodyPr>
          <a:p>
            <a:pPr marL="352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линическая картина: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о  поверхностное (не глубокое) диффузное поражение полушарий головного мозга при   сохранности подкорковых образований и отсутствии  нарушений  ликвообращения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данной категории детей нет грубых нарушений органов чувств, двигательной, познавательной и эмоциональной сферы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:\Documents and Settings\admin\Рабочий стол\уо\Изображение 378.jpg"/>
          <p:cNvPicPr/>
          <p:nvPr/>
        </p:nvPicPr>
        <p:blipFill>
          <a:blip r:embed="rId1"/>
          <a:stretch/>
        </p:blipFill>
        <p:spPr>
          <a:xfrm>
            <a:off x="4788000" y="1172880"/>
            <a:ext cx="4161240" cy="55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074800" cy="1110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лигофрения, сопровождающаяся нейродинамическими нарушениями.</a:t>
            </a:r>
            <a:endParaRPr b="0" lang="ru-RU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лигофрении, характеризующейся неустойчивостью эмоционально-волевой сферы по типу возбудимости или заторможенности, присущие ребенку нарушения отчётливо проявляются в изменениях поведения и снижении работоспособности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ллектуальное недоразвитие сочетается с явлениями нарушения процессов активного возбуждения или торможения. Лабильные дети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е периоды жизни или деятельности процессы возбуждения могут преобладать над процессами торможения, и наоборот. Смена процессов происходит через пароксизмальные состояния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ети с преобладанием процессов активного возбуждения. Психическое развитие в целом страдает от двигательной расторможенности, отвлекаемости, повышенной импульсивности, а также аффективной неуравновешенности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Дети с преобладанием процессов торможения вялые, замедленные, инертные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1340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лигофрения с нарушением функций анализаторов</a:t>
            </a:r>
            <a:endParaRPr b="0" lang="ru-RU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889760" cy="49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олигофренов с нарушениями анализаторов диффузное поражение коры сочетается с более глубокими поражениями той или иной мозговой системы. Эти дети дополнительно имеют локальные дефекты речи, слуха, зрения, опорно-двигательного аппарата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этиологическим факторам данного вида олигофрении относят генетические формы, связанные с нарушениями обмена, внутриутробного развития плода, а также асфиксии новорожденных, родовые травмы, ранние постнатальные поражения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C:\Documents and Settings\admin\Рабочий стол\уо\147.jpg"/>
          <p:cNvPicPr/>
          <p:nvPr/>
        </p:nvPicPr>
        <p:blipFill>
          <a:blip r:embed="rId1"/>
          <a:stretch/>
        </p:blipFill>
        <p:spPr>
          <a:xfrm>
            <a:off x="3771000" y="3285000"/>
            <a:ext cx="5372640" cy="357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14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лигофрения с выраженной лобной недостаточностью</a:t>
            </a:r>
            <a:endParaRPr b="0" lang="ru-RU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8465760" cy="49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ается грубое нарушение познавательной деятельности, целенаправленности деятельности. Одни дети вялые, двигательно заторможенные, пассивные. Другие дети расторможенные, импульсивные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C:\Documents and Settings\admin\Рабочий стол\уо\321.jpg"/>
          <p:cNvPicPr/>
          <p:nvPr/>
        </p:nvPicPr>
        <p:blipFill>
          <a:blip r:embed="rId1"/>
          <a:stretch/>
        </p:blipFill>
        <p:spPr>
          <a:xfrm>
            <a:off x="3377160" y="2736360"/>
            <a:ext cx="5766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собенности развития познавательной сферы</a:t>
            </a:r>
            <a:endParaRPr b="0" lang="ru-RU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уктура психики умственно отсталого ребенка чрезвычайно сложна. Первичный дефект приводит к возникновению многих других вторичных и третичных отклонений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́мственная отста́л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 — стойкое недоразвитие уровня психической, в первую очередь интеллектуальной деятельности, связанное с врожденной или приобретенной до трехлетнего возраста органической патологией головного мозга. Наряду с умственной недостаточностью всегда имеет место недоразвитие эмоционально-волевой сферы, речи, моторики и всей личности в целом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ушения познавательной деятельности и личности ребенка с общим психическим недоразвитием отчетливо обнаруживаются в самых различных его проявлениях. Дефекты познания и поведения невольно привлекают к себе внимание окружающих. Однако наряду с недостатками этим детям присуши и некоторые положительные возможности, наличие которых служит опорой, обеспечивающей процесс развития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-олигофрены способны к развитию, которое осуществляется замедленно, атипично, со многими, подчас весьма резкими отклонениями от нормы. Тем не менее оно представляет собой поступательный процесс, вносящий качественные изменения в психическую деятельность детей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умственно отсталого ребенка опреде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м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циальным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ами. К первым из них относятся выраженность дефекта, качественное своеобразие его структуры, время его возникновения. Социальные факторы — это ближайшее окружение ребенка: семья, в которой он живет; взрослые и дети, с которыми он общается и проводит время; школа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579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познавательная активность, слабость ориентировочной деятельности — это симптомы, прямо вытекающие из особенностей протекания нейрофизиологических процессов в коре головного мозга у умственно отсталых детей. Многие ученые, занимавшиеся изучением детей с данной патологией развития, отмечали их сниженный интерес к окружающему миру, вялость и отсутствие инициативы. Умственно отсталые дошкольники характеризуются сниженностью интереса к ближайшему предметному окружению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збудимые дети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будимые дети хватают все, что попадает в поле их зрения, не задумываясь о том, можно ли это делать. Однако ими руководит не интерес, а свойственная им импульсивность. Они тут же бросают взятое, поскольку предмет сам по себе им не нуж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929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Заторможенные дети</a:t>
            </a:r>
            <a:endParaRPr b="0" lang="ru-RU" sz="4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240" cy="392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торможенные олигофрены как бы не замечают того, что вокруг них находится. Ничто не привлекает их внимания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ети с сохранным поведением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 с сохранным поведением ведут себя несколько более адекватно. Они с удовольствием берут в руки ярко окрашенные или новые для них предметы, некоторое время смотрят на них. Однако дети не задают взрослым вопросов, не пытаются об этих предметах узнать что-то новое самостоятельно. Единственное, что , они делают, — пытаются засунуть предмет в рот или стучат им по столу или полу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стереотипные действия не проявление любознательности, а плохая привычка. Нередко дошкольники безжалостно и бездумно ломают новые игрушки, разбивают и уничтожают их. Но такая деятельность не представляет собой попытку практического анализа предмета, осуществление желания выяснить присущие ему качества и свойств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зменения в развитии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2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ственная отсталость не всегда является заболеванием на всю жизнь. Хотя она — относительно стабильное состояние в течение детства и зрелого возраста, показател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любого человека может повышаться или понижаться в зависимости от уровня нарушений и типа отсталости. Дети, страдающие легкой умственной отсталостью могут при надлежащем обучении и возможностях сформировать хорошие адаптивные навыки в других областях, и их уровень нарушений станет недостаточным для диагноза «умственная отсталость»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604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умственной отсталости ребенка, безусловно, влияет на степень, в которой могут меняться ег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адаптивные способности. Дети с синдромом Дауна в целом не являющиеся типичным примером протекания умственной отсталости, могут достичь успехов в среднем школьном возрасте, а затем, со временем, и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ет снижаться. Например, от года до шести лет дети с синдромом Дауна зачастую демонстрируют значительные возрастные успехи в адаптивном функционировании, но по мере взросления их темп развития выравнивается или даже замедляется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mbria"/>
              </a:rPr>
              <a:t>Задачи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своеобразия общих, особых и индивидуальных черт, присущих психике УО детей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характерных для них недостатков и имеющихся положительных возможностей, обусловливающих развитие ребенка и его способность социально адаптироватьс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они становятся старше, в социальном развитии их так же наблюдается замедление темпа. Это наблюдение получило названи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ипотезы замедления и стабиль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торая утверждает, что у детей с синдромом Дауна периоды успехов функционирования могут чередоваться с периодами медленного продвижения, вплоть до нулевого. Хотя такие дети продолжают развивать свой интеллект, в течение детства у них это получается все медленнее и медленне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еренциальная диагностика УО от сходных состояний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вопросов, связанных с коррекционно-развивающим обучением и воспитанием, предусматривающих подготовку УО детей к интеграции в окружающую среду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Эмиль Крепелин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15.02.1856-07.101926 гг.)</a:t>
            </a:r>
            <a:endParaRPr b="0" lang="ru-RU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рмин «олигофрения» был впервые введен в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ке немецким психиатром Эмилем Крепелином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krepelin"/>
          <p:cNvPicPr/>
          <p:nvPr/>
        </p:nvPicPr>
        <p:blipFill>
          <a:blip r:embed="rId1"/>
          <a:stretch/>
        </p:blipFill>
        <p:spPr>
          <a:xfrm>
            <a:off x="5073480" y="1608120"/>
            <a:ext cx="3187440" cy="4508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сторические аспекты</a:t>
            </a:r>
            <a:endParaRPr b="0" lang="ru-RU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240" cy="532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е упоминания о людях с интеллектуальными нарушениями были обнаружены у римлян, которые иногда держали «дураков» для развлечения домовладельцев и их гостей. Эти люди находились на содержании у богатых, и с ними неплохо обращалис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V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Мартин Лютер, немецкий теолог, отец Реформации 1517 года, объяснял, как странная внешность и поведение ребенка (наиболее вероятно, ребенка с умственной отсталостью, но это заболевание еще не было известно в то время) связаны с одержимостью дьяволом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160" cy="5649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Господствующее неправильное понимание и лечение людей с умственной отсталостью начало изменяться к конц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толетия, подпитываемое обнаружением одичавших или «диких» детей, таких как Виктор, «дикий мальчик из Авейрона», и распространением гуманистических усилий помочь другим угнетаемым или игнорируемым группам, таким как рабы, заключенные, душевнобольные и люди с физическими недостатк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середин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ека доктор Самуэль Дж. Хоу открыл первое гуманистическое учреждение в Северной Америке для людей с умственной отсталостью — Массачусетскую Школу для слабоумных детей и детей-идиот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  <Words>2461</Words>
  <Paragraphs>2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5:59:57Z</dcterms:created>
  <dc:creator>TZ</dc:creator>
  <dc:description/>
  <dc:language>en-US</dc:language>
  <cp:lastModifiedBy>aed</cp:lastModifiedBy>
  <dcterms:modified xsi:type="dcterms:W3CDTF">2015-03-26T04:00:55Z</dcterms:modified>
  <cp:revision>22</cp:revision>
  <dc:subject/>
  <dc:title>Умственная отстал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0</vt:r8>
  </property>
</Properties>
</file>