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.gif" ContentType="image/gif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30C-D5E9-4B3F-AE1F-091C6A89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01B-04C1-4619-BE37-91E24FE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9A2-15AC-4A81-B651-E8C40BF3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911-7A1D-453F-A231-D6A29487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F78-CFB7-4907-81A1-CD6E223D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F26-3FE1-4B7A-B99D-C50B5D0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866-D830-466E-B1BD-EB0F802C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1E1-A195-4353-8128-899C4A8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6CC-8407-4738-A026-2097EC9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D71-AC14-479D-BE32-6D9EAFE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136-276B-4EBD-B3C4-7A48F54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0F8-7690-48B0-9739-086058C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AC6-C78B-4311-9402-7031B18E8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11/43911121.101/0_84a74_8464adf3_X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s2.forumimage.ru/uploads/20091204/125995459432887335.gif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lub.itdrom.com/files/blog/humor/5074_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ehowcdn.com/article-page-main/ehow/images/a07/r8/q2/types-fish-penguins-eat-800x800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16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ингвин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сть материалов для работы в объ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артинка 7 из 14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46600"/>
            <a:ext cx="2209680" cy="211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Картинка 2 из 14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5"/>
          <a:stretch/>
        </p:blipFill>
        <p:spPr>
          <a:xfrm>
            <a:off x="2200320" y="4511520"/>
            <a:ext cx="57182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ператорский пингв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5812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— императорский пингвин (массой 35-40 кг) — достигает в длину 117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Emperor penguin.jpg"/>
          <p:cNvPicPr/>
          <p:nvPr/>
        </p:nvPicPr>
        <p:blipFill>
          <a:blip r:embed="rId1"/>
          <a:stretch/>
        </p:blipFill>
        <p:spPr>
          <a:xfrm>
            <a:off x="5029200" y="1371600"/>
            <a:ext cx="3597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ператорские пингвины живут на льдинах вокруг Антаркт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6 из 76"/>
          <p:cNvPicPr/>
          <p:nvPr/>
        </p:nvPicPr>
        <p:blipFill>
          <a:blip r:embed="rId1"/>
          <a:stretch/>
        </p:blipFill>
        <p:spPr>
          <a:xfrm>
            <a:off x="914400" y="1609560"/>
            <a:ext cx="7010280" cy="524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 время снят трёх серийный мультфильм «Приключения пингвинёнка Лоло», фильм про Королевских пингвинов — и мультфильм «Мадагаскар»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708835"/>
          <p:cNvPicPr/>
          <p:nvPr/>
        </p:nvPicPr>
        <p:blipFill>
          <a:blip r:embed="rId1"/>
          <a:stretch/>
        </p:blipFill>
        <p:spPr>
          <a:xfrm>
            <a:off x="155520" y="46080"/>
            <a:ext cx="4286160" cy="331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4 из 754"/>
          <p:cNvPicPr/>
          <p:nvPr/>
        </p:nvPicPr>
        <p:blipFill>
          <a:blip r:embed="rId2"/>
          <a:stretch/>
        </p:blipFill>
        <p:spPr>
          <a:xfrm>
            <a:off x="609480" y="320040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 изображение пингвинов используют в  качестве символики на территории Антаркт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Файл:Escudo COA Tierra del Fuego Province Argentina.svg"/>
          <p:cNvPicPr/>
          <p:nvPr/>
        </p:nvPicPr>
        <p:blipFill>
          <a:blip r:embed="rId1"/>
          <a:stretch/>
        </p:blipFill>
        <p:spPr>
          <a:xfrm>
            <a:off x="533520" y="2666880"/>
            <a:ext cx="391464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Файл:Coat of arms of South Georgia and the South Sandwich Islands.svg"/>
          <p:cNvPicPr/>
          <p:nvPr/>
        </p:nvPicPr>
        <p:blipFill>
          <a:blip r:embed="rId2"/>
          <a:stretch/>
        </p:blipFill>
        <p:spPr>
          <a:xfrm>
            <a:off x="5562720" y="1981080"/>
            <a:ext cx="26575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Лепим пинг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6200" y="22334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6807240" y="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2900520" y="1940040"/>
            <a:ext cx="24382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5"/>
          <a:stretch/>
        </p:blipFill>
        <p:spPr>
          <a:xfrm>
            <a:off x="5626080" y="1925640"/>
            <a:ext cx="2349360" cy="1798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"/>
          <p:cNvPicPr/>
          <p:nvPr/>
        </p:nvPicPr>
        <p:blipFill>
          <a:blip r:embed="rId6"/>
          <a:stretch/>
        </p:blipFill>
        <p:spPr>
          <a:xfrm>
            <a:off x="208080" y="46483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7"/>
          <a:stretch/>
        </p:blipFill>
        <p:spPr>
          <a:xfrm>
            <a:off x="3006720" y="4600440"/>
            <a:ext cx="23320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8"/>
          <a:stretch/>
        </p:blipFill>
        <p:spPr>
          <a:xfrm>
            <a:off x="6019920" y="4062240"/>
            <a:ext cx="248580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843360" cy="4038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507960" y="507960"/>
            <a:ext cx="8128080" cy="584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507960" y="476280"/>
            <a:ext cx="812808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ластили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это пластичный материал, которому можно придать любую форм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Пластилин делают из: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белой глины с добавлением воска, чтобы он затвердел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глицерина –для предания ему пластичности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жировых веществ – для предохранения от высыхания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красителей –чтобы получить различные цвета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07960" y="317520"/>
            <a:ext cx="8128080" cy="622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07960" y="291960"/>
            <a:ext cx="8128080" cy="627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738440" y="146160"/>
            <a:ext cx="6095880" cy="640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оритм самооценк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9520" y="304560"/>
            <a:ext cx="462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ебе нужно был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тебе сделать рабо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правился с работой или есть недоч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выполнил все сам или с чьей-то помощ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ы ты оценил свою рабо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4440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Обобщение 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3880" y="1447920"/>
            <a:ext cx="7886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ожно рассмотреть скульпту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меет скульптура? Из какого материала может быть скульп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 художника, создающего скульпту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риемы работы с пластилином пригодились вам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у вас получилось лучше все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 чем испытали затруд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ение и пласти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419720" y="46483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"/>
              </a:rPr>
              <a:t>Рассмотри различные скульптуры и расскажи из какого материала они сдел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9748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2840040" cy="265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3"/>
          <a:stretch/>
        </p:blipFill>
        <p:spPr>
          <a:xfrm>
            <a:off x="4419720" y="98280"/>
            <a:ext cx="4343400" cy="455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4b50"/>
                </a:solidFill>
                <a:latin typeface="Arial"/>
              </a:rPr>
              <a:t>Художник, создающий объемные произведения, называется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кульптором.</a:t>
            </a:r>
            <a:br>
              <a:rPr sz="2800"/>
            </a:br>
            <a:r>
              <a:rPr b="0" lang="ru-RU" sz="2800" spc="-1" strike="noStrike">
                <a:solidFill>
                  <a:srgbClr val="224b50"/>
                </a:solidFill>
                <a:latin typeface="Arial"/>
              </a:rPr>
              <a:t>-Скульптор работает с пластическими материалами: глиной и пластилином, высекает из камня и мрамора, вырезает из дерева, отливает из гипса, бронзы, чуг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20680" y="3441600"/>
            <a:ext cx="3614760" cy="2343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3908520" y="5029200"/>
            <a:ext cx="2225520" cy="15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4164120" y="2971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4"/>
          <a:stretch/>
        </p:blipFill>
        <p:spPr>
          <a:xfrm>
            <a:off x="6537240" y="2819520"/>
            <a:ext cx="247032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Изображение животных в искусстве – тема самая древня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5091120" y="4114800"/>
            <a:ext cx="399096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380880" y="35622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6248520" y="177336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>
            <a:off x="2971800" y="1523880"/>
            <a:ext cx="314496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нгви́новые или пингви́ны  — семейство нелетающих морских пти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обитают   исключительно в южном  полушарии и составляющие около 2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Картинка 4 из 1656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44006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3809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ща пингвинов состоит из рыб, ракообразных и мягкоте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Картинка 5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31840"/>
            <a:ext cx="33526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krev"/>
          <p:cNvPicPr/>
          <p:nvPr/>
        </p:nvPicPr>
        <p:blipFill>
          <a:blip r:embed="rId3"/>
          <a:stretch/>
        </p:blipFill>
        <p:spPr>
          <a:xfrm>
            <a:off x="5791320" y="3560760"/>
            <a:ext cx="3352680" cy="329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ют и ныряют пингвины превосходно и с  легкостью преодолевают бурные волны открытого оке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8 из 142"/>
          <p:cNvPicPr/>
          <p:nvPr/>
        </p:nvPicPr>
        <p:blipFill>
          <a:blip r:embed="rId1"/>
          <a:stretch/>
        </p:blipFill>
        <p:spPr>
          <a:xfrm>
            <a:off x="1066680" y="189000"/>
            <a:ext cx="6858000" cy="451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здятся и живут — обществами. Кладут по два белых или зеленовато белых яйца, за которыми наблюдают поочередно оба родител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2 из 110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Ильнур</cp:lastModifiedBy>
  <dcterms:modified xsi:type="dcterms:W3CDTF">2023-02-02T15:56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