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8.png" ContentType="image/png"/>
  <Override PartName="/ppt/media/image14.jpeg" ContentType="image/jpeg"/>
  <Override PartName="/ppt/media/image16.jpeg" ContentType="image/jpeg"/>
  <Override PartName="/ppt/media/image1.wmf" ContentType="image/x-wmf"/>
  <Override PartName="/ppt/media/image2.wmf" ContentType="image/x-wmf"/>
  <Override PartName="/ppt/media/image15.jpeg" ContentType="image/jpeg"/>
  <Override PartName="/ppt/media/image3.wmf" ContentType="image/x-wmf"/>
  <Override PartName="/ppt/media/image13.jpeg" ContentType="image/jpeg"/>
  <Override PartName="/ppt/media/image4.wmf" ContentType="image/x-wmf"/>
  <Override PartName="/ppt/media/image10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73020-2CDC-4A0C-996D-142658962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F87DE-9F83-4C29-AF4B-538575903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6B534-B588-4CDE-B23A-575B10B01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38172-B3B7-4D9A-9EF0-B39475377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58144-DDC2-4095-823C-62BB87D28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28AA4-C448-4535-9BCB-46B455251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791DE-47BA-4A82-9161-8B98AB9FF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1EC14-D9F7-4A92-B798-492B57D72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06F88-03C0-48CA-A5CE-1FC896936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8B6B4-26AF-446A-9286-9B1294194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4504F-19A3-4BE2-BBAC-2E71FE0CC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2A1DE-2002-4FCA-9086-EBDE8E52F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daba"/>
            </a:gs>
            <a:gs pos="50000">
              <a:srgbClr val="ffffff"/>
            </a:gs>
            <a:gs pos="100000">
              <a:srgbClr val="f0daba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2" marL="1141560" indent="-22716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4" marL="2055960" indent="-22716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5" marL="2055960" indent="-22716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6" marL="2055960" indent="-22716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B9F9C-88D0-450C-9DC5-D8BCDF1CA018}" type="slidenum">
              <a:rPr b="0" lang="ru-RU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b5542d"/>
                </a:solidFill>
                <a:uFillTx/>
                <a:latin typeface="Arial Black"/>
              </a:rPr>
              <a:t>Программа </a:t>
            </a:r>
            <a:br>
              <a:rPr sz="3600"/>
            </a:br>
            <a:r>
              <a:rPr b="0" lang="ru-RU" sz="3600" spc="-1" strike="noStrike" u="sng">
                <a:solidFill>
                  <a:srgbClr val="b5542d"/>
                </a:solidFill>
                <a:uFillTx/>
                <a:latin typeface="Arial Black"/>
              </a:rPr>
              <a:t>«Разговор о правильном питании»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42" name="Picture 4" descr="Food043"/>
          <p:cNvPicPr/>
          <p:nvPr/>
        </p:nvPicPr>
        <p:blipFill>
          <a:blip r:embed="rId1"/>
          <a:stretch/>
        </p:blipFill>
        <p:spPr>
          <a:xfrm>
            <a:off x="609480" y="5029200"/>
            <a:ext cx="1676520" cy="11145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Food098"/>
          <p:cNvPicPr/>
          <p:nvPr/>
        </p:nvPicPr>
        <p:blipFill>
          <a:blip r:embed="rId2"/>
          <a:stretch/>
        </p:blipFill>
        <p:spPr>
          <a:xfrm>
            <a:off x="914400" y="1600200"/>
            <a:ext cx="1555920" cy="12873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Food050"/>
          <p:cNvPicPr/>
          <p:nvPr/>
        </p:nvPicPr>
        <p:blipFill>
          <a:blip r:embed="rId3"/>
          <a:stretch/>
        </p:blipFill>
        <p:spPr>
          <a:xfrm>
            <a:off x="7620120" y="5029200"/>
            <a:ext cx="1170000" cy="13716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Food089"/>
          <p:cNvPicPr/>
          <p:nvPr/>
        </p:nvPicPr>
        <p:blipFill>
          <a:blip r:embed="rId4"/>
          <a:stretch/>
        </p:blipFill>
        <p:spPr>
          <a:xfrm>
            <a:off x="3505320" y="1371600"/>
            <a:ext cx="2057400" cy="11653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9" descr="Food071"/>
          <p:cNvPicPr/>
          <p:nvPr/>
        </p:nvPicPr>
        <p:blipFill>
          <a:blip r:embed="rId5"/>
          <a:stretch/>
        </p:blipFill>
        <p:spPr>
          <a:xfrm>
            <a:off x="6553080" y="1600200"/>
            <a:ext cx="2133720" cy="12621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0" descr="Food065"/>
          <p:cNvPicPr/>
          <p:nvPr/>
        </p:nvPicPr>
        <p:blipFill>
          <a:blip r:embed="rId6"/>
          <a:stretch/>
        </p:blipFill>
        <p:spPr>
          <a:xfrm>
            <a:off x="3809880" y="5334120"/>
            <a:ext cx="1600200" cy="13777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1" descr="Food099"/>
          <p:cNvPicPr/>
          <p:nvPr/>
        </p:nvPicPr>
        <p:blipFill>
          <a:blip r:embed="rId7"/>
          <a:stretch/>
        </p:blipFill>
        <p:spPr>
          <a:xfrm rot="1434000">
            <a:off x="2109960" y="3908520"/>
            <a:ext cx="1828800" cy="10238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2"/>
          <p:cNvSpPr/>
          <p:nvPr/>
        </p:nvSpPr>
        <p:spPr>
          <a:xfrm>
            <a:off x="4495680" y="380988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b5542d"/>
                </a:solidFill>
                <a:latin typeface="Arial Black"/>
              </a:rPr>
              <a:t>Социальный педагог 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b5542d"/>
                </a:solidFill>
                <a:latin typeface="Arial Black"/>
              </a:rPr>
              <a:t>Титаренко Наталья Николаевна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" name="Rectangle 2"/>
          <p:cNvSpPr/>
          <p:nvPr/>
        </p:nvSpPr>
        <p:spPr>
          <a:xfrm>
            <a:off x="228600" y="0"/>
            <a:ext cx="86868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b5542d"/>
                </a:solidFill>
                <a:latin typeface="Arial Black"/>
              </a:rPr>
              <a:t>Муниципальное бюджетное общеобразовательное учреждение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b5542d"/>
                </a:solidFill>
                <a:latin typeface="Arial Black"/>
              </a:rPr>
              <a:t>средняя общеобразовательная школа №46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b5542d"/>
                </a:solidFill>
                <a:latin typeface="Arial Black"/>
              </a:rPr>
              <a:t>с углублённым изучением отдельных предметов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4"/>
          <p:cNvSpPr/>
          <p:nvPr/>
        </p:nvSpPr>
        <p:spPr>
          <a:xfrm>
            <a:off x="457200" y="152280"/>
            <a:ext cx="82296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 Black"/>
              </a:rPr>
              <a:t>Формы работы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457200" y="2209680"/>
          <a:ext cx="8229600" cy="2490840"/>
        </p:xfrm>
        <a:graphic>
          <a:graphicData uri="http://schemas.openxmlformats.org/drawingml/2006/table">
            <a:tbl>
              <a:tblPr/>
              <a:tblGrid>
                <a:gridCol w="3481560"/>
                <a:gridCol w="4748040"/>
              </a:tblGrid>
              <a:tr h="2491560"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24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Обсуждение проблемных вопросов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еме №1 "Знакомство с героями "Улицы Сезам"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Для чего мы едим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еме №7 "Полдник. Время есть булочки"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чему нужно правильно питаться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4"/>
          <p:cNvSpPr/>
          <p:nvPr/>
        </p:nvSpPr>
        <p:spPr>
          <a:xfrm>
            <a:off x="457200" y="152280"/>
            <a:ext cx="82296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 Black"/>
              </a:rPr>
              <a:t>Формы работы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533520" y="1295280"/>
          <a:ext cx="8229600" cy="4467240"/>
        </p:xfrm>
        <a:graphic>
          <a:graphicData uri="http://schemas.openxmlformats.org/drawingml/2006/table">
            <a:tbl>
              <a:tblPr/>
              <a:tblGrid>
                <a:gridCol w="3352680"/>
                <a:gridCol w="4876920"/>
              </a:tblGrid>
              <a:tr h="4468320"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24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Работа в группа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еме №2 "Самые полезные продукты" составление списка "Любимые продукты 2 А (Б, В, Г) класса" и определение самых полезных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еме №13 "Овощи, ягоды и фрукты -самые витаминные продукты" при проведении конкурса "Споём частушки" в группах нужно познакомиться с частушками, определить их порядок, прорепетировать и группой исполни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4"/>
          <p:cNvSpPr/>
          <p:nvPr/>
        </p:nvSpPr>
        <p:spPr>
          <a:xfrm>
            <a:off x="457200" y="152280"/>
            <a:ext cx="82296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 Black"/>
              </a:rPr>
              <a:t>Формы работы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533520" y="1295280"/>
          <a:ext cx="8229600" cy="3541680"/>
        </p:xfrm>
        <a:graphic>
          <a:graphicData uri="http://schemas.openxmlformats.org/drawingml/2006/table">
            <a:tbl>
              <a:tblPr/>
              <a:tblGrid>
                <a:gridCol w="2895480"/>
                <a:gridCol w="5334120"/>
              </a:tblGrid>
              <a:tr h="3543480"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24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Составление монологических ответов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еме №3 "Как правильно есть" при проверке домашнего задания составляем монологический ответ по фразам-опорам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 положил(а) в корзину полезные продукт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 больше всего из них я люблю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еме №5 "Из чего варят каши и как сделать кашу вкусной" применили фразу-опору: - 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 завтракаю дома в ...ч. Обычно у меня на завтрак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___, 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огда ___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4"/>
          <p:cNvSpPr/>
          <p:nvPr/>
        </p:nvSpPr>
        <p:spPr>
          <a:xfrm>
            <a:off x="457200" y="152280"/>
            <a:ext cx="82296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 Black"/>
              </a:rPr>
              <a:t>Формы работы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533520" y="1295280"/>
          <a:ext cx="8229600" cy="2936880"/>
        </p:xfrm>
        <a:graphic>
          <a:graphicData uri="http://schemas.openxmlformats.org/drawingml/2006/table">
            <a:tbl>
              <a:tblPr/>
              <a:tblGrid>
                <a:gridCol w="2895480"/>
                <a:gridCol w="5334120"/>
              </a:tblGrid>
              <a:tr h="2938680"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24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Работа с пословицам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еме №4 "Удивительные превращения пирожка" использовала игровой момент "Доскажи пословицу": 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то не умерен в еде - (враг себе) Хочешь есть калачи - (не сиди на печи) Когда я ем- (я глух и нем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еме №8 "Пора ужинать" работали с пословицей 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якому нужен и обед, и ужи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4"/>
          <p:cNvSpPr/>
          <p:nvPr/>
        </p:nvSpPr>
        <p:spPr>
          <a:xfrm>
            <a:off x="457200" y="152280"/>
            <a:ext cx="82296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 Black"/>
              </a:rPr>
              <a:t>Формы работы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533520" y="1295280"/>
          <a:ext cx="8229600" cy="3063960"/>
        </p:xfrm>
        <a:graphic>
          <a:graphicData uri="http://schemas.openxmlformats.org/drawingml/2006/table">
            <a:tbl>
              <a:tblPr/>
              <a:tblGrid>
                <a:gridCol w="2895480"/>
                <a:gridCol w="5334120"/>
              </a:tblGrid>
              <a:tr h="3065760"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24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Практические работ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еме №9 "Где найти витамины весной" выращивали дома и в классе зелёный лук из луковицы-репки, обсуждали, где его можно использовать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еме №10 "На вкус и цвет товарищей нет" определяли на вкус лимон, сахар, чеснок, сельдь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4"/>
          <p:cNvSpPr/>
          <p:nvPr/>
        </p:nvSpPr>
        <p:spPr>
          <a:xfrm>
            <a:off x="457200" y="152280"/>
            <a:ext cx="82296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 Black"/>
              </a:rPr>
              <a:t>Формы работы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533520" y="914400"/>
          <a:ext cx="8381880" cy="5364000"/>
        </p:xfrm>
        <a:graphic>
          <a:graphicData uri="http://schemas.openxmlformats.org/drawingml/2006/table">
            <a:tbl>
              <a:tblPr/>
              <a:tblGrid>
                <a:gridCol w="1552320"/>
                <a:gridCol w="6829560"/>
              </a:tblGrid>
              <a:tr h="5364000"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24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Игр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еме №7 "Полдник. Время есть булочки" игра-соревнование "Молочные продукты" заключается в том, что нужно называть молочные продукты, кто назовёт последним, тот выиграл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еме №9 "Где найти витамины весной" игра-викторина "Отгадай и исполни", где по материалам методического пособия (с. 39) дети получают задания: спеть песню про остров, на котором можно каждый день есть кокосы и бананы; спеть песню про мальчишку, который картошку не копал, а на обед прибежал; спеть песню с грустным концом про милое насекомое, которое сравнивают с огурцом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еме №10 "На вкус и цвет товарищей нет игра "Приготовь блюдо", где по карточкам с рисунками продуктов нужно составить русские блюда: щи, уха, окрошка, гречневая каша (эта игра предложена в методическом пособии для учителя, с.5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4"/>
          <p:cNvSpPr/>
          <p:nvPr/>
        </p:nvSpPr>
        <p:spPr>
          <a:xfrm>
            <a:off x="457200" y="152280"/>
            <a:ext cx="82296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 Black"/>
              </a:rPr>
              <a:t>Формы работы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533520" y="1295280"/>
          <a:ext cx="8229600" cy="1886040"/>
        </p:xfrm>
        <a:graphic>
          <a:graphicData uri="http://schemas.openxmlformats.org/drawingml/2006/table">
            <a:tbl>
              <a:tblPr/>
              <a:tblGrid>
                <a:gridCol w="2895480"/>
                <a:gridCol w="5334120"/>
              </a:tblGrid>
              <a:tr h="1886760"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24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Анкетирование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еме №13 "Овощи, ягоды и фрукты - самые витаминные продукты" применила при обобщении изученного материала, на итоговом занятии - для выявления результативности обуч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457200" y="152280"/>
            <a:ext cx="82296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 Black"/>
              </a:rPr>
              <a:t>Формы работы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533520" y="1295280"/>
          <a:ext cx="8229600" cy="2587680"/>
        </p:xfrm>
        <a:graphic>
          <a:graphicData uri="http://schemas.openxmlformats.org/drawingml/2006/table">
            <a:tbl>
              <a:tblPr/>
              <a:tblGrid>
                <a:gridCol w="2895480"/>
                <a:gridCol w="5334120"/>
              </a:tblGrid>
              <a:tr h="2938680"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24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Работа с дополнительной литературо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щиеся брали дополнительный материал из детских энциклопед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книге "Злаки в картинках" (Приложение к пособию Т.А. Шорыгиной) знакомились с растениями, из которых получают хлеб, в теме №6 "Плох обед, если хлеба нет"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4"/>
          <p:cNvSpPr/>
          <p:nvPr/>
        </p:nvSpPr>
        <p:spPr>
          <a:xfrm>
            <a:off x="457200" y="152280"/>
            <a:ext cx="82296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 Black"/>
              </a:rPr>
              <a:t>Формы работы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533520" y="1295280"/>
          <a:ext cx="8229600" cy="1828800"/>
        </p:xfrm>
        <a:graphic>
          <a:graphicData uri="http://schemas.openxmlformats.org/drawingml/2006/table">
            <a:tbl>
              <a:tblPr/>
              <a:tblGrid>
                <a:gridCol w="3429000"/>
                <a:gridCol w="4800600"/>
              </a:tblGrid>
              <a:tr h="1828800"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24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Самостоятельная работа с материалами рабочей тетрад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менялась на многих занятиях для подтверждения полученных сведений и вывод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4"/>
          <p:cNvSpPr/>
          <p:nvPr/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 Black"/>
              </a:rPr>
              <a:t>Как правильно есть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 Black"/>
              </a:rPr>
              <a:t>(гигиена питания)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380880" y="1447920"/>
          <a:ext cx="8534520" cy="1662120"/>
        </p:xfrm>
        <a:graphic>
          <a:graphicData uri="http://schemas.openxmlformats.org/drawingml/2006/table">
            <a:tbl>
              <a:tblPr/>
              <a:tblGrid>
                <a:gridCol w="2845080"/>
                <a:gridCol w="2844720"/>
                <a:gridCol w="2844720"/>
              </a:tblGrid>
              <a:tr h="554040"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24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Соблюде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24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Выполне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24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Количеств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4040"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24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санитарны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24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режим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24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потребляемо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4040"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24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прави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24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пита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24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пищ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88" name="Picture 5" descr="30298"/>
          <p:cNvPicPr/>
          <p:nvPr/>
        </p:nvPicPr>
        <p:blipFill>
          <a:blip r:embed="rId1"/>
          <a:stretch/>
        </p:blipFill>
        <p:spPr>
          <a:xfrm>
            <a:off x="1600200" y="3352680"/>
            <a:ext cx="2295360" cy="31435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89" name="Picture 6" descr="30299"/>
          <p:cNvPicPr/>
          <p:nvPr/>
        </p:nvPicPr>
        <p:blipFill>
          <a:blip r:embed="rId2"/>
          <a:stretch/>
        </p:blipFill>
        <p:spPr>
          <a:xfrm>
            <a:off x="4648320" y="3352680"/>
            <a:ext cx="2438280" cy="3111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4"/>
          <p:cNvSpPr/>
          <p:nvPr/>
        </p:nvSpPr>
        <p:spPr>
          <a:xfrm>
            <a:off x="457200" y="152280"/>
            <a:ext cx="82296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e0000"/>
                </a:solidFill>
                <a:latin typeface="Arial Black"/>
              </a:rPr>
              <a:t>Актуальность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2" name="Содержимое 11" descr=""/>
          <p:cNvPicPr/>
          <p:nvPr/>
        </p:nvPicPr>
        <p:blipFill>
          <a:blip r:embed="rId1"/>
          <a:stretch/>
        </p:blipFill>
        <p:spPr>
          <a:xfrm>
            <a:off x="406440" y="863640"/>
            <a:ext cx="4140000" cy="5587920"/>
          </a:xfrm>
          <a:prstGeom prst="rect">
            <a:avLst/>
          </a:prstGeom>
          <a:ln w="0">
            <a:noFill/>
          </a:ln>
        </p:spPr>
      </p:pic>
      <p:pic>
        <p:nvPicPr>
          <p:cNvPr id="53" name="Object 4" descr=""/>
          <p:cNvPicPr/>
          <p:nvPr/>
        </p:nvPicPr>
        <p:blipFill>
          <a:blip r:embed="rId2"/>
          <a:stretch/>
        </p:blipFill>
        <p:spPr>
          <a:xfrm>
            <a:off x="4673520" y="863640"/>
            <a:ext cx="4140360" cy="558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0" name=""/>
          <p:cNvGraphicFramePr/>
          <p:nvPr/>
        </p:nvGraphicFramePr>
        <p:xfrm>
          <a:off x="685800" y="304920"/>
          <a:ext cx="8077320" cy="3324240"/>
        </p:xfrm>
        <a:graphic>
          <a:graphicData uri="http://schemas.openxmlformats.org/drawingml/2006/table">
            <a:tbl>
              <a:tblPr/>
              <a:tblGrid>
                <a:gridCol w="4038480"/>
                <a:gridCol w="4038840"/>
              </a:tblGrid>
              <a:tr h="554040"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Самые полезные продукт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Самые вредные продукт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4040"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24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1. Яблок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24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1. Кока-кол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4040"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24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2. Морковь и броккол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24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2. Сладкие газировк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4040"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24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3. Лук и чесно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24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3. Картофельные чипс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4040"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24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4. Каш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24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4. Сосиски и колбас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4040"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24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5. Молочные продукт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24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5. Маргари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1" name="Рисунок 10" descr="1209117894_veg_1demo.jpg"/>
          <p:cNvPicPr/>
          <p:nvPr/>
        </p:nvPicPr>
        <p:blipFill>
          <a:blip r:embed="rId1"/>
          <a:stretch/>
        </p:blipFill>
        <p:spPr>
          <a:xfrm>
            <a:off x="2666880" y="3429000"/>
            <a:ext cx="3276720" cy="323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"/>
          <p:cNvGraphicFramePr/>
          <p:nvPr/>
        </p:nvGraphicFramePr>
        <p:xfrm>
          <a:off x="609480" y="914400"/>
          <a:ext cx="8077320" cy="4578480"/>
        </p:xfrm>
        <a:graphic>
          <a:graphicData uri="http://schemas.openxmlformats.org/drawingml/2006/table">
            <a:tbl>
              <a:tblPr/>
              <a:tblGrid>
                <a:gridCol w="8077320"/>
              </a:tblGrid>
              <a:tr h="533520"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70c0"/>
                          </a:solidFill>
                          <a:latin typeface="Arial Black"/>
                        </a:rPr>
                        <a:t>Человеку нужно есть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14160"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70c0"/>
                          </a:solidFill>
                          <a:latin typeface="Arial Black"/>
                        </a:rPr>
                        <a:t>Чтобы встать и чтобы сесть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09840"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70c0"/>
                          </a:solidFill>
                          <a:latin typeface="Arial Black"/>
                        </a:rPr>
                        <a:t>Чтобы прыгать, кувыркаться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04800"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70c0"/>
                          </a:solidFill>
                          <a:latin typeface="Arial Black"/>
                        </a:rPr>
                        <a:t>Песни петь, дружить, смеяться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09480"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70c0"/>
                          </a:solidFill>
                          <a:latin typeface="Arial Black"/>
                        </a:rPr>
                        <a:t>Чтоб расти и развиватьс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09480"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70c0"/>
                          </a:solidFill>
                          <a:latin typeface="Arial Black"/>
                        </a:rPr>
                        <a:t>И при этом не болеть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9080"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70c0"/>
                          </a:solidFill>
                          <a:latin typeface="Arial Black"/>
                        </a:rPr>
                        <a:t>Нужно правильно питатьс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8120"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70c0"/>
                          </a:solidFill>
                          <a:latin typeface="Arial Black"/>
                        </a:rPr>
                        <a:t>С самых юных лет уметь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3" name="Рисунок 3" descr="000(1).jpg"/>
          <p:cNvPicPr/>
          <p:nvPr/>
        </p:nvPicPr>
        <p:blipFill>
          <a:blip r:embed="rId1"/>
          <a:stretch/>
        </p:blipFill>
        <p:spPr>
          <a:xfrm>
            <a:off x="5562720" y="2438280"/>
            <a:ext cx="3419280" cy="299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4"/>
          <p:cNvSpPr/>
          <p:nvPr/>
        </p:nvSpPr>
        <p:spPr>
          <a:xfrm>
            <a:off x="457200" y="304920"/>
            <a:ext cx="82296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 Black"/>
              </a:rPr>
              <a:t>Опрос родителей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457200" y="1386720"/>
            <a:ext cx="79246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Times New Roma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ривычка ребёнка есть всухомятку - </a:t>
            </a: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2 детей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Times New Roma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Нежелание есть супы - </a:t>
            </a: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4 детей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Times New Roma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Нежелание завтракать перед школой - </a:t>
            </a: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8 детей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Times New Roma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Нежелание кушать в школьной столовой - </a:t>
            </a: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5 детей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Times New Roma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Не любят молочные каши -</a:t>
            </a: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2 детей 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Times New Roma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Трудности в организации питания в связи с заболеваниями - </a:t>
            </a: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 детей 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4"/>
          <p:cNvSpPr/>
          <p:nvPr/>
        </p:nvSpPr>
        <p:spPr>
          <a:xfrm>
            <a:off x="457200" y="0"/>
            <a:ext cx="82296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 Black"/>
              </a:rPr>
              <a:t>Результаты анкетирования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457200" y="685800"/>
          <a:ext cx="8229600" cy="5357880"/>
        </p:xfrm>
        <a:graphic>
          <a:graphicData uri="http://schemas.openxmlformats.org/drawingml/2006/table">
            <a:tbl>
              <a:tblPr/>
              <a:tblGrid>
                <a:gridCol w="3505320"/>
                <a:gridCol w="1600200"/>
                <a:gridCol w="1600200"/>
                <a:gridCol w="1523880"/>
              </a:tblGrid>
              <a:tr h="1219320">
                <a:tc>
                  <a:txBody>
                    <a:bodyPr lIns="48960" rIns="48960" tIns="48960" bIns="489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Вопросы анке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8960" rIns="48960" tIns="48960" bIns="489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Количество правильных ответ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8960" rIns="48960" tIns="48960" bIns="489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Количество частично правильных ответ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8960" rIns="48960" tIns="48960" bIns="489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Количество неправильных ответ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9440">
                <a:tc>
                  <a:txBody>
                    <a:bodyPr lIns="48960" rIns="48960" tIns="48960" bIns="4896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6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1. Что полезно есть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8960" rIns="48960" tIns="48960" bIns="489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8960" rIns="48960" tIns="48960" bIns="489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8960" rIns="48960" tIns="48960" bIns="489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58800">
                <a:tc>
                  <a:txBody>
                    <a:bodyPr lIns="48960" rIns="48960" tIns="48960" bIns="4896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6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2. Какие продукты можно есть редко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8960" rIns="48960" tIns="48960" bIns="489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8960" rIns="48960" tIns="48960" bIns="489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8960" rIns="48960" tIns="48960" bIns="489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22160">
                <a:tc>
                  <a:txBody>
                    <a:bodyPr lIns="48960" rIns="48960" tIns="48960" bIns="4896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6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3. В каком продукте больше всего витаминов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8960" rIns="48960" tIns="48960" bIns="489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8960" rIns="48960" tIns="48960" bIns="489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3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8960" rIns="48960" tIns="48960" bIns="489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06400">
                <a:tc>
                  <a:txBody>
                    <a:bodyPr lIns="48960" rIns="48960" tIns="48960" bIns="4896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6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4. Что полезно есть на завтрак на обед на полдник на ужи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8960" rIns="48960" tIns="48960" bIns="489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8960" rIns="48960" tIns="48960" bIns="489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8960" rIns="48960" tIns="48960" bIns="489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3800">
                <a:tc>
                  <a:txBody>
                    <a:bodyPr lIns="48960" rIns="48960" tIns="48960" bIns="4896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6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5. Что знаете о хлебе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8960" rIns="48960" tIns="48960" bIns="489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8960" rIns="48960" tIns="48960" bIns="489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8960" rIns="48960" tIns="48960" bIns="489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4160">
                <a:tc>
                  <a:txBody>
                    <a:bodyPr lIns="48960" rIns="48960" tIns="48960" bIns="4896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6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6. Как правильно есть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8960" rIns="48960" tIns="48960" bIns="489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8960" rIns="48960" tIns="48960" bIns="489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8960" rIns="48960" tIns="48960" bIns="489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3800">
                <a:tc>
                  <a:txBody>
                    <a:bodyPr lIns="48960" rIns="48960" tIns="48960" bIns="4896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6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7. Что на уроке было интересно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8960" rIns="48960" tIns="48960" bIns="489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8960" rIns="48960" tIns="48960" bIns="489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8960" rIns="48960" tIns="48960" bIns="489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4"/>
          <p:cNvSpPr/>
          <p:nvPr/>
        </p:nvSpPr>
        <p:spPr>
          <a:xfrm>
            <a:off x="457200" y="0"/>
            <a:ext cx="82296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 Black"/>
              </a:rPr>
              <a:t>Литература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457200" y="1143000"/>
          <a:ext cx="8229600" cy="751212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378000">
                <a:tc>
                  <a:txBody>
                    <a:bodyPr lIns="48960" rIns="48960" tIns="48960" bIns="489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08200">
                <a:tc>
                  <a:txBody>
                    <a:bodyPr lIns="48960" rIns="48960" tIns="48960" bIns="48960" anchor="t">
                      <a:noAutofit/>
                    </a:bodyPr>
                    <a:p>
                      <a:pPr marL="341280" indent="-341280">
                        <a:lnSpc>
                          <a:spcPct val="115000"/>
                        </a:lnSpc>
                        <a:spcAft>
                          <a:spcPts val="1001"/>
                        </a:spcAft>
                        <a:buClr>
                          <a:srgbClr val="0070c0"/>
                        </a:buClr>
                        <a:buFont typeface="Times New Roman"/>
                        <a:buAutoNum type="arabicPeriod"/>
                        <a:tabLst>
                          <a:tab algn="l" pos="45576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20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Безруких М.М., Филиппова Т.А., Макеева А.Г. Разговор о правильном питании. Методическое пособие. М. ОЛМА Медиа Групп, 2007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  <a:p>
                      <a:pPr marL="341280" indent="-341280">
                        <a:lnSpc>
                          <a:spcPct val="115000"/>
                        </a:lnSpc>
                        <a:spcAft>
                          <a:spcPts val="1001"/>
                        </a:spcAft>
                        <a:buClr>
                          <a:srgbClr val="0070c0"/>
                        </a:buClr>
                        <a:buFont typeface="Times New Roman"/>
                        <a:buAutoNum type="arabicPeriod"/>
                        <a:tabLst>
                          <a:tab algn="l" pos="45576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20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Сборник Фестиваль педагогических идей "Открытый урок" ИД "Первое сентября", 2009 год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  <a:p>
                      <a:pPr marL="341280" indent="-341280">
                        <a:lnSpc>
                          <a:spcPct val="115000"/>
                        </a:lnSpc>
                        <a:spcAft>
                          <a:spcPts val="1001"/>
                        </a:spcAft>
                        <a:buClr>
                          <a:srgbClr val="0070c0"/>
                        </a:buClr>
                        <a:buFont typeface="Times New Roman"/>
                        <a:buAutoNum type="arabicPeriod"/>
                        <a:tabLst>
                          <a:tab algn="l" pos="45576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20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Интернет: издательство "Фарос Плюс", статьи о правильном питании дете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  <a:p>
                      <a:pPr marL="341280" indent="-341280">
                        <a:lnSpc>
                          <a:spcPct val="115000"/>
                        </a:lnSpc>
                        <a:spcAft>
                          <a:spcPts val="1001"/>
                        </a:spcAft>
                        <a:buClr>
                          <a:srgbClr val="0070c0"/>
                        </a:buClr>
                        <a:buFont typeface="Times New Roman"/>
                        <a:buAutoNum type="arabicPeriod"/>
                        <a:tabLst>
                          <a:tab algn="l" pos="45576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20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Коростелёв Н.В. От А до Я детям о здоровье. М. Медицина , 1987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25920">
                <a:tc>
                  <a:txBody>
                    <a:bodyPr lIns="48960" rIns="48960" tIns="48960" bIns="48960" anchor="t">
                      <a:noAutofit/>
                    </a:bodyPr>
                    <a:p>
                      <a:pPr marL="341280" indent="-341280">
                        <a:lnSpc>
                          <a:spcPct val="115000"/>
                        </a:lnSpc>
                        <a:spcAft>
                          <a:spcPts val="1001"/>
                        </a:spcAft>
                        <a:buClr>
                          <a:srgbClr val="0070c0"/>
                        </a:buClr>
                        <a:buFont typeface="Arial Black"/>
                        <a:buChar char="•"/>
                        <a:tabLst>
                          <a:tab algn="l" pos="45576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4"/>
          <p:cNvSpPr/>
          <p:nvPr/>
        </p:nvSpPr>
        <p:spPr>
          <a:xfrm>
            <a:off x="457200" y="152280"/>
            <a:ext cx="82296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 Black"/>
              </a:rPr>
              <a:t>Причины неправильного питания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5" name="Содержимое 8" descr=""/>
          <p:cNvPicPr/>
          <p:nvPr/>
        </p:nvPicPr>
        <p:blipFill>
          <a:blip r:embed="rId1"/>
          <a:stretch/>
        </p:blipFill>
        <p:spPr>
          <a:xfrm>
            <a:off x="444600" y="1573200"/>
            <a:ext cx="830268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4"/>
          <p:cNvSpPr/>
          <p:nvPr/>
        </p:nvSpPr>
        <p:spPr>
          <a:xfrm>
            <a:off x="457200" y="152280"/>
            <a:ext cx="82296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 Black"/>
              </a:rPr>
              <a:t>Результат неправильного питания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7" name="Содержимое 8" descr=""/>
          <p:cNvPicPr/>
          <p:nvPr/>
        </p:nvPicPr>
        <p:blipFill>
          <a:blip r:embed="rId1"/>
          <a:stretch/>
        </p:blipFill>
        <p:spPr>
          <a:xfrm>
            <a:off x="444600" y="1504800"/>
            <a:ext cx="8261280" cy="464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4"/>
          <p:cNvSpPr/>
          <p:nvPr/>
        </p:nvSpPr>
        <p:spPr>
          <a:xfrm>
            <a:off x="457200" y="152280"/>
            <a:ext cx="82296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 Black"/>
              </a:rPr>
              <a:t>Программа способствует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9" name="Содержимое 8" descr=""/>
          <p:cNvPicPr/>
          <p:nvPr/>
        </p:nvPicPr>
        <p:blipFill>
          <a:blip r:embed="rId1"/>
          <a:stretch/>
        </p:blipFill>
        <p:spPr>
          <a:xfrm>
            <a:off x="438120" y="895320"/>
            <a:ext cx="8267760" cy="559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4"/>
          <p:cNvSpPr/>
          <p:nvPr/>
        </p:nvSpPr>
        <p:spPr>
          <a:xfrm>
            <a:off x="457200" y="152280"/>
            <a:ext cx="82296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 Black"/>
              </a:rPr>
              <a:t>Учебно-методический комплект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Rectangle 1"/>
          <p:cNvSpPr/>
          <p:nvPr/>
        </p:nvSpPr>
        <p:spPr>
          <a:xfrm>
            <a:off x="380880" y="1166760"/>
            <a:ext cx="86029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alibri"/>
                <a:ea typeface="Times New Roman"/>
              </a:rPr>
              <a:t>1. Программа "Разговор о правильном питании", разработанная специалистами Института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alibri"/>
                <a:ea typeface="Times New Roman"/>
              </a:rPr>
              <a:t>возрастной физиологии Российской Академии Образования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alibri"/>
                <a:ea typeface="Times New Roman"/>
              </a:rPr>
              <a:t>2. Методическое пособие "Разговор о правильном питании" авторов М.М. Безруких, Т.А. Филипповой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alibri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alibri"/>
                <a:ea typeface="Times New Roman"/>
              </a:rPr>
              <a:t>3. Методическое пособие для учителя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alibri"/>
                <a:ea typeface="Times New Roman"/>
              </a:rPr>
              <a:t>4. Рабочая тетрадь для школьников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alibri"/>
                <a:ea typeface="Times New Roman"/>
              </a:rPr>
              <a:t>5. Плакаты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alibri"/>
                <a:ea typeface="Times New Roman"/>
              </a:rPr>
              <a:t>6. Информационный материал для родителей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4"/>
          <p:cNvSpPr/>
          <p:nvPr/>
        </p:nvSpPr>
        <p:spPr>
          <a:xfrm>
            <a:off x="457200" y="152280"/>
            <a:ext cx="82296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 Black"/>
              </a:rPr>
              <a:t>Тематическое планирование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533520" y="1143000"/>
          <a:ext cx="8153280" cy="4987800"/>
        </p:xfrm>
        <a:graphic>
          <a:graphicData uri="http://schemas.openxmlformats.org/drawingml/2006/table">
            <a:tbl>
              <a:tblPr/>
              <a:tblGrid>
                <a:gridCol w="871560"/>
                <a:gridCol w="2388960"/>
                <a:gridCol w="855720"/>
                <a:gridCol w="1266840"/>
                <a:gridCol w="2770200"/>
              </a:tblGrid>
              <a:tr h="665280">
                <a:tc>
                  <a:txBody>
                    <a:bodyPr lIns="51840" rIns="51840" tIns="51840" bIns="5184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6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№  </a:t>
                      </a:r>
                      <a:r>
                        <a:rPr b="1" lang="ru-RU" sz="16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51840" marR="51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1840" rIns="51840" tIns="51840" bIns="5184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6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Тема уро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51840" marR="51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1840" rIns="51840" tIns="51840" bIns="5184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6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Колич. час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51840" marR="51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1840" rIns="51840" tIns="51840" bIns="5184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6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Да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51840" marR="51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1840" rIns="51840" tIns="51840" bIns="5184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6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Виды деятельнос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51840" marR="51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99840">
                <a:tc>
                  <a:txBody>
                    <a:bodyPr lIns="51840" rIns="51840" tIns="51840" bIns="5184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51840" marR="51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1840" rIns="51840" tIns="51840" bIns="5184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накомство с героями "Улицы Сезам"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51840" marR="51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1840" rIns="51840" tIns="51840" bIns="5184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51840" marR="51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1840" rIns="51840" tIns="51840" bIns="5184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51840" marR="51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1840" rIns="51840" tIns="51840" bIns="5184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суждение проблемного вопрос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51840" marR="51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0200">
                <a:tc>
                  <a:txBody>
                    <a:bodyPr lIns="51840" rIns="51840" tIns="51840" bIns="5184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51840" marR="51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1840" rIns="51840" tIns="51840" bIns="5184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мые полезные продук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51840" marR="51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1840" rIns="51840" tIns="51840" bIns="5184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51840" marR="51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1840" rIns="51840" tIns="51840" bIns="5184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.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51840" marR="51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1840" rIns="51840" tIns="51840" bIns="5184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бота в группа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51840" marR="51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78000">
                <a:tc>
                  <a:txBody>
                    <a:bodyPr lIns="51840" rIns="51840" tIns="51840" bIns="5184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51840" marR="51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1840" rIns="51840" tIns="51840" bIns="5184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к правильно е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51840" marR="51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1840" rIns="51840" tIns="51840" bIns="5184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51840" marR="51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1840" rIns="51840" tIns="51840" bIns="5184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.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51840" marR="51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1840" rIns="51840" tIns="51840" bIns="5184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ставление монологических ответов по опорам. Составление схем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51840" marR="51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0200">
                <a:tc>
                  <a:txBody>
                    <a:bodyPr lIns="51840" rIns="51840" tIns="51840" bIns="5184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51840" marR="51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1840" rIns="51840" tIns="51840" bIns="5184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дивительные превращения пирож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51840" marR="51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1840" rIns="51840" tIns="51840" bIns="5184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51840" marR="51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1840" rIns="51840" tIns="51840" bIns="5184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.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51840" marR="51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1840" rIns="51840" tIns="51840" bIns="5184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бота с пословицам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51840" marR="51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44280">
                <a:tc>
                  <a:txBody>
                    <a:bodyPr lIns="51840" rIns="51840" tIns="51840" bIns="5184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51840" marR="51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1840" rIns="51840" tIns="51840" bIns="5184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чего варят каши и как сделать кашу вкусно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51840" marR="51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1840" rIns="51840" tIns="51840" bIns="5184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51840" marR="51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1840" rIns="51840" tIns="51840" bIns="5184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8.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51840" marR="51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1840" rIns="51840" tIns="51840" bIns="5184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ставление монологических ответов по опора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51840" marR="51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4"/>
          <p:cNvSpPr/>
          <p:nvPr/>
        </p:nvSpPr>
        <p:spPr>
          <a:xfrm>
            <a:off x="457200" y="152280"/>
            <a:ext cx="82296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 Black"/>
              </a:rPr>
              <a:t>Тематическое планирование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533520" y="1143000"/>
          <a:ext cx="8153280" cy="5210280"/>
        </p:xfrm>
        <a:graphic>
          <a:graphicData uri="http://schemas.openxmlformats.org/drawingml/2006/table">
            <a:tbl>
              <a:tblPr/>
              <a:tblGrid>
                <a:gridCol w="871560"/>
                <a:gridCol w="2388960"/>
                <a:gridCol w="855720"/>
                <a:gridCol w="1266840"/>
                <a:gridCol w="2770200"/>
              </a:tblGrid>
              <a:tr h="665280">
                <a:tc>
                  <a:txBody>
                    <a:bodyPr lIns="51840" rIns="51840" tIns="51840" bIns="5184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6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№  </a:t>
                      </a:r>
                      <a:r>
                        <a:rPr b="1" lang="ru-RU" sz="16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51840" marR="51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1840" rIns="51840" tIns="51840" bIns="5184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6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Тема уро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51840" marR="51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1840" rIns="51840" tIns="51840" bIns="5184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6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Колич. час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51840" marR="51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1840" rIns="51840" tIns="51840" bIns="5184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6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Да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51840" marR="51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1840" rIns="51840" tIns="51840" bIns="5184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6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Виды деятельнос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51840" marR="51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99840"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ох обед, если хлеба н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.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бота с пословицами. Игра "Попробуй, угадай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74880"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дник. Время есть булоч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.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суждение проблемного вопроса. Игра "Молочные продукты"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78000"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ра ужина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.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бота с пословицам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99840"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вкус и цвет товарищей н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актическая  работа. Игра "Приготовь блюдо"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92440"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сли хочешь пи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.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полнительные сведения о напитка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4"/>
          <p:cNvSpPr/>
          <p:nvPr/>
        </p:nvSpPr>
        <p:spPr>
          <a:xfrm>
            <a:off x="457200" y="152280"/>
            <a:ext cx="82296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 Black"/>
              </a:rPr>
              <a:t>Тематическое планирование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533520" y="1143000"/>
          <a:ext cx="8153280" cy="5018040"/>
        </p:xfrm>
        <a:graphic>
          <a:graphicData uri="http://schemas.openxmlformats.org/drawingml/2006/table">
            <a:tbl>
              <a:tblPr/>
              <a:tblGrid>
                <a:gridCol w="871560"/>
                <a:gridCol w="2388960"/>
                <a:gridCol w="855720"/>
                <a:gridCol w="1266840"/>
                <a:gridCol w="2770200"/>
              </a:tblGrid>
              <a:tr h="665280">
                <a:tc>
                  <a:txBody>
                    <a:bodyPr lIns="51840" rIns="51840" tIns="51840" bIns="5184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6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№  </a:t>
                      </a:r>
                      <a:r>
                        <a:rPr b="1" lang="ru-RU" sz="16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51840" marR="51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1840" rIns="51840" tIns="51840" bIns="5184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6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Тема уро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51840" marR="51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1840" rIns="51840" tIns="51840" bIns="5184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6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Колич. час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51840" marR="51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1840" rIns="51840" tIns="51840" bIns="5184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6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Да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51840" marR="51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1840" rIns="51840" tIns="51840" bIns="5184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6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Виды деятельнос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51840" marR="51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99840"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то надо есть, если хочешь стать сильне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.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гра "Меню спортсмена"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0200"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де найти витамины весно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3.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актическая работ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78000"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вощи, ягоды и фрукты -самые витаминные продук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бота в группах. Анкетирова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0200"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ждому овощу своё врем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.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бота с пословицами и загадкам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74520"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ключительное занятие "День рождения Зелибобы"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.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кетирова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On</cp:lastModifiedBy>
  <dcterms:modified xsi:type="dcterms:W3CDTF">2017-02-18T06:12:13Z</dcterms:modified>
  <cp:revision>3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