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6AB-5B27-4DC0-91BE-FE79FC3A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98E-12B6-4906-A958-90B5BAB3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CC4-5BE6-4075-B550-0C86E340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2BF-1D19-4B75-971D-EC4E8BB1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60ED-EBE5-408A-BF8D-C19EDF33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C053-46B6-4266-82C3-CF3C39FE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919B-5BC8-4A59-B36D-71100F40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E68C-BF45-4344-A989-456796F2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D9A6-06D8-4731-9489-A914FE49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3ECE-D0FD-4897-978E-B412CF5E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C09B-D2F3-4005-B248-051E653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860-9B53-436F-A033-33031E52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66DE-85EA-4E1A-80C6-AF9E6302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6FED-E350-4EB4-AF64-A910DDE4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FAA5-647D-410C-B728-05E03E0D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B28C-E920-4D1D-BA9D-CB82B4E5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917C-463C-4ED0-90FE-AC5D5651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A8F8-1B43-4E84-A234-A8DD8E08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282B-7F61-4A23-93B2-C5099C10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4B00-8E6B-4A0A-9AA0-34A51AF8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A754-1835-4ECD-8D5E-3CCAEC13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76B6-D84B-4E2F-839E-3258D43F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C96-C68E-4EBB-A0F1-76AB8DFD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EA814-8FF9-4180-9DB4-53230FC4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8B82F-A5AE-4E8A-A66A-362ACA4E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78660-5420-4E53-82E5-D82EB5D0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6B89-D505-4133-932E-3684942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297D-1B49-4AB3-B280-FE8A4E09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1443C-1071-4753-8E5D-008D9152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2F260-5CFA-4C5A-A285-F77DBBB1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D2557-37DC-45B8-A866-4B5406DC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85370-C7E3-4AB1-8919-F842A296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59AC4-E3FE-4545-81C1-74E1DD6C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C92-442C-41FE-A293-A7491069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01E95-91DB-4378-A258-6E1B77BC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8C794-DB30-45B3-BC7F-75250DD0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8C148-5F2B-47A6-BDBF-07E592C8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CDEB5-4182-4F60-B541-A44FD519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DCFC1-10EE-4EE7-B260-9B1A2C09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D788-944F-40EB-AD4E-69A0E4AB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36797-168A-450E-887D-4766A5BB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3E94D-8343-4941-8E1C-9C1FED0B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EA7AD-F45D-4B80-8700-93F59875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5A87A-2AED-4D1E-8D22-61AFCF62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824-BD5E-4324-94FB-439E0535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A81D4-6C2E-4D36-AF30-D7A5D070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718C0-9C08-4570-B54D-7AB6216E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07C42-AF5C-46E1-B0D3-123F3CB0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6EC77-D782-4459-9AB9-ECF7FE61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045E-4B26-40A7-B78A-DDB379F4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80D44-5F98-474C-BA7A-799D51B4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9FCAE-6F63-42E8-B2E8-8B6FA1E8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3996-4317-4BA1-AF40-CB6622BC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A38A6-B68C-4E11-8F2C-9B1BD3FE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E835E-8682-4F48-A92E-8AC9726E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022-D646-4D61-8DF5-A2B673E8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5AADB-AA1F-4721-B228-2E0FCD37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38FCE-708F-44E4-99F8-9E081A9C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C4CCE-20F3-46B7-814A-7F0F9F19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5B12E-C772-435D-AD2D-481925A2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388C3-E15B-4DD1-9873-9BE966DF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FB401-D4DD-4629-800F-71FEE682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484B4-6FF5-4EB2-8729-E729F18B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8B424-E879-4530-B827-B208EC4D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0A451-19B9-4C0D-BB66-D6A2AA83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78E85-4492-4282-B317-796082A0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C68-8656-419D-8627-35DF5AA7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9CB07-3A7D-4F5E-A03A-36BC68B5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275F7-AFA6-4432-B3EE-A0A84861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03FFE-532C-4589-8413-0F73B1BA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58A66-EBE2-40F4-A702-C2C413C1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31CF1-CFF2-442D-96B2-6AE67686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32FFC-1072-4CE9-A604-140DFA8F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DD5C0-2952-4C92-A531-9B68057B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EF817-2A3B-4F4F-929B-FF2C6B5D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5F671-F640-4444-8B49-D717C8EE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27CDE-25FA-4C35-BB6F-FF9EDD93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472-76BF-45BA-AAC3-DA986F88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92E7F-30D7-4E0A-95C0-BC2B5541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F0FB7-00F6-4182-9A41-2B66E757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9AA7C-69E0-401F-834E-91F78D1F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37924-A3F4-48B3-B5A5-966BCCDB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9ECC1-C6DE-41E2-803D-522511FD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A7D-76CC-4EE9-849B-C20E6D5D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7FF6-A543-4AB6-AFBB-1DC68010B19D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2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F5DF-BFE3-437E-8903-8ABD358BA589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3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3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8338-F0B9-45D4-A815-A30DEB1BC956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71A0-17C6-40B7-947A-48F7F2CACF3A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E32F-CC93-453B-AA7A-08FE1DDFB486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F83F-F19A-4382-9329-DCD877F5AB66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2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3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7368-98AE-4B43-8B0E-91F9AEF416A0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ayfun.ru/archives/3738" TargetMode="External"/><Relationship Id="rId2" Type="http://schemas.openxmlformats.org/officeDocument/2006/relationships/hyperlink" Target="http://dayfun.ru/archives/4702" TargetMode="External"/><Relationship Id="rId3" Type="http://schemas.openxmlformats.org/officeDocument/2006/relationships/hyperlink" Target="http://dayfun.ru/archives/3998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dayfun.ru/archives/3738" TargetMode="External"/><Relationship Id="rId3" Type="http://schemas.openxmlformats.org/officeDocument/2006/relationships/hyperlink" Target="http://dayfun.ru/archives/4227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500040"/>
            <a:ext cx="7407360" cy="689040"/>
          </a:xfrm>
          <a:prstGeom prst="rect">
            <a:avLst/>
          </a:prstGeom>
          <a:noFill/>
          <a:ln w="38160">
            <a:solidFill>
              <a:srgbClr val="ceb5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45e70"/>
                </a:solidFill>
                <a:latin typeface="Corbel"/>
              </a:rPr>
              <a:t>«Я и мои бабушка и дедушка»</a:t>
            </a: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571560" y="1643040"/>
            <a:ext cx="2808360" cy="441360"/>
          </a:xfrm>
          <a:prstGeom prst="rect">
            <a:avLst/>
          </a:prstGeom>
          <a:noFill/>
          <a:ln w="38160">
            <a:solidFill>
              <a:srgbClr val="ceb500"/>
            </a:solidFill>
            <a:miter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3340"/>
                </a:solidFill>
                <a:latin typeface="Corbel"/>
              </a:rPr>
              <a:t>для дошкольни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D:\Работы на заказ\Ярославль ООО\Урок ИЗО 23.01.16\7.jpg"/>
          <p:cNvPicPr/>
          <p:nvPr/>
        </p:nvPicPr>
        <p:blipFill>
          <a:blip r:embed="rId1"/>
          <a:stretch/>
        </p:blipFill>
        <p:spPr>
          <a:xfrm>
            <a:off x="2000160" y="2643120"/>
            <a:ext cx="2495520" cy="2444760"/>
          </a:xfrm>
          <a:prstGeom prst="rect">
            <a:avLst/>
          </a:prstGeom>
          <a:ln w="38160">
            <a:solidFill>
              <a:srgbClr val="ceb500"/>
            </a:solidFill>
            <a:miter/>
          </a:ln>
        </p:spPr>
      </p:pic>
      <p:pic>
        <p:nvPicPr>
          <p:cNvPr id="321" name="Picture 3" descr="D:\Работы на заказ\Ярославль ООО\Урок ИЗО 23.01.16\5.jpg"/>
          <p:cNvPicPr/>
          <p:nvPr/>
        </p:nvPicPr>
        <p:blipFill>
          <a:blip r:embed="rId2"/>
          <a:stretch/>
        </p:blipFill>
        <p:spPr>
          <a:xfrm>
            <a:off x="5429160" y="2928960"/>
            <a:ext cx="2600280" cy="18097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322" name="TextBox 5"/>
          <p:cNvSpPr/>
          <p:nvPr/>
        </p:nvSpPr>
        <p:spPr>
          <a:xfrm>
            <a:off x="6500880" y="52149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ь Дудина З.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Песни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773000"/>
            <a:ext cx="7499520" cy="3384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«Я с бабушкой своей дружу давным-давно»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«Бабушка с дедушкой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Detskie_pesni_pro_babushku_-_YA_s_babushkoj_svoeyu_druzhu_davnym-davno_(iPlayer.fm).mp3" descr=""/>
          <p:cNvPicPr/>
          <p:nvPr/>
        </p:nvPicPr>
        <p:blipFill>
          <a:blip r:embed="rId1"/>
          <a:stretch/>
        </p:blipFill>
        <p:spPr>
          <a:xfrm>
            <a:off x="860436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48" name="Detskie_pesenki_-_Babushka_ryadyshkom_s_dedushkoj_(iPlayer.fm).mp3" descr=""/>
          <p:cNvPicPr/>
          <p:nvPr/>
        </p:nvPicPr>
        <p:blipFill>
          <a:blip r:embed="rId2"/>
          <a:stretch/>
        </p:blipFill>
        <p:spPr>
          <a:xfrm>
            <a:off x="8572680" y="3000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2237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68200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331640" y="2349360"/>
            <a:ext cx="7497720" cy="7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2" descr="D:\Работы на заказ\Ярославль ООО\Урок ИЗО 23.01.16\14.jpg"/>
          <p:cNvPicPr/>
          <p:nvPr/>
        </p:nvPicPr>
        <p:blipFill>
          <a:blip r:embed="rId1"/>
          <a:stretch/>
        </p:blipFill>
        <p:spPr>
          <a:xfrm>
            <a:off x="3780000" y="3571920"/>
            <a:ext cx="2474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38160">
            <a:solidFill>
              <a:srgbClr val="ceb5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45e70"/>
                </a:solidFill>
                <a:latin typeface="Corbel"/>
              </a:rPr>
              <a:t>«Я и мои бабушка и дедушка» (парный портрет)</a:t>
            </a: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24" name="Picture 2" descr="D:\Работы на заказ\Ярославль ООО\Урок ИЗО 23.01.16\4.jpg"/>
          <p:cNvPicPr/>
          <p:nvPr/>
        </p:nvPicPr>
        <p:blipFill>
          <a:blip r:embed="rId1"/>
          <a:stretch/>
        </p:blipFill>
        <p:spPr>
          <a:xfrm>
            <a:off x="4929120" y="4214880"/>
            <a:ext cx="3643560" cy="241920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325" name="Picture 3" descr="D:\Работы на заказ\Ярославль ООО\Урок ИЗО 23.01.16\14.jpg"/>
          <p:cNvPicPr/>
          <p:nvPr/>
        </p:nvPicPr>
        <p:blipFill>
          <a:blip r:embed="rId2"/>
          <a:stretch/>
        </p:blipFill>
        <p:spPr>
          <a:xfrm>
            <a:off x="5572080" y="1714680"/>
            <a:ext cx="2371680" cy="22636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326" name="Picture 4" descr="D:\Работы на заказ\Ярославль ООО\Урок ИЗО 23.01.16\7 (1).jpg"/>
          <p:cNvPicPr/>
          <p:nvPr/>
        </p:nvPicPr>
        <p:blipFill>
          <a:blip r:embed="rId3"/>
          <a:stretch/>
        </p:blipFill>
        <p:spPr>
          <a:xfrm>
            <a:off x="1428840" y="2214720"/>
            <a:ext cx="3155760" cy="37144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Рисуем портрет. Шаг 1.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1"/>
          <p:cNvGraphicFramePr/>
          <p:nvPr/>
        </p:nvGraphicFramePr>
        <p:xfrm>
          <a:off x="2556000" y="1989000"/>
          <a:ext cx="511164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89000"/>
                    <a:ext cx="5111640" cy="4044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Рисуем портрет. Шаг 2. 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1"/>
          <p:cNvGraphicFramePr/>
          <p:nvPr/>
        </p:nvGraphicFramePr>
        <p:xfrm>
          <a:off x="1476360" y="2205000"/>
          <a:ext cx="7265880" cy="26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205000"/>
                    <a:ext cx="726588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86800" cy="250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Пример.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цо - овальной формы. Сначала сделаем овал и разделяем его линиями. Задача этих линий наметить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orbel"/>
                <a:hlinkClick r:id="rId1"/>
              </a:rPr>
              <a:t>примерное расположение нос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(это вертикальная), а также расположение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orbel"/>
                <a:hlinkClick r:id="rId2"/>
              </a:rPr>
              <a:t>глаз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и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orbel"/>
                <a:hlinkClick r:id="rId3"/>
              </a:rPr>
              <a:t>губ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(горизонтальная нижняя линия).  </a:t>
            </a:r>
            <a:br>
              <a:rPr sz="2400"/>
            </a:br>
            <a:endParaRPr b="0" lang="en-US" sz="24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36" name="Объект 3" descr=""/>
          <p:cNvPicPr/>
          <p:nvPr/>
        </p:nvPicPr>
        <p:blipFill>
          <a:blip r:embed="rId4"/>
          <a:stretch/>
        </p:blipFill>
        <p:spPr>
          <a:xfrm>
            <a:off x="2484360" y="2552760"/>
            <a:ext cx="3944880" cy="4100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Объект 3" descr=""/>
          <p:cNvPicPr/>
          <p:nvPr/>
        </p:nvPicPr>
        <p:blipFill>
          <a:blip r:embed="rId1"/>
          <a:stretch/>
        </p:blipFill>
        <p:spPr>
          <a:xfrm>
            <a:off x="2357280" y="2071800"/>
            <a:ext cx="4343400" cy="4525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38" name="Прямоугольник 4"/>
          <p:cNvSpPr/>
          <p:nvPr/>
        </p:nvSpPr>
        <p:spPr>
          <a:xfrm>
            <a:off x="1143000" y="428760"/>
            <a:ext cx="7750080" cy="1292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rbel"/>
                <a:ea typeface="Arial"/>
              </a:rPr>
              <a:t>Пример.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rial"/>
              </a:rPr>
              <a:t>Сделайте ориентировочные штрихи на месте, где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orbel"/>
                <a:ea typeface="Arial"/>
                <a:hlinkClick r:id="rId2"/>
              </a:rPr>
              <a:t>будет расположен нос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rial"/>
              </a:rPr>
              <a:t>. А также добавьте линии для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orbel"/>
                <a:ea typeface="Arial"/>
                <a:hlinkClick r:id="rId3"/>
              </a:rPr>
              <a:t>полости рт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Объект 3" descr=""/>
          <p:cNvPicPr/>
          <p:nvPr/>
        </p:nvPicPr>
        <p:blipFill>
          <a:blip r:embed="rId1"/>
          <a:stretch/>
        </p:blipFill>
        <p:spPr>
          <a:xfrm>
            <a:off x="2195640" y="1393920"/>
            <a:ext cx="5006880" cy="5203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40" name="TextBox 5"/>
          <p:cNvSpPr/>
          <p:nvPr/>
        </p:nvSpPr>
        <p:spPr>
          <a:xfrm>
            <a:off x="1476360" y="333360"/>
            <a:ext cx="6767640" cy="45972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rial"/>
              </a:rPr>
              <a:t>Пример. Переходим к прорисовке гл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6720" cy="95400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Пример.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Добавим рот.  Проведите мысленно две линии от внутренних краешков глаз вниз. </a:t>
            </a:r>
            <a:endParaRPr b="0" lang="en-US" sz="24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42" name="Объект 3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824720" cy="5013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142560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еперь стираем вспомогательные линии, которые мы сделали в первых двух шагах. Смотрим, что у нас получилось. Теперь осталось разукрасить, добавить теней. </a:t>
            </a:r>
            <a:endParaRPr b="0" lang="en-US" sz="24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44" name="Объект 3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3986280" cy="4141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09:10:56Z</dcterms:created>
  <dc:creator>Acer</dc:creator>
  <dc:description/>
  <dc:language>en-US</dc:language>
  <cp:lastModifiedBy>1</cp:lastModifiedBy>
  <dcterms:modified xsi:type="dcterms:W3CDTF">2023-02-06T08:40:17Z</dcterms:modified>
  <cp:revision>11</cp:revision>
  <dc:subject/>
  <dc:title>Слайд 1</dc:title>
</cp:coreProperties>
</file>