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C670-E764-401C-8B27-BD4923A2C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5FDE-DF39-4E7B-8F3D-3661741B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2C3D-58DE-444F-BCB7-B6A2C8697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BA8E-A130-4F60-9ECD-D912E84F1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C599-C29C-4708-B320-DBF105BEA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0C07-8A2D-4381-AF0F-FED92652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8AF7-D266-4352-B685-D75A2167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B542-C725-4703-BB83-C4C229B1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3B11-D5E7-4A81-8D51-0296869F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EF44-3424-47FF-85F5-636D249C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F404-4C01-4C81-BCC6-A8345905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5229-9033-4EEC-A91E-F1CEDA14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1767-6FC6-4950-A003-69E47D24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7C9F-670A-40F9-88D2-4FDD2ADF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AF376-7DBF-4CA9-8621-9C7FE201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98C1-6AF1-4E87-A10D-041805312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0786-327F-4113-B06A-7DDC0D78E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A429A-25A8-4F09-9F71-5EB85C17D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FFBE5-9FAD-472A-9400-DBF3FCA2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1F099-6C36-4708-967B-7A5D34EA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84594-2F67-422D-A33F-8870E2EC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C173A-4753-4CE6-88CC-1DA03F7A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BE9B-1E27-4526-811C-A4BDA0E7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7D95B-ACEC-48B2-8C6F-4CEB3055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35476-1420-4861-9591-33BB50F8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1573E-33B8-4A86-8227-5E3018AC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16217-542E-46E8-815A-E28FD2AF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0E9BF-237C-4562-9944-EA460804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33E05-9B3D-460D-AEF5-5876764D7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C7B1C-7A8E-47C4-8685-CBA2B79AD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29CBC-FEFC-4E24-9D4B-F7FA3BA05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7666F-1F85-4240-91DE-AFF73054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31A7A-6FD3-4E3D-AB66-6406CEAF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916A-470B-416C-BA24-80D5057A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8E628-DB60-4D3C-AC30-5B9687D0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F2889-CCF1-47A6-8007-8E5AF1B6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9080C-AD43-4E08-9D51-B66CA47A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1910C-344E-4B27-855B-C5EDD450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2AAC3-1EBB-4B2C-89B0-790209D0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11B05-569C-4492-A307-4E40F82B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CCA19-2DA2-409B-9E95-9AD2A25F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214AB-B0AD-42FF-B3C4-7B8F1FA0C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A3499-2F19-4137-ABC0-82E4CC2B8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65AC3-5490-4A21-9293-270E8EF6F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1652-E5C3-405D-9F76-8A3BFFCC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C9533-6F79-4F9B-A2A4-E435A8A7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20E57-7CC4-40DA-9CAE-15D771D5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8EF3D-38E7-4747-94B6-A54C44A3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8D9A0-7E04-4958-89DB-656DB3A8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FFD86-D069-4E9A-9F1C-19B8058E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FF5F6-E2C7-441B-80F1-A66B99DA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0E66C-87B2-4655-9945-1ABAD3AF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CBA1C-FD9A-4AA1-A7D6-C0454152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9AF79-9FA3-464C-A91B-D4C188EF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5DC40-E74A-447F-9E5E-3AB154D49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5CB5-78A0-4728-8082-26282723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7D292-7F4F-4B52-89C3-F03B1A957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638DF-41BD-4685-82FD-D9BE7E825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E140E-7500-4114-A78D-56F3B63E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F453B-35BC-4CF5-A0E7-F6BFA292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386A0-4204-46C0-BAFD-5D1460B0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7646B-4861-4B77-AE0E-4F77D321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05185-CBD2-42E0-A12E-D1276BA3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BD63D-ACFB-4988-8A2F-B774A9ED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F2D13-EBC9-4D22-87FF-19B99AEE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6F01B-9ACE-4D28-AC20-1A681CC8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E4FE-2EE6-4489-98C8-9217F350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FEC84-7CC6-49AE-A815-A64A66F6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0E9AD-984E-4592-86E0-E1D01EBFD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20906-F76A-4BAE-B22E-BC94C0D84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24AD1-E6F4-426F-B151-BF3EF6522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B8762-48CC-4AB3-966D-45D58135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7BA6E-872E-4DC8-9A18-1223E9B8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0CB3D-BEED-428C-B646-AC823B76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2A9BD-2127-4253-B332-DE103D45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F62BF-FF09-4315-8841-5A8BD14A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8DFE1-D912-4506-9163-2314FDA0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225C-71BC-4F8E-B9BD-1E6E7B92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93AC2-6CAF-4E75-981A-486B5C7E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99AB1-31C2-4C53-A8DC-98304144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FEA54-13C5-4B37-B6D8-73055039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9750C-A271-4DC4-9735-098CE09CC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9DF00-D5AF-45F6-83C1-A985FB54D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ACCD-9EB4-436F-B808-E49B390A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fe9">
              <a:alpha val="33000"/>
            </a:srgbClr>
          </a:solidFill>
          <a:ln cap="rnd" w="3240">
            <a:solidFill>
              <a:srgbClr val="ffef5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fb1"/>
            </a:solidFill>
            <a:miter/>
          </a:ln>
          <a:effectLst>
            <a:outerShdw dist="12600" dir="5400000" blurRad="0" rotWithShape="0">
              <a:srgbClr val="cec06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ce4d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1738-E40A-4B35-AC8A-107F5B8D9D9F}" type="slidenum">
              <a:rPr b="0" lang="ru-RU" sz="1200" spc="-1" strike="noStrike">
                <a:solidFill>
                  <a:srgbClr val="e0ce4d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e774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fe9">
              <a:alpha val="33000"/>
            </a:srgbClr>
          </a:solidFill>
          <a:ln cap="rnd" w="3240">
            <a:solidFill>
              <a:srgbClr val="ffef5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fb1"/>
            </a:solidFill>
            <a:miter/>
          </a:ln>
          <a:effectLst>
            <a:outerShdw dist="12600" dir="5400000" blurRad="0" rotWithShape="0">
              <a:srgbClr val="cec06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e774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2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e0752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ce4d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AEBD-FF03-483D-A82C-BAF7AFBA0736}" type="slidenum">
              <a:rPr b="0" lang="ru-RU" sz="1200" spc="-1" strike="noStrike">
                <a:solidFill>
                  <a:srgbClr val="e0ce4d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e774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3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3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5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e0752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ce4d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4153-AB84-4FA6-A098-4880702BB080}" type="slidenum">
              <a:rPr b="0" lang="ru-RU" sz="1200" spc="-1" strike="noStrike">
                <a:solidFill>
                  <a:srgbClr val="e0ce4d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ce4d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FCDF-4C93-43EB-8AF9-90097B1F4A11}" type="slidenum">
              <a:rPr b="0" lang="ru-RU" sz="1200" spc="-1" strike="noStrike">
                <a:solidFill>
                  <a:srgbClr val="e0ce4d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e774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ce4d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2D38-BFA2-4505-B30B-587A38C81241}" type="slidenum">
              <a:rPr b="0" lang="ru-RU" sz="1200" spc="-1" strike="noStrike">
                <a:solidFill>
                  <a:srgbClr val="e0ce4d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ce4d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644D-730B-4A8E-991C-9DF93F356F32}" type="slidenum">
              <a:rPr b="0" lang="ru-RU" sz="1200" spc="-1" strike="noStrike">
                <a:solidFill>
                  <a:srgbClr val="e0ce4d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2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ff67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3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f39d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ce4d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E7CE-E882-430C-A48E-581E5A885A1C}" type="slidenum">
              <a:rPr b="0" lang="ru-RU" sz="1200" spc="-1" strike="noStrike">
                <a:solidFill>
                  <a:srgbClr val="e0ce4d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dayfun.ru/archives/3738" TargetMode="External"/><Relationship Id="rId2" Type="http://schemas.openxmlformats.org/officeDocument/2006/relationships/hyperlink" Target="http://dayfun.ru/archives/4702" TargetMode="External"/><Relationship Id="rId3" Type="http://schemas.openxmlformats.org/officeDocument/2006/relationships/hyperlink" Target="http://dayfun.ru/archives/3998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dayfun.ru/archives/3738" TargetMode="External"/><Relationship Id="rId3" Type="http://schemas.openxmlformats.org/officeDocument/2006/relationships/hyperlink" Target="http://dayfun.ru/archives/4227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28840" y="500040"/>
            <a:ext cx="7407360" cy="689040"/>
          </a:xfrm>
          <a:prstGeom prst="rect">
            <a:avLst/>
          </a:prstGeom>
          <a:noFill/>
          <a:ln w="38160">
            <a:solidFill>
              <a:srgbClr val="ceb5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45e70"/>
                </a:solidFill>
                <a:latin typeface="Corbel"/>
              </a:rPr>
              <a:t>«Я и мои бабушка и дедушка»</a:t>
            </a:r>
            <a:endParaRPr b="0" lang="en-US" sz="39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3571560" y="1643040"/>
            <a:ext cx="2808360" cy="441360"/>
          </a:xfrm>
          <a:prstGeom prst="rect">
            <a:avLst/>
          </a:prstGeom>
          <a:noFill/>
          <a:ln w="38160">
            <a:solidFill>
              <a:srgbClr val="ceb500"/>
            </a:solidFill>
            <a:miter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c3340"/>
                </a:solidFill>
                <a:latin typeface="Corbel"/>
              </a:rPr>
              <a:t>для дошкольник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2" descr="D:\Работы на заказ\Ярославль ООО\Урок ИЗО 23.01.16\7.jpg"/>
          <p:cNvPicPr/>
          <p:nvPr/>
        </p:nvPicPr>
        <p:blipFill>
          <a:blip r:embed="rId1"/>
          <a:stretch/>
        </p:blipFill>
        <p:spPr>
          <a:xfrm>
            <a:off x="2000160" y="2643120"/>
            <a:ext cx="2495520" cy="2444760"/>
          </a:xfrm>
          <a:prstGeom prst="rect">
            <a:avLst/>
          </a:prstGeom>
          <a:ln w="38160">
            <a:solidFill>
              <a:srgbClr val="ceb500"/>
            </a:solidFill>
            <a:miter/>
          </a:ln>
        </p:spPr>
      </p:pic>
      <p:pic>
        <p:nvPicPr>
          <p:cNvPr id="321" name="Picture 3" descr="D:\Работы на заказ\Ярославль ООО\Урок ИЗО 23.01.16\5.jpg"/>
          <p:cNvPicPr/>
          <p:nvPr/>
        </p:nvPicPr>
        <p:blipFill>
          <a:blip r:embed="rId2"/>
          <a:stretch/>
        </p:blipFill>
        <p:spPr>
          <a:xfrm>
            <a:off x="5429160" y="2928960"/>
            <a:ext cx="2600280" cy="180972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sp>
        <p:nvSpPr>
          <p:cNvPr id="322" name="TextBox 5"/>
          <p:cNvSpPr/>
          <p:nvPr/>
        </p:nvSpPr>
        <p:spPr>
          <a:xfrm>
            <a:off x="6500880" y="521496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оспитатель Дудина З. 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45e70"/>
                </a:solidFill>
                <a:latin typeface="Corbel"/>
              </a:rPr>
              <a:t>Песни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773000"/>
            <a:ext cx="7499520" cy="33843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«Я с бабушкой своей дружу давным-давно»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«Бабушка с дедушкой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7" name="Detskie_pesni_pro_babushku_-_YA_s_babushkoj_svoeyu_druzhu_davnym-davno_(iPlayer.fm).mp3" descr=""/>
          <p:cNvPicPr/>
          <p:nvPr/>
        </p:nvPicPr>
        <p:blipFill>
          <a:blip r:embed="rId1"/>
          <a:stretch/>
        </p:blipFill>
        <p:spPr>
          <a:xfrm>
            <a:off x="8604360" y="2205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48" name="Detskie_pesenki_-_Babushka_ryadyshkom_s_dedushkoj_(iPlayer.fm).mp3" descr=""/>
          <p:cNvPicPr/>
          <p:nvPr/>
        </p:nvPicPr>
        <p:blipFill>
          <a:blip r:embed="rId2"/>
          <a:stretch/>
        </p:blipFill>
        <p:spPr>
          <a:xfrm>
            <a:off x="8572680" y="30002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2237" fill="hold"/>
                                        <p:tgtEl>
                                          <p:spTgt spid="3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68200" fill="hold"/>
                                        <p:tgtEl>
                                          <p:spTgt spid="3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1331640" y="2349360"/>
            <a:ext cx="7497720" cy="719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0" name="Picture 2" descr="D:\Работы на заказ\Ярославль ООО\Урок ИЗО 23.01.16\14.jpg"/>
          <p:cNvPicPr/>
          <p:nvPr/>
        </p:nvPicPr>
        <p:blipFill>
          <a:blip r:embed="rId1"/>
          <a:stretch/>
        </p:blipFill>
        <p:spPr>
          <a:xfrm>
            <a:off x="3780000" y="3571920"/>
            <a:ext cx="247464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38160">
            <a:solidFill>
              <a:srgbClr val="ceb5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45e70"/>
                </a:solidFill>
                <a:latin typeface="Corbel"/>
              </a:rPr>
              <a:t>«Я и мои бабушка и дедушка» (парный портрет)</a:t>
            </a:r>
            <a:endParaRPr b="0" lang="en-US" sz="3900" spc="-1" strike="noStrike">
              <a:solidFill>
                <a:srgbClr val="545e70"/>
              </a:solidFill>
              <a:latin typeface="Corbel"/>
            </a:endParaRPr>
          </a:p>
        </p:txBody>
      </p:sp>
      <p:pic>
        <p:nvPicPr>
          <p:cNvPr id="324" name="Picture 2" descr="D:\Работы на заказ\Ярославль ООО\Урок ИЗО 23.01.16\4.jpg"/>
          <p:cNvPicPr/>
          <p:nvPr/>
        </p:nvPicPr>
        <p:blipFill>
          <a:blip r:embed="rId1"/>
          <a:stretch/>
        </p:blipFill>
        <p:spPr>
          <a:xfrm>
            <a:off x="4929120" y="4214880"/>
            <a:ext cx="3643560" cy="241920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325" name="Picture 3" descr="D:\Работы на заказ\Ярославль ООО\Урок ИЗО 23.01.16\14.jpg"/>
          <p:cNvPicPr/>
          <p:nvPr/>
        </p:nvPicPr>
        <p:blipFill>
          <a:blip r:embed="rId2"/>
          <a:stretch/>
        </p:blipFill>
        <p:spPr>
          <a:xfrm>
            <a:off x="5572080" y="1714680"/>
            <a:ext cx="2371680" cy="226368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326" name="Picture 4" descr="D:\Работы на заказ\Ярославль ООО\Урок ИЗО 23.01.16\7 (1).jpg"/>
          <p:cNvPicPr/>
          <p:nvPr/>
        </p:nvPicPr>
        <p:blipFill>
          <a:blip r:embed="rId3"/>
          <a:stretch/>
        </p:blipFill>
        <p:spPr>
          <a:xfrm>
            <a:off x="1428840" y="2214720"/>
            <a:ext cx="3155760" cy="371448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45e70"/>
                </a:solidFill>
                <a:latin typeface="Corbel"/>
              </a:rPr>
              <a:t>Рисуем портрет. Шаг 1.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Object 1"/>
          <p:cNvGraphicFramePr/>
          <p:nvPr/>
        </p:nvGraphicFramePr>
        <p:xfrm>
          <a:off x="2556000" y="1989000"/>
          <a:ext cx="5111640" cy="40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1989000"/>
                    <a:ext cx="5111640" cy="40449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45e70"/>
                </a:solidFill>
                <a:latin typeface="Corbel"/>
              </a:rPr>
              <a:t>Рисуем портрет. Шаг 2. 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Object 1"/>
          <p:cNvGraphicFramePr/>
          <p:nvPr/>
        </p:nvGraphicFramePr>
        <p:xfrm>
          <a:off x="1476360" y="2205000"/>
          <a:ext cx="7265880" cy="26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205000"/>
                    <a:ext cx="7265880" cy="26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43000" y="214200"/>
            <a:ext cx="7786800" cy="250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Пример.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Лицо - овальной формы. Сначала сделаем овал и разделяем его линиями. Задача этих линий наметить </a:t>
            </a:r>
            <a:r>
              <a:rPr b="0" lang="ru-RU" sz="2400" spc="-1" strike="noStrike" u="sng">
                <a:solidFill>
                  <a:srgbClr val="d2611c"/>
                </a:solidFill>
                <a:uFillTx/>
                <a:latin typeface="Corbel"/>
                <a:hlinkClick r:id="rId1"/>
              </a:rPr>
              <a:t>примерное расположение носа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 (это вертикальная), а также расположение </a:t>
            </a:r>
            <a:r>
              <a:rPr b="0" lang="ru-RU" sz="2400" spc="-1" strike="noStrike" u="sng">
                <a:solidFill>
                  <a:srgbClr val="d2611c"/>
                </a:solidFill>
                <a:uFillTx/>
                <a:latin typeface="Corbel"/>
                <a:hlinkClick r:id="rId2"/>
              </a:rPr>
              <a:t>глаз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 и </a:t>
            </a:r>
            <a:r>
              <a:rPr b="0" lang="ru-RU" sz="2400" spc="-1" strike="noStrike" u="sng">
                <a:solidFill>
                  <a:srgbClr val="d2611c"/>
                </a:solidFill>
                <a:uFillTx/>
                <a:latin typeface="Corbel"/>
                <a:hlinkClick r:id="rId3"/>
              </a:rPr>
              <a:t>губ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 (горизонтальная нижняя линия).  </a:t>
            </a:r>
            <a:br>
              <a:rPr sz="2400"/>
            </a:br>
            <a:endParaRPr b="0" lang="en-US" sz="2400" spc="-1" strike="noStrike">
              <a:solidFill>
                <a:srgbClr val="545e70"/>
              </a:solidFill>
              <a:latin typeface="Corbel"/>
            </a:endParaRPr>
          </a:p>
        </p:txBody>
      </p:sp>
      <p:pic>
        <p:nvPicPr>
          <p:cNvPr id="336" name="Объект 3" descr=""/>
          <p:cNvPicPr/>
          <p:nvPr/>
        </p:nvPicPr>
        <p:blipFill>
          <a:blip r:embed="rId4"/>
          <a:stretch/>
        </p:blipFill>
        <p:spPr>
          <a:xfrm>
            <a:off x="2484360" y="2552760"/>
            <a:ext cx="3944880" cy="41004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Объект 3" descr=""/>
          <p:cNvPicPr/>
          <p:nvPr/>
        </p:nvPicPr>
        <p:blipFill>
          <a:blip r:embed="rId1"/>
          <a:stretch/>
        </p:blipFill>
        <p:spPr>
          <a:xfrm>
            <a:off x="2357280" y="2071800"/>
            <a:ext cx="4343400" cy="45259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338" name="Прямоугольник 4"/>
          <p:cNvSpPr/>
          <p:nvPr/>
        </p:nvSpPr>
        <p:spPr>
          <a:xfrm>
            <a:off x="1143000" y="428760"/>
            <a:ext cx="7750080" cy="12920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orbel"/>
                <a:ea typeface="Arial"/>
              </a:rPr>
              <a:t>Пример.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Arial"/>
              </a:rPr>
              <a:t>Сделайте ориентировочные штрихи на месте, где </a:t>
            </a:r>
            <a:r>
              <a:rPr b="0" lang="ru-RU" sz="2400" spc="-1" strike="noStrike" u="sng">
                <a:solidFill>
                  <a:srgbClr val="d2611c"/>
                </a:solidFill>
                <a:uFillTx/>
                <a:latin typeface="Corbel"/>
                <a:ea typeface="Arial"/>
                <a:hlinkClick r:id="rId2"/>
              </a:rPr>
              <a:t>будет расположен нос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Arial"/>
              </a:rPr>
              <a:t>. А также добавьте линии для </a:t>
            </a:r>
            <a:r>
              <a:rPr b="0" lang="ru-RU" sz="2400" spc="-1" strike="noStrike" u="sng">
                <a:solidFill>
                  <a:srgbClr val="d2611c"/>
                </a:solidFill>
                <a:uFillTx/>
                <a:latin typeface="Corbel"/>
                <a:ea typeface="Arial"/>
                <a:hlinkClick r:id="rId3"/>
              </a:rPr>
              <a:t>полости рта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Объект 3" descr=""/>
          <p:cNvPicPr/>
          <p:nvPr/>
        </p:nvPicPr>
        <p:blipFill>
          <a:blip r:embed="rId1"/>
          <a:stretch/>
        </p:blipFill>
        <p:spPr>
          <a:xfrm>
            <a:off x="2195640" y="1393920"/>
            <a:ext cx="5006880" cy="52038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340" name="TextBox 5"/>
          <p:cNvSpPr/>
          <p:nvPr/>
        </p:nvSpPr>
        <p:spPr>
          <a:xfrm>
            <a:off x="1476360" y="333360"/>
            <a:ext cx="6767640" cy="459720"/>
          </a:xfrm>
          <a:prstGeom prst="rect">
            <a:avLst/>
          </a:prstGeom>
          <a:noFill/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Arial"/>
              </a:rPr>
              <a:t>Пример. Переходим к прорисовке гла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6720" cy="954000"/>
          </a:xfrm>
          <a:prstGeom prst="rect">
            <a:avLst/>
          </a:prstGeom>
          <a:noFill/>
          <a:ln w="57240">
            <a:solidFill>
              <a:srgbClr val="ffc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Пример.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Добавим рот.  Проведите мысленно две линии от внутренних краешков глаз вниз. </a:t>
            </a:r>
            <a:endParaRPr b="0" lang="en-US" sz="2400" spc="-1" strike="noStrike">
              <a:solidFill>
                <a:srgbClr val="545e70"/>
              </a:solidFill>
              <a:latin typeface="Corbel"/>
            </a:endParaRPr>
          </a:p>
        </p:txBody>
      </p:sp>
      <p:pic>
        <p:nvPicPr>
          <p:cNvPr id="342" name="Объект 3" descr=""/>
          <p:cNvPicPr/>
          <p:nvPr/>
        </p:nvPicPr>
        <p:blipFill>
          <a:blip r:embed="rId1"/>
          <a:stretch/>
        </p:blipFill>
        <p:spPr>
          <a:xfrm>
            <a:off x="2771640" y="1413000"/>
            <a:ext cx="4824720" cy="50133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42560" y="274680"/>
            <a:ext cx="7891560" cy="1425600"/>
          </a:xfrm>
          <a:prstGeom prst="rect">
            <a:avLst/>
          </a:prstGeom>
          <a:noFill/>
          <a:ln w="57240">
            <a:solidFill>
              <a:srgbClr val="ffc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Пример.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Теперь стираем вспомогательные линии, которые мы сделали в первых двух шагах. Смотрим, что у нас получилось. Теперь осталось разукрасить, добавить теней. </a:t>
            </a:r>
            <a:endParaRPr b="0" lang="en-US" sz="2400" spc="-1" strike="noStrike">
              <a:solidFill>
                <a:srgbClr val="545e70"/>
              </a:solidFill>
              <a:latin typeface="Corbel"/>
            </a:endParaRPr>
          </a:p>
        </p:txBody>
      </p:sp>
      <p:pic>
        <p:nvPicPr>
          <p:cNvPr id="344" name="Объект 3" descr=""/>
          <p:cNvPicPr/>
          <p:nvPr/>
        </p:nvPicPr>
        <p:blipFill>
          <a:blip r:embed="rId1"/>
          <a:stretch/>
        </p:blipFill>
        <p:spPr>
          <a:xfrm>
            <a:off x="3203640" y="2276640"/>
            <a:ext cx="3986280" cy="41418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4T09:10:56Z</dcterms:created>
  <dc:creator>Acer</dc:creator>
  <dc:description/>
  <dc:language>en-US</dc:language>
  <cp:lastModifiedBy>1</cp:lastModifiedBy>
  <dcterms:modified xsi:type="dcterms:W3CDTF">2023-02-06T08:40:17Z</dcterms:modified>
  <cp:revision>11</cp:revision>
  <dc:subject/>
  <dc:title>Слайд 1</dc:title>
</cp:coreProperties>
</file>