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714-EB06-41E7-93DA-29AAF56B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A0B-9294-4406-856B-E76D914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237-ACB9-464C-8D02-0AE5A8E3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D72-E804-464B-BF70-297455C5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0AA-46B5-4059-B329-73228FC8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69E-9772-418F-858D-0744FCE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F5C-6A2C-4BA3-9117-A2368053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AA9-B614-4D4E-8CF9-28E6EB97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C2C-C1A3-411A-81FD-25A0213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320-BB7D-4309-B629-533D7FF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509-1228-4B71-8567-5ED78BE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4C4-8EE6-4212-BD56-62CBDBC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BD0E-E794-416C-B83D-475AFE87F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: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«Логопедическая деятельность в ДОУ»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4419360"/>
            <a:ext cx="44956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 учитель-логопед: Черкасова Алёна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ДОУ д/с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Калининград 20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mdou72.edu.yar.ru/images/log_w300_h300.png"/>
          <p:cNvPicPr/>
          <p:nvPr/>
        </p:nvPicPr>
        <p:blipFill>
          <a:blip r:embed="rId1"/>
          <a:stretch/>
        </p:blipFill>
        <p:spPr>
          <a:xfrm>
            <a:off x="533520" y="4267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ю работы учителя-логопеда 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ошкольном учреждении является оказание необходимой коррекционной помощи детям в возрасте от 5 до 7 лет. В логопедическую работу включаются в первую очередь дети подготовительной и старшей групп.</a:t>
            </a:r>
            <a:br>
              <a:rPr sz="2000"/>
            </a:b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         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и развитие фонематического слуха у детей с нарушениями реч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рекция нарушений звуковосприятия и звукопроизно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воевременное предупреждение и преодоление трудностей речевого развит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витие детям навыков коммуникативного общ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шение задач социального и речевого развит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рганизация работы педагогов государственного образовательного учрежден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его программы дошкольного образования, по формированию речев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дет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артикуляционная гимнастика (улыбка)"/>
          <p:cNvPicPr/>
          <p:nvPr/>
        </p:nvPicPr>
        <p:blipFill>
          <a:blip r:embed="rId1"/>
          <a:stretch/>
        </p:blipFill>
        <p:spPr>
          <a:xfrm>
            <a:off x="1523880" y="228600"/>
            <a:ext cx="179100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C6B11A98"/>
          <p:cNvPicPr/>
          <p:nvPr/>
        </p:nvPicPr>
        <p:blipFill>
          <a:blip r:embed="rId2"/>
          <a:stretch/>
        </p:blipFill>
        <p:spPr>
          <a:xfrm>
            <a:off x="3048120" y="457200"/>
            <a:ext cx="2303280" cy="1593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295280" y="121932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295280" y="121932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52280"/>
          <a:ext cx="4572000" cy="5019840"/>
        </p:xfrm>
        <a:graphic>
          <a:graphicData uri="http://schemas.openxmlformats.org/drawingml/2006/table">
            <a:tbl>
              <a:tblPr/>
              <a:tblGrid>
                <a:gridCol w="2722320"/>
                <a:gridCol w="18496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Заборчик"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ыбнуться без напряжения, чтобы были видны передние верхние и нижние зубы. Удерживать 5-10 секунд. Следить, чтобы при улыбке губы не подворачивались внутрь.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ы ровно мы смыка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заборчик получ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сейчас раздвинем губ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читаем наши зуб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35"/>
          <p:cNvSpPr/>
          <p:nvPr/>
        </p:nvSpPr>
        <p:spPr>
          <a:xfrm>
            <a:off x="0" y="548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C:\Users\root315\Desktop\20230117_115649.jpg"/>
          <p:cNvPicPr/>
          <p:nvPr/>
        </p:nvPicPr>
        <p:blipFill>
          <a:blip r:embed="rId3"/>
          <a:stretch/>
        </p:blipFill>
        <p:spPr>
          <a:xfrm>
            <a:off x="4986360" y="3084480"/>
            <a:ext cx="3779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6" descr="fhnbrekzwbjyyfz ubvyfcnbrf (ujhrf)"/>
          <p:cNvPicPr/>
          <p:nvPr/>
        </p:nvPicPr>
        <p:blipFill>
          <a:blip r:embed="rId1"/>
          <a:stretch/>
        </p:blipFill>
        <p:spPr>
          <a:xfrm>
            <a:off x="1295280" y="8380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34460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13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066680" y="137160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137160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609480"/>
          <a:ext cx="5029200" cy="46944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орка»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о открыть рот. Широкий язык опустить за нижние зубы, упереться в них языком. Плотно прижать бо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я к верхним коренным зуб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так горка, что за чудо!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нулся язык упруг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чик в зубы упирает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а кверху поднимаю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35"/>
          <p:cNvSpPr/>
          <p:nvPr/>
        </p:nvSpPr>
        <p:spPr>
          <a:xfrm>
            <a:off x="0" y="54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C:\Users\root315\Desktop\20230117_115737.jpg"/>
          <p:cNvPicPr/>
          <p:nvPr/>
        </p:nvPicPr>
        <p:blipFill>
          <a:blip r:embed="rId3"/>
          <a:stretch/>
        </p:blipFill>
        <p:spPr>
          <a:xfrm>
            <a:off x="4608360" y="3462480"/>
            <a:ext cx="4359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fhnbrekzwbjyyfz ubvyfcnbrf (ujhrf)"/>
          <p:cNvPicPr/>
          <p:nvPr/>
        </p:nvPicPr>
        <p:blipFill>
          <a:blip r:embed="rId1"/>
          <a:stretch/>
        </p:blipFill>
        <p:spPr>
          <a:xfrm>
            <a:off x="1447920" y="45720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1420920" cy="1932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189080" y="139716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89080" y="1397160"/>
            <a:ext cx="338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380880"/>
          <a:ext cx="4496040" cy="4267440"/>
        </p:xfrm>
        <a:graphic>
          <a:graphicData uri="http://schemas.openxmlformats.org/drawingml/2006/table">
            <a:tbl>
              <a:tblPr/>
              <a:tblGrid>
                <a:gridCol w="2248200"/>
                <a:gridCol w="224784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ок дует с горк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ить язычок в полож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а потом спокойно и плавно подуть по середине языка. Воздух должен быть холодны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, горка, поднимис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помчимся с горки вниз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17" descr="C:\Users\root315\Desktop\20230117_115737.jpg"/>
          <p:cNvPicPr/>
          <p:nvPr/>
        </p:nvPicPr>
        <p:blipFill>
          <a:blip r:embed="rId3"/>
          <a:stretch/>
        </p:blipFill>
        <p:spPr>
          <a:xfrm>
            <a:off x="3998880" y="3157560"/>
            <a:ext cx="46641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533520" y="457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пех совместной коррекционно-педагогической работы с детьми, имеющими нарушения речи, во многом зависит от правильно организованного взаимодействия учителя-логопеда и специалистов ДО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телей, педагога-психолога, музыкального руководителя, инструктора по физической культуре и специалиста по изобразительной деятельности, медицинских  работ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з них, решая свои задачи, определенные образовательными программами и положениями ДОУ, принимает участие в формировании и закреплении правильных речевых навыков у детей, развитии сенсомоторной сферы, высших психических процессов и укреплении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mdou72.edu.yar.ru/images/log_w300_h300.png"/>
          <p:cNvPicPr/>
          <p:nvPr/>
        </p:nvPicPr>
        <p:blipFill>
          <a:blip r:embed="rId1"/>
          <a:stretch/>
        </p:blipFill>
        <p:spPr>
          <a:xfrm>
            <a:off x="716292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838080" y="457200"/>
            <a:ext cx="7925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mdou72.edu.yar.ru/images/log_w300_h300.png"/>
          <p:cNvPicPr/>
          <p:nvPr/>
        </p:nvPicPr>
        <p:blipFill>
          <a:blip r:embed="rId1"/>
          <a:stretch/>
        </p:blipFill>
        <p:spPr>
          <a:xfrm>
            <a:off x="297180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315</cp:lastModifiedBy>
  <dcterms:modified xsi:type="dcterms:W3CDTF">2023-02-07T06:35:40Z</dcterms:modified>
  <cp:revision>27</cp:revision>
  <dc:subject/>
  <dc:title>Слайд 1</dc:title>
</cp:coreProperties>
</file>