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683-1638-464C-AC97-A87FDB17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916-32A9-48FC-BAF3-E6A3B9E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0D0-BF8A-43EB-B31F-81B010F2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92D-F73D-4773-9B62-B72432BC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8BC-BBE1-44A8-98F6-3AC472E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A70-B1A0-4792-9009-FA93D31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A5B-26C5-4F78-9916-DFF5494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782-CCC7-4C7E-B234-9C8E926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90A-F2C6-4D26-8F72-F63AAEAB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D94-9802-4BD1-8481-6978483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C5D-12B3-47CD-9C55-71D4075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CE4-A653-401C-82C3-65DEF3E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B8AA-B72A-443A-B3E6-887B3347F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: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«Логопедическая деятельность в ДОУ»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4419360"/>
            <a:ext cx="44956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учитель-логопед: Черкасова Алёна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ДОУ д/с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Калининград 2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ю работы учителя-логопеда 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ошкольном учреждении является оказание необходимой коррекционной помощи детям в возрасте от 5 до 7 лет. В логопедическую работу включаются в первую очередь дети подготовительной и старшей групп.</a:t>
            </a:r>
            <a:br>
              <a:rPr sz="2000"/>
            </a:b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         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и развитие фонематического слуха у детей с нарушениями реч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рекция нарушений звуковосприятия и звукопроизно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воевременное предупреждение и преодоление трудностей речевого разви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витие детям навыков коммуникативного общ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шение задач социального и речевого разви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рганизация работы педагогов государственного образовательного учрежден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го программы дошкольного образования, по формированию речев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дет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артикуляционная гимнастика (улыбка)"/>
          <p:cNvPicPr/>
          <p:nvPr/>
        </p:nvPicPr>
        <p:blipFill>
          <a:blip r:embed="rId1"/>
          <a:stretch/>
        </p:blipFill>
        <p:spPr>
          <a:xfrm>
            <a:off x="1523880" y="228600"/>
            <a:ext cx="179100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C6B11A98"/>
          <p:cNvPicPr/>
          <p:nvPr/>
        </p:nvPicPr>
        <p:blipFill>
          <a:blip r:embed="rId2"/>
          <a:stretch/>
        </p:blipFill>
        <p:spPr>
          <a:xfrm>
            <a:off x="3048120" y="457200"/>
            <a:ext cx="2303280" cy="1593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95280" y="121932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295280" y="121932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52280"/>
          <a:ext cx="4572000" cy="5019840"/>
        </p:xfrm>
        <a:graphic>
          <a:graphicData uri="http://schemas.openxmlformats.org/drawingml/2006/table">
            <a:tbl>
              <a:tblPr/>
              <a:tblGrid>
                <a:gridCol w="2722320"/>
                <a:gridCol w="18496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Заборчик"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ыбнуться без напряжения, чтобы были видны передние верхние и нижние зубы. Удерживать 5-10 секунд. Следить, чтобы при улыбке губы не подворачивались внутрь.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ы ровно мы смык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заборчик получ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сейчас раздвинем губ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читаем наши зу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35"/>
          <p:cNvSpPr/>
          <p:nvPr/>
        </p:nvSpPr>
        <p:spPr>
          <a:xfrm>
            <a:off x="0" y="548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C:\Users\root315\Desktop\20230117_115649.jpg"/>
          <p:cNvPicPr/>
          <p:nvPr/>
        </p:nvPicPr>
        <p:blipFill>
          <a:blip r:embed="rId3"/>
          <a:stretch/>
        </p:blipFill>
        <p:spPr>
          <a:xfrm>
            <a:off x="4986360" y="3084480"/>
            <a:ext cx="3779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6" descr="fhnbrekzwbjyyfz ubvyfcnbrf (ujhrf)"/>
          <p:cNvPicPr/>
          <p:nvPr/>
        </p:nvPicPr>
        <p:blipFill>
          <a:blip r:embed="rId1"/>
          <a:stretch/>
        </p:blipFill>
        <p:spPr>
          <a:xfrm>
            <a:off x="1295280" y="838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3446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13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066680" y="137160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137160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609480"/>
          <a:ext cx="5029200" cy="46944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орка»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 открыть рот. Широкий язык опустить за нижние зубы, упереться в них языком. Плотно прижать бо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я к верхним коренным зуб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так горка, что за чудо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нулся язык упруг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чик в зубы упирает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а кверху поднимаю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5"/>
          <p:cNvSpPr/>
          <p:nvPr/>
        </p:nvSpPr>
        <p:spPr>
          <a:xfrm>
            <a:off x="0" y="54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C:\Users\root315\Desktop\20230117_115737.jpg"/>
          <p:cNvPicPr/>
          <p:nvPr/>
        </p:nvPicPr>
        <p:blipFill>
          <a:blip r:embed="rId3"/>
          <a:stretch/>
        </p:blipFill>
        <p:spPr>
          <a:xfrm>
            <a:off x="4608360" y="3462480"/>
            <a:ext cx="435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fhnbrekzwbjyyfz ubvyfcnbrf (ujhrf)"/>
          <p:cNvPicPr/>
          <p:nvPr/>
        </p:nvPicPr>
        <p:blipFill>
          <a:blip r:embed="rId1"/>
          <a:stretch/>
        </p:blipFill>
        <p:spPr>
          <a:xfrm>
            <a:off x="1447920" y="45720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1420920" cy="1932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189080" y="139716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89080" y="139716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380880"/>
          <a:ext cx="4496040" cy="4267440"/>
        </p:xfrm>
        <a:graphic>
          <a:graphicData uri="http://schemas.openxmlformats.org/drawingml/2006/table">
            <a:tbl>
              <a:tblPr/>
              <a:tblGrid>
                <a:gridCol w="2248200"/>
                <a:gridCol w="224784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ок дует с горк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ить язычок в полож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а потом спокойно и плавно подуть по середине языка. Воздух должен быть холодны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, горка, поднимис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помчимся с горки вниз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17" descr="C:\Users\root315\Desktop\20230117_115737.jpg"/>
          <p:cNvPicPr/>
          <p:nvPr/>
        </p:nvPicPr>
        <p:blipFill>
          <a:blip r:embed="rId3"/>
          <a:stretch/>
        </p:blipFill>
        <p:spPr>
          <a:xfrm>
            <a:off x="3998880" y="3157560"/>
            <a:ext cx="46641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533520" y="457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пех совместной коррекционно-педагогической работы с детьми, имеющими нарушения речи, во многом зависит от правильно организованного взаимодействия учителя-логопеда и специалистов ДО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телей, педагога-психолога, музыкального руководителя, инструктора по физической культуре и специалиста по изобразительной деятельности, медицинских  работ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з них, решая свои задачи, определенные образовательными программами и положениями ДОУ, принимает участие в формировании и закреплении правильных речевых навыков у детей, развитии сенсомоторной сферы, высших психических процессов и укреплени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71629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838080" y="457200"/>
            <a:ext cx="7925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297180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315</cp:lastModifiedBy>
  <dcterms:modified xsi:type="dcterms:W3CDTF">2023-02-07T06:35:40Z</dcterms:modified>
  <cp:revision>27</cp:revision>
  <dc:subject/>
  <dc:title>Слайд 1</dc:title>
</cp:coreProperties>
</file>