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588-8D2E-463A-B5DE-ED5B5492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6D3-6F02-4767-8937-AAFB5F37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590-26D2-4AC0-A504-FA8C9CA1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B84-0E57-4076-9E6F-1353A416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B5C-4B93-4298-B446-010F8D6C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F1B2-83B9-41E2-8585-B38763E3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1CFC-B0A9-4A97-A09A-C872217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2D6-EF89-4EE9-932E-8607FEC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131-8C93-41A1-A1E2-7603CC4A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E21E-804F-4791-B6D8-D96B1BF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F29D-8927-4C3F-8750-6D2108E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FC6-3033-4B71-89A0-8DCF1B5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0EB5-7B96-4473-9B25-C3E38D2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E9C7-6415-4871-9500-641ACD6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B664-C21F-4F9D-B5F2-DB8A5646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7273-A730-4703-859F-4FFBA10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6AAD-110D-4185-AE54-2C78530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91C7-9DE8-4382-B5ED-13238F56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7EC6-28AC-4636-80A5-00FA32B9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0816-D684-4D5E-8850-AA8C183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D7B1-E8E0-45C4-A0E0-7BC4033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6CF5-1219-4BD4-A21E-B7DA836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CEA-ED6E-46ED-9DBF-83C6FB5D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F373-43B8-42A5-BC3C-3F18861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C86E-8A6E-489C-B1D8-ABB1D79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4B51-C9AC-4B38-BD63-7C2C671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BEF9-70F1-4F1A-991C-49D7CC9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BF77-A2C9-4780-84E3-73DC5E4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A5F6-37E6-4B5A-87FE-EF8F4FAB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62E4-F630-4D58-B48A-0FAC8BA4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2EA-EC40-4D94-864F-2CA8798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895-D85E-463B-A7AB-AF7B14E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412-B1F7-4792-B6FC-CCD466F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83C-C958-4080-A43F-8E9A51A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FDE-33F4-4FA3-8391-FB8C87D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2D2-D1DB-4397-A0E2-51ED400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CAD-A005-4635-A34D-9EEE505C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72E-83AF-4201-B5D4-1B4E781B8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6300-5E37-4CEC-94FD-3727801E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Цветы из пластилин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162000"/>
            <a:ext cx="44654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5120" y="1308240"/>
            <a:ext cx="5333760" cy="4241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8000" y="544500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елаю успехов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4103640" cy="1009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1268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тон р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51640" y="2558880"/>
            <a:ext cx="2592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1798560"/>
            <a:ext cx="2592720" cy="1722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590920" cy="186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4005360"/>
            <a:ext cx="2111400" cy="2236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635280" y="10000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1000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625840"/>
            <a:ext cx="3887640" cy="251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89520" y="2133720"/>
            <a:ext cx="3597120" cy="3754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16360" y="100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2843280"/>
            <a:ext cx="27370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325760" cy="230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83640" y="14986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1528920"/>
            <a:ext cx="5975280" cy="394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54440" y="85104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из пласти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90600" y="1380960"/>
            <a:ext cx="4762800" cy="409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87360" y="63504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на тарело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1179360"/>
            <a:ext cx="5113440" cy="4631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0560" y="49068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в в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0600" y="157320"/>
            <a:ext cx="47628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8:42:28Z</dcterms:created>
  <dc:creator>Администратор</dc:creator>
  <dc:description/>
  <dc:language>en-US</dc:language>
  <cp:lastModifiedBy>Администратор</cp:lastModifiedBy>
  <dcterms:modified xsi:type="dcterms:W3CDTF">2012-11-25T19:34:48Z</dcterms:modified>
  <cp:revision>4</cp:revision>
  <dc:subject/>
  <dc:title>Цветы из пластилина</dc:title>
</cp:coreProperties>
</file>