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A04-4509-4806-98DE-0A4E5F77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FED-B428-4582-8C98-24F35B1B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1E8-9EF6-446C-8A9C-160A27BA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108-DFE2-48EE-BA96-01292473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4EF9-8BC3-4ED8-AF7E-AFD9A9BE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3691-1858-4C4B-92F1-B296314F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0C55-555F-4994-A9F3-EC79AEB0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2EF3-D107-42D6-A833-410CA459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D8AA-2734-4397-AAE1-30DEBB04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31AB-7EF1-484B-951E-B322ADAE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FC89-2D54-422D-907E-48BE82AD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91A-AA51-4F22-BF50-93025176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C769-E8AC-4E7A-BE95-504723A2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11CF-422F-42DE-A879-CD98DE11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294D-378E-4E68-A772-93739FF1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9AF2-7D17-49F3-AAD9-EA01AF54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E71D-0DEA-4829-960B-9ABAB125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60A1-65D9-48CC-928C-D862AAC6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5EE8-D9FD-42CA-B028-8383F9A7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2733-DE11-4E71-AEC8-7D9E49B2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431D-5D8D-4570-B600-40E83676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998AD-A150-42FD-8C24-FD97716E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007-8D01-4B9B-9B10-80153E8A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33CF-F217-4434-B68F-B84479E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A4B0-01AB-45A2-9E1F-04A3B848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EE21-222C-4645-9858-4E904DE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52CE-4157-4F70-9FDC-0C38353D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EB4E-4F49-436D-B4D9-65B0AF7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DE80-21D2-4F96-8943-EE1C2EC5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22EE-DA8A-4379-B28C-AAF168B6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5BE-2614-4A21-B5EE-6F24E15F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A31-36D0-482D-9780-44EBDF2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1EB-03E0-4B05-9C90-0CF6DA8C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AC8-E74B-40BD-9CBF-1874E0E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8C8-487E-40E4-B0F7-71CAF904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14A-9FF3-414B-9BAE-9565F06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08DA-35A1-4F4F-9238-22234F14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4F88-9443-47C3-89EF-167A2A9B0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C7D9-3404-4CA0-AC2D-96A9350E5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Цветы из пластилина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95640" y="162000"/>
            <a:ext cx="446544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05120" y="1308240"/>
            <a:ext cx="5333760" cy="4241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08000" y="5445000"/>
            <a:ext cx="53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елаю успехов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4103640" cy="1009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2360" y="1268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тон р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51640" y="2558880"/>
            <a:ext cx="2592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1798560"/>
            <a:ext cx="2592720" cy="1722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590920" cy="1865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48000" y="4005360"/>
            <a:ext cx="2111400" cy="2236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635280" y="100008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10000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2625840"/>
            <a:ext cx="3887640" cy="251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89520" y="2133720"/>
            <a:ext cx="3597120" cy="3754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16360" y="100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2843280"/>
            <a:ext cx="273708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4325760" cy="2301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83640" y="14986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ис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360" y="1528920"/>
            <a:ext cx="5975280" cy="3943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54440" y="85104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веты из пласти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190600" y="1380960"/>
            <a:ext cx="4762800" cy="409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87360" y="635040"/>
            <a:ext cx="47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веты на тарело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0920" y="1179360"/>
            <a:ext cx="5113440" cy="4631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0560" y="490680"/>
            <a:ext cx="32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веты в в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90600" y="157320"/>
            <a:ext cx="47628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8:42:28Z</dcterms:created>
  <dc:creator>Администратор</dc:creator>
  <dc:description/>
  <dc:language>en-US</dc:language>
  <cp:lastModifiedBy>Администратор</cp:lastModifiedBy>
  <dcterms:modified xsi:type="dcterms:W3CDTF">2012-11-25T19:34:48Z</dcterms:modified>
  <cp:revision>4</cp:revision>
  <dc:subject/>
  <dc:title>Цветы из пластилина</dc:title>
</cp:coreProperties>
</file>