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A61-DE19-44F6-9A22-D406ED88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EB1-B750-463B-84A4-C140FEDB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42B-B6E7-4A4A-AA2F-B004CD9E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5F2-3A18-4F9D-AD99-CDD9DDFD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900F-3855-439B-ACEC-8D794A93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010D-CF4C-44E7-A466-18F15F42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20B5-ACF8-49C7-BB79-0C79343C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D178-1B7C-4F4F-96B6-69C30F48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9DB3-0017-436A-84D5-A4DCF5A5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6EA4-20B4-4AE6-8DA9-04727DA4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5C6E-2252-48B2-A4CE-9CF3FDAE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F25-DC1A-424D-BBCC-E58E7090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2750-0189-4EF9-A252-FE6A28EC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2EAE-E9E3-48A0-A9DA-12D48B80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12AA-7095-46D3-B4E0-4FADA014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1FBD-6245-4BA0-82C5-C1174E83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AD2B-6D80-441D-9990-9482A41D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9CC3-65E6-4855-8E7E-A5AB80AD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0964-4C80-411D-BFBC-7A51C588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3F73-240F-4203-A389-EEBAB8C2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026B-5FC9-4BF9-B36B-5FB98D14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3BC6-A6A8-486B-9392-8E976802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49E-9E8F-4C57-8547-26AD7DA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5B92-4797-4B25-A7DC-1BC6BC00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E673-5385-4CCE-9687-4AC4EE4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EDA79-9409-4CB9-BDB1-6DEA8512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66076-44F4-4595-A200-5A714016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B89E-0CAC-45C4-976A-3ACAA2FD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572E-3D3E-4D63-802C-BEA36E87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5DD9A-F623-4A8F-99E3-B6944088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117E-9874-48EC-BF7E-CEB68E35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8DBA-742A-4E8F-96A9-5A4427E5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51B1C-98BD-482D-9073-55F1DC60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F7C-674F-4F93-BB47-E4B9251D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3D393-257A-4372-8852-FACB469B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82C7-4E4D-472C-ABCD-2B13FF3F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19EEF-315A-43B1-B51E-F2E5E165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73DE7-9A99-4C9A-86A5-E4DB47F4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29DF5-8C41-47E2-99DA-D993762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B4DA5-9B9A-40DD-AA2E-EEBE1EC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65284-7822-4545-970C-5C361F43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5003-8094-4C7C-B7D3-7C8D73F5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F18B2-6E37-48D6-8C4C-6086E263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B9930-8CCB-4EF1-A20D-E409E09C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21D-9FC0-46BF-B316-4FD55AD3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F1AA-6F37-446F-99B9-68F5860A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72F1E-B30B-4E58-801B-AEC605AF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ED7EA-B5C9-4D7C-B7A0-0726FB1D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35A8F-CF9D-47D9-8996-ADB3B8CD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7D870-0772-4519-AC1F-6573C568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0C4E-CDCD-4003-8896-BE3500A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1B3D8-4A13-4B60-B7E5-9FB2F21A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24F1A-C2B8-45E6-9BA4-8B3ABA6E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D641D-3A96-4628-984B-3E22741B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3A21-EEB0-437A-BB17-D537FA0B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1CB-A85F-4A24-B429-9974B278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C735-332D-4952-8137-B5E3C6D7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147-4D3B-4D11-A3BA-1D117721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4F7-A0D8-4798-88EF-6B38045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F2E-6946-4163-B502-BA13EBED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EA9C-F994-4648-9F22-2C961F7513A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176E-09E1-4589-9A04-B34345649A3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1A00-6E35-4994-B7FC-3315A08F30B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57A2-79B5-40B9-9F07-CDB4696D7E5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D6B3-1F45-4A2B-87D8-F9205BAAD6E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71f28"/>
                </a:solidFill>
                <a:latin typeface="Verdana"/>
              </a:rPr>
              <a:t>Деловое общени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419640" y="4797000"/>
            <a:ext cx="5473440" cy="18716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и : воспитате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иулина Ю.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ина Е.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395280" y="404640"/>
            <a:ext cx="83534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округ Люберцы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У СОШ №27, дошкольное отделение №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02920" y="529920"/>
            <a:ext cx="8101080" cy="570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    </a:t>
            </a:r>
            <a:r>
              <a:rPr b="1" lang="ru-RU" sz="19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Цель родителей и педагога одна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спитание и обучение ребенка, и лишь объединив усилия, можно достичь положительный результат.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средством установления контакта с родителями для педагога является он сам, а именно: его профессиональные знания, умение их преподнести; его педагогический имидж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ходя из этого, перед педагогами стоят следующие задач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повышать свой профессиональный уровен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я дифференцированно подходить к организации работы с родителя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атмосферу взаимопонимания, общности интересов, эмоциональной взаимоподдержк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ировать пути разрешения конфликт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Рисунок 3" descr="https://cf.ppt-online.org/files/slide/n/nQDcl7T9odAM8qwVmfKzkjprLPX0R4YbeJUsBg/slide-0.jpg"/>
          <p:cNvPicPr/>
          <p:nvPr/>
        </p:nvPicPr>
        <p:blipFill>
          <a:blip r:embed="rId1"/>
          <a:srcRect l="14498" t="44983" r="17884" b="0"/>
          <a:stretch/>
        </p:blipFill>
        <p:spPr>
          <a:xfrm>
            <a:off x="3059280" y="1989000"/>
            <a:ext cx="2531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3280" y="530280"/>
            <a:ext cx="8183520" cy="534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452520" indent="-45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педагога и родителей должно строиться, опираясь на следующие принципы (В.Н. Куницына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инцип коопер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говорит о том, что информация для родителей должна быть оптимальной, быть ясной (без многословности), соответствовать целям, предмету разговора, содержать правдивые высказы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инцип вежлив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дразумевает тактичность, великодушие, одобрение, скромность, согласие, благожелательно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11280" y="475920"/>
            <a:ext cx="8183520" cy="597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Важно!!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«Встречают по одежке, а провожают по уму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</a:t>
            </a:r>
            <a:r>
              <a:rPr b="0" lang="ru-RU" sz="19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(Наш внешний вид (стиль одежды, прическа) инстинктивно подсказывает родителям, как с нами общаться, поэтому педагогу важно иметь презентабельный внешний вид: ухоженная внешность, аккуратная прическа, чистая обувь (туфельки или балетки, а не тапочки без задников), деловой стиль в одежде.</a:t>
            </a:r>
            <a:r>
              <a:rPr b="0" lang="ru-RU" sz="1900" spc="-1" strike="noStrike">
                <a:solidFill>
                  <a:srgbClr val="323232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323232"/>
                </a:solidFill>
                <a:uFillTx/>
                <a:latin typeface="Times New Roman"/>
                <a:ea typeface="Times New Roman"/>
              </a:rPr>
              <a:t>Основные правила этики делового общения: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о первое:</a:t>
            </a:r>
            <a:r>
              <a:rPr b="0" lang="ru-RU" sz="19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 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авторитета родителе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 стороны педагога не допустимы категоричность и  нравоучительный тон, только взаимное уважение, где происходит совместное обсуждение проблемы и поиск решения, который удовлетворит обе стороны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о второе:</a:t>
            </a:r>
            <a:r>
              <a:rPr b="1" lang="ru-RU" sz="19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а в воспитательные возможности родителей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7200" indent="-12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, как профессионалам в своем деле, необходимо «помочь» родителям, повысив уровень их педагогической культуры через различные формы взаимодействия с семьей (консультации, круглые столы, мастер – классы, родительские собрания, памятки и др.)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Рисунок 3" descr="https://thumbs.dreamstime.com/b/%D0%B6%D0%B5%D0%BD%D1%89%D0%B8%D0%BD%D0%B0-%D1%83%D1%87%D0%B8%D1%82%D0%B5-%D1%8F-%D1%81-%D0%BA%D0%BD%D0%B8%D0%B3%D0%B0%D0%BC%D0%B8-46640030.jpg"/>
          <p:cNvPicPr/>
          <p:nvPr/>
        </p:nvPicPr>
        <p:blipFill>
          <a:blip r:embed="rId1"/>
          <a:srcRect l="25309" t="3241" r="17355" b="3189"/>
          <a:stretch/>
        </p:blipFill>
        <p:spPr>
          <a:xfrm>
            <a:off x="1116000" y="836640"/>
            <a:ext cx="1368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3280" y="529920"/>
            <a:ext cx="608472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о треть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так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н характеризуется обоснованностью и гибкостью применения методов, форм и приемов педагогического воздействия и не терпит шаблона и формализма. Основа такта — выдержка и уравновешенность педагога. Какой бы ни была семья, какими бы воспитанными ни были родители, педагог должен быть всегда тактичным, доброжелательным. Все знания обращать  на помощь родителям в воспитани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о четверто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а сильные стороны ребенка в решении пробле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ние личности дошкольника – это трудоемкий процесс, и он не обходиться без трудностей и противоречий. Необходимо воспринимать это, как часть развития, пробовать различные методы и приемы в решении данной проблемы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2" descr="https://cspsid-pechatniki.ru/800/600/https/ds05.infourok.ru/uploads/ex/01c1/000fccb8-0a3f202b/img2.jpg"/>
          <p:cNvPicPr/>
          <p:nvPr/>
        </p:nvPicPr>
        <p:blipFill>
          <a:blip r:embed="rId1"/>
          <a:srcRect l="50157" t="23780" r="1854" b="0"/>
          <a:stretch/>
        </p:blipFill>
        <p:spPr>
          <a:xfrm>
            <a:off x="6516720" y="3573360"/>
            <a:ext cx="1712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9492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И еще несколько важных правил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ую беседу с родителем нужно продумать: наметить цель и содержание беседы, какой будет предполагаемый результа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общения не забывать о манере поведения, жестах, позе; сохранять доброжелательную атмосферу и показать желание разобраться в сложившейся ситу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 избегать оценочных суждений, начинающихся с «не» (непослушный, невоспитанный), а также не рекомендуется после положительной информации о ребенке, говорить о негативных фактах через союз «но» (ваш сын умный, но непослушный); чаще употреблять «мы», «вместе» (а не «ваш ребенок»), что будет говорить об общей цели в решении проблем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нужно выслушать мнение родителя, а также выразить свое мнение по поводу услышанного («Я рад тому, что у нас единые взгляды на..», «Меня удивило..», «Я огорчена..» и т.д.). Конкретные советы должны даваться педагогом только в том случае, если родитель просит у него совет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будет более конструктивной, если Вы выразите сочувствие, понимание переживаниям родителей («Я вижу, Вы обеспокоены поведением…», «Постараюсь понять Вас…», «Давайте вместе разберемся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03280" y="529920"/>
            <a:ext cx="6516720" cy="577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Решение педагогических ситу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 нужна помощь родителей, что-то сделать, некоторые родители обещают, но не делают, другие молчат и не делают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аш выход из ситуаци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, забирая вечером ребенка из детского сада, не заходит на территорию и не разговаривает с воспитателями. Игнорирует приветствия и другие знаки вежливого отношения.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и действ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решил поговорить с матерью пятилетнего ребёнка по поводу драчливости мальчика.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начнёте беседу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«Дима, собери игрушки после того, как поиграешь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 приходит, ребенок убегает к нему, игрушки собирать не думает,   родитель молчит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 К чему приводит такое воспитание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еагирует воспитатель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у ситуацию понимает ребенок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Рисунок 3" descr="https://w7.pngwing.com/pngs/155/461/png-transparent-computer-icons-symbol-question-mark-symbol-miscellaneous-trademark-business.png"/>
          <p:cNvPicPr/>
          <p:nvPr/>
        </p:nvPicPr>
        <p:blipFill>
          <a:blip r:embed="rId1"/>
          <a:srcRect l="22706" t="0" r="0" b="0"/>
          <a:stretch/>
        </p:blipFill>
        <p:spPr>
          <a:xfrm>
            <a:off x="7020000" y="404640"/>
            <a:ext cx="17287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404640"/>
            <a:ext cx="8183520" cy="511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Рисунок 6" descr="https://www.fgconsulting.ru/images/stories/5_1.jpg"/>
          <p:cNvPicPr/>
          <p:nvPr/>
        </p:nvPicPr>
        <p:blipFill>
          <a:blip r:embed="rId1"/>
          <a:srcRect l="10999" t="11745" r="12811" b="10028"/>
          <a:stretch/>
        </p:blipFill>
        <p:spPr>
          <a:xfrm>
            <a:off x="3592440" y="2708280"/>
            <a:ext cx="20034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len</dc:creator>
  <dc:description/>
  <dc:language>en-US</dc:language>
  <cp:lastModifiedBy>Helen</cp:lastModifiedBy>
  <dcterms:modified xsi:type="dcterms:W3CDTF">2023-02-07T16:17:20Z</dcterms:modified>
  <cp:revision>35</cp:revision>
  <dc:subject/>
  <dc:title>Деловое сотрудничество с родителями</dc:title>
</cp:coreProperties>
</file>