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777-E48A-4360-BA2D-948B90CD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208-A4EB-4FD9-97E4-E0A9F9FB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673-7E69-4A05-8582-EF354CE2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39A-6B41-4CE1-A3E5-6E0B5C5F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8B8A-0B94-41D9-8D4C-2F31FD20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D09B-4A99-4966-A3DF-1466A22A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AD8A-51F6-474F-B2F9-5E30EB14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8158-1DE1-43B3-8097-2ED46757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B85D-1D96-49D4-AD48-33B1830B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A611-1022-4611-9F8E-C098D06C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A905-3421-4C17-B279-5DEE104F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2E8-252F-456C-A8AD-A98F9ED4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3F52-4BAB-494A-A17D-8323CCE3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418D-0991-4323-8BC1-69CA60F0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B315-835B-4CFA-9364-40A7B54C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A681-F206-424F-9938-89F67982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9257-1A14-4C2A-8B38-62CE76C2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508A1-9CB5-4CAD-9FB3-9B1C8CA0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3FEE-5F97-4B8A-9424-11BFE459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F6B2-24F6-4DA0-985D-FF963565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949E-5E0B-4C05-8B9A-7C997DE8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2611-1289-4BA7-9C07-42330E41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F35-5D52-439C-8E73-899656C0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B202-AFC6-412D-91F5-CAF3BF8F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3933-B483-4150-8F34-F5074184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9F8E-4BBA-4F63-9912-556B882A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09A7-9D66-4DC1-AEFA-5A96E665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9D06-F963-476C-8BC8-0DF1D68C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25BE-89AC-438A-B5F7-D37C24C4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BC666-AE1F-42A6-B54E-AF91AFE9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82D26-AE79-4F00-A8C1-C13E80F6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DA87-B3DA-413C-91D0-ACCFD563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AB3A2-1C8F-4089-B09E-1266D248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127-2AEE-48C4-96FB-6E16BE4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EE81B-519F-436D-831A-5F02C2D5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11A6-80F3-42AD-AFDC-41086BA3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3C01-F033-4470-AE0E-947243A8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0A38-38FB-47D5-BFCC-CADE7A2E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20E4-C55C-47FE-93BA-6B058788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4E6A-41CE-4480-9A75-0CF27EE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1687-F2E8-4266-8543-B9E04607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B8DB-E570-4561-AD1E-F9E46F40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0BB05-8EB3-4716-97C6-C2B05AFC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10A25-124B-4C03-82E9-EAD39A7B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65C-C532-433D-82CB-5F540B11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6B5D8-7B4C-4789-ABC5-6E84269D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625B-B992-46B8-A628-B8379323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F1603-D1C6-4323-A34E-51302C49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0FCF9-EE4D-43A2-8ACA-7B69A0FD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A7E7-0910-4063-BD25-F28B8161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96ED8-3F1B-4502-84B4-9DD4EB14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D4C5D-4A2E-4DF2-8C35-1D7B03E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DBFEE-E078-43EB-B2E7-52D535D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8AA5C-EEB2-4452-B9B4-C621AD1E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F4D39-974C-4563-93A1-4871FB26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519-091C-450C-86E7-FA3AA989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9CEB0-4FCC-44A1-A361-868580D7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981-8870-4FBB-964E-B32490A4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C76-BD21-4059-BA6A-F869E77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36D-8146-4104-877A-4E84ECC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EC00-69D8-4546-B9F2-389A50052D2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D366-CD38-4F40-89F1-F5BBD0C693D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28E4-EC02-4254-B539-F56DA4D046B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C705-81F1-4C74-898E-37CFDD01498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188E-5D51-406D-A447-3543CB03BE5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71f28"/>
                </a:solidFill>
                <a:latin typeface="Verdana"/>
              </a:rPr>
              <a:t>Деловое общени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419640" y="4797000"/>
            <a:ext cx="5473440" cy="18716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и : воспитате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иулина Ю.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ина Е.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395280" y="404640"/>
            <a:ext cx="83534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округ Люберцы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У СОШ №27, дошкольное отделение №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02920" y="529920"/>
            <a:ext cx="8101080" cy="570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    </a:t>
            </a:r>
            <a:r>
              <a:rPr b="1" lang="ru-RU" sz="19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Цель родителей и педагога одна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спитание и обучение ребенка, и лишь объединив усилия, можно достичь положительный результат.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средством установления контакта с родителями для педагога является он сам, а именно: его профессиональные знания, умение их преподнести; его педагогический имидж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ходя из этого, перед педагогами стоят следующие задач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повышать свой профессиональный уровен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я дифференцированно подходить к организации работы с родителя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атмосферу взаимопонимания, общности интересов, эмоциональной взаимоподдержк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ировать пути разрешения конфликт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Рисунок 3" descr="https://cf.ppt-online.org/files/slide/n/nQDcl7T9odAM8qwVmfKzkjprLPX0R4YbeJUsBg/slide-0.jpg"/>
          <p:cNvPicPr/>
          <p:nvPr/>
        </p:nvPicPr>
        <p:blipFill>
          <a:blip r:embed="rId1"/>
          <a:srcRect l="14498" t="44983" r="17884" b="0"/>
          <a:stretch/>
        </p:blipFill>
        <p:spPr>
          <a:xfrm>
            <a:off x="3059280" y="1989000"/>
            <a:ext cx="2531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3280" y="530280"/>
            <a:ext cx="8183520" cy="534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452520" indent="-45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педагога и родителей должно строиться, опираясь на следующие принципы (В.Н. Куницына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инцип коопер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говорит о том, что информация для родителей должна быть оптимальной, быть ясной (без многословности), соответствовать целям, предмету разговора, содержать правдивые высказы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инцип вежлив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дразумевает тактичность, великодушие, одобрение, скромность, согласие, благожелательно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11280" y="475920"/>
            <a:ext cx="8183520" cy="597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Важно!!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«Встречают по одежке, а провожают по уму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</a:t>
            </a:r>
            <a:r>
              <a:rPr b="0" lang="ru-RU" sz="19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(Наш внешний вид (стиль одежды, прическа) инстинктивно подсказывает родителям, как с нами общаться, поэтому педагогу важно иметь презентабельный внешний вид: ухоженная внешность, аккуратная прическа, чистая обувь (туфельки или балетки, а не тапочки без задников), деловой стиль в одежде.</a:t>
            </a:r>
            <a:r>
              <a:rPr b="0" lang="ru-RU" sz="1900" spc="-1" strike="noStrike">
                <a:solidFill>
                  <a:srgbClr val="323232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323232"/>
                </a:solidFill>
                <a:uFillTx/>
                <a:latin typeface="Times New Roman"/>
                <a:ea typeface="Times New Roman"/>
              </a:rPr>
              <a:t>Основные правила этики делового общения: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о первое:</a:t>
            </a:r>
            <a:r>
              <a:rPr b="0" lang="ru-RU" sz="19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 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авторитета родителе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 стороны педагога не допустимы категоричность и  нравоучительный тон, только взаимное уважение, где происходит совместное обсуждение проблемы и поиск решения, который удовлетворит обе стороны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о второе:</a:t>
            </a:r>
            <a:r>
              <a:rPr b="1" lang="ru-RU" sz="19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а в воспитательные возможности родителей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, как профессионалам в своем деле, необходимо «помочь» родителям, повысив уровень их педагогической культуры через различные формы взаимодействия с семьей (консультации, круглые столы, мастер – классы, родительские собрания, памятки и др.)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Рисунок 3" descr="https://thumbs.dreamstime.com/b/%D0%B6%D0%B5%D0%BD%D1%89%D0%B8%D0%BD%D0%B0-%D1%83%D1%87%D0%B8%D1%82%D0%B5-%D1%8F-%D1%81-%D0%BA%D0%BD%D0%B8%D0%B3%D0%B0%D0%BC%D0%B8-46640030.jpg"/>
          <p:cNvPicPr/>
          <p:nvPr/>
        </p:nvPicPr>
        <p:blipFill>
          <a:blip r:embed="rId1"/>
          <a:srcRect l="25309" t="3241" r="17355" b="3189"/>
          <a:stretch/>
        </p:blipFill>
        <p:spPr>
          <a:xfrm>
            <a:off x="1116000" y="836640"/>
            <a:ext cx="1368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3280" y="529920"/>
            <a:ext cx="608472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о треть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так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н характеризуется обоснованностью и гибкостью применения методов, форм и приемов педагогического воздействия и не терпит шаблона и формализма. Основа такта — выдержка и уравновешенность педагога. Какой бы ни была семья, какими бы воспитанными ни были родители, педагог должен быть всегда тактичным, доброжелательным. Все знания обращать  на помощь родителям в воспитани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о четверто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а сильные стороны ребенка в решении пробле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ние личности дошкольника – это трудоемкий процесс, и он не обходиться без трудностей и противоречий. Необходимо воспринимать это, как часть развития, пробовать различные методы и приемы в решении данной проблемы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2" descr="https://cspsid-pechatniki.ru/800/600/https/ds05.infourok.ru/uploads/ex/01c1/000fccb8-0a3f202b/img2.jpg"/>
          <p:cNvPicPr/>
          <p:nvPr/>
        </p:nvPicPr>
        <p:blipFill>
          <a:blip r:embed="rId1"/>
          <a:srcRect l="50157" t="23780" r="1854" b="0"/>
          <a:stretch/>
        </p:blipFill>
        <p:spPr>
          <a:xfrm>
            <a:off x="6516720" y="3573360"/>
            <a:ext cx="1712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9492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И еще несколько важных правил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ую беседу с родителем нужно продумать: наметить цель и содержание беседы, какой будет предполагаемый результа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общения не забывать о манере поведения, жестах, позе; сохранять доброжелательную атмосферу и показать желание разобраться в сложившейся ситу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 избегать оценочных суждений, начинающихся с «не» (непослушный, невоспитанный), а также не рекомендуется после положительной информации о ребенке, говорить о негативных фактах через союз «но» (ваш сын умный, но непослушный); чаще употреблять «мы», «вместе» (а не «ваш ребенок»), что будет говорить об общей цели в решении проблем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нужно выслушать мнение родителя, а также выразить свое мнение по поводу услышанного («Я рад тому, что у нас единые взгляды на..», «Меня удивило..», «Я огорчена..» и т.д.). Конкретные советы должны даваться педагогом только в том случае, если родитель просит у него совет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будет более конструктивной, если Вы выразите сочувствие, понимание переживаниям родителей («Я вижу, Вы обеспокоены поведением…», «Постараюсь понять Вас…», «Давайте вместе разберемся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03280" y="529920"/>
            <a:ext cx="6516720" cy="577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Решение педагогических ситу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 нужна помощь родителей, что-то сделать, некоторые родители обещают, но не делают, другие молчат и не делают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аш выход из ситуаци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, забирая вечером ребенка из детского сада, не заходит на территорию и не разговаривает с воспитателями. Игнорирует приветствия и другие знаки вежливого отношения.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и действ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решил поговорить с матерью пятилетнего ребёнка по поводу драчливости мальчика.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начнёте беседу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«Дима, собери игрушки после того, как поиграешь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 приходит, ребенок убегает к нему, игрушки собирать не думает,   родитель молчит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 К чему приводит такое воспитание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еагирует воспитатель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у ситуацию понимает ребенок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Рисунок 3" descr="https://w7.pngwing.com/pngs/155/461/png-transparent-computer-icons-symbol-question-mark-symbol-miscellaneous-trademark-business.png"/>
          <p:cNvPicPr/>
          <p:nvPr/>
        </p:nvPicPr>
        <p:blipFill>
          <a:blip r:embed="rId1"/>
          <a:srcRect l="22706" t="0" r="0" b="0"/>
          <a:stretch/>
        </p:blipFill>
        <p:spPr>
          <a:xfrm>
            <a:off x="7020000" y="404640"/>
            <a:ext cx="17287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404640"/>
            <a:ext cx="8183520" cy="511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Рисунок 6" descr="https://www.fgconsulting.ru/images/stories/5_1.jpg"/>
          <p:cNvPicPr/>
          <p:nvPr/>
        </p:nvPicPr>
        <p:blipFill>
          <a:blip r:embed="rId1"/>
          <a:srcRect l="10999" t="11745" r="12811" b="10028"/>
          <a:stretch/>
        </p:blipFill>
        <p:spPr>
          <a:xfrm>
            <a:off x="3592440" y="2708280"/>
            <a:ext cx="20034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len</dc:creator>
  <dc:description/>
  <dc:language>en-US</dc:language>
  <cp:lastModifiedBy>Helen</cp:lastModifiedBy>
  <dcterms:modified xsi:type="dcterms:W3CDTF">2023-02-07T16:17:20Z</dcterms:modified>
  <cp:revision>35</cp:revision>
  <dc:subject/>
  <dc:title>Деловое сотрудничество с родителями</dc:title>
</cp:coreProperties>
</file>