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0EC78-D59C-433F-855C-40EE2F60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12B4E5D-FE18-4B63-9F33-DECD22D843D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787-5776-4FBB-896B-C647A98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38E-6363-4548-8560-ED2F76A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218-8D87-480C-A5C7-FFF0CDAE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9A6-2D5C-485D-8E88-DCF46662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5E23-DFF9-40C0-8D1B-8875AD4A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3B9-06DD-42C5-BA41-ADC95FE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A82-ADC1-402E-AAEC-A93A4C3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1658-2D45-4541-A805-4ADACE8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E82-8D74-4374-B62C-CB170B2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F97C-3B53-4318-85CC-1898ED37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1A8-3737-456E-9CBE-12A4B67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4BF-7553-4B2F-8A25-F232A737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F8D8-69F2-4BCB-82ED-1F6B2E1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5A9-ABDB-4B76-A128-721121E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67DD-1975-4A2C-94A9-3FFE9FC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004-21BD-4AEA-8D67-2CDFF1C8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205-B4C0-4BBE-8506-009E82A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8F352-7451-4E8B-9EA4-EA5FE74C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BA118-6D0B-4036-9FC2-305C959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664B1-C509-4060-9FC7-DC750335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56615-3756-420F-99F9-40E4C62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BB7A0-077B-4A42-96A4-107D146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75A-E038-458A-AE27-67439AA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85AB8-617D-4361-B1B0-0853275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1B174-7EF8-48DE-A9B7-82AE0D3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BE941-3565-4412-B623-095E4DD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A296-2A62-4749-8E06-5031440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6FC09-6D02-40F7-AEC2-A9098D9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848E6-F526-496B-A901-99254318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C95EB-11D1-4A9F-8EE2-077E23F0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E66D-7EFA-4A72-9137-F964118D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4FB5-7236-4008-B0D1-9243330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41C0-0C8D-4F18-A083-F39E3B6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E10-6629-49E3-879E-61799AB0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31EF-46A5-417C-990F-4DAC97C5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80F6-5626-474A-A975-398F959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0A1D-8230-4E15-965F-08F1C5B1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F66A-8A56-4136-B38C-450C287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6D85-7E27-49C1-AC1A-48B12C1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9346-ECC0-44F0-9F67-3BFF0D59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7903-E8E0-429A-BA9F-1339CCB2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42A5-9F13-497B-A872-27794CEE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DC31-2A70-4A73-8715-24E7E193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8D3-3109-4245-97B6-33836B5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0FB-1C0E-4BBD-B187-6FF8C51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F47-3C55-4A38-8089-906DB40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058-333C-469F-B46E-28B91F6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C48-B227-4623-A041-9D836DA6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C46803A-3C61-4D93-8932-E4161A245F6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2F340A2-234E-47B7-90BE-B64C27EB648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080" cy="3034800"/>
          </a:xfrm>
          <a:custGeom>
            <a:avLst/>
            <a:gdLst>
              <a:gd name="textAreaLeft" fmla="*/ 0 w 1080"/>
              <a:gd name="textAreaRight" fmla="*/ 1440 w 1080"/>
              <a:gd name="textAreaTop" fmla="*/ 0 h 3034800"/>
              <a:gd name="textAreaBottom" fmla="*/ 3035160 h 3034800"/>
            </a:gdLst>
            <a:ahLst/>
            <a:rect l="textAreaLeft" t="textAreaTop" r="textAreaRight" b="textAreaBottom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04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D1FDD29-8AD0-4DFB-83F5-92DE45EB709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A1A65B-617E-48D5-A4DB-3C9F1563367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4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4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4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4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4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609480" y="1219320"/>
            <a:ext cx="8534160" cy="472392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45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89272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Муниципальная автономная дошкольная образовательная организация Краснослободского муниципального района Республики Мордовия «Центр развития ребенка – детский сад «Радуга»</a:t>
            </a:r>
            <a:br>
              <a:rPr sz="3200"/>
            </a:b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Духовно-нравственное развитие как   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 средство гармоничного воспитания    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 дошкольников</a:t>
            </a: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7" descr="http://www.proza.ru/pics/2012/11/17/1848.jpg"/>
          <p:cNvPicPr/>
          <p:nvPr/>
        </p:nvPicPr>
        <p:blipFill>
          <a:blip r:embed="rId1"/>
          <a:stretch/>
        </p:blipFill>
        <p:spPr>
          <a:xfrm>
            <a:off x="1365120" y="3273480"/>
            <a:ext cx="2835000" cy="22190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4419720" y="4210200"/>
            <a:ext cx="4723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оспитатель Сидорова Н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C:\Users\свой\AppData\Local\Microsoft\Windows\Temporary Internet Files\Content.Word\DSCN2370.jpg"/>
          <p:cNvPicPr/>
          <p:nvPr/>
        </p:nvPicPr>
        <p:blipFill>
          <a:blip r:embed="rId1"/>
          <a:stretch/>
        </p:blipFill>
        <p:spPr>
          <a:xfrm>
            <a:off x="228600" y="133200"/>
            <a:ext cx="8611920" cy="645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C:\Users\свой\AppData\Local\Microsoft\Windows\Temporary Internet Files\Content.Word\DSCN2444.jpg"/>
          <p:cNvPicPr/>
          <p:nvPr/>
        </p:nvPicPr>
        <p:blipFill>
          <a:blip r:embed="rId1"/>
          <a:stretch/>
        </p:blipFill>
        <p:spPr>
          <a:xfrm>
            <a:off x="201600" y="96840"/>
            <a:ext cx="8713440" cy="6532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C:\Users\свой\AppData\Local\Microsoft\Windows\Temporary Internet Files\Content.Word\DSCN2462.jpg"/>
          <p:cNvPicPr/>
          <p:nvPr/>
        </p:nvPicPr>
        <p:blipFill>
          <a:blip r:embed="rId1"/>
          <a:stretch/>
        </p:blipFill>
        <p:spPr>
          <a:xfrm>
            <a:off x="152280" y="228600"/>
            <a:ext cx="3580920" cy="3047760"/>
          </a:xfrm>
          <a:prstGeom prst="rect">
            <a:avLst/>
          </a:prstGeom>
          <a:ln w="9525">
            <a:solidFill>
              <a:srgbClr val="33cccc"/>
            </a:solidFill>
            <a:miter/>
          </a:ln>
        </p:spPr>
      </p:pic>
      <p:pic>
        <p:nvPicPr>
          <p:cNvPr id="193" name="Рисунок 4" descr="C:\Users\свой\AppData\Local\Microsoft\Windows\Temporary Internet Files\Content.Word\DSCN2446.jpg"/>
          <p:cNvPicPr/>
          <p:nvPr/>
        </p:nvPicPr>
        <p:blipFill>
          <a:blip r:embed="rId2"/>
          <a:stretch/>
        </p:blipFill>
        <p:spPr>
          <a:xfrm>
            <a:off x="4400640" y="3408480"/>
            <a:ext cx="4382640" cy="33937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C:\Users\свой\AppData\Local\Microsoft\Windows\Temporary Internet Files\Content.Word\DSCN2454.jpg"/>
          <p:cNvPicPr/>
          <p:nvPr/>
        </p:nvPicPr>
        <p:blipFill>
          <a:blip r:embed="rId3"/>
          <a:stretch/>
        </p:blipFill>
        <p:spPr>
          <a:xfrm>
            <a:off x="4419720" y="228600"/>
            <a:ext cx="4304880" cy="3222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C:\Users\свой\AppData\Local\Microsoft\Windows\Temporary Internet Files\Content.Word\DSCN2450.jpg"/>
          <p:cNvPicPr/>
          <p:nvPr/>
        </p:nvPicPr>
        <p:blipFill>
          <a:blip r:embed="rId4"/>
          <a:stretch/>
        </p:blipFill>
        <p:spPr>
          <a:xfrm>
            <a:off x="228600" y="3581280"/>
            <a:ext cx="3968280" cy="2971440"/>
          </a:xfrm>
          <a:prstGeom prst="rect">
            <a:avLst/>
          </a:prstGeom>
          <a:ln w="0">
            <a:solidFill>
              <a:srgbClr val="00b05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C:\Users\свой\Desktop\DSCN2411.JPG"/>
          <p:cNvPicPr/>
          <p:nvPr/>
        </p:nvPicPr>
        <p:blipFill>
          <a:blip r:embed="rId1"/>
          <a:stretch/>
        </p:blipFill>
        <p:spPr>
          <a:xfrm>
            <a:off x="228600" y="228600"/>
            <a:ext cx="4163760" cy="312372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4" descr="C:\Users\свой\Desktop\DSCN2410.JPG"/>
          <p:cNvPicPr/>
          <p:nvPr/>
        </p:nvPicPr>
        <p:blipFill>
          <a:blip r:embed="rId2"/>
          <a:srcRect l="0" t="5605" r="-1765" b="10983"/>
          <a:stretch/>
        </p:blipFill>
        <p:spPr>
          <a:xfrm>
            <a:off x="4800600" y="228600"/>
            <a:ext cx="4343040" cy="312372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5" descr="C:\Users\Дом\AppData\Local\Microsoft\Windows\Temporary Internet Files\Content.Word\DSCN2401.jpg"/>
          <p:cNvPicPr/>
          <p:nvPr/>
        </p:nvPicPr>
        <p:blipFill>
          <a:blip r:embed="rId3"/>
          <a:stretch/>
        </p:blipFill>
        <p:spPr>
          <a:xfrm>
            <a:off x="254160" y="304920"/>
            <a:ext cx="8737200" cy="65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01" name="Picture 4" descr="img027"/>
          <p:cNvPicPr/>
          <p:nvPr/>
        </p:nvPicPr>
        <p:blipFill>
          <a:blip r:embed="rId1"/>
          <a:stretch/>
        </p:blipFill>
        <p:spPr>
          <a:xfrm>
            <a:off x="0" y="-380880"/>
            <a:ext cx="9927720" cy="72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04" name="Picture 4" descr="DSCN134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img020"/>
          <p:cNvPicPr/>
          <p:nvPr/>
        </p:nvPicPr>
        <p:blipFill>
          <a:blip r:embed="rId1"/>
          <a:srcRect l="0" t="16668" r="11785" b="7141"/>
          <a:stretch/>
        </p:blipFill>
        <p:spPr>
          <a:xfrm>
            <a:off x="228600" y="152280"/>
            <a:ext cx="3536640" cy="411444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2" descr="D:\мама\подготовительная группа\Вика доктор\DSCN0229.JPG"/>
          <p:cNvPicPr/>
          <p:nvPr/>
        </p:nvPicPr>
        <p:blipFill>
          <a:blip r:embed="rId2"/>
          <a:stretch/>
        </p:blipFill>
        <p:spPr>
          <a:xfrm>
            <a:off x="4114800" y="228600"/>
            <a:ext cx="4876560" cy="36572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C:\Users\Валерий\Desktop\слайды проект\DSCN1471.JPG"/>
          <p:cNvPicPr/>
          <p:nvPr/>
        </p:nvPicPr>
        <p:blipFill>
          <a:blip r:embed="rId3"/>
          <a:stretch/>
        </p:blipFill>
        <p:spPr>
          <a:xfrm>
            <a:off x="237960" y="249120"/>
            <a:ext cx="8746920" cy="1236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Валера\Desktop\Медкружок\IMG_20210324_114417.jpg"/>
          <p:cNvPicPr/>
          <p:nvPr/>
        </p:nvPicPr>
        <p:blipFill>
          <a:blip r:embed="rId4"/>
          <a:stretch/>
        </p:blipFill>
        <p:spPr>
          <a:xfrm>
            <a:off x="2590920" y="228600"/>
            <a:ext cx="46479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026"/>
          <p:cNvPicPr/>
          <p:nvPr/>
        </p:nvPicPr>
        <p:blipFill>
          <a:blip r:embed="rId1"/>
          <a:srcRect l="11117" t="1493" r="4489" b="8622"/>
          <a:stretch/>
        </p:blipFill>
        <p:spPr>
          <a:xfrm>
            <a:off x="457200" y="177840"/>
            <a:ext cx="8457840" cy="656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img022"/>
          <p:cNvPicPr/>
          <p:nvPr/>
        </p:nvPicPr>
        <p:blipFill>
          <a:blip r:embed="rId2"/>
          <a:srcRect l="4166" t="2302" r="4488" b="3449"/>
          <a:stretch/>
        </p:blipFill>
        <p:spPr>
          <a:xfrm>
            <a:off x="457200" y="228600"/>
            <a:ext cx="838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C:\Users\Валера\Desktop\дежурная\DSCN2005.JPG"/>
          <p:cNvPicPr/>
          <p:nvPr/>
        </p:nvPicPr>
        <p:blipFill>
          <a:blip r:embed="rId1"/>
          <a:stretch/>
        </p:blipFill>
        <p:spPr>
          <a:xfrm>
            <a:off x="380880" y="228600"/>
            <a:ext cx="8534160" cy="64004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C:\Users\Валера\Desktop\дежурная\DSCN1999.JPG"/>
          <p:cNvPicPr/>
          <p:nvPr/>
        </p:nvPicPr>
        <p:blipFill>
          <a:blip r:embed="rId2"/>
          <a:stretch/>
        </p:blipFill>
        <p:spPr>
          <a:xfrm>
            <a:off x="457200" y="228600"/>
            <a:ext cx="8381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DSCN1421"/>
          <p:cNvPicPr/>
          <p:nvPr/>
        </p:nvPicPr>
        <p:blipFill>
          <a:blip r:embed="rId1"/>
          <a:stretch/>
        </p:blipFill>
        <p:spPr>
          <a:xfrm>
            <a:off x="-3240" y="0"/>
            <a:ext cx="91468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Валера\Desktop\img1.jpg"/>
          <p:cNvPicPr/>
          <p:nvPr/>
        </p:nvPicPr>
        <p:blipFill>
          <a:blip r:embed="rId1"/>
          <a:stretch/>
        </p:blipFill>
        <p:spPr>
          <a:xfrm>
            <a:off x="304920" y="285840"/>
            <a:ext cx="8559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Валера\Desktop\ФОТКИ С ТЕЛЕФОНА\IMG_20211025_165118.jpg"/>
          <p:cNvPicPr/>
          <p:nvPr/>
        </p:nvPicPr>
        <p:blipFill>
          <a:blip r:embed="rId1"/>
          <a:stretch/>
        </p:blipFill>
        <p:spPr>
          <a:xfrm>
            <a:off x="304920" y="380880"/>
            <a:ext cx="4673160" cy="350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Валера\Desktop\ФОТКИ С ТЕЛЕФОНА\IMG_20211022_114734.jpg"/>
          <p:cNvPicPr/>
          <p:nvPr/>
        </p:nvPicPr>
        <p:blipFill>
          <a:blip r:embed="rId2"/>
          <a:stretch/>
        </p:blipFill>
        <p:spPr>
          <a:xfrm>
            <a:off x="3886200" y="2895480"/>
            <a:ext cx="4876560" cy="36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Users\Валера\Desktop\ФОТКИ С ТЕЛЕФОНА\IMG_20211021_163544.jpg"/>
          <p:cNvPicPr/>
          <p:nvPr/>
        </p:nvPicPr>
        <p:blipFill>
          <a:blip r:embed="rId1"/>
          <a:stretch/>
        </p:blipFill>
        <p:spPr>
          <a:xfrm>
            <a:off x="380880" y="228600"/>
            <a:ext cx="8407080" cy="630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:\Users\Валера\Desktop\ФОТКИ С ТЕЛЕФОНА\IMG_20211021_164746.jpg"/>
          <p:cNvPicPr/>
          <p:nvPr/>
        </p:nvPicPr>
        <p:blipFill>
          <a:blip r:embed="rId2"/>
          <a:stretch/>
        </p:blipFill>
        <p:spPr>
          <a:xfrm>
            <a:off x="609480" y="457200"/>
            <a:ext cx="8229240" cy="61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C:\Users\свой\AppData\Local\Microsoft\Windows\Temporary Internet Files\Content.Word\DSCN2422.jpg"/>
          <p:cNvPicPr/>
          <p:nvPr/>
        </p:nvPicPr>
        <p:blipFill>
          <a:blip r:embed="rId1"/>
          <a:stretch/>
        </p:blipFill>
        <p:spPr>
          <a:xfrm>
            <a:off x="762120" y="609480"/>
            <a:ext cx="7598880" cy="57146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C:\Users\свой\Desktop\корзина к проекту\DSCN2505.JPG"/>
          <p:cNvPicPr/>
          <p:nvPr/>
        </p:nvPicPr>
        <p:blipFill>
          <a:blip r:embed="rId2"/>
          <a:stretch/>
        </p:blipFill>
        <p:spPr>
          <a:xfrm>
            <a:off x="838080" y="609480"/>
            <a:ext cx="7619760" cy="57304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C:\Users\свой\AppData\Local\Microsoft\Windows\Temporary Internet Files\Content.Word\DSCN2449.jpg"/>
          <p:cNvPicPr/>
          <p:nvPr/>
        </p:nvPicPr>
        <p:blipFill>
          <a:blip r:embed="rId3"/>
          <a:stretch/>
        </p:blipFill>
        <p:spPr>
          <a:xfrm>
            <a:off x="838080" y="609480"/>
            <a:ext cx="76608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DSCN123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C:\Users\свой\Desktop\корзина к проекту\DSCN2415.JPG"/>
          <p:cNvPicPr/>
          <p:nvPr/>
        </p:nvPicPr>
        <p:blipFill>
          <a:blip r:embed="rId1"/>
          <a:stretch/>
        </p:blipFill>
        <p:spPr>
          <a:xfrm>
            <a:off x="380880" y="228600"/>
            <a:ext cx="8307000" cy="62481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C:\Users\свой\Desktop\корзина к проекту\DSCN2417.JPG"/>
          <p:cNvPicPr/>
          <p:nvPr/>
        </p:nvPicPr>
        <p:blipFill>
          <a:blip r:embed="rId2"/>
          <a:stretch/>
        </p:blipFill>
        <p:spPr>
          <a:xfrm>
            <a:off x="380880" y="235080"/>
            <a:ext cx="8305560" cy="6244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C:\Users\свой\AppData\Local\Microsoft\Windows\Temporary Internet Files\Content.Word\DSCN2450.jpg"/>
          <p:cNvPicPr/>
          <p:nvPr/>
        </p:nvPicPr>
        <p:blipFill>
          <a:blip r:embed="rId3"/>
          <a:stretch/>
        </p:blipFill>
        <p:spPr>
          <a:xfrm>
            <a:off x="353880" y="228600"/>
            <a:ext cx="8383320" cy="6276600"/>
          </a:xfrm>
          <a:prstGeom prst="rect">
            <a:avLst/>
          </a:prstGeom>
          <a:ln w="0">
            <a:solidFill>
              <a:srgbClr val="00b05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ahoma"/>
                <a:ea typeface="Arial"/>
              </a:rPr>
              <a:t>Основные направления духовно-нравственного воспитания  и развития  дошкольников: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57680" cy="591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1) Воспитание гражданственности, патриотизма, уважения к правам, свободам и обязанностям человека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2) Воспитание нравственных чувств и этического сознания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3) Воспитание трудолюбия, творческого отношения к учению, труду, жизни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4) Формирование ценностного отношения к здоровью и здоровому образу жизни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5) Воспитание ценностного отношения к природе, окружающей среде (экологическое воспитание);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6) Воспитание ценностного отношения к прекрасному, формирование представлений об эстетических идеалах и ценностях (эстетическое воспитание).                                    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гражданственности, патриотизма, уважения к правам и свободам человек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я о политическом устройстве РФ, символах государства, правах и обязанностях гражданина РФ, об исторической судьбе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интерес к государственным праздникам и событиям в жизни России, Мордовии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Содержимое 3" descr="C:\Users\свой\AppData\Local\Microsoft\Windows\Temporary Internet Files\Content.Word\DSCN2479.jpg"/>
          <p:cNvPicPr/>
          <p:nvPr/>
        </p:nvPicPr>
        <p:blipFill>
          <a:blip r:embed="rId1"/>
          <a:stretch/>
        </p:blipFill>
        <p:spPr>
          <a:xfrm>
            <a:off x="609480" y="457200"/>
            <a:ext cx="8229240" cy="5943240"/>
          </a:xfrm>
          <a:prstGeom prst="rect">
            <a:avLst/>
          </a:prstGeom>
          <a:ln w="9525">
            <a:noFill/>
          </a:ln>
        </p:spPr>
      </p:pic>
      <p:pic>
        <p:nvPicPr>
          <p:cNvPr id="230" name="Picture 2" descr="D:\мама\Старшая гр. 2018-19гг\Проект. Сидорова\3. Ноябрь\7.1. презент к Вирт экскурс мордовия\ВИРТ.ЭКСК.МОРД\45.jpg"/>
          <p:cNvPicPr/>
          <p:nvPr/>
        </p:nvPicPr>
        <p:blipFill>
          <a:blip r:embed="rId2"/>
          <a:stretch/>
        </p:blipFill>
        <p:spPr>
          <a:xfrm>
            <a:off x="5257800" y="380880"/>
            <a:ext cx="3524040" cy="469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SCN1420"/>
          <p:cNvPicPr/>
          <p:nvPr/>
        </p:nvPicPr>
        <p:blipFill>
          <a:blip r:embed="rId3"/>
          <a:stretch/>
        </p:blipFill>
        <p:spPr>
          <a:xfrm>
            <a:off x="533520" y="36180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C:\Users\Валера\Desktop\9_maja_19_2.jpg"/>
          <p:cNvPicPr/>
          <p:nvPr/>
        </p:nvPicPr>
        <p:blipFill>
          <a:blip r:embed="rId1"/>
          <a:stretch/>
        </p:blipFill>
        <p:spPr>
          <a:xfrm>
            <a:off x="838080" y="762120"/>
            <a:ext cx="7286400" cy="5214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C:\Users\Валера\Desktop\DSCN0265.JPG"/>
          <p:cNvPicPr/>
          <p:nvPr/>
        </p:nvPicPr>
        <p:blipFill>
          <a:blip r:embed="rId2"/>
          <a:stretch/>
        </p:blipFill>
        <p:spPr>
          <a:xfrm>
            <a:off x="888840" y="609480"/>
            <a:ext cx="7111800" cy="533376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6" descr="C:\Users\Валера\Desktop\foto_bibl_sirkina_5.jpg"/>
          <p:cNvPicPr/>
          <p:nvPr/>
        </p:nvPicPr>
        <p:blipFill>
          <a:blip r:embed="rId3"/>
          <a:stretch/>
        </p:blipFill>
        <p:spPr>
          <a:xfrm>
            <a:off x="612720" y="469800"/>
            <a:ext cx="7938720" cy="5625720"/>
          </a:xfrm>
          <a:prstGeom prst="rect">
            <a:avLst/>
          </a:prstGeom>
          <a:ln w="9525">
            <a:noFill/>
          </a:ln>
        </p:spPr>
      </p:pic>
      <p:pic>
        <p:nvPicPr>
          <p:cNvPr id="235" name="Рисунок 7" descr="C:\Users\Валера\Desktop\DSCN0369.JPG"/>
          <p:cNvPicPr/>
          <p:nvPr/>
        </p:nvPicPr>
        <p:blipFill>
          <a:blip r:embed="rId4"/>
          <a:stretch/>
        </p:blipFill>
        <p:spPr>
          <a:xfrm>
            <a:off x="533520" y="474840"/>
            <a:ext cx="8076960" cy="6055920"/>
          </a:xfrm>
          <a:prstGeom prst="rect">
            <a:avLst/>
          </a:prstGeom>
          <a:ln w="0">
            <a:solidFill>
              <a:srgbClr val="0070c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Валера\Desktop\мамка\слайды ВОВ фото\IMG_20190513_190453.jpg"/>
          <p:cNvPicPr/>
          <p:nvPr/>
        </p:nvPicPr>
        <p:blipFill>
          <a:blip r:embed="rId1"/>
          <a:stretch/>
        </p:blipFill>
        <p:spPr>
          <a:xfrm>
            <a:off x="2286000" y="609480"/>
            <a:ext cx="4686120" cy="624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Валера\Desktop\мамка\слайды ВОВ фото\IMG-20190513-WA0001.jpg"/>
          <p:cNvPicPr/>
          <p:nvPr/>
        </p:nvPicPr>
        <p:blipFill>
          <a:blip r:embed="rId2"/>
          <a:stretch/>
        </p:blipFill>
        <p:spPr>
          <a:xfrm>
            <a:off x="457200" y="304920"/>
            <a:ext cx="8381520" cy="628632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4" descr="C:\Users\Валера\Desktop\Презентавия ДНВ\IMG_20190513_190427.jpg"/>
          <p:cNvPicPr/>
          <p:nvPr/>
        </p:nvPicPr>
        <p:blipFill>
          <a:blip r:embed="rId3"/>
          <a:stretch/>
        </p:blipFill>
        <p:spPr>
          <a:xfrm>
            <a:off x="457200" y="304920"/>
            <a:ext cx="8330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250920" y="189000"/>
            <a:ext cx="8642160" cy="1294920"/>
          </a:xfrm>
          <a:prstGeom prst="plaque">
            <a:avLst>
              <a:gd name="adj" fmla="val 16667"/>
            </a:avLst>
          </a:prstGeom>
          <a:solidFill>
            <a:srgbClr val="0099cc">
              <a:alpha val="35000"/>
            </a:srgbClr>
          </a:solidFill>
          <a:ln w="3175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0200" y="228600"/>
            <a:ext cx="8713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духовно-нравственного воспитания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240" cy="473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3" descr="C:\Users\Валера\AppData\Local\Microsoft\Windows\Temporary Internet Files\Content.Word\DSCN0182.jpg"/>
          <p:cNvPicPr/>
          <p:nvPr/>
        </p:nvPicPr>
        <p:blipFill>
          <a:blip r:embed="rId1"/>
          <a:stretch/>
        </p:blipFill>
        <p:spPr>
          <a:xfrm>
            <a:off x="380880" y="990720"/>
            <a:ext cx="5327280" cy="4495320"/>
          </a:xfrm>
          <a:prstGeom prst="rect">
            <a:avLst/>
          </a:prstGeom>
          <a:ln w="19050">
            <a:solidFill>
              <a:srgbClr val="92d050"/>
            </a:solidFill>
            <a:miter/>
          </a:ln>
        </p:spPr>
      </p:pic>
      <p:pic>
        <p:nvPicPr>
          <p:cNvPr id="240" name="Рисунок 4" descr="C:\Users\Валера\AppData\Local\Microsoft\Windows\Temporary Internet Files\Content.Word\DSCN0175.jpg"/>
          <p:cNvPicPr/>
          <p:nvPr/>
        </p:nvPicPr>
        <p:blipFill>
          <a:blip r:embed="rId2"/>
          <a:srcRect l="16215" t="0" r="10811" b="8745"/>
          <a:stretch/>
        </p:blipFill>
        <p:spPr>
          <a:xfrm>
            <a:off x="6140520" y="990720"/>
            <a:ext cx="3003120" cy="44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240" cy="612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43" name="Picture 4" descr="DSCN1411"/>
          <p:cNvPicPr/>
          <p:nvPr/>
        </p:nvPicPr>
        <p:blipFill>
          <a:blip r:embed="rId1"/>
          <a:stretch/>
        </p:blipFill>
        <p:spPr>
          <a:xfrm>
            <a:off x="0" y="6480"/>
            <a:ext cx="913428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45" name="Picture 2" descr="C:\Users\Валера\Desktop\ФОТКИ С ТЕЛЕФОНА\IMG_20211021_155539.jpg"/>
          <p:cNvPicPr/>
          <p:nvPr/>
        </p:nvPicPr>
        <p:blipFill>
          <a:blip r:embed="rId1"/>
          <a:stretch/>
        </p:blipFill>
        <p:spPr>
          <a:xfrm>
            <a:off x="507960" y="190440"/>
            <a:ext cx="8178480" cy="6133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3" descr="C:\Users\свой\Desktop\Проект. Сидорова\5. Январь\DSCN2484.JPG"/>
          <p:cNvPicPr/>
          <p:nvPr/>
        </p:nvPicPr>
        <p:blipFill>
          <a:blip r:embed="rId1"/>
          <a:stretch/>
        </p:blipFill>
        <p:spPr>
          <a:xfrm>
            <a:off x="1066680" y="762120"/>
            <a:ext cx="6786360" cy="5181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Семинар – практикум по ОПК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" descr="F:\i.jpg"/>
          <p:cNvPicPr/>
          <p:nvPr/>
        </p:nvPicPr>
        <p:blipFill>
          <a:blip r:embed="rId1"/>
          <a:stretch/>
        </p:blipFill>
        <p:spPr>
          <a:xfrm>
            <a:off x="220680" y="1843200"/>
            <a:ext cx="8770680" cy="3992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C:\Users\свой\Desktop\Проект. Сидорова\DSCN2426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040" cy="5790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2" name="Picture 4" descr="DSCN1406"/>
          <p:cNvPicPr/>
          <p:nvPr/>
        </p:nvPicPr>
        <p:blipFill>
          <a:blip r:embed="rId1"/>
          <a:srcRect l="3255" t="2343" r="0" b="0"/>
          <a:stretch/>
        </p:blipFill>
        <p:spPr>
          <a:xfrm>
            <a:off x="0" y="0"/>
            <a:ext cx="9057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5" name="Picture 4" descr="DSCN1402"/>
          <p:cNvPicPr/>
          <p:nvPr/>
        </p:nvPicPr>
        <p:blipFill>
          <a:blip r:embed="rId1"/>
          <a:stretch/>
        </p:blipFill>
        <p:spPr>
          <a:xfrm>
            <a:off x="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8" name="Picture 4" descr="DSCN1408"/>
          <p:cNvPicPr/>
          <p:nvPr/>
        </p:nvPicPr>
        <p:blipFill>
          <a:blip r:embed="rId1"/>
          <a:stretch/>
        </p:blipFill>
        <p:spPr>
          <a:xfrm>
            <a:off x="-21924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60" name="Picture 4" descr="img024"/>
          <p:cNvPicPr/>
          <p:nvPr/>
        </p:nvPicPr>
        <p:blipFill>
          <a:blip r:embed="rId1"/>
          <a:srcRect l="3583" t="1731" r="4699" b="10807"/>
          <a:stretch/>
        </p:blipFill>
        <p:spPr>
          <a:xfrm>
            <a:off x="228600" y="228600"/>
            <a:ext cx="8767440" cy="609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Методологической основой разработки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и реализации ФГОС дошкольного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образования является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«Концепция духовно-нравственного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развития и воспитания личности    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гражданина России»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3" descr="C:\Users\свой\AppData\Local\Microsoft\Windows\Temporary Internet Files\Content.Word\DSCN2462.jpg"/>
          <p:cNvPicPr/>
          <p:nvPr/>
        </p:nvPicPr>
        <p:blipFill>
          <a:blip r:embed="rId1"/>
          <a:stretch/>
        </p:blipFill>
        <p:spPr>
          <a:xfrm>
            <a:off x="1295280" y="228600"/>
            <a:ext cx="7543440" cy="6419520"/>
          </a:xfrm>
          <a:prstGeom prst="rect">
            <a:avLst/>
          </a:prstGeom>
          <a:ln w="9525">
            <a:solidFill>
              <a:srgbClr val="33cccc"/>
            </a:solidFill>
            <a:miter/>
          </a:ln>
        </p:spPr>
      </p:pic>
      <p:pic>
        <p:nvPicPr>
          <p:cNvPr id="262" name="Рисунок 4" descr="C:\Users\свой\AppData\Local\Microsoft\Windows\Temporary Internet Files\Content.Word\DSCN2446.jpg"/>
          <p:cNvPicPr/>
          <p:nvPr/>
        </p:nvPicPr>
        <p:blipFill>
          <a:blip r:embed="rId2"/>
          <a:stretch/>
        </p:blipFill>
        <p:spPr>
          <a:xfrm>
            <a:off x="231840" y="-19080"/>
            <a:ext cx="898488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65" name="Picture 4" descr="IMG_1456"/>
          <p:cNvPicPr/>
          <p:nvPr/>
        </p:nvPicPr>
        <p:blipFill>
          <a:blip r:embed="rId1"/>
          <a:srcRect l="309" t="0" r="0" b="0"/>
          <a:stretch/>
        </p:blipFill>
        <p:spPr>
          <a:xfrm>
            <a:off x="0" y="-20520"/>
            <a:ext cx="9143640" cy="6878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7238880" y="5791320"/>
            <a:ext cx="1294920" cy="228240"/>
          </a:xfrm>
          <a:prstGeom prst="rect">
            <a:avLst/>
          </a:prstGeom>
          <a:solidFill>
            <a:srgbClr val="8866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800" spc="-1" strike="noStrike">
              <a:solidFill>
                <a:schemeClr val="lt1"/>
              </a:solidFill>
              <a:latin typeface="Tahoma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 здоровью и здоровому образу  жизни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ценностное отношение к своему здоровью и здоровью окружающи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стремление к здоровому образу жизни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здоровье нравственное и социально-психологическое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C:\Users\Валера\Desktop\Презентавия ДНВ\DSCN0668.JPG"/>
          <p:cNvPicPr/>
          <p:nvPr/>
        </p:nvPicPr>
        <p:blipFill>
          <a:blip r:embed="rId1"/>
          <a:stretch/>
        </p:blipFill>
        <p:spPr>
          <a:xfrm>
            <a:off x="228600" y="38088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D:\мама\к\13.jpg"/>
          <p:cNvPicPr/>
          <p:nvPr/>
        </p:nvPicPr>
        <p:blipFill>
          <a:blip r:embed="rId2"/>
          <a:stretch/>
        </p:blipFill>
        <p:spPr>
          <a:xfrm>
            <a:off x="4800600" y="30492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Users\Валера\Desktop\фото медицина\DSCN0636.JPG"/>
          <p:cNvPicPr/>
          <p:nvPr/>
        </p:nvPicPr>
        <p:blipFill>
          <a:blip r:embed="rId3"/>
          <a:srcRect l="0" t="14764" r="1731" b="11073"/>
          <a:stretch/>
        </p:blipFill>
        <p:spPr>
          <a:xfrm>
            <a:off x="1981080" y="3962520"/>
            <a:ext cx="4800240" cy="271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Валера\Desktop\Презентавия ДНВ\DSCN0608.JPG"/>
          <p:cNvPicPr/>
          <p:nvPr/>
        </p:nvPicPr>
        <p:blipFill>
          <a:blip r:embed="rId1"/>
          <a:stretch/>
        </p:blipFill>
        <p:spPr>
          <a:xfrm>
            <a:off x="228600" y="457200"/>
            <a:ext cx="4533480" cy="6044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Валера\Desktop\Презентавия ДНВ\DSCN0663.JPG"/>
          <p:cNvPicPr/>
          <p:nvPr/>
        </p:nvPicPr>
        <p:blipFill>
          <a:blip r:embed="rId2"/>
          <a:stretch/>
        </p:blipFill>
        <p:spPr>
          <a:xfrm>
            <a:off x="4876920" y="4572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274" name="Picture 4" descr="C:\Users\Валера\Desktop\Презентавия ДНВ\DSCN0706.JPG"/>
          <p:cNvPicPr/>
          <p:nvPr/>
        </p:nvPicPr>
        <p:blipFill>
          <a:blip r:embed="rId3"/>
          <a:stretch/>
        </p:blipFill>
        <p:spPr>
          <a:xfrm>
            <a:off x="4876920" y="3784680"/>
            <a:ext cx="4266720" cy="30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природе, окружающей среде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формирование экологического мировоззре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получение  элементарного опыта природоохранительной деятельности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развитие интереса к природе, понимание активной роли человека в природе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C:\Users\Валера\Desktop\дежурная\DSCN2026.JPG"/>
          <p:cNvPicPr/>
          <p:nvPr/>
        </p:nvPicPr>
        <p:blipFill>
          <a:blip r:embed="rId1"/>
          <a:stretch/>
        </p:blipFill>
        <p:spPr>
          <a:xfrm>
            <a:off x="685800" y="533520"/>
            <a:ext cx="7584840" cy="5562360"/>
          </a:xfrm>
          <a:prstGeom prst="rect">
            <a:avLst/>
          </a:prstGeom>
          <a:ln w="9525">
            <a:noFill/>
          </a:ln>
        </p:spPr>
      </p:pic>
      <p:pic>
        <p:nvPicPr>
          <p:cNvPr id="278" name="Рисунок 4" descr="C:\Users\Валера\Desktop\дежурная\DSCN2028.JPG"/>
          <p:cNvPicPr/>
          <p:nvPr/>
        </p:nvPicPr>
        <p:blipFill>
          <a:blip r:embed="rId2"/>
          <a:stretch/>
        </p:blipFill>
        <p:spPr>
          <a:xfrm>
            <a:off x="863640" y="457200"/>
            <a:ext cx="7517880" cy="56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C:\Users\Валера\Desktop\дежурная\DSCN1752.JPG"/>
          <p:cNvPicPr/>
          <p:nvPr/>
        </p:nvPicPr>
        <p:blipFill>
          <a:blip r:embed="rId1"/>
          <a:stretch/>
        </p:blipFill>
        <p:spPr>
          <a:xfrm>
            <a:off x="268200" y="208080"/>
            <a:ext cx="4382640" cy="32778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4" descr="C:\Users\Валера\Desktop\дежурная\DSCN1747.JPG"/>
          <p:cNvPicPr/>
          <p:nvPr/>
        </p:nvPicPr>
        <p:blipFill>
          <a:blip r:embed="rId2"/>
          <a:stretch/>
        </p:blipFill>
        <p:spPr>
          <a:xfrm>
            <a:off x="4913280" y="285840"/>
            <a:ext cx="4120920" cy="3126960"/>
          </a:xfrm>
          <a:prstGeom prst="rect">
            <a:avLst/>
          </a:prstGeom>
          <a:ln w="9525">
            <a:noFill/>
          </a:ln>
        </p:spPr>
      </p:pic>
      <p:pic>
        <p:nvPicPr>
          <p:cNvPr id="281" name="Рисунок 5" descr="C:\Users\Валера\Desktop\дежурная\DSCN1748.JPG"/>
          <p:cNvPicPr/>
          <p:nvPr/>
        </p:nvPicPr>
        <p:blipFill>
          <a:blip r:embed="rId3"/>
          <a:stretch/>
        </p:blipFill>
        <p:spPr>
          <a:xfrm>
            <a:off x="2206800" y="3425760"/>
            <a:ext cx="46573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4" name="Picture 2" descr="C:\Users\Валера\Desktop\Презентавия ДНВ\DSCN0524.JPG"/>
          <p:cNvPicPr/>
          <p:nvPr/>
        </p:nvPicPr>
        <p:blipFill>
          <a:blip r:embed="rId1"/>
          <a:stretch/>
        </p:blipFill>
        <p:spPr>
          <a:xfrm>
            <a:off x="457200" y="171360"/>
            <a:ext cx="8457840" cy="63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Валера\Desktop\Презентавия ДНВ\DSCN2326.JPG"/>
          <p:cNvPicPr/>
          <p:nvPr/>
        </p:nvPicPr>
        <p:blipFill>
          <a:blip r:embed="rId2"/>
          <a:stretch/>
        </p:blipFill>
        <p:spPr>
          <a:xfrm>
            <a:off x="457200" y="152280"/>
            <a:ext cx="842940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7" name="Picture 2" descr="C:\Users\Валера\Desktop\Презентавия ДНВ\DSCN2324.JPG"/>
          <p:cNvPicPr/>
          <p:nvPr/>
        </p:nvPicPr>
        <p:blipFill>
          <a:blip r:embed="rId1"/>
          <a:stretch/>
        </p:blipFill>
        <p:spPr>
          <a:xfrm>
            <a:off x="380880" y="266760"/>
            <a:ext cx="838152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8600" y="203040"/>
            <a:ext cx="8915040" cy="530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Arial"/>
              </a:rPr>
              <a:t>Духовно-нравственное воспитание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педагогически организованный процесс усвоения и принятия обучающимися базовых национальных ценностей, освоение системы общечеловеческих ценностей и культурных, духовных и нравственных ценностей многонационального народа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9" name="Picture 2" descr="C:\Users\Валера\Desktop\Презентавия ДНВ\DSCN2331.JPG"/>
          <p:cNvPicPr/>
          <p:nvPr/>
        </p:nvPicPr>
        <p:blipFill>
          <a:blip r:embed="rId1"/>
          <a:stretch/>
        </p:blipFill>
        <p:spPr>
          <a:xfrm>
            <a:off x="380880" y="228600"/>
            <a:ext cx="8432280" cy="632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1" name="Picture 2" descr="C:\Users\Валера\Desktop\Презентавия ДНВ\DSCN2337.JPG"/>
          <p:cNvPicPr/>
          <p:nvPr/>
        </p:nvPicPr>
        <p:blipFill>
          <a:blip r:embed="rId1"/>
          <a:stretch/>
        </p:blipFill>
        <p:spPr>
          <a:xfrm>
            <a:off x="380880" y="274680"/>
            <a:ext cx="8370360" cy="627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4" name="Picture 4" descr="DSCN1423"/>
          <p:cNvPicPr/>
          <p:nvPr/>
        </p:nvPicPr>
        <p:blipFill>
          <a:blip r:embed="rId1"/>
          <a:stretch/>
        </p:blipFill>
        <p:spPr>
          <a:xfrm>
            <a:off x="0" y="-609480"/>
            <a:ext cx="9143640" cy="74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7" name="Рисунок 3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5940000" cy="44510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6" descr="C:\Users\Валерий\AppData\Local\Microsoft\Windows\Temporary Internet Files\Content.Word\DSCN1652.jpg"/>
          <p:cNvPicPr/>
          <p:nvPr/>
        </p:nvPicPr>
        <p:blipFill>
          <a:blip r:embed="rId2"/>
          <a:stretch/>
        </p:blipFill>
        <p:spPr>
          <a:xfrm>
            <a:off x="457200" y="533520"/>
            <a:ext cx="5847840" cy="4385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C:\Users\Валерий\Desktop\фото к докладу\DSCN1530.JPG"/>
          <p:cNvPicPr/>
          <p:nvPr/>
        </p:nvPicPr>
        <p:blipFill>
          <a:blip r:embed="rId3"/>
          <a:stretch/>
        </p:blipFill>
        <p:spPr>
          <a:xfrm>
            <a:off x="0" y="2971800"/>
            <a:ext cx="5181120" cy="3885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DSCN1390"/>
          <p:cNvPicPr/>
          <p:nvPr/>
        </p:nvPicPr>
        <p:blipFill>
          <a:blip r:embed="rId4"/>
          <a:stretch/>
        </p:blipFill>
        <p:spPr>
          <a:xfrm>
            <a:off x="-21924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прекрасному (эстетическое воспитание</a:t>
            </a:r>
            <a:r>
              <a:rPr b="0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)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е о душевной и физической красоте человека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формирование эстетических идеалов, чувства прекрасного, умение видеть красоту окружающего мира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05" name="Picture 4" descr="DSCN140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08" name="Picture 4" descr="DSCN140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нравственных </a:t>
            </a:r>
            <a:br>
              <a:rPr sz="4000"/>
            </a:b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чувств и этического сознания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представления о базовых национальных российских ценностя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нравственный выбор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я о правилах поведе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свобода совести и вероисповеда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знание правил этики, культуры речи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13" name="Picture 4" descr="img028"/>
          <p:cNvPicPr/>
          <p:nvPr/>
        </p:nvPicPr>
        <p:blipFill>
          <a:blip r:embed="rId1"/>
          <a:stretch/>
        </p:blipFill>
        <p:spPr>
          <a:xfrm>
            <a:off x="-1447920" y="-838080"/>
            <a:ext cx="10938960" cy="76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трудолюбия, творческого отношения к учению, труду, жизни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представления о нравственных основах  труда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элементарные представления об основных профессия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навыки коллективной работы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314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183" name="Picture 5" descr="metody-vospitanija-mini"/>
          <p:cNvPicPr/>
          <p:nvPr/>
        </p:nvPicPr>
        <p:blipFill>
          <a:blip r:embed="rId1"/>
          <a:stretch/>
        </p:blipFill>
        <p:spPr>
          <a:xfrm>
            <a:off x="0" y="-257040"/>
            <a:ext cx="9143640" cy="74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E:\Фото доклад\P1080159.JPG"/>
          <p:cNvPicPr/>
          <p:nvPr/>
        </p:nvPicPr>
        <p:blipFill>
          <a:blip r:embed="rId1"/>
          <a:stretch/>
        </p:blipFill>
        <p:spPr>
          <a:xfrm>
            <a:off x="0" y="0"/>
            <a:ext cx="5651280" cy="4238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E:\Фото доклад\P1080165.JPG"/>
          <p:cNvPicPr/>
          <p:nvPr/>
        </p:nvPicPr>
        <p:blipFill>
          <a:blip r:embed="rId2"/>
          <a:stretch/>
        </p:blipFill>
        <p:spPr>
          <a:xfrm>
            <a:off x="3962520" y="2895480"/>
            <a:ext cx="4990680" cy="3742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C:\Users\Валера\Desktop\проект проф. подг.гр\картинки к проекту\DSCN1884.JPG"/>
          <p:cNvPicPr/>
          <p:nvPr/>
        </p:nvPicPr>
        <p:blipFill>
          <a:blip r:embed="rId3"/>
          <a:stretch/>
        </p:blipFill>
        <p:spPr>
          <a:xfrm>
            <a:off x="533520" y="457200"/>
            <a:ext cx="8113320" cy="59875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C:\Users\Валера\Desktop\проект проф. подг.гр\картинки к проекту\DSCN1879.JPG"/>
          <p:cNvPicPr/>
          <p:nvPr/>
        </p:nvPicPr>
        <p:blipFill>
          <a:blip r:embed="rId4"/>
          <a:stretch/>
        </p:blipFill>
        <p:spPr>
          <a:xfrm>
            <a:off x="533520" y="351000"/>
            <a:ext cx="8152920" cy="60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Валера\Desktop\Презентавия ДНВ\DSCN1976.JPG"/>
          <p:cNvPicPr/>
          <p:nvPr/>
        </p:nvPicPr>
        <p:blipFill>
          <a:blip r:embed="rId1"/>
          <a:stretch/>
        </p:blipFill>
        <p:spPr>
          <a:xfrm>
            <a:off x="0" y="838080"/>
            <a:ext cx="5687640" cy="42667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C:\Users\Валера\Desktop\проект проф. подг.гр\картинки к проекту\DSCN1842.JPG"/>
          <p:cNvPicPr/>
          <p:nvPr/>
        </p:nvPicPr>
        <p:blipFill>
          <a:blip r:embed="rId2"/>
          <a:srcRect l="3614" t="0" r="41623" b="1523"/>
          <a:stretch/>
        </p:blipFill>
        <p:spPr>
          <a:xfrm>
            <a:off x="5867280" y="914400"/>
            <a:ext cx="3123720" cy="4144680"/>
          </a:xfrm>
          <a:prstGeom prst="rect">
            <a:avLst/>
          </a:prstGeom>
          <a:ln w="0">
            <a:noFill/>
          </a:ln>
          <a:effectLst>
            <a:outerShdw algn="tl" dir="2700000" dist="37674">
              <a:srgbClr val="000000">
                <a:alpha val="40000"/>
              </a:srgbClr>
            </a:outerShdw>
          </a:effectLst>
        </p:spPr>
      </p:pic>
      <p:pic>
        <p:nvPicPr>
          <p:cNvPr id="322" name="Рисунок 3" descr="C:\Users\Валера\Desktop\проект проф. подг.гр\картинки к проекту\DSCN1847.JPG"/>
          <p:cNvPicPr/>
          <p:nvPr/>
        </p:nvPicPr>
        <p:blipFill>
          <a:blip r:embed="rId3"/>
          <a:stretch/>
        </p:blipFill>
        <p:spPr>
          <a:xfrm>
            <a:off x="0" y="22320"/>
            <a:ext cx="9159480" cy="68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4" name="Picture 2" descr="C:\Users\Валера\Desktop\Презентавия ДНВ\DSCN1976.JPG"/>
          <p:cNvPicPr/>
          <p:nvPr/>
        </p:nvPicPr>
        <p:blipFill>
          <a:blip r:embed="rId1"/>
          <a:stretch/>
        </p:blipFill>
        <p:spPr>
          <a:xfrm>
            <a:off x="380880" y="225360"/>
            <a:ext cx="8432280" cy="6327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Валера\Desktop\Презентавия ДНВ\DSCN1870.JPG"/>
          <p:cNvPicPr/>
          <p:nvPr/>
        </p:nvPicPr>
        <p:blipFill>
          <a:blip r:embed="rId2"/>
          <a:stretch/>
        </p:blipFill>
        <p:spPr>
          <a:xfrm>
            <a:off x="307800" y="228600"/>
            <a:ext cx="842940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7" name="Picture 2" descr="C:\Users\Валера\Desktop\Презентавия ДНВ\image-19-10-20-01-07-3.jpeg"/>
          <p:cNvPicPr/>
          <p:nvPr/>
        </p:nvPicPr>
        <p:blipFill>
          <a:blip r:embed="rId1"/>
          <a:stretch/>
        </p:blipFill>
        <p:spPr>
          <a:xfrm>
            <a:off x="304920" y="304920"/>
            <a:ext cx="843228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9" name="Picture 2" descr="C:\Users\Валера\Desktop\Презентавия ДНВ\IMG_6165.JPG"/>
          <p:cNvPicPr/>
          <p:nvPr/>
        </p:nvPicPr>
        <p:blipFill>
          <a:blip r:embed="rId1"/>
          <a:stretch/>
        </p:blipFill>
        <p:spPr>
          <a:xfrm>
            <a:off x="0" y="152280"/>
            <a:ext cx="9143640" cy="6095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Users\Валера\Desktop\Презентавия ДНВ\00002.00_17_20_18.Still001 (1).bmp"/>
          <p:cNvPicPr/>
          <p:nvPr/>
        </p:nvPicPr>
        <p:blipFill>
          <a:blip r:embed="rId2"/>
          <a:stretch/>
        </p:blipFill>
        <p:spPr>
          <a:xfrm>
            <a:off x="-68400" y="609480"/>
            <a:ext cx="921204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32" name="Picture 2" descr="C:\Users\Дом\Desktop\i.jpg"/>
          <p:cNvPicPr/>
          <p:nvPr/>
        </p:nvPicPr>
        <p:blipFill>
          <a:blip r:embed="rId1"/>
          <a:stretch/>
        </p:blipFill>
        <p:spPr>
          <a:xfrm>
            <a:off x="431640" y="228600"/>
            <a:ext cx="840708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Users\Валера\Desktop\3f9f7b72d6214610d520f16dc80e0520-800x.jpg"/>
          <p:cNvPicPr/>
          <p:nvPr/>
        </p:nvPicPr>
        <p:blipFill>
          <a:blip r:embed="rId1"/>
          <a:stretch/>
        </p:blipFill>
        <p:spPr>
          <a:xfrm>
            <a:off x="1295280" y="990720"/>
            <a:ext cx="6629040" cy="497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:\мама\подготовительная группа\день защитника\DSCN1960.JPG"/>
          <p:cNvPicPr/>
          <p:nvPr/>
        </p:nvPicPr>
        <p:blipFill>
          <a:blip r:embed="rId2"/>
          <a:stretch/>
        </p:blipFill>
        <p:spPr>
          <a:xfrm>
            <a:off x="507960" y="284040"/>
            <a:ext cx="8254800" cy="61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IMG_1764"/>
          <p:cNvPicPr/>
          <p:nvPr/>
        </p:nvPicPr>
        <p:blipFill>
          <a:blip r:embed="rId3"/>
          <a:srcRect l="0" t="6978" r="2842" b="14729"/>
          <a:stretch/>
        </p:blipFill>
        <p:spPr>
          <a:xfrm>
            <a:off x="1371600" y="0"/>
            <a:ext cx="6400440" cy="68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IMG_1764"/>
          <p:cNvPicPr/>
          <p:nvPr/>
        </p:nvPicPr>
        <p:blipFill>
          <a:blip r:embed="rId1"/>
          <a:srcRect l="0" t="6975" r="2843" b="14729"/>
          <a:stretch/>
        </p:blipFill>
        <p:spPr>
          <a:xfrm>
            <a:off x="1523880" y="0"/>
            <a:ext cx="6248160" cy="6713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metody-vospitanija-mini"/>
          <p:cNvPicPr/>
          <p:nvPr/>
        </p:nvPicPr>
        <p:blipFill>
          <a:blip r:embed="rId2"/>
          <a:stretch/>
        </p:blipFill>
        <p:spPr>
          <a:xfrm>
            <a:off x="0" y="-257040"/>
            <a:ext cx="9143640" cy="74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185" name="Содержимое 3" descr="C:\Users\Валера\Desktop\к видеоролику\18..JPG"/>
          <p:cNvPicPr/>
          <p:nvPr/>
        </p:nvPicPr>
        <p:blipFill>
          <a:blip r:embed="rId1"/>
          <a:stretch/>
        </p:blipFill>
        <p:spPr>
          <a:xfrm>
            <a:off x="304920" y="187200"/>
            <a:ext cx="8686440" cy="636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4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2022г. – год народной культуры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C:\Users\Валера\Desktop\1ntrP2gP4SdKzjMmi4bhaWDzzJSbHNiV.jpg"/>
          <p:cNvPicPr/>
          <p:nvPr/>
        </p:nvPicPr>
        <p:blipFill>
          <a:blip r:embed="rId1"/>
          <a:stretch/>
        </p:blipFill>
        <p:spPr>
          <a:xfrm>
            <a:off x="1219320" y="1571760"/>
            <a:ext cx="7391160" cy="496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мама\подготовительная группа\проект проф. подг.гр\фотоарсенал  к проекту\DSCN1926.JPG"/>
          <p:cNvPicPr/>
          <p:nvPr/>
        </p:nvPicPr>
        <p:blipFill>
          <a:blip r:embed="rId2"/>
          <a:stretch/>
        </p:blipFill>
        <p:spPr>
          <a:xfrm>
            <a:off x="1219320" y="1200240"/>
            <a:ext cx="7543440" cy="5657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C:\Users\свой\Desktop\корзина к проекту\20190513_122058.jpg"/>
          <p:cNvPicPr/>
          <p:nvPr/>
        </p:nvPicPr>
        <p:blipFill>
          <a:blip r:embed="rId1"/>
          <a:stretch/>
        </p:blipFill>
        <p:spPr>
          <a:xfrm>
            <a:off x="533520" y="380880"/>
            <a:ext cx="8152920" cy="61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cean</Template>
  <TotalTime>1355</TotalTime>
  <Application>LibreOffice/7.4.7.2$Linux_X86_64 LibreOffice_project/40$Build-2</Application>
  <AppVersion>15.0000</AppVersion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8:14:26Z</dcterms:created>
  <dc:creator>Пользователь</dc:creator>
  <dc:description/>
  <dc:language>en-US</dc:language>
  <cp:lastModifiedBy>Дом</cp:lastModifiedBy>
  <dcterms:modified xsi:type="dcterms:W3CDTF">2023-01-30T14:19:08Z</dcterms:modified>
  <cp:revision>1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7</vt:r8>
  </property>
  <property fmtid="{D5CDD505-2E9C-101B-9397-08002B2CF9AE}" pid="5" name="Version">
    <vt:r8>1</vt:r8>
  </property>
</Properties>
</file>