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9.png" ContentType="image/png"/>
  <Override PartName="/ppt/media/image7.png" ContentType="image/png"/>
  <Override PartName="/ppt/media/image12.jpeg" ContentType="image/jpeg"/>
  <Override PartName="/ppt/media/image6.png" ContentType="image/png"/>
  <Override PartName="/ppt/media/image21.png" ContentType="image/png"/>
  <Override PartName="/ppt/media/image4.png" ContentType="image/png"/>
  <Override PartName="/ppt/media/image13.jpeg" ContentType="image/jpeg"/>
  <Override PartName="/ppt/media/image20.jpeg" ContentType="image/jpeg"/>
  <Override PartName="/ppt/media/image18.png" ContentType="image/png"/>
  <Override PartName="/ppt/media/image19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ejaVu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DejaVu Serif"/>
              </a:defRPr>
            </a:lvl1pPr>
          </a:lstStyle>
          <a:p>
            <a:pPr indent="0" algn="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DejaVu Serif"/>
              </a:defRPr>
            </a:lvl1pPr>
          </a:lstStyle>
          <a:p>
            <a:pPr indent="0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DejaVu Serif"/>
              </a:defRPr>
            </a:lvl1pPr>
          </a:lstStyle>
          <a:p>
            <a:pPr indent="0" algn="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A8100-DE8E-4F23-B1AB-58F54956D216}" type="slidenum"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hyperlink" Target="https://ru.wikipedia.org/wiki/&#1055;&#1072;&#1088;&#1080;&#1082;" TargetMode="External"/><Relationship Id="rId2" Type="http://schemas.openxmlformats.org/officeDocument/2006/relationships/hyperlink" Target="https://ru.wikipedia.org/wiki/&#1056;&#1072;&#1079;&#1084;&#1072;&#1093;_&#1082;&#1088;&#1099;&#1083;&#1100;&#1077;&#1074;" TargetMode="External"/><Relationship Id="rId3" Type="http://schemas.openxmlformats.org/officeDocument/2006/relationships/hyperlink" Target="https://ru.wikipedia.org/wiki/&#1047;&#1084;&#1077;&#1080;" TargetMode="External"/><Relationship Id="rId4" Type="http://schemas.openxmlformats.org/officeDocument/2006/relationships/slide" Target="../slides/slide8.xml"/><Relationship Id="rId5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Здесь живут индийские слоны. Индийский слон – очень умное животное, могут бесшумно передвигаться сквозь заросли лес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F34BC-6766-4E79-8848-0CFAE6E5288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Он легко поддается дрессировке. Очень часто его используют для различных тяжелых работ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AD417-BC6F-4195-A268-9DDA7E1FF06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Чтобы ответить на вопрос Муравьишки, мы с вами побываем в самых жарких районах нашей планеты, где круглый год тепло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486BA-1B00-4430-9CF5-04DB079526F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Это открытые пространства, поросшие травой. Большая часть находится на территории Африки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F44B1-E6EB-4E9D-BFC8-6958AFDD0A4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Здесь живут африканские слоны. Африканский слон – самое крупное животное Африки. Их рост 4 метра, а вес 7 тонн. Слоны — травоядные, питаются листьями, травами, плодами, превосходно плавают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A1E47-E2E8-48C6-81D1-3763B8D4A08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Птица-секретарь – хищная птиц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Её своеобразное имя происходит от чёрных перьев на голове, напоминающих гусиные перья, которые раньше любили вставлять в свои </a:t>
            </a:r>
            <a:r>
              <a:rPr b="0" lang="ru-RU" sz="1200" spc="-1" strike="noStrike" u="sng">
                <a:solidFill>
                  <a:srgbClr val="ccccff"/>
                </a:solidFill>
                <a:uFillTx/>
                <a:latin typeface="Calibri"/>
                <a:ea typeface="DejaVu Sans"/>
                <a:hlinkClick r:id="rId1"/>
              </a:rPr>
              <a:t>парик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 судебные секретари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Длина птицы-секретаря насчитывает от 125 до 150 см, а вес достигает почти 4 кг. </a:t>
            </a:r>
            <a:r>
              <a:rPr b="0" lang="ru-RU" sz="1200" spc="-1" strike="noStrike" u="sng">
                <a:solidFill>
                  <a:srgbClr val="ccccff"/>
                </a:solidFill>
                <a:uFillTx/>
                <a:latin typeface="Calibri"/>
                <a:ea typeface="DejaVu Sans"/>
                <a:hlinkClick r:id="rId2"/>
              </a:rPr>
              <a:t>Размах крылье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 составляет примерно 210см. Птицы-секретари издают рычащие и каркающие звуки. Они ведут бродячий образ жизни. В поисках пищи они путешествуют с места на место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Главной пищей птиц-секретарей являются </a:t>
            </a:r>
            <a:r>
              <a:rPr b="0" lang="ru-RU" sz="1200" spc="-1" strike="noStrike" u="sng">
                <a:solidFill>
                  <a:srgbClr val="ccccff"/>
                </a:solidFill>
                <a:uFillTx/>
                <a:latin typeface="Calibri"/>
                <a:ea typeface="DejaVu Sans"/>
                <a:hlinkClick r:id="rId3"/>
              </a:rPr>
              <a:t>зме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 и поэтому они славятся как умелые их истребители. Во время борьбы со змеёй секретарь расправляет одно крыло и использует его как щит. Кроме змей они могут питаться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  <a:ea typeface="DejaVu Sans"/>
              </a:rPr>
              <a:t>ящерицам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,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  <a:ea typeface="DejaVu Sans"/>
              </a:rPr>
              <a:t>насекомым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, мелкими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  <a:ea typeface="DejaVu Sans"/>
              </a:rPr>
              <a:t>млекопитающим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 и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  <a:ea typeface="DejaVu Sans"/>
              </a:rPr>
              <a:t>птицам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. Оба партнёра, как правило, остаются верными друг другу на всю жизнь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6D8CF-F4AE-4776-8696-1EBE8B32E04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Из саванны мы переедем в тропические леса. Это густые, влажные, труднопроходимые места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7DD13-40E0-4372-96A4-0DDC3E9D122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4051C7-5BDA-49A6-B5B8-FA6796DD9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CAAAEE-A27C-46DD-AF8A-694B4322C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3A5AAF-C9C1-4630-8D3C-7A5C34170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599A36-E2AA-48BB-B274-158E1CAE9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AE5061-60FF-45C5-BADF-5C424FC26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5F6D51-13BA-4F23-AAF4-929F6C17C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7063A7-8DDD-4E56-B1F5-9E1315210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D6EE22-BB67-40BD-879D-BACB5EF33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195092-8717-4511-BB32-B7D3AA7B0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6A189B-63A5-4EF7-A0DB-D61AFDDA3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27506D-B513-48AB-9592-9EC114963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7B208B-7023-49FC-A226-60B8AAF5D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3720" y="6356160"/>
            <a:ext cx="28940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FB9C2-AF1B-4A98-89D8-57DA3B229A7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3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DejaVu Serif"/>
              </a:defRPr>
            </a:lvl1pPr>
          </a:lstStyle>
          <a:p>
            <a: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ejaVu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 fontScale="89000"/>
          </a:bodyPr>
          <a:p>
            <a:pPr marL="3052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2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3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4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5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6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000"/>
            </a:gs>
            <a:gs pos="100000">
              <a:srgbClr val="fac09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785880" y="100008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632523"/>
                </a:solidFill>
                <a:latin typeface="Calibri"/>
              </a:rPr>
              <a:t>Окружающий мир</a:t>
            </a:r>
            <a:br>
              <a:rPr sz="40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Где живут слоны?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0" name=""/>
          <p:cNvSpPr/>
          <p:nvPr/>
        </p:nvSpPr>
        <p:spPr>
          <a:xfrm>
            <a:off x="4140360" y="5103720"/>
            <a:ext cx="548640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DejaVu Sans"/>
              </a:rPr>
              <a:t>Копотилова В.С.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DejaVu Sans"/>
              </a:rPr>
              <a:t>учитель начальных классов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DejaVu Sans"/>
              </a:rPr>
              <a:t>Новоандреевская ООШ 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DejaVu Sans"/>
              </a:rPr>
              <a:t>им.Героя Советского Союза Н.С.Закоркина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403200" y="285840"/>
            <a:ext cx="8383680" cy="60721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357120" y="285840"/>
            <a:ext cx="8429760" cy="60721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828A2-4B6D-451E-B939-057C87E2470F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91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DejaVu Sans"/>
              </a:rPr>
              <a:t>www.na4alka.ru</a:t>
            </a:r>
            <a:endParaRPr b="0" lang="en-US" sz="1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5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457200" y="274680"/>
            <a:ext cx="8229600" cy="6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f7f7f"/>
                </a:solidFill>
                <a:latin typeface="Calibri"/>
              </a:rPr>
              <a:t>Индийские слоны</a:t>
            </a:r>
            <a:endParaRPr b="0" lang="en-US" sz="40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57120" y="1000080"/>
            <a:ext cx="8485200" cy="55720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890E0-D923-40D5-BB9D-6E6A209B5094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95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DejaVu Sans"/>
              </a:rPr>
              <a:t>www.na4alka.ru</a:t>
            </a:r>
            <a:endParaRPr b="0" lang="en-US" sz="1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785880" y="714240"/>
            <a:ext cx="7611840" cy="492948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785880" y="642960"/>
            <a:ext cx="7786800" cy="51958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785880" y="571680"/>
            <a:ext cx="7858080" cy="557208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75C35-71D2-4171-B817-F4694F1C53A0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00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DejaVu Sans"/>
              </a:rPr>
              <a:t>www.na4alka.ru</a:t>
            </a:r>
            <a:endParaRPr b="0" lang="en-US" sz="1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61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66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428760"/>
            <a:ext cx="7772400" cy="67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54061"/>
                </a:solidFill>
                <a:latin typeface="Calibri"/>
              </a:rPr>
              <a:t>Поработаем с учебником!</a:t>
            </a:r>
            <a:endParaRPr b="0" lang="en-US" sz="40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786280" y="3143160"/>
            <a:ext cx="2232360" cy="28069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714240" y="1571760"/>
            <a:ext cx="3619800" cy="476244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5429160" y="1643040"/>
            <a:ext cx="2428920" cy="57168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  <a:ea typeface="DejaVu Sans"/>
              </a:rPr>
              <a:t>Стр  15</a:t>
            </a:r>
            <a:endParaRPr b="0" lang="en-US" sz="36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05" name="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5617D-28A1-4FE2-BC94-468E74CD5DD4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06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DejaVu Sans"/>
              </a:rPr>
              <a:t>www.na4alka.ru</a:t>
            </a:r>
            <a:endParaRPr b="0" lang="en-US" sz="1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57680" y="785880"/>
            <a:ext cx="5429160" cy="1714320"/>
          </a:xfrm>
          <a:custGeom>
            <a:avLst/>
            <a:gdLst/>
            <a:ahLst/>
            <a:rect l="l" t="t" r="r" b="b"/>
            <a:pathLst>
              <a:path w="41798" h="39090">
                <a:moveTo>
                  <a:pt x="3900" y="14370"/>
                </a:moveTo>
                <a:lnTo>
                  <a:pt x="6753" y="9190"/>
                </a:lnTo>
                <a:lnTo>
                  <a:pt x="0" y="0"/>
                </a:lnTo>
                <a:lnTo>
                  <a:pt x="5333" y="7267"/>
                </a:lnTo>
                <a:lnTo>
                  <a:pt x="0" y="0"/>
                </a:lnTo>
                <a:lnTo>
                  <a:pt x="4365" y="5945"/>
                </a:lnTo>
                <a:lnTo>
                  <a:pt x="0" y="0"/>
                </a:lnTo>
                <a:lnTo>
                  <a:pt x="4857" y="6595"/>
                </a:lnTo>
                <a:lnTo>
                  <a:pt x="0" y="0"/>
                </a:lnTo>
                <a:lnTo>
                  <a:pt x="5333" y="7273"/>
                </a:lnTo>
                <a:lnTo>
                  <a:pt x="0" y="0"/>
                </a:lnTo>
                <a:lnTo>
                  <a:pt x="6775" y="9220"/>
                </a:lnTo>
                <a:close/>
              </a:path>
              <a:path w="41798" h="39090">
                <a:moveTo>
                  <a:pt x="0" y="0"/>
                </a:moveTo>
                <a:lnTo>
                  <a:pt x="5785" y="7867"/>
                </a:lnTo>
                <a:close/>
              </a:path>
              <a:path w="41798" h="39090">
                <a:moveTo>
                  <a:pt x="0" y="0"/>
                </a:moveTo>
                <a:lnTo>
                  <a:pt x="6752" y="9215"/>
                </a:lnTo>
                <a:close/>
              </a:path>
              <a:path w="41798" h="39090">
                <a:moveTo>
                  <a:pt x="0" y="0"/>
                </a:moveTo>
                <a:lnTo>
                  <a:pt x="7720" y="10543"/>
                </a:lnTo>
                <a:close/>
              </a:path>
              <a:path fill="none" w="41798" h="39090">
                <a:moveTo>
                  <a:pt x="0" y="0"/>
                </a:moveTo>
                <a:lnTo>
                  <a:pt x="4360" y="5918"/>
                </a:lnTo>
                <a:moveTo>
                  <a:pt x="0" y="0"/>
                </a:moveTo>
                <a:lnTo>
                  <a:pt x="4345" y="5945"/>
                </a:lnTo>
                <a:moveTo>
                  <a:pt x="0" y="0"/>
                </a:moveTo>
                <a:lnTo>
                  <a:pt x="0" y="0"/>
                </a:lnTo>
                <a:moveTo>
                  <a:pt x="0" y="0"/>
                </a:moveTo>
                <a:lnTo>
                  <a:pt x="0" y="0"/>
                </a:lnTo>
                <a:moveTo>
                  <a:pt x="0" y="0"/>
                </a:moveTo>
                <a:lnTo>
                  <a:pt x="0" y="0"/>
                </a:lnTo>
                <a:moveTo>
                  <a:pt x="0" y="0"/>
                </a:moveTo>
                <a:lnTo>
                  <a:pt x="0" y="0"/>
                </a:lnTo>
                <a:moveTo>
                  <a:pt x="0" y="0"/>
                </a:moveTo>
                <a:lnTo>
                  <a:pt x="0" y="0"/>
                </a:lnTo>
                <a:moveTo>
                  <a:pt x="4693" y="26177"/>
                </a:moveTo>
                <a:lnTo>
                  <a:pt x="4345" y="5945"/>
                </a:lnTo>
                <a:moveTo>
                  <a:pt x="0" y="0"/>
                </a:moveTo>
                <a:lnTo>
                  <a:pt x="6928" y="34899"/>
                </a:lnTo>
                <a:moveTo>
                  <a:pt x="4360" y="5918"/>
                </a:moveTo>
                <a:lnTo>
                  <a:pt x="0" y="0"/>
                </a:lnTo>
                <a:moveTo>
                  <a:pt x="16478" y="39090"/>
                </a:moveTo>
                <a:lnTo>
                  <a:pt x="6752" y="9215"/>
                </a:lnTo>
              </a:path>
            </a:pathLst>
          </a:cu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DejaVu Sans"/>
              </a:rPr>
              <a:t>Где живут  слоны?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6858000" y="3929040"/>
            <a:ext cx="1693800" cy="25750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642960" y="3571920"/>
            <a:ext cx="5000760" cy="15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  <a:ea typeface="DejaVu Sans"/>
              </a:rPr>
              <a:t>Слоны  живут в саванне и тропических  лесах,  в самых  жарких  районах нашей  Земли.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73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57120" y="3571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c00000"/>
                </a:solidFill>
                <a:latin typeface="Calibri"/>
              </a:rPr>
              <a:t>Молодцы!</a:t>
            </a:r>
            <a:endParaRPr b="0" lang="en-US" sz="72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143000" y="1928880"/>
            <a:ext cx="2857680" cy="39783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5715000" y="2000160"/>
            <a:ext cx="2500200" cy="380052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29EFD-9984-4700-8835-A5E9FF4794D6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14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DejaVu Sans"/>
              </a:rPr>
              <a:t>www.na4alka.ru</a:t>
            </a:r>
            <a:endParaRPr b="0" lang="en-US" sz="1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274680"/>
            <a:ext cx="82296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7375e"/>
                </a:solidFill>
                <a:latin typeface="Calibri"/>
              </a:rPr>
              <a:t>Отгадай загадку!</a:t>
            </a:r>
            <a:endParaRPr b="0" lang="en-US" sz="40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2" name=""/>
          <p:cNvSpPr/>
          <p:nvPr/>
        </p:nvSpPr>
        <p:spPr>
          <a:xfrm>
            <a:off x="2643120" y="828360"/>
            <a:ext cx="3929040" cy="193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Очень много силы в нём,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Ростом он почти что с дом.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У него огромный нос,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Будто нос лет тыщу рос.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28880" y="2643120"/>
            <a:ext cx="5143320" cy="36435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436E9-B03C-4307-A136-A79CAEC79308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5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DejaVu Sans"/>
              </a:rPr>
              <a:t>www.na4alka.ru</a:t>
            </a:r>
            <a:endParaRPr b="0" lang="en-US" sz="1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dur="indefinite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dur="indefinite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dur="indefinite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6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857680" y="785880"/>
            <a:ext cx="5429160" cy="1714320"/>
          </a:xfrm>
          <a:custGeom>
            <a:avLst/>
            <a:gdLst/>
            <a:ahLst/>
            <a:rect l="l" t="t" r="r" b="b"/>
            <a:pathLst>
              <a:path w="41798" h="39090">
                <a:moveTo>
                  <a:pt x="3900" y="14370"/>
                </a:moveTo>
                <a:lnTo>
                  <a:pt x="6753" y="9190"/>
                </a:lnTo>
                <a:lnTo>
                  <a:pt x="0" y="0"/>
                </a:lnTo>
                <a:lnTo>
                  <a:pt x="5333" y="7267"/>
                </a:lnTo>
                <a:lnTo>
                  <a:pt x="0" y="0"/>
                </a:lnTo>
                <a:lnTo>
                  <a:pt x="4365" y="5945"/>
                </a:lnTo>
                <a:lnTo>
                  <a:pt x="0" y="0"/>
                </a:lnTo>
                <a:lnTo>
                  <a:pt x="4857" y="6595"/>
                </a:lnTo>
                <a:lnTo>
                  <a:pt x="0" y="0"/>
                </a:lnTo>
                <a:lnTo>
                  <a:pt x="5333" y="7273"/>
                </a:lnTo>
                <a:lnTo>
                  <a:pt x="0" y="0"/>
                </a:lnTo>
                <a:lnTo>
                  <a:pt x="6775" y="9220"/>
                </a:lnTo>
                <a:close/>
              </a:path>
              <a:path w="41798" h="39090">
                <a:moveTo>
                  <a:pt x="0" y="0"/>
                </a:moveTo>
                <a:lnTo>
                  <a:pt x="5785" y="7867"/>
                </a:lnTo>
                <a:close/>
              </a:path>
              <a:path w="41798" h="39090">
                <a:moveTo>
                  <a:pt x="0" y="0"/>
                </a:moveTo>
                <a:lnTo>
                  <a:pt x="6752" y="9215"/>
                </a:lnTo>
                <a:close/>
              </a:path>
              <a:path w="41798" h="39090">
                <a:moveTo>
                  <a:pt x="0" y="0"/>
                </a:moveTo>
                <a:lnTo>
                  <a:pt x="7720" y="10543"/>
                </a:lnTo>
                <a:close/>
              </a:path>
              <a:path fill="none" w="41798" h="39090">
                <a:moveTo>
                  <a:pt x="0" y="0"/>
                </a:moveTo>
                <a:lnTo>
                  <a:pt x="4360" y="5918"/>
                </a:lnTo>
                <a:moveTo>
                  <a:pt x="0" y="0"/>
                </a:moveTo>
                <a:lnTo>
                  <a:pt x="4345" y="5945"/>
                </a:lnTo>
                <a:moveTo>
                  <a:pt x="0" y="0"/>
                </a:moveTo>
                <a:lnTo>
                  <a:pt x="0" y="0"/>
                </a:lnTo>
                <a:moveTo>
                  <a:pt x="0" y="0"/>
                </a:moveTo>
                <a:lnTo>
                  <a:pt x="0" y="0"/>
                </a:lnTo>
                <a:moveTo>
                  <a:pt x="0" y="0"/>
                </a:moveTo>
                <a:lnTo>
                  <a:pt x="0" y="0"/>
                </a:lnTo>
                <a:moveTo>
                  <a:pt x="0" y="0"/>
                </a:moveTo>
                <a:lnTo>
                  <a:pt x="0" y="0"/>
                </a:lnTo>
                <a:moveTo>
                  <a:pt x="0" y="0"/>
                </a:moveTo>
                <a:lnTo>
                  <a:pt x="0" y="0"/>
                </a:lnTo>
                <a:moveTo>
                  <a:pt x="4693" y="26177"/>
                </a:moveTo>
                <a:lnTo>
                  <a:pt x="4345" y="5945"/>
                </a:lnTo>
                <a:moveTo>
                  <a:pt x="0" y="0"/>
                </a:moveTo>
                <a:lnTo>
                  <a:pt x="6928" y="34899"/>
                </a:lnTo>
                <a:moveTo>
                  <a:pt x="4360" y="5918"/>
                </a:moveTo>
                <a:lnTo>
                  <a:pt x="0" y="0"/>
                </a:lnTo>
                <a:moveTo>
                  <a:pt x="16478" y="39090"/>
                </a:moveTo>
                <a:lnTo>
                  <a:pt x="6752" y="9215"/>
                </a:lnTo>
              </a:path>
            </a:pathLst>
          </a:cu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DejaVu Sans"/>
              </a:rPr>
              <a:t>Где живут  слоны?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858000" y="3929040"/>
            <a:ext cx="1693800" cy="25750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1000080" y="3571920"/>
            <a:ext cx="3189240" cy="2857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3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Calibri"/>
              </a:rPr>
              <a:t>Саванна 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571680" y="1214280"/>
            <a:ext cx="7981920" cy="521496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5B0CD-EC1E-454B-A436-36398069135B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2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DejaVu Sans"/>
              </a:rPr>
              <a:t>www.na4alka.ru</a:t>
            </a:r>
            <a:endParaRPr b="0" lang="en-US" sz="1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85840" y="285840"/>
            <a:ext cx="8572320" cy="60721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61C06-CA77-4A2E-970C-32E3E633D4F1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5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DejaVu Sans"/>
              </a:rPr>
              <a:t>www.na4alka.ru</a:t>
            </a:r>
            <a:endParaRPr b="0" lang="en-US" sz="1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04040"/>
                </a:solidFill>
                <a:latin typeface="Calibri"/>
              </a:rPr>
              <a:t>Африканские слоны</a:t>
            </a:r>
            <a:endParaRPr b="0" lang="en-US" sz="40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28760" y="1071720"/>
            <a:ext cx="8358120" cy="55720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214200" y="1071720"/>
            <a:ext cx="8605800" cy="55720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4200" y="1071720"/>
            <a:ext cx="8643960" cy="55720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2BE9E-6082-45DD-B986-411BA302BF1A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1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DejaVu Sans"/>
              </a:rPr>
              <a:t>www.na4alka.ru</a:t>
            </a:r>
            <a:endParaRPr b="0" lang="en-US" sz="1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2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7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685800" y="428760"/>
            <a:ext cx="7772400" cy="67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54061"/>
                </a:solidFill>
                <a:latin typeface="Calibri"/>
              </a:rPr>
              <a:t>Поработаем с учебником!</a:t>
            </a:r>
            <a:endParaRPr b="0" lang="en-US" sz="40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786280" y="3143160"/>
            <a:ext cx="2232360" cy="28069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714240" y="1571760"/>
            <a:ext cx="3619800" cy="476244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5429160" y="1643040"/>
            <a:ext cx="2428920" cy="57168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  <a:ea typeface="DejaVu Sans"/>
              </a:rPr>
              <a:t>Стр  14</a:t>
            </a:r>
            <a:endParaRPr b="0" lang="en-US" sz="36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6" name="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AB294-166A-4118-B0ED-35FEC8234B02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7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DejaVu Sans"/>
              </a:rPr>
              <a:t>www.na4alka.ru</a:t>
            </a:r>
            <a:endParaRPr b="0" lang="en-US" sz="1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457200" y="274680"/>
            <a:ext cx="8229600" cy="7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Птица-секретарь</a:t>
            </a:r>
            <a:endParaRPr b="0" lang="en-US" sz="40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357120" y="1285920"/>
            <a:ext cx="3786120" cy="507204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5214960" y="1285920"/>
            <a:ext cx="3214800" cy="25020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5143680" y="4214880"/>
            <a:ext cx="3327120" cy="20718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2905B-A1F0-43E2-A18B-01CA095ED8F2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DejaVu Sans"/>
              </a:rPr>
              <a:t>www.na4alka.ru</a:t>
            </a:r>
            <a:endParaRPr b="0" lang="en-US" sz="1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457200" y="274680"/>
            <a:ext cx="8229600" cy="7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b050"/>
                </a:solidFill>
                <a:latin typeface="Calibri"/>
              </a:rPr>
              <a:t>Тропические леса</a:t>
            </a:r>
            <a:endParaRPr b="0" lang="en-US" sz="40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642960" y="1214280"/>
            <a:ext cx="7710480" cy="52149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829D5-0E66-411D-AE8D-FDA3A8ADF5DA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7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DejaVu Sans"/>
              </a:rPr>
              <a:t>www.na4alka.ru</a:t>
            </a:r>
            <a:endParaRPr b="0" lang="en-US" sz="1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16T20:17:40Z</dcterms:created>
  <dc:creator>None</dc:creator>
  <dc:description/>
  <dc:language>en-US</dc:language>
  <cp:lastModifiedBy>Пользователь</cp:lastModifiedBy>
  <dcterms:modified xsi:type="dcterms:W3CDTF">2023-02-07T09:43:04Z</dcterms:modified>
  <cp:revision>12</cp:revision>
  <dc:subject/>
  <dc:title>Где живут слоны?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/>
</file>