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7.png" ContentType="image/png"/>
  <Override PartName="/ppt/media/image12.jpeg" ContentType="image/jpeg"/>
  <Override PartName="/ppt/media/image6.png" ContentType="image/png"/>
  <Override PartName="/ppt/media/image21.png" ContentType="image/png"/>
  <Override PartName="/ppt/media/image4.png" ContentType="image/png"/>
  <Override PartName="/ppt/media/image13.jpeg" ContentType="image/jpeg"/>
  <Override PartName="/ppt/media/image20.jpeg" ContentType="image/jpeg"/>
  <Override PartName="/ppt/media/image18.png" ContentType="image/png"/>
  <Override PartName="/ppt/media/image19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470C1-0F44-4363-BD95-7E94AB81756D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55;&#1072;&#1088;&#1080;&#1082;" TargetMode="External"/><Relationship Id="rId2" Type="http://schemas.openxmlformats.org/officeDocument/2006/relationships/hyperlink" Target="https://ru.wikipedia.org/wiki/&#1056;&#1072;&#1079;&#1084;&#1072;&#1093;_&#1082;&#1088;&#1099;&#1083;&#1100;&#1077;&#1074;" TargetMode="External"/><Relationship Id="rId3" Type="http://schemas.openxmlformats.org/officeDocument/2006/relationships/hyperlink" Target="https://ru.wikipedia.org/wiki/&#1047;&#1084;&#1077;&#1080;" TargetMode="External"/><Relationship Id="rId4" Type="http://schemas.openxmlformats.org/officeDocument/2006/relationships/slide" Target="../slides/slide8.xml"/><Relationship Id="rId5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Здесь живут индийские слоны. Индийский слон – очень умное животное, могут бесшумно передвигаться сквозь заросли ле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051D1-9F2D-4B44-9A9B-2D2C868267F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Он легко поддается дрессировке. Очень часто его используют для различных тяжелых рабо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E4D44-9E60-4187-8577-5BECFD6E8A7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Чтобы ответить на вопрос Муравьишки, мы с вами побываем в самых жарких районах нашей планеты, где круглый год тепло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EE669-3DDD-45A0-9D7C-D60AFA91F14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Это открытые пространства, поросшие травой. Большая часть находится на территории Африк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03D0F-D20B-40FD-8284-80D269CD808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Здесь живут африканские слоны. Африканский слон – самое крупное животное Африки. Их рост 4 метра, а вес 7 тонн. Слоны — травоядные, питаются листьями, травами, плодами, превосходно плаваю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6B003-49C5-4637-96B6-31FD597B9DB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Птица-секретарь – хищная птиц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Её своеобразное имя происходит от чёрных перьев на голове, напоминающих гусиные перья, которые раньше любили вставлять в свои </a:t>
            </a:r>
            <a:r>
              <a:rPr b="0" lang="ru-RU" sz="1200" spc="-1" strike="noStrike" u="sng">
                <a:solidFill>
                  <a:srgbClr val="ccccff"/>
                </a:solidFill>
                <a:uFillTx/>
                <a:latin typeface="Calibri"/>
                <a:ea typeface="DejaVu Sans"/>
                <a:hlinkClick r:id="rId1"/>
              </a:rPr>
              <a:t>парик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 судебные секретар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Длина птицы-секретаря насчитывает от 125 до 150 см, а вес достигает почти 4 кг. </a:t>
            </a:r>
            <a:r>
              <a:rPr b="0" lang="ru-RU" sz="1200" spc="-1" strike="noStrike" u="sng">
                <a:solidFill>
                  <a:srgbClr val="ccccff"/>
                </a:solidFill>
                <a:uFillTx/>
                <a:latin typeface="Calibri"/>
                <a:ea typeface="DejaVu Sans"/>
                <a:hlinkClick r:id="rId2"/>
              </a:rPr>
              <a:t>Размах крылье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 составляет примерно 210см. Птицы-секретари издают рычащие и каркающие звуки. Они ведут бродячий образ жизни. В поисках пищи они путешествуют с места на место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Главной пищей птиц-секретарей являются </a:t>
            </a:r>
            <a:r>
              <a:rPr b="0" lang="ru-RU" sz="1200" spc="-1" strike="noStrike" u="sng">
                <a:solidFill>
                  <a:srgbClr val="ccccff"/>
                </a:solidFill>
                <a:uFillTx/>
                <a:latin typeface="Calibri"/>
                <a:ea typeface="DejaVu Sans"/>
                <a:hlinkClick r:id="rId3"/>
              </a:rPr>
              <a:t>зме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 и поэтому они славятся как умелые их истребители. Во время борьбы со змеёй секретарь расправляет одно крыло и использует его как щит. Кроме змей они могут питаться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  <a:ea typeface="DejaVu Sans"/>
              </a:rPr>
              <a:t>ящериц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,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  <a:ea typeface="DejaVu Sans"/>
              </a:rPr>
              <a:t>насекомы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, мелкими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  <a:ea typeface="DejaVu Sans"/>
              </a:rPr>
              <a:t>млекопитающи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 и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  <a:ea typeface="DejaVu Sans"/>
              </a:rPr>
              <a:t>птиц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. Оба партнёра, как правило, остаются верными друг другу на всю жизн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46B5A-355A-42C8-B2E4-AC16F99E216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Из саванны мы переедем в тропические леса. Это густые, влажные, труднопроходимые мест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75F7D-7BD6-45CE-B071-3061F0AC419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1DF56-ABFE-410C-A5DC-55C797692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A0BAF-2A96-47BE-98C0-17B481AB8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77E9C-927A-4881-8873-FCA4A230D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8A3CC-5E88-4A02-A6F0-A72955361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0E955-889E-4D95-9414-55BD1244B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2F80F-EDB3-4345-9054-5AED8DB0D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696D2-4F22-4BA3-BAB5-812A36488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A1B85-A30D-42DA-B862-C2B6C1AD2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01EF7-9CD6-4387-BDD3-E12913F56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40BDC-E219-4BB9-9D13-7D691495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7C32B-68EB-4F8F-978A-71B21CDB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DC1B8-05D7-40B2-9ECE-AF7CC8DFC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3720" y="6356160"/>
            <a:ext cx="28940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78E4A-71CD-46CD-BFBC-32F149519C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fac09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85880" y="10000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632523"/>
                </a:solidFill>
                <a:latin typeface="Calibri"/>
              </a:rPr>
              <a:t>Окружающий мир</a:t>
            </a:r>
            <a:br>
              <a:rPr sz="40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Где живут слоны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0" name=""/>
          <p:cNvSpPr/>
          <p:nvPr/>
        </p:nvSpPr>
        <p:spPr>
          <a:xfrm>
            <a:off x="4140360" y="5103720"/>
            <a:ext cx="54864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DejaVu Sans"/>
              </a:rPr>
              <a:t>Копотилова В.С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DejaVu Sans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DejaVu Sans"/>
              </a:rPr>
              <a:t>Новоандреевская ООШ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DejaVu Sans"/>
              </a:rPr>
              <a:t>им.Героя Советского Союза Н.С.Закоркина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03200" y="285840"/>
            <a:ext cx="8383680" cy="6072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57120" y="285840"/>
            <a:ext cx="8429760" cy="60721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C1B4F-72EF-44E8-AD12-9995E74625F4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www.na4alka.ru</a:t>
            </a:r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57200" y="274680"/>
            <a:ext cx="822960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f7f7f"/>
                </a:solidFill>
                <a:latin typeface="Calibri"/>
              </a:rPr>
              <a:t>Индийские слоны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57120" y="1000080"/>
            <a:ext cx="8485200" cy="55720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A0289-30D5-4DA9-B6D5-3C7D7D29C905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5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www.na4alka.ru</a:t>
            </a:r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85880" y="714240"/>
            <a:ext cx="7611840" cy="49294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85880" y="642960"/>
            <a:ext cx="7786800" cy="51958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785880" y="571680"/>
            <a:ext cx="7858080" cy="55720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AB5E9-B635-440E-848E-1A7CEBF1921A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0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www.na4alka.ru</a:t>
            </a:r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61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66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428760"/>
            <a:ext cx="777240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Calibri"/>
              </a:rPr>
              <a:t>Поработаем с учебником!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786280" y="3143160"/>
            <a:ext cx="2232360" cy="2806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14240" y="1571760"/>
            <a:ext cx="3619800" cy="47624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429160" y="1643040"/>
            <a:ext cx="2428920" cy="5716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DejaVu Sans"/>
              </a:rPr>
              <a:t>Стр  15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5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0FE47-CD40-4A44-88A3-63B8295AEDB5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6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www.na4alka.ru</a:t>
            </a:r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57680" y="785880"/>
            <a:ext cx="5429160" cy="1714320"/>
          </a:xfrm>
          <a:custGeom>
            <a:avLst/>
            <a:gdLst/>
            <a:ahLst/>
            <a:rect l="l" t="t" r="r" b="b"/>
            <a:pathLst>
              <a:path w="41798" h="39090">
                <a:moveTo>
                  <a:pt x="3900" y="14370"/>
                </a:moveTo>
                <a:lnTo>
                  <a:pt x="6753" y="9190"/>
                </a:lnTo>
                <a:lnTo>
                  <a:pt x="0" y="0"/>
                </a:lnTo>
                <a:lnTo>
                  <a:pt x="5333" y="7267"/>
                </a:lnTo>
                <a:lnTo>
                  <a:pt x="0" y="0"/>
                </a:lnTo>
                <a:lnTo>
                  <a:pt x="4365" y="5945"/>
                </a:lnTo>
                <a:lnTo>
                  <a:pt x="0" y="0"/>
                </a:lnTo>
                <a:lnTo>
                  <a:pt x="4857" y="6595"/>
                </a:lnTo>
                <a:lnTo>
                  <a:pt x="0" y="0"/>
                </a:lnTo>
                <a:lnTo>
                  <a:pt x="5333" y="7273"/>
                </a:lnTo>
                <a:lnTo>
                  <a:pt x="0" y="0"/>
                </a:lnTo>
                <a:lnTo>
                  <a:pt x="6775" y="9220"/>
                </a:lnTo>
                <a:close/>
              </a:path>
              <a:path w="41798" h="39090">
                <a:moveTo>
                  <a:pt x="0" y="0"/>
                </a:moveTo>
                <a:lnTo>
                  <a:pt x="5785" y="7867"/>
                </a:lnTo>
                <a:close/>
              </a:path>
              <a:path w="41798" h="39090">
                <a:moveTo>
                  <a:pt x="0" y="0"/>
                </a:moveTo>
                <a:lnTo>
                  <a:pt x="6752" y="9215"/>
                </a:lnTo>
                <a:close/>
              </a:path>
              <a:path w="41798" h="39090">
                <a:moveTo>
                  <a:pt x="0" y="0"/>
                </a:moveTo>
                <a:lnTo>
                  <a:pt x="7720" y="10543"/>
                </a:lnTo>
                <a:close/>
              </a:path>
              <a:path fill="none" w="41798" h="39090">
                <a:moveTo>
                  <a:pt x="0" y="0"/>
                </a:moveTo>
                <a:lnTo>
                  <a:pt x="4360" y="5918"/>
                </a:lnTo>
                <a:moveTo>
                  <a:pt x="0" y="0"/>
                </a:moveTo>
                <a:lnTo>
                  <a:pt x="4345" y="5945"/>
                </a:lnTo>
                <a:moveTo>
                  <a:pt x="0" y="0"/>
                </a:moveTo>
                <a:lnTo>
                  <a:pt x="0" y="0"/>
                </a:lnTo>
                <a:moveTo>
                  <a:pt x="0" y="0"/>
                </a:moveTo>
                <a:lnTo>
                  <a:pt x="0" y="0"/>
                </a:lnTo>
                <a:moveTo>
                  <a:pt x="0" y="0"/>
                </a:moveTo>
                <a:lnTo>
                  <a:pt x="0" y="0"/>
                </a:lnTo>
                <a:moveTo>
                  <a:pt x="0" y="0"/>
                </a:moveTo>
                <a:lnTo>
                  <a:pt x="0" y="0"/>
                </a:lnTo>
                <a:moveTo>
                  <a:pt x="0" y="0"/>
                </a:moveTo>
                <a:lnTo>
                  <a:pt x="0" y="0"/>
                </a:lnTo>
                <a:moveTo>
                  <a:pt x="4693" y="26177"/>
                </a:moveTo>
                <a:lnTo>
                  <a:pt x="4345" y="5945"/>
                </a:lnTo>
                <a:moveTo>
                  <a:pt x="0" y="0"/>
                </a:moveTo>
                <a:lnTo>
                  <a:pt x="6928" y="34899"/>
                </a:lnTo>
                <a:moveTo>
                  <a:pt x="4360" y="5918"/>
                </a:moveTo>
                <a:lnTo>
                  <a:pt x="0" y="0"/>
                </a:lnTo>
                <a:moveTo>
                  <a:pt x="16478" y="39090"/>
                </a:moveTo>
                <a:lnTo>
                  <a:pt x="6752" y="9215"/>
                </a:lnTo>
              </a:path>
            </a:pathLst>
          </a:cu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Где живут  слоны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858000" y="3929040"/>
            <a:ext cx="1693800" cy="25750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42960" y="3571920"/>
            <a:ext cx="5000760" cy="15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  <a:ea typeface="DejaVu Sans"/>
              </a:rPr>
              <a:t>Слоны  живут в саванне и тропических  лесах,  в самых  жарких  районах нашей  Земли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73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57120" y="357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Calibri"/>
              </a:rPr>
              <a:t>Молодцы!</a:t>
            </a:r>
            <a:endParaRPr b="0" lang="en-US" sz="72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143000" y="1928880"/>
            <a:ext cx="2857680" cy="39783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715000" y="2000160"/>
            <a:ext cx="2500200" cy="38005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BF368-407F-4C91-9BF5-843366D26029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4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www.na4alka.ru</a:t>
            </a:r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274680"/>
            <a:ext cx="82296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Calibri"/>
              </a:rPr>
              <a:t>Отгадай загадку!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2" name=""/>
          <p:cNvSpPr/>
          <p:nvPr/>
        </p:nvSpPr>
        <p:spPr>
          <a:xfrm>
            <a:off x="2643120" y="828360"/>
            <a:ext cx="3929040" cy="19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чень много силы в нём,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остом он почти что с дом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У него огромный нос,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Будто нос лет тыщу рос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28880" y="2643120"/>
            <a:ext cx="5143320" cy="36435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9F6A0-EF0A-4028-BF47-122078A5F1C5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5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www.na4alka.ru</a:t>
            </a:r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6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857680" y="785880"/>
            <a:ext cx="5429160" cy="1714320"/>
          </a:xfrm>
          <a:custGeom>
            <a:avLst/>
            <a:gdLst/>
            <a:ahLst/>
            <a:rect l="l" t="t" r="r" b="b"/>
            <a:pathLst>
              <a:path w="41798" h="39090">
                <a:moveTo>
                  <a:pt x="3900" y="14370"/>
                </a:moveTo>
                <a:lnTo>
                  <a:pt x="6753" y="9190"/>
                </a:lnTo>
                <a:lnTo>
                  <a:pt x="0" y="0"/>
                </a:lnTo>
                <a:lnTo>
                  <a:pt x="5333" y="7267"/>
                </a:lnTo>
                <a:lnTo>
                  <a:pt x="0" y="0"/>
                </a:lnTo>
                <a:lnTo>
                  <a:pt x="4365" y="5945"/>
                </a:lnTo>
                <a:lnTo>
                  <a:pt x="0" y="0"/>
                </a:lnTo>
                <a:lnTo>
                  <a:pt x="4857" y="6595"/>
                </a:lnTo>
                <a:lnTo>
                  <a:pt x="0" y="0"/>
                </a:lnTo>
                <a:lnTo>
                  <a:pt x="5333" y="7273"/>
                </a:lnTo>
                <a:lnTo>
                  <a:pt x="0" y="0"/>
                </a:lnTo>
                <a:lnTo>
                  <a:pt x="6775" y="9220"/>
                </a:lnTo>
                <a:close/>
              </a:path>
              <a:path w="41798" h="39090">
                <a:moveTo>
                  <a:pt x="0" y="0"/>
                </a:moveTo>
                <a:lnTo>
                  <a:pt x="5785" y="7867"/>
                </a:lnTo>
                <a:close/>
              </a:path>
              <a:path w="41798" h="39090">
                <a:moveTo>
                  <a:pt x="0" y="0"/>
                </a:moveTo>
                <a:lnTo>
                  <a:pt x="6752" y="9215"/>
                </a:lnTo>
                <a:close/>
              </a:path>
              <a:path w="41798" h="39090">
                <a:moveTo>
                  <a:pt x="0" y="0"/>
                </a:moveTo>
                <a:lnTo>
                  <a:pt x="7720" y="10543"/>
                </a:lnTo>
                <a:close/>
              </a:path>
              <a:path fill="none" w="41798" h="39090">
                <a:moveTo>
                  <a:pt x="0" y="0"/>
                </a:moveTo>
                <a:lnTo>
                  <a:pt x="4360" y="5918"/>
                </a:lnTo>
                <a:moveTo>
                  <a:pt x="0" y="0"/>
                </a:moveTo>
                <a:lnTo>
                  <a:pt x="4345" y="5945"/>
                </a:lnTo>
                <a:moveTo>
                  <a:pt x="0" y="0"/>
                </a:moveTo>
                <a:lnTo>
                  <a:pt x="0" y="0"/>
                </a:lnTo>
                <a:moveTo>
                  <a:pt x="0" y="0"/>
                </a:moveTo>
                <a:lnTo>
                  <a:pt x="0" y="0"/>
                </a:lnTo>
                <a:moveTo>
                  <a:pt x="0" y="0"/>
                </a:moveTo>
                <a:lnTo>
                  <a:pt x="0" y="0"/>
                </a:lnTo>
                <a:moveTo>
                  <a:pt x="0" y="0"/>
                </a:moveTo>
                <a:lnTo>
                  <a:pt x="0" y="0"/>
                </a:lnTo>
                <a:moveTo>
                  <a:pt x="0" y="0"/>
                </a:moveTo>
                <a:lnTo>
                  <a:pt x="0" y="0"/>
                </a:lnTo>
                <a:moveTo>
                  <a:pt x="4693" y="26177"/>
                </a:moveTo>
                <a:lnTo>
                  <a:pt x="4345" y="5945"/>
                </a:lnTo>
                <a:moveTo>
                  <a:pt x="0" y="0"/>
                </a:moveTo>
                <a:lnTo>
                  <a:pt x="6928" y="34899"/>
                </a:lnTo>
                <a:moveTo>
                  <a:pt x="4360" y="5918"/>
                </a:moveTo>
                <a:lnTo>
                  <a:pt x="0" y="0"/>
                </a:lnTo>
                <a:moveTo>
                  <a:pt x="16478" y="39090"/>
                </a:moveTo>
                <a:lnTo>
                  <a:pt x="6752" y="9215"/>
                </a:lnTo>
              </a:path>
            </a:pathLst>
          </a:cu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Где живут  слоны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0" y="3929040"/>
            <a:ext cx="1693800" cy="2575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000080" y="3571920"/>
            <a:ext cx="3189240" cy="285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3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Саванна 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71680" y="1214280"/>
            <a:ext cx="7981920" cy="52149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7B4BC-E7C8-41AE-96AF-B5DB426A37C6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2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www.na4alka.ru</a:t>
            </a:r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85840" y="285840"/>
            <a:ext cx="8572320" cy="60721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9E8B2-FC98-4D7C-95F1-FC35924415D2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www.na4alka.ru</a:t>
            </a:r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Calibri"/>
              </a:rPr>
              <a:t>Африканские слоны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28760" y="1071720"/>
            <a:ext cx="8358120" cy="5572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14200" y="1071720"/>
            <a:ext cx="8605800" cy="5572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4200" y="1071720"/>
            <a:ext cx="8643960" cy="55720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D7E1A-FF38-42C0-BF0E-C17835E6BDC2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1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www.na4alka.ru</a:t>
            </a:r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2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7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428760"/>
            <a:ext cx="777240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Calibri"/>
              </a:rPr>
              <a:t>Поработаем с учебником!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786280" y="3143160"/>
            <a:ext cx="2232360" cy="28069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714240" y="1571760"/>
            <a:ext cx="3619800" cy="47624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429160" y="1643040"/>
            <a:ext cx="2428920" cy="5716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DejaVu Sans"/>
              </a:rPr>
              <a:t>Стр  14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6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AEA89-0895-4807-91B0-65BA58551D89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7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www.na4alka.ru</a:t>
            </a:r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57200" y="274680"/>
            <a:ext cx="82296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тица-секретарь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57120" y="1285920"/>
            <a:ext cx="3786120" cy="50720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214960" y="1285920"/>
            <a:ext cx="3214800" cy="2502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5143680" y="4214880"/>
            <a:ext cx="3327120" cy="20718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DE1DC-748D-4EBC-9139-DBCD324E2541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www.na4alka.ru</a:t>
            </a:r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57200" y="274680"/>
            <a:ext cx="82296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Тропические леса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42960" y="1214280"/>
            <a:ext cx="7710480" cy="5214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93C82-04BE-4414-BA78-DBE16C3AB27C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7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www.na4alka.ru</a:t>
            </a:r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6T20:17:40Z</dcterms:created>
  <dc:creator>None</dc:creator>
  <dc:description/>
  <dc:language>en-US</dc:language>
  <cp:lastModifiedBy>Пользователь</cp:lastModifiedBy>
  <dcterms:modified xsi:type="dcterms:W3CDTF">2023-02-07T09:43:04Z</dcterms:modified>
  <cp:revision>12</cp:revision>
  <dc:subject/>
  <dc:title>Где живут слоны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