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617-9011-4329-82D9-12798953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46B-420B-4ECB-B82A-E685FA35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1AE-7A37-426D-8CA0-05362160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BAB-6B52-4173-A7CA-D4E39E5C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2136-B81E-4CB4-880B-A8733783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D66C-427E-463F-A9F0-9943371B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3873-9751-4064-9EA8-CF864AC9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0034-7F16-414F-B2F6-2BC3CAC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55C8-F78A-4CD8-899C-D53D6565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7993-AA1B-4F44-899F-689459FA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A818-56B2-416C-B86C-6F7BBCD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370-42D8-48A0-937E-77166264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9162-98F8-466E-9F96-1229553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50F8-9ACE-4816-A7C9-86BF596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A91B-54DB-4D24-A45A-99E0BCBD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3EC5-E23D-4B26-AC9D-05298D8A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1BBA-1C2D-43DA-BC0A-2F75BA2F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23C-2897-4401-AC04-84052CF1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9D6-F5A7-4416-8F31-BBE8DA11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7A2-9016-40E2-8171-D9B8B436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CBA-2885-4F0F-98A5-01B42D90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9E3-4177-41F8-B0D3-DD26EE4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057-C90B-47FE-9F85-59FA6D16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715-9F75-494A-9767-8BA5FA6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D1DD-9481-4D66-AF25-F89AE9E76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C008-CA34-4687-8452-47D908073A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«Ваше здоровье – в ваших ногах»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92000" y="1773000"/>
            <a:ext cx="617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9900"/>
                </a:solidFill>
                <a:latin typeface="Times New Roman"/>
              </a:rPr>
              <a:t>Профилактика плоскостопия у детей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на первую страницу"/>
          <p:cNvPicPr/>
          <p:nvPr/>
        </p:nvPicPr>
        <p:blipFill>
          <a:blip r:embed="rId1"/>
          <a:stretch/>
        </p:blipFill>
        <p:spPr>
          <a:xfrm>
            <a:off x="539640" y="2781360"/>
            <a:ext cx="4105440" cy="3376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5219640" y="4437000"/>
            <a:ext cx="360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структор по физической культур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лахова Ольга Василье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1720" y="290160"/>
            <a:ext cx="67453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Статическое плоскостопие возникает: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148360" y="1557360"/>
            <a:ext cx="1224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H="1">
            <a:off x="2123640" y="162864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324000" y="2781360"/>
            <a:ext cx="3600360" cy="180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людей 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онки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стями скел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 врожден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бости связ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5724360" y="2565360"/>
            <a:ext cx="3024360" cy="15130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людей, скло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ожир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H="1">
            <a:off x="3851280" y="1628640"/>
            <a:ext cx="50472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908000" y="4869000"/>
            <a:ext cx="3313440" cy="1511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стоянное нош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рационально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удобной обув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4716360" y="1700280"/>
            <a:ext cx="158436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5364000" y="4797360"/>
            <a:ext cx="3311640" cy="18003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ительные нагрузк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вязанные 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фессиональ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ятельность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68720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Lucida Calligraphy"/>
              </a:rPr>
              <a:t>Болевые участки при статическом плоскостопии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одошве, в центре свода стопы и внутреннего края пят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тыле стопы, в ее центральной части, между ладьевидной и таранной костя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 внутренней и наружной ладыжк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головками предплюсневых кост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ышцах голеностопа из-за их перегруз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оленном и тазобедренном сустав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едре из-за перенапряжения мышц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яснице на почве компенсаторно усиленного лордоза (прогиб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403280" y="5229360"/>
            <a:ext cx="6481800" cy="8650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и усиливаются к вечеру, ослабевают после отдых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огда на лодыжке появляется отеч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6"/>
          <p:cNvSpPr/>
          <p:nvPr/>
        </p:nvSpPr>
        <p:spPr>
          <a:xfrm>
            <a:off x="530640" y="1628640"/>
            <a:ext cx="82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никает в результате травмы, чаще всего переломов лодыжки, пяточной кост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плюсны, плюс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176560" y="3090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476360" y="256536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иабетическая стоп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34320" y="3284640"/>
            <a:ext cx="733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ано с тем, что у больных диабетом нарушаются процесс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живления кожных процессов: всякая царапина или потертость долго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чительно мокнет, гноится. Происходит из-за сбоя процессов пит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кан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34440" y="836640"/>
            <a:ext cx="57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равматическое плоскостоп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Calligraphy"/>
              </a:rPr>
              <a:t>Рахитное плоскостопие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6920" y="1125360"/>
            <a:ext cx="68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сится к приобретенному виду плоскостопия в результат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правильного развития скелета, вызванного дефит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тамина Д в организме. Данный вид плоскостопия можн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дить, проведя профилактику рахи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83680" y="3500280"/>
            <a:ext cx="663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результат паралича мышц нижних конечностей и чаще вс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ствия  вялых параличей мышц стопы и голени, вызва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омиелитом или иной нейроинфек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790280" y="2637000"/>
            <a:ext cx="62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аралитическое плоскостоп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6348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11280" y="539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26d18"/>
                </a:solidFill>
                <a:latin typeface="Times New Roman"/>
              </a:rPr>
              <a:t>Выявление плоскосто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91" name="Picture 4" descr="do3_9"/>
          <p:cNvPicPr/>
          <p:nvPr/>
        </p:nvPicPr>
        <p:blipFill>
          <a:blip r:embed="rId1"/>
          <a:stretch/>
        </p:blipFill>
        <p:spPr>
          <a:xfrm>
            <a:off x="1619280" y="1809720"/>
            <a:ext cx="6048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Тесты для выявления </a:t>
            </a:r>
            <a:r>
              <a:rPr b="0" i="1" lang="ru-RU" sz="3200" spc="-1" strike="noStrike">
                <a:solidFill>
                  <a:srgbClr val="a26d18"/>
                </a:solidFill>
                <a:latin typeface="Times New Roman"/>
              </a:rPr>
              <a:t> плоскосто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1547640" y="1341360"/>
            <a:ext cx="72072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508720" y="1413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250920" y="2637000"/>
            <a:ext cx="3025800" cy="1079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выя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5219640" y="2421000"/>
            <a:ext cx="295128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 Яралова-Яралян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0" descr="ploskostopie (1)"/>
          <p:cNvPicPr/>
          <p:nvPr/>
        </p:nvPicPr>
        <p:blipFill>
          <a:blip r:embed="rId1"/>
          <a:stretch/>
        </p:blipFill>
        <p:spPr>
          <a:xfrm>
            <a:off x="2700360" y="3716280"/>
            <a:ext cx="360036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Самовыявление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58720" y="1870200"/>
            <a:ext cx="69915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адите  ребенка на стул, чтобы голень была строго вертикальна полу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топа образовывала с ней прямой угол. Нащупайте на внутренн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ерхности подъема ладьевидную кость (над ней выпирает замет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горок). Поставьте на этом бугорке точку, затем линейкой измерь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тояние от нее до по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меняя  положения стопы, попросите ребенка встать. Снова измерь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ту свода. Разница между высотой свода без нагрузки и в полож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 (под нагрузкой) является важной диагностической величино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менение этой высоты более чем на 3-4 мм говорят о слабости св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ледствие недостаточного развития связочного и мышечного аппара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нестабильности и, следовательно, о плоскостопии в той или иной форм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мерение проводится на обеих ногах. Следует учесть разницу межд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той свода на левой и правой ногах. В норме она не должна превыш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-4мм. Аналогично вы можете проверить всех членов семьи любого возра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31360" y="12240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с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Самовыявление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71200" y="12366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с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72280" y="2033640"/>
            <a:ext cx="779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ьмите чистый лист бумаги, положите его на по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мажьте стопы ребенка жирным кремом и поставьте его листо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листе остается отпечаток стоп. Возьмите карандаш и проведите линию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единив край подошвенного  углуб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ите перпендикуляр к этой линии, пересекающий углубления стопы в сам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убоком 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тпечаток в узкой части составляет не более 1/3 этой линии – стоп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рмальная. Если достигает ½ этой линии – у вас плоскостопие, обратитес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врачу – ортопеду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Метод В.А. Яралова-Яралянц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748080" y="1268280"/>
            <a:ext cx="8017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массового обследования дошкольников применяют плантографию  - получ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печатков стоп с помощью плантографа. Он предсавляет собой деревянную рамк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высотой 2 см и размером 40х40см), на которую натянуто полотно (или мешковина)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ерх него полиэтиленовая пленка. Полотно снизу смачивается штемпельной краско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ол под окрашенную сторону плантографа кладется чистый лист бумаг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енок становится обеими ногами или каждой поочередно на середину рамк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тянутой полиэтиленовой пленкой. Обследуемый должен стоять на двух ногах 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вномерной нагрузкой. Окрашенная ткань прогибается, соприкасаясь в местах давл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бумагой, и оставляет на ней отпечатки стоп – плантограмм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ценка плантограмм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лается на основании анализа положения двух ли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енных на отпечатке. Первая линия соединяет середину пятки со втор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пальцевым промежутком; вторая, проведенная из той же точки, проходит к середин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ания большого пальц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нормальная стоп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стопа уплоще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плоская стоп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оценка плантограммы"/>
          <p:cNvPicPr/>
          <p:nvPr/>
        </p:nvPicPr>
        <p:blipFill>
          <a:blip r:embed="rId1"/>
          <a:stretch/>
        </p:blipFill>
        <p:spPr>
          <a:xfrm>
            <a:off x="5364000" y="4437000"/>
            <a:ext cx="32133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Профилактика плоскостоп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519720" y="1189080"/>
            <a:ext cx="20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ключа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324000" y="2565360"/>
            <a:ext cx="2232000" cy="15843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люд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гиеническ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2843280" y="2565360"/>
            <a:ext cx="2520720" cy="1655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циональный режи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руз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ниж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5724360" y="2565360"/>
            <a:ext cx="2664000" cy="15843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людение принцип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а обуви для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508640"/>
            <a:ext cx="2089080" cy="1655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саж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масса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2987640" y="4653000"/>
            <a:ext cx="2305080" cy="15843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д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лактическ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5796000" y="4653000"/>
            <a:ext cx="2808360" cy="151272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и иг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с предметами и без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портив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аряда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1760" y="464760"/>
            <a:ext cx="67420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Lucida Calligraphy"/>
              </a:rPr>
              <a:t>Что такое плоскостопие.</a:t>
            </a:r>
            <a:br>
              <a:rPr sz="3200"/>
            </a:br>
            <a:r>
              <a:rPr b="1" i="1" lang="ru-RU" sz="3200" spc="-1" strike="noStrike">
                <a:solidFill>
                  <a:srgbClr val="ff9900"/>
                </a:solidFill>
                <a:latin typeface="Lucida Calligraphy"/>
              </a:rPr>
              <a:t>Причины развития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539640" y="1989000"/>
            <a:ext cx="4753080" cy="1800360"/>
          </a:xfrm>
          <a:prstGeom prst="cloudCallout">
            <a:avLst>
              <a:gd name="adj1" fmla="val -24615"/>
              <a:gd name="adj2" fmla="val -89861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то статическая деформация стопы, сопровождающаяся уплощением ее сво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4859280" y="3429000"/>
            <a:ext cx="3960720" cy="2664000"/>
          </a:xfrm>
          <a:prstGeom prst="cloudCallout">
            <a:avLst>
              <a:gd name="adj1" fmla="val 28597"/>
              <a:gd name="adj2" fmla="val -93884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новная причина – слабость мышц и связочного аппарата, принимающих участие в поддержании свода сто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Гигиенические правила и рациональный режим нагрузки на нижние конечност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55840" y="1746360"/>
            <a:ext cx="8040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рабатывать походку без излишнего разведения стоп (ежедневная ходьба 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аллельными стопами) – ходьба вдоль палки или веревки, лежащей на по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жедневно мыть ноги прохладной водой. После вытирания ног собрать полотенц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г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одить босиком по песку, гравию, рыхлой почве, трав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ходить в помещении в утепленной обув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занятиях физкультурой не использовать обувь с твердой стельк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ходиь длительное время босиком или в мягкой обуви по утоптанной поверх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дя на стульчике, собирать ногами мелкие предметы или катать деревянную скал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Принципы выбора обуви для детей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32080" y="1125360"/>
            <a:ext cx="8316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упая ботинки, следует мерить их стоя, так как при нагрузке размер сто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величивается в длину и в ширину на 0.5-1см. Стопа должна не только входить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вь, но также  иметь в ней соответствующую свободу и простран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рекомендуется покупать поддержанную обув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вь должна соответствовать времени года и образу жизни ребенка, 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расту и индивидуальной форме сто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дольная ось обуви должна проходить по второму пальцу, ее подошва не долж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ть искривле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вь не должна изменять естественной установки крайних пальцев (мизинца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ьшого), занимаемой ими при нагрузке, босой сто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тинок должен иметь закрытый и твердый задник. В области возвышения пальце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ошва должна быть эластичн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елательно, чтобы детская обувь была крепкой, водоупорной, из гибк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ластичного матери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232640" y="4869000"/>
            <a:ext cx="70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детей совершенно непригодна обувь с твердой негнущейся подошво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Упражнения для профилактики и лечения плоскосто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45"/>
          <p:cNvPicPr/>
          <p:nvPr/>
        </p:nvPicPr>
        <p:blipFill>
          <a:blip r:embed="rId1"/>
          <a:stretch/>
        </p:blipFill>
        <p:spPr>
          <a:xfrm>
            <a:off x="1979640" y="404640"/>
            <a:ext cx="511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ploskostopie2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98956735_11"/>
          <p:cNvPicPr/>
          <p:nvPr/>
        </p:nvPicPr>
        <p:blipFill>
          <a:blip r:embed="rId1"/>
          <a:stretch/>
        </p:blipFill>
        <p:spPr>
          <a:xfrm>
            <a:off x="1692360" y="260280"/>
            <a:ext cx="5616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image311"/>
          <p:cNvPicPr/>
          <p:nvPr/>
        </p:nvPicPr>
        <p:blipFill>
          <a:blip r:embed="rId1"/>
          <a:stretch/>
        </p:blipFill>
        <p:spPr>
          <a:xfrm>
            <a:off x="1763640" y="404640"/>
            <a:ext cx="5545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IMG_5611"/>
          <p:cNvPicPr/>
          <p:nvPr/>
        </p:nvPicPr>
        <p:blipFill>
          <a:blip r:embed="rId1"/>
          <a:stretch/>
        </p:blipFill>
        <p:spPr>
          <a:xfrm>
            <a:off x="971640" y="692280"/>
            <a:ext cx="7056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аше здоровье – в ваших ногах!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986080" y="350028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. Трофим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447840" y="549360"/>
            <a:ext cx="822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ормальном состоянии стопа человека  имеет 2 свода – продоль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доль стопы по внутреннему ее краю) и поперечный (расположенный п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ниями пальцев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2843280" y="2060640"/>
            <a:ext cx="2950920" cy="1008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и сводов сто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 flipH="1">
            <a:off x="1908000" y="3573360"/>
            <a:ext cx="1152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5651640" y="342900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14440" y="479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держание равнове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987080" y="4581360"/>
            <a:ext cx="36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ция тряски, возникающ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ходьб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50920" y="436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вставить сейчас"/>
          <p:cNvPicPr/>
          <p:nvPr/>
        </p:nvPicPr>
        <p:blipFill>
          <a:blip r:embed="rId1"/>
          <a:stretch/>
        </p:blipFill>
        <p:spPr>
          <a:xfrm>
            <a:off x="3564000" y="1628640"/>
            <a:ext cx="2806560" cy="4753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Поперечный и продольный своды стоп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osledstvija_ploskostopija"/>
          <p:cNvPicPr/>
          <p:nvPr/>
        </p:nvPicPr>
        <p:blipFill>
          <a:blip r:embed="rId1"/>
          <a:stretch/>
        </p:blipFill>
        <p:spPr>
          <a:xfrm>
            <a:off x="5508720" y="1268280"/>
            <a:ext cx="3384360" cy="5400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Lucida Calligraphy"/>
              </a:rPr>
              <a:t>Последствия плоскостоп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5840" y="1216080"/>
            <a:ext cx="4457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мышцы и связки стоп перестаю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ть и становятся слабыми, т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сходит нарушение нормаль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ы стопы - она оседает и станови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но плоской, утрачивая сво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вную функцию - рессорну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ся нагрузка распределя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суставы ног – тазобедренны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енный, голеностопный. Возникаю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и в области таза, стопы, колен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также развивается патологическ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ан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Lucida Calligraphy"/>
              </a:rPr>
              <a:t>Виды плоскостопия: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3557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 rot="1303200">
            <a:off x="2583000" y="1222200"/>
            <a:ext cx="336240" cy="1184400"/>
          </a:xfrm>
          <a:prstGeom prst="downArrow">
            <a:avLst>
              <a:gd name="adj1" fmla="val 50000"/>
              <a:gd name="adj2" fmla="val 8806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 rot="20254200">
            <a:off x="5721480" y="1182240"/>
            <a:ext cx="288720" cy="1135080"/>
          </a:xfrm>
          <a:prstGeom prst="downArrow">
            <a:avLst>
              <a:gd name="adj1" fmla="val 50000"/>
              <a:gd name="adj2" fmla="val 9828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1332000" y="2492280"/>
            <a:ext cx="2087640" cy="935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ьн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5364000" y="2349360"/>
            <a:ext cx="2087640" cy="93672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ереч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3419640" y="2852640"/>
            <a:ext cx="431640" cy="1224000"/>
          </a:xfrm>
          <a:custGeom>
            <a:avLst/>
            <a:gdLst>
              <a:gd name="textAreaLeft" fmla="*/ 57600 w 431640"/>
              <a:gd name="textAreaRight" fmla="*/ 374040 w 431640"/>
              <a:gd name="textAreaTop" fmla="*/ 223560 h 1224000"/>
              <a:gd name="textAreaBottom" fmla="*/ 8398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95" stAng="-5400000" swAng="5400000"/>
                <a:lnTo>
                  <a:pt x="21600" y="10875"/>
                </a:lnTo>
                <a:arcTo wR="21600" hR="7895" stAng="0" swAng="2757154"/>
                <a:lnTo>
                  <a:pt x="7200" y="21148"/>
                </a:lnTo>
                <a:lnTo>
                  <a:pt x="0" y="17280"/>
                </a:lnTo>
                <a:lnTo>
                  <a:pt x="7200" y="12508"/>
                </a:lnTo>
                <a:lnTo>
                  <a:pt x="7200" y="15338"/>
                </a:lnTo>
                <a:arcTo wR="21600" hR="7895" stAng="2757154" swAng="-2516070"/>
                <a:lnTo>
                  <a:pt x="21212" y="9385"/>
                </a:lnTo>
                <a:arcTo wR="21600" hR="7895" stAng="-241084" swAng="-5158916"/>
                <a:close/>
              </a:path>
              <a:path fill="darkenLess" w="21600" h="21600">
                <a:moveTo>
                  <a:pt x="0" y="0"/>
                </a:moveTo>
                <a:arcTo wR="21600" hR="7895" stAng="-5400000" swAng="5400000"/>
                <a:lnTo>
                  <a:pt x="21600" y="10875"/>
                </a:lnTo>
                <a:arcTo wR="21600" hR="7895" stAng="0" swAng="-241084"/>
                <a:lnTo>
                  <a:pt x="21212" y="9385"/>
                </a:lnTo>
                <a:arcTo wR="21600" hR="7895" stAng="-241084" swAng="-5158916"/>
                <a:close/>
              </a:path>
            </a:pathLst>
          </a:cu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684360" y="4724280"/>
            <a:ext cx="2374920" cy="1295640"/>
          </a:xfrm>
          <a:prstGeom prst="cloudCallout">
            <a:avLst>
              <a:gd name="adj1" fmla="val 66444"/>
              <a:gd name="adj2" fmla="val -9522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нижение продольного свода сто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4788000" y="2781360"/>
            <a:ext cx="576000" cy="1150920"/>
          </a:xfrm>
          <a:custGeom>
            <a:avLst/>
            <a:gdLst>
              <a:gd name="textAreaLeft" fmla="*/ 77040 w 576000"/>
              <a:gd name="textAreaRight" fmla="*/ 498960 w 576000"/>
              <a:gd name="textAreaTop" fmla="*/ 204480 h 1150920"/>
              <a:gd name="textAreaBottom" fmla="*/ 83520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80" stAng="-5400000" swAng="-5400000"/>
                <a:lnTo>
                  <a:pt x="0" y="11831"/>
                </a:lnTo>
                <a:arcTo wR="21600" hR="7680" stAng="10800000" swAng="-2611174"/>
                <a:lnTo>
                  <a:pt x="14026" y="21112"/>
                </a:lnTo>
                <a:lnTo>
                  <a:pt x="21600" y="17436"/>
                </a:lnTo>
                <a:lnTo>
                  <a:pt x="14026" y="12783"/>
                </a:lnTo>
                <a:lnTo>
                  <a:pt x="14026" y="14872"/>
                </a:lnTo>
                <a:arcTo wR="21600" hR="7680" stAng="8188826" swAng="2269214"/>
                <a:lnTo>
                  <a:pt x="804" y="9756"/>
                </a:lnTo>
                <a:arcTo wR="21600" hR="7680" stAng="-10458040" swAng="5058040"/>
                <a:close/>
              </a:path>
              <a:path fill="darkenLess" w="21600" h="21600">
                <a:moveTo>
                  <a:pt x="21600" y="0"/>
                </a:moveTo>
                <a:arcTo wR="21600" hR="7680" stAng="-5400000" swAng="-5400000"/>
                <a:lnTo>
                  <a:pt x="0" y="7680"/>
                </a:lnTo>
                <a:arcTo wR="21600" hR="7680" stAng="10800000" swAng="-341960"/>
                <a:lnTo>
                  <a:pt x="804" y="9756"/>
                </a:lnTo>
                <a:arcTo wR="21600" hR="7680" stAng="-10458040" swAng="5058040"/>
                <a:close/>
              </a:path>
            </a:pathLst>
          </a:cu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5867280" y="4437000"/>
            <a:ext cx="2449800" cy="1368360"/>
          </a:xfrm>
          <a:prstGeom prst="cloudCallout">
            <a:avLst>
              <a:gd name="adj1" fmla="val -66203"/>
              <a:gd name="adj2" fmla="val -84685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нижение поперечного с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4211640" y="1268280"/>
            <a:ext cx="341280" cy="3961080"/>
          </a:xfrm>
          <a:prstGeom prst="downArrow">
            <a:avLst>
              <a:gd name="adj1" fmla="val 50000"/>
              <a:gd name="adj2" fmla="val 290164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5"/>
          <p:cNvSpPr/>
          <p:nvPr/>
        </p:nvSpPr>
        <p:spPr>
          <a:xfrm>
            <a:off x="3132000" y="5589720"/>
            <a:ext cx="3095640" cy="1079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ьно – попереч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комбинированн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90504569_large_3925073_otpechatkistopi1"/>
          <p:cNvPicPr/>
          <p:nvPr/>
        </p:nvPicPr>
        <p:blipFill>
          <a:blip r:embed="rId1"/>
          <a:stretch/>
        </p:blipFill>
        <p:spPr>
          <a:xfrm>
            <a:off x="835200" y="692280"/>
            <a:ext cx="7697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7"/>
          <p:cNvSpPr/>
          <p:nvPr/>
        </p:nvSpPr>
        <p:spPr>
          <a:xfrm flipH="1">
            <a:off x="2050920" y="1197000"/>
            <a:ext cx="6494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932360" y="1268280"/>
            <a:ext cx="936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35000" y="23493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ожд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374800" y="234936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41440" y="2924280"/>
            <a:ext cx="27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следстви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ока развития ткан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да (встречается ред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245560" y="2924280"/>
            <a:ext cx="321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ается в любом возрас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яют на вид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вма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и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хи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абетическ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2411280" y="765000"/>
            <a:ext cx="2737080" cy="107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виды плоскостоп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ят 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5"/>
          <p:cNvSpPr/>
          <p:nvPr/>
        </p:nvSpPr>
        <p:spPr>
          <a:xfrm>
            <a:off x="3276720" y="404640"/>
            <a:ext cx="1850760" cy="6987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пто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2124000" y="105264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5076720" y="692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324000" y="1341360"/>
            <a:ext cx="1942920" cy="9144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ь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оп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6156360" y="765000"/>
            <a:ext cx="2232000" cy="9144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ереч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оп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01400" y="2276640"/>
            <a:ext cx="446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томляемость в ногах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авливание на стоп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середину подошвы вызывае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, тыл стопы отекает к вечер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льные и постоянные боли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пах, в области лодыжек и голене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обрать правильную обув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новится очень сложн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 в пояснице, продольный свод внеш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же не заметен, пятка полность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ластана, стопа отечна, голеностоп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став трудноподвиже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651640" y="1916280"/>
            <a:ext cx="312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счезновение попереч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да стопы, и ка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ствие деформац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льцев стоп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боли в переднем отдел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пы, омозоленность кож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явление молоткообраз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льце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2" descr="boli_v_stope"/>
          <p:cNvPicPr/>
          <p:nvPr/>
        </p:nvPicPr>
        <p:blipFill>
          <a:blip r:embed="rId1"/>
          <a:stretch/>
        </p:blipFill>
        <p:spPr>
          <a:xfrm>
            <a:off x="5940360" y="4221000"/>
            <a:ext cx="2808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3:56:05Z</dcterms:created>
  <dc:creator>User</dc:creator>
  <dc:description/>
  <dc:language>en-US</dc:language>
  <cp:lastModifiedBy>User</cp:lastModifiedBy>
  <dcterms:modified xsi:type="dcterms:W3CDTF">2019-07-10T12:25:12Z</dcterms:modified>
  <cp:revision>11</cp:revision>
  <dc:subject/>
  <dc:title>«Если бы ноги были руками»</dc:title>
</cp:coreProperties>
</file>