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5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6.gif" ContentType="image/gif"/>
  <Override PartName="/ppt/media/image8.gif" ContentType="image/gif"/>
  <Override PartName="/ppt/media/image9.gif" ContentType="image/gif"/>
  <Override PartName="/ppt/media/image23.png" ContentType="image/png"/>
  <Override PartName="/ppt/media/image18.gif" ContentType="image/gif"/>
  <Override PartName="/ppt/media/image13.jpeg" ContentType="image/jpeg"/>
  <Override PartName="/ppt/media/image30.png" ContentType="image/png"/>
  <Override PartName="/ppt/media/image7.gif" ContentType="image/gif"/>
  <Override PartName="/ppt/media/image12.gif" ContentType="image/gif"/>
  <Override PartName="/ppt/media/applause.wav" ContentType="audio/x-wav"/>
  <Override PartName="/ppt/media/image5.gif" ContentType="image/gif"/>
  <Override PartName="/ppt/media/image28.gif" ContentType="image/gif"/>
  <Override PartName="/ppt/media/image4.gif" ContentType="image/gif"/>
  <Override PartName="/ppt/media/image27.gif" ContentType="image/gif"/>
  <Override PartName="/ppt/media/image3.png" ContentType="image/png"/>
  <Override PartName="/ppt/media/image2.png" ContentType="image/png"/>
  <Override PartName="/ppt/media/image1.png" ContentType="image/png"/>
  <Override PartName="/ppt/media/image19.gif" ContentType="image/gif"/>
  <Override PartName="/ppt/media/image29.gif" ContentType="image/gif"/>
  <Override PartName="/ppt/media/image15.jpeg" ContentType="image/jpeg"/>
  <Override PartName="/ppt/media/image16.png" ContentType="image/png"/>
  <Override PartName="/ppt/media/image17.gif" ContentType="image/gif"/>
  <Override PartName="/ppt/media/image22.png" ContentType="image/png"/>
  <Override PartName="/ppt/media/image20.png" ContentType="image/png"/>
  <Override PartName="/ppt/media/image21.png" ContentType="image/png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861C-F42D-4CF1-9715-F006AD6C1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CD43-5FD7-4865-AB80-89E09AE4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DE93-9724-406B-BF7E-FA6C1D9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452E-7715-4F15-A300-FB8D908427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09C1-3D65-43E8-8BC9-F190F4A2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F8C0-0685-4451-BE49-EE7AC6B6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5F0F-3EC6-42EF-BEAD-AACFE5E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5DDC-6E17-4C9A-A427-A089B98C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8CAD-AE6C-4CD2-B338-C5B1002E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8BD4-71CD-4A6A-8686-AEE07C90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0A9A-9A89-4F34-B861-34183DE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71A8-42D9-4FC7-AD98-715DF3E1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51D961-1169-4FA8-B61B-D6B6E4380E2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42920" y="1285920"/>
            <a:ext cx="871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Урок  математ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1 клас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Тема: Переместительное свойство слож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1171440" cy="93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357120" y="428760"/>
            <a:ext cx="1171800" cy="93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4"/>
          <a:stretch/>
        </p:blipFill>
        <p:spPr>
          <a:xfrm>
            <a:off x="2857680" y="285840"/>
            <a:ext cx="1171440" cy="933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5"/>
          <a:stretch/>
        </p:blipFill>
        <p:spPr>
          <a:xfrm>
            <a:off x="5572080" y="357120"/>
            <a:ext cx="1390680" cy="93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6"/>
          <a:stretch/>
        </p:blipFill>
        <p:spPr>
          <a:xfrm>
            <a:off x="7143840" y="35712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7"/>
          <a:stretch/>
        </p:blipFill>
        <p:spPr>
          <a:xfrm>
            <a:off x="428760" y="1857240"/>
            <a:ext cx="117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8"/>
          <a:stretch/>
        </p:blipFill>
        <p:spPr>
          <a:xfrm>
            <a:off x="1643040" y="1714680"/>
            <a:ext cx="1171440" cy="93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9"/>
          <a:stretch/>
        </p:blipFill>
        <p:spPr>
          <a:xfrm>
            <a:off x="4286160" y="1643040"/>
            <a:ext cx="1285920" cy="93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10"/>
          <a:stretch/>
        </p:blipFill>
        <p:spPr>
          <a:xfrm>
            <a:off x="5715000" y="1643040"/>
            <a:ext cx="1357200" cy="93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11"/>
          <a:stretch/>
        </p:blipFill>
        <p:spPr>
          <a:xfrm>
            <a:off x="7286760" y="1571760"/>
            <a:ext cx="1228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695960" y="2714760"/>
            <a:ext cx="484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3 + 2 = 2 + 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214200" y="450072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Переместительно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свойство слож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7358040" y="357120"/>
            <a:ext cx="1590840" cy="170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565440" cy="258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4"/>
          <a:stretch/>
        </p:blipFill>
        <p:spPr>
          <a:xfrm>
            <a:off x="214200" y="357120"/>
            <a:ext cx="1792440" cy="18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5"/>
          <a:stretch/>
        </p:blipFill>
        <p:spPr>
          <a:xfrm>
            <a:off x="2316240" y="4327560"/>
            <a:ext cx="448128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81160" y="920880"/>
            <a:ext cx="3509640" cy="265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565600" y="208080"/>
            <a:ext cx="3170520" cy="3730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18440" y="4143240"/>
            <a:ext cx="872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Вот книжки на столе, а вот тетрад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Не хочется играть ребятам в пря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И недосуг дуть на корабль бумажный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no Pro Smbd Caption"/>
              </a:rPr>
              <a:t>Сегодня у ребят урок уж очень важ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2"/>
          <p:cNvSpPr txBox="1"/>
          <p:nvPr/>
        </p:nvSpPr>
        <p:spPr>
          <a:xfrm>
            <a:off x="1428840" y="214200"/>
            <a:ext cx="6572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1906560" cy="1342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0" y="2928960"/>
            <a:ext cx="1257480" cy="112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1357200" y="3214800"/>
            <a:ext cx="744480" cy="126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5"/>
          <a:stretch/>
        </p:blipFill>
        <p:spPr>
          <a:xfrm>
            <a:off x="5000760" y="3929040"/>
            <a:ext cx="12142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6"/>
          <a:stretch/>
        </p:blipFill>
        <p:spPr>
          <a:xfrm>
            <a:off x="2286000" y="2643120"/>
            <a:ext cx="785880" cy="126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7"/>
          <a:stretch/>
        </p:blipFill>
        <p:spPr>
          <a:xfrm>
            <a:off x="5267160" y="2000160"/>
            <a:ext cx="1257480" cy="14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8"/>
          <a:stretch/>
        </p:blipFill>
        <p:spPr>
          <a:xfrm>
            <a:off x="6143760" y="3357720"/>
            <a:ext cx="1250640" cy="119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9"/>
          <a:stretch/>
        </p:blipFill>
        <p:spPr>
          <a:xfrm>
            <a:off x="7072200" y="2189160"/>
            <a:ext cx="8575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10"/>
          <a:stretch/>
        </p:blipFill>
        <p:spPr>
          <a:xfrm>
            <a:off x="500040" y="4214880"/>
            <a:ext cx="93996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11"/>
          <a:stretch/>
        </p:blipFill>
        <p:spPr>
          <a:xfrm>
            <a:off x="7215120" y="3552840"/>
            <a:ext cx="1457280" cy="150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431640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572160" y="2714760"/>
            <a:ext cx="11430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1720" y="5288040"/>
            <a:ext cx="545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5+5=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786120" y="214200"/>
            <a:ext cx="1928880" cy="166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929200" y="0"/>
            <a:ext cx="2143080" cy="185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4"/>
          <a:stretch/>
        </p:blipFill>
        <p:spPr>
          <a:xfrm>
            <a:off x="2286000" y="214200"/>
            <a:ext cx="1285920" cy="17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5"/>
          <a:stretch/>
        </p:blipFill>
        <p:spPr>
          <a:xfrm>
            <a:off x="500040" y="214200"/>
            <a:ext cx="134784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6429240" y="3500280"/>
            <a:ext cx="1136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7"/>
          <a:stretch/>
        </p:blipFill>
        <p:spPr>
          <a:xfrm>
            <a:off x="7715160" y="4214880"/>
            <a:ext cx="1071720" cy="175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8"/>
          <a:stretch/>
        </p:blipFill>
        <p:spPr>
          <a:xfrm>
            <a:off x="7643880" y="2071800"/>
            <a:ext cx="1212840" cy="1981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098360" y="2500200"/>
            <a:ext cx="50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лон, слониха, 2слон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Шли толпой на водоп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А навстречу 3 тигр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 водопоя шли дом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осчитайте поскор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Сколько встретилось звер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54448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04460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Arial Black"/>
              </a:rPr>
              <a:t>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333440" y="571500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04120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325728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6997680" y="428760"/>
            <a:ext cx="2146320" cy="2719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000160" y="0"/>
            <a:ext cx="505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На удочку Анд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ймал 6 оку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А друг его Серге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рёх небольших ерш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осчитай без лишних с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Этих мальчиков у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19360" y="56577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357720" y="5749920"/>
            <a:ext cx="59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04460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75596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545080" y="5749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2"/>
          <p:cNvSpPr txBox="1"/>
          <p:nvPr/>
        </p:nvSpPr>
        <p:spPr>
          <a:xfrm>
            <a:off x="1500120" y="285840"/>
            <a:ext cx="5643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70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 на смекалку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7240" y="20001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46400" y="2000160"/>
            <a:ext cx="4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0280" y="178596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3    .    5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30160" y="46432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74760" y="4500720"/>
            <a:ext cx="4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603600" y="4500720"/>
            <a:ext cx="4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929120" y="4357800"/>
            <a:ext cx="400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5    .    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7562880" y="214200"/>
            <a:ext cx="1581120" cy="1819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2071800" y="192888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929120" y="1857240"/>
            <a:ext cx="9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928880" y="471492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429000" y="4572000"/>
            <a:ext cx="10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643800" y="4357800"/>
            <a:ext cx="107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-179280" y="-378000"/>
            <a:ext cx="9756720" cy="77583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"/>
          <p:cNvSpPr txBox="1"/>
          <p:nvPr/>
        </p:nvSpPr>
        <p:spPr>
          <a:xfrm>
            <a:off x="1857240" y="500040"/>
            <a:ext cx="5195880" cy="64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</a:rPr>
              <a:t>Найди па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 Black"/>
              <a:ea typeface="Arial Black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00320" y="96840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исла, котор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кладыва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3520" y="2143080"/>
            <a:ext cx="45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Результат с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45240" y="2857680"/>
            <a:ext cx="46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и сложении стои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 первом мес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3120" y="400068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Выражение с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знаком 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74400" y="5103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 выражении 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лож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торое чис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269680" y="92880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Значение сум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531480" y="19288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Слага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7293240" y="2928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Сум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647960" y="4143240"/>
            <a:ext cx="39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Второе слага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776120" y="571500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ервое слага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L -1.27168 -6 L -0.3467 -0.10104 E">
                                      <p:cBhvr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3.46821 -6 L 0.00243 0.18081 E">
                                      <p:cBhvr>
                                        <p:cTn id="12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3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3.98844 -6 L -0.40451 0.17271 E">
                                      <p:cBhvr>
                                        <p:cTn id="1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10404 L 0.00695 0.22891 E">
                                      <p:cBhvr>
                                        <p:cTn id="1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4492800" y="2639880"/>
            <a:ext cx="4370040" cy="2968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90680" y="214200"/>
            <a:ext cx="54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Знайка сегодня нам принё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Удивительный 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Каким будет сложения результа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Если слагаемые местами поменять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43000" y="57150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 rot="20820000">
            <a:off x="269640" y="2340000"/>
            <a:ext cx="5873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69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становка слагаем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696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"/>
          <p:cNvGrpSpPr/>
          <p:nvPr/>
        </p:nvGrpSpPr>
        <p:grpSpPr>
          <a:xfrm>
            <a:off x="152280" y="390600"/>
            <a:ext cx="1028880" cy="1022400"/>
            <a:chOff x="152280" y="390600"/>
            <a:chExt cx="1028880" cy="1022400"/>
          </a:xfrm>
        </p:grpSpPr>
        <p:pic>
          <p:nvPicPr>
            <p:cNvPr id="119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39060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347760" y="561960"/>
              <a:ext cx="64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1298520" y="390600"/>
            <a:ext cx="1028880" cy="1022400"/>
            <a:chOff x="1298520" y="390600"/>
            <a:chExt cx="1028880" cy="102240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1298520" y="39060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490760" y="561960"/>
              <a:ext cx="645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7929720" y="1428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7929720" y="1428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7929720" y="1428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7929720" y="1428840"/>
            <a:ext cx="914400" cy="107136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7929720" y="1428840"/>
            <a:ext cx="914400" cy="11286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7858080" y="1428840"/>
            <a:ext cx="914400" cy="11430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85792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71492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364320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57184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1428840" y="414324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85840" y="4071960"/>
            <a:ext cx="914400" cy="914400"/>
          </a:xfrm>
          <a:prstGeom prst="ellipse">
            <a:avLst/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0"/>
          <p:cNvGrpSpPr/>
          <p:nvPr/>
        </p:nvGrpSpPr>
        <p:grpSpPr>
          <a:xfrm>
            <a:off x="7796160" y="5535720"/>
            <a:ext cx="1028880" cy="1022400"/>
            <a:chOff x="7796160" y="5535720"/>
            <a:chExt cx="1028880" cy="1022400"/>
          </a:xfrm>
        </p:grpSpPr>
        <p:pic>
          <p:nvPicPr>
            <p:cNvPr id="137" name="Picture 21" descr=""/>
            <p:cNvPicPr/>
            <p:nvPr/>
          </p:nvPicPr>
          <p:blipFill>
            <a:blip r:embed="rId4"/>
            <a:stretch/>
          </p:blipFill>
          <p:spPr>
            <a:xfrm>
              <a:off x="7796160" y="553572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7991640" y="5705640"/>
              <a:ext cx="64584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7796160" y="5535720"/>
            <a:ext cx="1028880" cy="1022400"/>
            <a:chOff x="7796160" y="5535720"/>
            <a:chExt cx="1028880" cy="1022400"/>
          </a:xfrm>
        </p:grpSpPr>
        <p:pic>
          <p:nvPicPr>
            <p:cNvPr id="140" name="Picture 24" descr=""/>
            <p:cNvPicPr/>
            <p:nvPr/>
          </p:nvPicPr>
          <p:blipFill>
            <a:blip r:embed="rId5"/>
            <a:stretch/>
          </p:blipFill>
          <p:spPr>
            <a:xfrm>
              <a:off x="7796160" y="5535720"/>
              <a:ext cx="10288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7991640" y="5705640"/>
              <a:ext cx="64584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Text Box 26"/>
          <p:cNvSpPr/>
          <p:nvPr/>
        </p:nvSpPr>
        <p:spPr>
          <a:xfrm>
            <a:off x="903600" y="2786040"/>
            <a:ext cx="205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2 + 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760680" y="5500800"/>
            <a:ext cx="205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6 + 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8" descr=""/>
          <p:cNvPicPr/>
          <p:nvPr/>
        </p:nvPicPr>
        <p:blipFill>
          <a:blip r:embed="rId6"/>
          <a:stretch/>
        </p:blipFill>
        <p:spPr>
          <a:xfrm>
            <a:off x="7286760" y="2714760"/>
            <a:ext cx="16286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5.20231 -7 L -0.7165 0.00879 E">
                                      <p:cBhvr>
                                        <p:cTn id="14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3.2948 -6 L -0.59046 0.01503 E">
                                      <p:cBhvr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8.09249 -7 L -0.4724 0.00393 E">
                                      <p:cBhvr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3.64162 -6 L -0.35573 0.01943 E">
                                      <p:cBhvr>
                                        <p:cTn id="15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2.08092 -6 L -0.23611 0.01503 E">
                                      <p:cBhvr>
                                        <p:cTn id="16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2.08092 -6 L -0.12587 -0.00601 E">
                                      <p:cBhvr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 -6 L 1.15607 -6 L -0.32518 -0.01041 E">
                                      <p:cBhvr>
                                        <p:cTn id="16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L 1.15607 -6 L -0.15156 -0.01041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2:36:43Z</dcterms:created>
  <dc:creator>Admin</dc:creator>
  <dc:description/>
  <dc:language>en-US</dc:language>
  <cp:lastModifiedBy>DNS</cp:lastModifiedBy>
  <dcterms:modified xsi:type="dcterms:W3CDTF">2021-01-18T07:32:52Z</dcterms:modified>
  <cp:revision>42</cp:revision>
  <dc:subject/>
  <dc:title>Слайд 1</dc:title>
</cp:coreProperties>
</file>