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85A-0D43-49D9-BE61-6D506500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711-1E58-43BE-8456-BF5FDFF6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B91-D587-40B1-A710-2A708476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F85-FB52-4773-8E21-1AACB07C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B207-941A-4B54-9C6D-90D414BF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82BE-7CBE-404A-BEBD-CCB640DC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2F1A-7002-44EC-92BC-C0B1A092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8235-4E51-4AB5-83A7-AE68AC65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EA53-6EE7-4B94-B29C-F1C0F606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BF35-CBE2-42B3-98F8-019EB4AE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77D7-263D-4757-A1CC-6DFF2470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3AA-3208-491F-B214-3D3A9864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DC2C-2A9D-4BA4-89DC-AFD2E0D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62BF-1F4A-4028-805F-F236C13F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EB00-E911-49A5-B89C-C50F57DC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4A3B-8FB4-4D8D-B6A1-1A126A5B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F5E6-1716-4EE7-9461-A3577031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7C2-A8E6-4C7B-B931-C767CCA0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86B-358E-4133-89B1-305131F1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95A-45A0-49DE-BA42-C38C7F7E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265-683A-4C00-9089-885570B6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6C3-4875-43EB-A9EA-AA0FA6A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9F0-33E7-4A0A-83B8-C87AFBA7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379-3C38-4519-B0DE-EDF397BE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A164-B73F-45B1-A664-3282A38B35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1B57-90F6-4943-B063-7F0A2B1FEB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7432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емледел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2362320"/>
            <a:ext cx="8915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Что выращивали на Руси </a:t>
            </a:r>
            <a:br>
              <a:rPr sz="4800"/>
            </a:b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в полях и огородах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6" descr="https://get.pxhere.com/photo/plant-field-farm-leaf-flower-food-produce-vegetable-crop-soil-agriculture-garden-cabbage-brassica-head-cabbage-leaf-vegetable-cabbage-patch-1264877.jpg"/>
          <p:cNvPicPr/>
          <p:nvPr/>
        </p:nvPicPr>
        <p:blipFill>
          <a:blip r:embed="rId1"/>
          <a:stretch/>
        </p:blipFill>
        <p:spPr>
          <a:xfrm>
            <a:off x="0" y="0"/>
            <a:ext cx="2419200" cy="161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s://avatars.mds.yandex.net/get-zen_doc/153246/pub_5c59de63108d4d00b0330013_5c59df0f2e1fa300ae949914/scale_120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s://img4.goodfon.ru/original/3360x1050/2/c3/ovoshchi-kartofel-pomidory-morkov.jpg"/>
          <p:cNvPicPr/>
          <p:nvPr/>
        </p:nvPicPr>
        <p:blipFill>
          <a:blip r:embed="rId3"/>
          <a:stretch/>
        </p:blipFill>
        <p:spPr>
          <a:xfrm>
            <a:off x="2743200" y="0"/>
            <a:ext cx="3513240" cy="1425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xn--c1acmhqo9h.xn--p1ai/images/%D0%9F%D0%9E%D0%9B%D0%95%D0%97%D0%9D%D0%90%D0%AF_%D0%98%D0%9D%D0%A4%D0%9E%D0%A0%D0%9C%D0%90%D0%A6%D0%98%D0%AF/%D0%A3%D1%80%D0%BE%D0%B6%D0%B0%D0%B9_%D0%B2_%D0%BE%D0%B3%D0%BE%D1%80%D0%BE%D0%B4%D0%B5.jpg"/>
          <p:cNvPicPr/>
          <p:nvPr/>
        </p:nvPicPr>
        <p:blipFill>
          <a:blip r:embed="rId4"/>
          <a:stretch/>
        </p:blipFill>
        <p:spPr>
          <a:xfrm>
            <a:off x="152280" y="518148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Растения завезенные в Россию"/>
          <p:cNvPicPr/>
          <p:nvPr/>
        </p:nvPicPr>
        <p:blipFill>
          <a:blip r:embed="rId1"/>
          <a:stretch/>
        </p:blipFill>
        <p:spPr>
          <a:xfrm>
            <a:off x="0" y="2286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4114800" y="990720"/>
            <a:ext cx="4876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дина огурцов — Индия. Время появления культуры — более 3000 лет до н.э.  Огурцы являются любимым овощным растением у русских с давних по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днако точных сведений, когда огурец впервые появился на Руси, нет. Предполагают, что он был известен у нас ещё до IX столетия, проникнув к нам, скорее всего, из Восточной Азии. Первое упоминание об огурцах в Московском государстве было сделано германским послом Герберштейном в 1528 году в его записках о путешествии в Москов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https://imgprx.livejournal.net/1a2008686c6ae12a1b3466946466caa5b36f35b5/wwADxeoKSg769yj5GaYD38SKOGDoL7cfEJHi0hSZ_ShMWJpdhPeyOR8lv3hdjUKN4W16SQvD6GrVbhXETKrFoA"/>
          <p:cNvPicPr/>
          <p:nvPr/>
        </p:nvPicPr>
        <p:blipFill>
          <a:blip r:embed="rId2"/>
          <a:stretch/>
        </p:blipFill>
        <p:spPr>
          <a:xfrm>
            <a:off x="1143000" y="3581280"/>
            <a:ext cx="2000160" cy="2657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свеклы Средняя Азия. Еще за 200 лет до нашей эры ассирийцы, вавилоняне и персы знали свеклу как овощное и лекарственое растение. На Руси свекла известна с X-XI век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160355119e613bc01b"/>
          <p:cNvPicPr/>
          <p:nvPr/>
        </p:nvPicPr>
        <p:blipFill>
          <a:blip r:embed="rId1"/>
          <a:stretch/>
        </p:blipFill>
        <p:spPr>
          <a:xfrm>
            <a:off x="1905120" y="3048120"/>
            <a:ext cx="5352840" cy="326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198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Redk(1)"/>
          <p:cNvPicPr/>
          <p:nvPr/>
        </p:nvPicPr>
        <p:blipFill>
          <a:blip r:embed="rId1"/>
          <a:srcRect l="0" t="0" r="0" b="-1754"/>
          <a:stretch/>
        </p:blipFill>
        <p:spPr>
          <a:xfrm>
            <a:off x="228600" y="3562200"/>
            <a:ext cx="4362480" cy="329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redka_zimnyaya_kruglaya_chernaya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0"/>
          <p:cNvSpPr/>
          <p:nvPr/>
        </p:nvSpPr>
        <p:spPr>
          <a:xfrm>
            <a:off x="333360" y="242640"/>
            <a:ext cx="4705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дька — очень древня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, родиной котор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читаю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гипет и Кита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ультуру введена боле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000 лет наза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Древнем Египте, Вавилон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653360" y="3584520"/>
            <a:ext cx="4467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Россию редька попа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XII веке и долго была одни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 основ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итания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ук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533520"/>
            <a:ext cx="45687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у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пчатый лук уже за четыре тысячи лет до нашей эры выращивали в Азии, откуда он постепенно и распространился по свету. В России лук появился в 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е.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103562952_large_001"/>
          <p:cNvPicPr/>
          <p:nvPr/>
        </p:nvPicPr>
        <p:blipFill>
          <a:blip r:embed="rId1"/>
          <a:stretch/>
        </p:blipFill>
        <p:spPr>
          <a:xfrm>
            <a:off x="228600" y="1447920"/>
            <a:ext cx="4568760" cy="357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ковь известна уже около 4 тысяч лет. Родиной моркови считают Европу и Азию. В России морковь появилась еще в начале XIV ве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11" descr="108924_1"/>
          <p:cNvPicPr/>
          <p:nvPr/>
        </p:nvPicPr>
        <p:blipFill>
          <a:blip r:embed="rId1"/>
          <a:srcRect l="0" t="-897" r="0" b="0"/>
          <a:stretch/>
        </p:blipFill>
        <p:spPr>
          <a:xfrm>
            <a:off x="304920" y="838080"/>
            <a:ext cx="4419360" cy="510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original-1320924259"/>
          <p:cNvPicPr/>
          <p:nvPr/>
        </p:nvPicPr>
        <p:blipFill>
          <a:blip r:embed="rId1"/>
          <a:stretch/>
        </p:blipFill>
        <p:spPr>
          <a:xfrm>
            <a:off x="4038480" y="2971800"/>
            <a:ext cx="4876920" cy="38862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41400" y="698040"/>
            <a:ext cx="859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на чеснока — Средняя Азия. Окультуривание чесно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чалось около 5 тысяч лет назад. Он пользовался больш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пулярностью в античности, его возделывали в Древн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име, Греции, Древнем Египте, Инд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81960" y="3254400"/>
            <a:ext cx="376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 Россию чесн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пал из Визант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IX веке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4724280" y="380880"/>
            <a:ext cx="4419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чевица - это растение считается самым древним из бобовых. Еще в Древнем Египте из нее выпекали священный хлеб, который отправлялся вместе с усопшими фараонами в гробниц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304920" y="3200400"/>
            <a:ext cx="883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России эта культура появилась в 14 веке, и получила широкое распространение у крестьян и простого рабочего люда.  На Руси из чечевицы пекли душистый и вкусный хлеб, варили похлебки . В России чечевица была главной культурой, которую выращивали и в больших количествах отправляли на экспорт. Но и для страны оставалось много этого продукта. Чечевица спасла наш народ от неслыханного голода 1891-92 г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2" descr="https://stretching-guru.ru/wp-content/uploads/2016/05/chechevica_1.jpg"/>
          <p:cNvPicPr/>
          <p:nvPr/>
        </p:nvPicPr>
        <p:blipFill>
          <a:blip r:embed="rId1"/>
          <a:stretch/>
        </p:blipFill>
        <p:spPr>
          <a:xfrm>
            <a:off x="152280" y="152280"/>
            <a:ext cx="4476960" cy="2986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s://nawat.ru/upload/iblock/6d4/6d48f5a8fe11099078974196d2316281.jpg"/>
          <p:cNvPicPr/>
          <p:nvPr/>
        </p:nvPicPr>
        <p:blipFill>
          <a:blip r:embed="rId2"/>
          <a:stretch/>
        </p:blipFill>
        <p:spPr>
          <a:xfrm>
            <a:off x="7238880" y="5121360"/>
            <a:ext cx="1905120" cy="17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3"/>
          <p:cNvSpPr/>
          <p:nvPr/>
        </p:nvSpPr>
        <p:spPr>
          <a:xfrm>
            <a:off x="152280" y="4114800"/>
            <a:ext cx="6782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Руси про горох узнали в 6 веке до н. э. На территории Украины его впервые нашли возле Харькова. Овощ туда завезли кочевники. В 1674 году горох начали производить на Руси. В 18-му столетию эта культура стала очень популярной и была практически в каждом двор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4191120" y="22860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де, когда и как появился горох точно сказать не может никто. Точной даты ни дают ни рукописи, ни раскопки. на территории вблизи Бирмы и Таиланда наличие гороха подтвердили раскопки. Горох был найден на территории между этими государствами. Найденный там горох имел приличный возраст, его появление там датируется 9750 годами до нашей эры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http://rcdlk.ru/images/2020/ovosh1.jpg"/>
          <p:cNvPicPr/>
          <p:nvPr/>
        </p:nvPicPr>
        <p:blipFill>
          <a:blip r:embed="rId1"/>
          <a:stretch/>
        </p:blipFill>
        <p:spPr>
          <a:xfrm>
            <a:off x="152280" y="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s://thumbs.dreamstime.com/b/%D1%81%D0%B2%D0%B5%D0%B6%D0%B8%D0%B5-%D0%B7%D0%B5%D0%BB%D0%B5%D0%BD%D1%8B%D0%B5-%D0%B3%D0%BE%D1%80%D0%BE%D1%85%D0%B8-102333666.jpg"/>
          <p:cNvPicPr/>
          <p:nvPr/>
        </p:nvPicPr>
        <p:blipFill>
          <a:blip r:embed="rId2"/>
          <a:stretch/>
        </p:blipFill>
        <p:spPr>
          <a:xfrm>
            <a:off x="7078680" y="3740040"/>
            <a:ext cx="2065320" cy="311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-36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большинства сортов фасоли— Центральная и Южная Америка. В XVI веке фасоль завезли в Португалию, откуда она быстро распространилась в европейские стран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105520" y="4191120"/>
            <a:ext cx="403848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Россию фасоль попала в XVII веке. Ее завезли в Архангельск англичане. 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0-fasol-belaya-krasnaya-pestraya"/>
          <p:cNvPicPr/>
          <p:nvPr/>
        </p:nvPicPr>
        <p:blipFill>
          <a:blip r:embed="rId1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bonenschalen"/>
          <p:cNvPicPr/>
          <p:nvPr/>
        </p:nvPicPr>
        <p:blipFill>
          <a:blip r:embed="rId2"/>
          <a:stretch/>
        </p:blipFill>
        <p:spPr>
          <a:xfrm>
            <a:off x="5257800" y="0"/>
            <a:ext cx="3578400" cy="343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4"/>
          <p:cNvSpPr/>
          <p:nvPr/>
        </p:nvSpPr>
        <p:spPr>
          <a:xfrm>
            <a:off x="4572000" y="304920"/>
            <a:ext cx="4572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читают, что петрушка родом из стран Средиземноморья. В диком виде она растёт среди камней и скал. Пищевую ценность петрушка приобрела только в средние века во Франции. Распространившись по всей Европе, как столовый овощ, петрушка "дошагала" в этом качестве в XVIII веке и до России, где появилась на столах у аристократов вместе с блюдами французской кухни. В XIX веке петрушку стали выращивать повсеместно, как овощное растени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лгое время на Руси петрушку выращивали как лечебное средство с XI века . Её соком лечили раны и воспаления, вызванные укусами ядовитых насекомы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2" descr="https://modamix.net/wp-content/uploads/2019/09/iQ2LQTPWR.jpg"/>
          <p:cNvPicPr/>
          <p:nvPr/>
        </p:nvPicPr>
        <p:blipFill>
          <a:blip r:embed="rId1"/>
          <a:stretch/>
        </p:blipFill>
        <p:spPr>
          <a:xfrm>
            <a:off x="685800" y="304920"/>
            <a:ext cx="3809880" cy="32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s://thumbs.dreamstime.com/b/%D0%BA%D0%BE%D1%80%D0%B5%D0%BD%D1%8C-%D0%BF%D0%B5%D1%82%D1%80%D1%83%D1%88%D0%BA%D0%B8-vegetable-%D0%BD%D0%B0-%D0%B1%D0%B5-%D0%B8%D0%B7%D0%BD%D0%B5-79189730.jpg"/>
          <p:cNvPicPr/>
          <p:nvPr/>
        </p:nvPicPr>
        <p:blipFill>
          <a:blip r:embed="rId2"/>
          <a:stretch/>
        </p:blipFill>
        <p:spPr>
          <a:xfrm>
            <a:off x="380880" y="4114800"/>
            <a:ext cx="3581640" cy="238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 современные  культурные растения произошли от диких предков. Процесс превращения диких растений в культурные формы называют одомашниванием. Многие растения люди начали возделывать ещё в глубокой древности. И в настоящее время очень трудно определить родину того или иного раст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http://zabavnik.club/wp-content/uploads/2018/07/autumn_fruits_and_vegetables_7_21113040.jpg"/>
          <p:cNvPicPr/>
          <p:nvPr/>
        </p:nvPicPr>
        <p:blipFill>
          <a:blip r:embed="rId1"/>
          <a:stretch/>
        </p:blipFill>
        <p:spPr>
          <a:xfrm>
            <a:off x="0" y="0"/>
            <a:ext cx="2209680" cy="172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https://st2.depositphotos.com/6698800/11856/i/950/depositphotos_118562742-stock-photo-wicker-basket-with-harvest-collected.jpg"/>
          <p:cNvPicPr/>
          <p:nvPr/>
        </p:nvPicPr>
        <p:blipFill>
          <a:blip r:embed="rId2"/>
          <a:stretch/>
        </p:blipFill>
        <p:spPr>
          <a:xfrm>
            <a:off x="7018200" y="5446800"/>
            <a:ext cx="2125800" cy="1411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https://mtdata.ru/u22/photoC38C/20334328975-0/original.jpeg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130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228600" y="4724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России баклажан известен с XVII века. Считается, что его привозили из Турции и Персии купцы, а также казаки, которые совершали на эти территории частые набеги. Родиной же баклажана являются Индия и Бирма, в которых до сих пор произрастает дикая форма этого овощ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2" descr="http://www.svdeti.ru/images/stories/2016/ovoshchi-predkov-12.jpg"/>
          <p:cNvPicPr/>
          <p:nvPr/>
        </p:nvPicPr>
        <p:blipFill>
          <a:blip r:embed="rId1"/>
          <a:stretch/>
        </p:blipFill>
        <p:spPr>
          <a:xfrm>
            <a:off x="0" y="0"/>
            <a:ext cx="4562640" cy="46022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4572000" y="45720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Родина баклажана — Юго-Восточная Азия — Бирма и тропические районы Индии. Предполагают, что баклажан был введен в культуру в Индии в первом тысячелетии до нашей эры. В начале нашей эры из Индии он проник в соседние страны. Постепенно культура баклажана распространилась в Китай, Японию и Северную Африку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43ebe62a362bed5caa7c39d46fe0c5e7"/>
          <p:cNvPicPr/>
          <p:nvPr/>
        </p:nvPicPr>
        <p:blipFill>
          <a:blip r:embed="rId1"/>
          <a:stretch/>
        </p:blipFill>
        <p:spPr>
          <a:xfrm>
            <a:off x="1295280" y="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304920" y="449424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на тыквы – Мексика. Местные жители одомашн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ыкву более 3000 лет наза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оссии тыква появилась в XVI веке и очень быстро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лагодаря своей неприхотливости, прижилась 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естьянских огород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107244754_PEREC6666666666666666666666"/>
          <p:cNvPicPr/>
          <p:nvPr/>
        </p:nvPicPr>
        <p:blipFill>
          <a:blip r:embed="rId1"/>
          <a:stretch/>
        </p:blipFill>
        <p:spPr>
          <a:xfrm>
            <a:off x="152280" y="0"/>
            <a:ext cx="5010120" cy="3757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7pEy"/>
          <p:cNvPicPr/>
          <p:nvPr/>
        </p:nvPicPr>
        <p:blipFill>
          <a:blip r:embed="rId2"/>
          <a:stretch/>
        </p:blipFill>
        <p:spPr>
          <a:xfrm>
            <a:off x="5105520" y="4267080"/>
            <a:ext cx="3619440" cy="2295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232920" y="4419720"/>
            <a:ext cx="38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начал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а пере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явился в России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5087520" y="319680"/>
            <a:ext cx="4051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ерец является одним из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ревнейших культивируемых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растений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Археологические раскопки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Перу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Центральной Америки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Мексике показали, что перец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использовался людьми ещ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за 6 тыс. лет до н.э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istock_photo_of_potatoes"/>
          <p:cNvPicPr/>
          <p:nvPr/>
        </p:nvPicPr>
        <p:blipFill>
          <a:blip r:embed="rId1"/>
          <a:stretch/>
        </p:blipFill>
        <p:spPr>
          <a:xfrm>
            <a:off x="0" y="3666960"/>
            <a:ext cx="4695840" cy="31910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161640" y="454320"/>
            <a:ext cx="839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на картофеля - Южная Америка. Впервые картофел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чали культивировать приблизительно 5 тысяч лет 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тели бассейна озера Титикака, которое расположе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границе Перу и  Боливии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Россию картофель пришел в самом начале XVIII в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11" descr="103366011_kartofel_3"/>
          <p:cNvPicPr/>
          <p:nvPr/>
        </p:nvPicPr>
        <p:blipFill>
          <a:blip r:embed="rId2"/>
          <a:stretch/>
        </p:blipFill>
        <p:spPr>
          <a:xfrm>
            <a:off x="5181480" y="2971800"/>
            <a:ext cx="3662640" cy="274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762120" y="457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конце 18 века по приказу императрицы Екатерины ІІ, из Европы была привезена целая корзина помидор.. В промышленных масштабах помидоры стали выращиваться в середине 19-го века в Астраханской губернии, в Крыму и на Ставрополье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2" descr="https://im0-tub-ru.yandex.net/i?id=65750e012d73f3c986e8d98598e6d7f1-l&amp;n=13"/>
          <p:cNvPicPr/>
          <p:nvPr/>
        </p:nvPicPr>
        <p:blipFill>
          <a:blip r:embed="rId1"/>
          <a:stretch/>
        </p:blipFill>
        <p:spPr>
          <a:xfrm>
            <a:off x="0" y="3343320"/>
            <a:ext cx="6248520" cy="3514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s://avatars.mds.yandex.net/get-zen_doc/52326/pub_5aa381a4c8901016264a1001_5aa388e6482677b9894bd919/scale_1200"/>
          <p:cNvPicPr/>
          <p:nvPr/>
        </p:nvPicPr>
        <p:blipFill>
          <a:blip r:embed="rId2"/>
          <a:stretch/>
        </p:blipFill>
        <p:spPr>
          <a:xfrm>
            <a:off x="6343560" y="2438280"/>
            <a:ext cx="2800440" cy="19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куруза была введена в культуру 7—12 тыс. лет назад н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рритории современной Мексики. Первое знакомство с кукурузой народов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ссии произошло во время русско-турецкой войны 1768—1774 гг., когд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ссия овладела Крымом. Кукурузу в России на первых порах называл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урецкой пшеницей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5" name="Picture 5" descr="0630"/>
          <p:cNvPicPr/>
          <p:nvPr/>
        </p:nvPicPr>
        <p:blipFill>
          <a:blip r:embed="rId1"/>
          <a:stretch/>
        </p:blipFill>
        <p:spPr>
          <a:xfrm>
            <a:off x="1523880" y="1752480"/>
            <a:ext cx="6629400" cy="497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228960" y="0"/>
            <a:ext cx="472428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ые древние образцы культурного ячменя найдены в Сирии и в самых древних египетских гробницах. Как и пшеница, он был окультурен в эпоху неолита Ближнем Востоке не менее 10 тыс. лет наза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Россию этот вид злаковых попал из Азии. Правда, данных о том, когда точно это произошло, нет. Быстро и легко прижился ячмень в регионах, в которых выращивание многих других культур попросту невозможн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6370860"/>
          <p:cNvPicPr/>
          <p:nvPr/>
        </p:nvPicPr>
        <p:blipFill>
          <a:blip r:embed="rId1"/>
          <a:stretch/>
        </p:blipFill>
        <p:spPr>
          <a:xfrm>
            <a:off x="4381560" y="3049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i?id=297158079-09-72&amp;n=21"/>
          <p:cNvPicPr/>
          <p:nvPr/>
        </p:nvPicPr>
        <p:blipFill>
          <a:blip r:embed="rId2"/>
          <a:stretch/>
        </p:blipFill>
        <p:spPr>
          <a:xfrm rot="586200">
            <a:off x="5409720" y="4343040"/>
            <a:ext cx="2828880" cy="188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-228600" y="15228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сть данные, что родина пшеницы - юго-восток современной Турции.   Уже 6-8 тысяч лет назад пшеницу возделывали в странах Ближнего и Среднего Востока –в современной Турции, Сирии, Ираке, Иране, в Западной Европе пшеница появилась с VI до II тысячелетия до н. э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Руси пшеница появилась в V веке до н. э. Это один из самых первых злаков, которые  наши  предки славяне позаимствовали  у готов, живших на юге Восточной Европ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ris3"/>
          <p:cNvPicPr/>
          <p:nvPr/>
        </p:nvPicPr>
        <p:blipFill>
          <a:blip r:embed="rId1"/>
          <a:stretch/>
        </p:blipFill>
        <p:spPr>
          <a:xfrm>
            <a:off x="5029200" y="228600"/>
            <a:ext cx="3600360" cy="1876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Stock Photos - удивительная природа"/>
          <p:cNvPicPr/>
          <p:nvPr/>
        </p:nvPicPr>
        <p:blipFill>
          <a:blip r:embed="rId2"/>
          <a:stretch/>
        </p:blipFill>
        <p:spPr>
          <a:xfrm>
            <a:off x="4724280" y="2362320"/>
            <a:ext cx="4187880" cy="4146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ржи – территория современной Чех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 культуре ржи в древней Руси упоминается впервые, лишь в летописях Нестора (1056—1115 гг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вес и рожь одомашнены значительно позднее, чем пшеница и ячмень. До этого они существовали как дикие растения, засорявшие посевы пшен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1" descr="19843_55"/>
          <p:cNvPicPr/>
          <p:nvPr/>
        </p:nvPicPr>
        <p:blipFill>
          <a:blip r:embed="rId1"/>
          <a:stretch/>
        </p:blipFill>
        <p:spPr>
          <a:xfrm>
            <a:off x="4191120" y="1523880"/>
            <a:ext cx="4952880" cy="533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456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Родиной гречихи является Северная Индия. Гречиха выведена в культуру более 5 тысяч лет назад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ь предполпжение, что в Россию гречиха попала из Византи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8" descr="i-516"/>
          <p:cNvPicPr/>
          <p:nvPr/>
        </p:nvPicPr>
        <p:blipFill>
          <a:blip r:embed="rId1"/>
          <a:stretch/>
        </p:blipFill>
        <p:spPr>
          <a:xfrm>
            <a:off x="4267080" y="228600"/>
            <a:ext cx="4645080" cy="3484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i?id=466004819-55-72&amp;n=21"/>
          <p:cNvPicPr/>
          <p:nvPr/>
        </p:nvPicPr>
        <p:blipFill>
          <a:blip r:embed="rId2"/>
          <a:stretch/>
        </p:blipFill>
        <p:spPr>
          <a:xfrm>
            <a:off x="472428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4267080" y="152280"/>
            <a:ext cx="4572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па - это одно из древнейших культурных растений. Репа была введена в культуру около 40 веков назад. Древние египтяне и греки широко возделывали репу, но считали её пищей рабов и беднейших крестьян. НаРуси репа с древних времён была важнейшим продуктом питания, о ней существуют упоминания в древних летописях. До XVIII века репа была главным овощем рациона питания у русских, затем постепенно была вытеснена картофел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" descr="https://foodsinfo.ru/wp-content/uploads/2019/03/0002-1.jpg"/>
          <p:cNvPicPr/>
          <p:nvPr/>
        </p:nvPicPr>
        <p:blipFill>
          <a:blip r:embed="rId1"/>
          <a:stretch/>
        </p:blipFill>
        <p:spPr>
          <a:xfrm>
            <a:off x="0" y="1676520"/>
            <a:ext cx="4076640" cy="32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s://oldfarmer.ru/wp-content/uploads/2019/12/kabachki-sorta-yakor.png"/>
          <p:cNvPicPr/>
          <p:nvPr/>
        </p:nvPicPr>
        <p:blipFill>
          <a:blip r:embed="rId1"/>
          <a:stretch/>
        </p:blipFill>
        <p:spPr>
          <a:xfrm>
            <a:off x="228600" y="1066680"/>
            <a:ext cx="4302000" cy="5334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s://mtdata.ru/u3/photoDCBD/20665397823-0/original.jpg"/>
          <p:cNvPicPr/>
          <p:nvPr/>
        </p:nvPicPr>
        <p:blipFill>
          <a:blip r:embed="rId2"/>
          <a:stretch/>
        </p:blipFill>
        <p:spPr>
          <a:xfrm>
            <a:off x="6694560" y="4572000"/>
            <a:ext cx="2449440" cy="22860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4572000" y="6858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мнению исследователей, родиной кабачков является Центральная Америка, где его начали культивировать в качестве огородной культуры 5 тыс. лет назад. Только в XVI в. о кабачке узнали в Европ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России кабачок стал известен только в XIX в. Он попал в нашу страну из Греции и Тур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пус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-360"/>
            <a:ext cx="403848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на капусты - Средиземноморье. Выращивают ее с 3-го тысячелетия до новой эры. Известно, что славяне начали возделывать капусту не позднее чем в IX ве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цветную капусту – около 200 лет наза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8" descr="i-32"/>
          <p:cNvPicPr/>
          <p:nvPr/>
        </p:nvPicPr>
        <p:blipFill>
          <a:blip r:embed="rId1"/>
          <a:stretch/>
        </p:blipFill>
        <p:spPr>
          <a:xfrm>
            <a:off x="4038480" y="95256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0c235c94621535b6bb0ac918d62209a9"/>
          <p:cNvPicPr/>
          <p:nvPr/>
        </p:nvPicPr>
        <p:blipFill>
          <a:blip r:embed="rId2"/>
          <a:stretch/>
        </p:blipFill>
        <p:spPr>
          <a:xfrm>
            <a:off x="304920" y="4267080"/>
            <a:ext cx="3276360" cy="2460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3"/>
          <p:cNvSpPr/>
          <p:nvPr/>
        </p:nvSpPr>
        <p:spPr>
          <a:xfrm>
            <a:off x="3725280" y="6172200"/>
            <a:ext cx="49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цветную капусту – около 200 лет наз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5" descr="i?id=147336769-44-72&amp;n=21"/>
          <p:cNvPicPr/>
          <p:nvPr/>
        </p:nvPicPr>
        <p:blipFill>
          <a:blip r:embed="rId3"/>
          <a:stretch/>
        </p:blipFill>
        <p:spPr>
          <a:xfrm>
            <a:off x="5410080" y="4572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2-07T09:47:4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