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3BF-1EA4-4F97-80C9-26E0E534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FEE-A2DA-4E4C-8119-FD7A75EB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A7C-DD6D-4005-B884-EB1D5DF3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FA9-9AC9-4C2C-B505-47D919E0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4C86-B625-452C-98E9-73E85D11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C602-3C15-4F3E-8949-08FD4BD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ADC-6F72-420E-B7BF-CA4A0BF1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F4EF-A31D-418C-8650-7E1A223C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2958-D3CC-4D9C-9730-B1782A6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76FC-075F-4332-81BF-14A5550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44F-9A32-4C06-9C94-1F749168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77B-6BBE-4B1B-8075-AA256A1C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F5C6-BB27-41DA-B0A6-E794D1E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537-F477-4AAB-8F07-22D4AA1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FB9B-6472-4AE1-BDF7-CE943530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30A-3CAF-4F52-B391-0FA5563A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ED25-38B7-48A1-B88E-5F30AF17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904-5FC9-4539-9BC3-5BB87B18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F06-E709-4D6A-84EE-4BBB525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67E-E7E9-4E39-B785-962E52C9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2F3-D90D-4269-A39F-3D62469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346-468F-42F6-AEBA-0DB74D2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150-7125-4B3F-B4D5-81A168CC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32B-827C-4AB0-8C4D-20463B9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6C9-A2EA-4F89-9FD0-2B751DC675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9256-2C1B-4CF1-B648-4D7CCF3F4B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емледел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2362320"/>
            <a:ext cx="8915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Что выращивали на Руси </a:t>
            </a:r>
            <a:br>
              <a:rPr sz="4800"/>
            </a:b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в полях и огородах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6" descr="https://get.pxhere.com/photo/plant-field-farm-leaf-flower-food-produce-vegetable-crop-soil-agriculture-garden-cabbage-brassica-head-cabbage-leaf-vegetable-cabbage-patch-1264877.jpg"/>
          <p:cNvPicPr/>
          <p:nvPr/>
        </p:nvPicPr>
        <p:blipFill>
          <a:blip r:embed="rId1"/>
          <a:stretch/>
        </p:blipFill>
        <p:spPr>
          <a:xfrm>
            <a:off x="0" y="0"/>
            <a:ext cx="2419200" cy="161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s://avatars.mds.yandex.net/get-zen_doc/153246/pub_5c59de63108d4d00b0330013_5c59df0f2e1fa300ae949914/scale_120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s://img4.goodfon.ru/original/3360x1050/2/c3/ovoshchi-kartofel-pomidory-morkov.jpg"/>
          <p:cNvPicPr/>
          <p:nvPr/>
        </p:nvPicPr>
        <p:blipFill>
          <a:blip r:embed="rId3"/>
          <a:stretch/>
        </p:blipFill>
        <p:spPr>
          <a:xfrm>
            <a:off x="2743200" y="0"/>
            <a:ext cx="3513240" cy="1425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xn--c1acmhqo9h.xn--p1ai/images/%D0%9F%D0%9E%D0%9B%D0%95%D0%97%D0%9D%D0%90%D0%AF_%D0%98%D0%9D%D0%A4%D0%9E%D0%A0%D0%9C%D0%90%D0%A6%D0%98%D0%AF/%D0%A3%D1%80%D0%BE%D0%B6%D0%B0%D0%B9_%D0%B2_%D0%BE%D0%B3%D0%BE%D1%80%D0%BE%D0%B4%D0%B5.jpg"/>
          <p:cNvPicPr/>
          <p:nvPr/>
        </p:nvPicPr>
        <p:blipFill>
          <a:blip r:embed="rId4"/>
          <a:stretch/>
        </p:blipFill>
        <p:spPr>
          <a:xfrm>
            <a:off x="15228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Растения завезенные в Россию"/>
          <p:cNvPicPr/>
          <p:nvPr/>
        </p:nvPicPr>
        <p:blipFill>
          <a:blip r:embed="rId1"/>
          <a:stretch/>
        </p:blipFill>
        <p:spPr>
          <a:xfrm>
            <a:off x="0" y="228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4114800" y="990720"/>
            <a:ext cx="4876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на огурцов — Индия. Время появления культуры — более 3000 лет до н.э.  Огурцы являются любимым овощным растением у русских с давних по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нако точных сведений, когда огурец впервые появился на Руси, нет. Предполагают, что он был известен у нас ещё до IX столетия, проникнув к нам, скорее всего, из Восточной Азии. Первое упоминание об огурцах в Московском государстве было сделано германским послом Герберштейном в 1528 году в его записках о путешествии в Москов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https://imgprx.livejournal.net/1a2008686c6ae12a1b3466946466caa5b36f35b5/wwADxeoKSg769yj5GaYD38SKOGDoL7cfEJHi0hSZ_ShMWJpdhPeyOR8lv3hdjUKN4W16SQvD6GrVbhXETKrFoA"/>
          <p:cNvPicPr/>
          <p:nvPr/>
        </p:nvPicPr>
        <p:blipFill>
          <a:blip r:embed="rId2"/>
          <a:stretch/>
        </p:blipFill>
        <p:spPr>
          <a:xfrm>
            <a:off x="1143000" y="3581280"/>
            <a:ext cx="2000160" cy="265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свеклы Средняя Азия. Еще за 200 лет до нашей эры ассирийцы, вавилоняне и персы знали свеклу как овощное и лекарственое растение. На Руси свекла известна с X-XI ве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160355119e613bc01b"/>
          <p:cNvPicPr/>
          <p:nvPr/>
        </p:nvPicPr>
        <p:blipFill>
          <a:blip r:embed="rId1"/>
          <a:stretch/>
        </p:blipFill>
        <p:spPr>
          <a:xfrm>
            <a:off x="1905120" y="3048120"/>
            <a:ext cx="5352840" cy="326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198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Redk(1)"/>
          <p:cNvPicPr/>
          <p:nvPr/>
        </p:nvPicPr>
        <p:blipFill>
          <a:blip r:embed="rId1"/>
          <a:srcRect l="0" t="0" r="0" b="-1754"/>
          <a:stretch/>
        </p:blipFill>
        <p:spPr>
          <a:xfrm>
            <a:off x="228600" y="3562200"/>
            <a:ext cx="4362480" cy="329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redka_zimnyaya_kruglaya_chernaya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0"/>
          <p:cNvSpPr/>
          <p:nvPr/>
        </p:nvSpPr>
        <p:spPr>
          <a:xfrm>
            <a:off x="333360" y="242640"/>
            <a:ext cx="4705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дька — очень древня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, родиной котор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читаю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гипет и Кита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ультуру введена бол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000 лет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Древнем Египте, Вавило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653360" y="3584520"/>
            <a:ext cx="446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ю редька поп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XII веке и долго была одн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основ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тания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у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533520"/>
            <a:ext cx="4568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чатый лук уже за четыре тысячи лет до нашей эры выращивали в Азии, откуда он постепенно и распространился по свету. В России лук появился в 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е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103562952_large_001"/>
          <p:cNvPicPr/>
          <p:nvPr/>
        </p:nvPicPr>
        <p:blipFill>
          <a:blip r:embed="rId1"/>
          <a:stretch/>
        </p:blipFill>
        <p:spPr>
          <a:xfrm>
            <a:off x="228600" y="1447920"/>
            <a:ext cx="4568760" cy="357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ковь известна уже около 4 тысяч лет. Родиной моркови считают Европу и Азию. В России морковь появилась еще в начале XIV ве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1" descr="108924_1"/>
          <p:cNvPicPr/>
          <p:nvPr/>
        </p:nvPicPr>
        <p:blipFill>
          <a:blip r:embed="rId1"/>
          <a:srcRect l="0" t="-897" r="0" b="0"/>
          <a:stretch/>
        </p:blipFill>
        <p:spPr>
          <a:xfrm>
            <a:off x="304920" y="838080"/>
            <a:ext cx="4419360" cy="510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original-1320924259"/>
          <p:cNvPicPr/>
          <p:nvPr/>
        </p:nvPicPr>
        <p:blipFill>
          <a:blip r:embed="rId1"/>
          <a:stretch/>
        </p:blipFill>
        <p:spPr>
          <a:xfrm>
            <a:off x="4038480" y="2971800"/>
            <a:ext cx="487692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41400" y="698040"/>
            <a:ext cx="859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на чеснока — Средняя Азия. Окультуривание чесно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алось около 5 тысяч лет назад. Он пользовался больш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пулярностью в античности, его возделывали в Древн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име, Греции, Древнем Египте, Инд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81960" y="3254400"/>
            <a:ext cx="376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 Россию чесн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пал из Визант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IX веке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4724280" y="380880"/>
            <a:ext cx="4419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чевица - это растение считается самым древним из бобовых. Еще в Древнем Египте из нее выпекали священный хлеб, который отправлялся вместе с усопшими фараонами в гроб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304920" y="3200400"/>
            <a:ext cx="883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оссии эта культура появилась в 14 веке, и получила широкое распространение у крестьян и простого рабочего люда.  На Руси из чечевицы пекли душистый и вкусный хлеб, варили похлебки . В России чечевица была главной культурой, которую выращивали и в больших количествах отправляли на экспорт. Но и для страны оставалось много этого продукта. Чечевица спасла наш народ от неслыханного голода 1891-92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https://stretching-guru.ru/wp-content/uploads/2016/05/chechevica_1.jpg"/>
          <p:cNvPicPr/>
          <p:nvPr/>
        </p:nvPicPr>
        <p:blipFill>
          <a:blip r:embed="rId1"/>
          <a:stretch/>
        </p:blipFill>
        <p:spPr>
          <a:xfrm>
            <a:off x="152280" y="152280"/>
            <a:ext cx="4476960" cy="298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s://nawat.ru/upload/iblock/6d4/6d48f5a8fe11099078974196d2316281.jpg"/>
          <p:cNvPicPr/>
          <p:nvPr/>
        </p:nvPicPr>
        <p:blipFill>
          <a:blip r:embed="rId2"/>
          <a:stretch/>
        </p:blipFill>
        <p:spPr>
          <a:xfrm>
            <a:off x="7238880" y="5121360"/>
            <a:ext cx="1905120" cy="17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152280" y="4114800"/>
            <a:ext cx="6782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Руси про горох узнали в 6 веке до н. э. На территории Украины его впервые нашли возле Харькова. Овощ туда завезли кочевники. В 1674 году горох начали производить на Руси. В 18-му столетию эта культура стала очень популярной и была практически в каждом двор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4191120" y="2286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де, когда и как появился горох точно сказать не может никто. Точной даты ни дают ни рукописи, ни раскопки. на территории вблизи Бирмы и Таиланда наличие гороха подтвердили раскопки. Горох был найден на территории между этими государствами. Найденный там горох имел приличный возраст, его появление там датируется 9750 годами до нашей эр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http://rcdlk.ru/images/2020/ovosh1.jpg"/>
          <p:cNvPicPr/>
          <p:nvPr/>
        </p:nvPicPr>
        <p:blipFill>
          <a:blip r:embed="rId1"/>
          <a:stretch/>
        </p:blipFill>
        <p:spPr>
          <a:xfrm>
            <a:off x="152280" y="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s://thumbs.dreamstime.com/b/%D1%81%D0%B2%D0%B5%D0%B6%D0%B8%D0%B5-%D0%B7%D0%B5%D0%BB%D0%B5%D0%BD%D1%8B%D0%B5-%D0%B3%D0%BE%D1%80%D0%BE%D1%85%D0%B8-102333666.jpg"/>
          <p:cNvPicPr/>
          <p:nvPr/>
        </p:nvPicPr>
        <p:blipFill>
          <a:blip r:embed="rId2"/>
          <a:stretch/>
        </p:blipFill>
        <p:spPr>
          <a:xfrm>
            <a:off x="7078680" y="3740040"/>
            <a:ext cx="2065320" cy="311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-36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большинства сортов фасоли— Центральная и Южная Америка. В XVI веке фасоль завезли в Португалию, откуда она быстро распространилась в европейские стран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05520" y="4191120"/>
            <a:ext cx="403848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оссию фасоль попала в XVII веке. Ее завезли в Архангельск англичане. 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0-fasol-belaya-krasnaya-pestraya"/>
          <p:cNvPicPr/>
          <p:nvPr/>
        </p:nvPicPr>
        <p:blipFill>
          <a:blip r:embed="rId1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bonenschalen"/>
          <p:cNvPicPr/>
          <p:nvPr/>
        </p:nvPicPr>
        <p:blipFill>
          <a:blip r:embed="rId2"/>
          <a:stretch/>
        </p:blipFill>
        <p:spPr>
          <a:xfrm>
            <a:off x="5257800" y="0"/>
            <a:ext cx="3578400" cy="34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4"/>
          <p:cNvSpPr/>
          <p:nvPr/>
        </p:nvSpPr>
        <p:spPr>
          <a:xfrm>
            <a:off x="4572000" y="30492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читают, что петрушка родом из стран Средиземноморья. В диком виде она растёт среди камней и скал. Пищевую ценность петрушка приобрела только в средние века во Франции. Распространившись по всей Европе, как столовый овощ, петрушка "дошагала" в этом качестве в XVIII веке и до России, где появилась на столах у аристократов вместе с блюдами французской кухни. В XIX веке петрушку стали выращивать повсеместно, как овощное растени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лгое время на Руси петрушку выращивали как лечебное средство с XI века . Её соком лечили раны и воспаления, вызванные укусами ядовитых насеком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" descr="https://modamix.net/wp-content/uploads/2019/09/iQ2LQTPWR.jpg"/>
          <p:cNvPicPr/>
          <p:nvPr/>
        </p:nvPicPr>
        <p:blipFill>
          <a:blip r:embed="rId1"/>
          <a:stretch/>
        </p:blipFill>
        <p:spPr>
          <a:xfrm>
            <a:off x="685800" y="304920"/>
            <a:ext cx="3809880" cy="32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s://thumbs.dreamstime.com/b/%D0%BA%D0%BE%D1%80%D0%B5%D0%BD%D1%8C-%D0%BF%D0%B5%D1%82%D1%80%D1%83%D1%88%D0%BA%D0%B8-vegetable-%D0%BD%D0%B0-%D0%B1%D0%B5-%D0%B8%D0%B7%D0%BD%D0%B5-79189730.jpg"/>
          <p:cNvPicPr/>
          <p:nvPr/>
        </p:nvPicPr>
        <p:blipFill>
          <a:blip r:embed="rId2"/>
          <a:stretch/>
        </p:blipFill>
        <p:spPr>
          <a:xfrm>
            <a:off x="380880" y="4114800"/>
            <a:ext cx="3581640" cy="23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современные  культурные растения произошли от диких предков. Процесс превращения диких растений в культурные формы называют одомашниванием. Многие растения люди начали возделывать ещё в глубокой древности. И в настоящее время очень трудно определить родину того или иного рас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zabavnik.club/wp-content/uploads/2018/07/autumn_fruits_and_vegetables_7_21113040.jpg"/>
          <p:cNvPicPr/>
          <p:nvPr/>
        </p:nvPicPr>
        <p:blipFill>
          <a:blip r:embed="rId1"/>
          <a:stretch/>
        </p:blipFill>
        <p:spPr>
          <a:xfrm>
            <a:off x="0" y="0"/>
            <a:ext cx="2209680" cy="172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ttps://st2.depositphotos.com/6698800/11856/i/950/depositphotos_118562742-stock-photo-wicker-basket-with-harvest-collected.jpg"/>
          <p:cNvPicPr/>
          <p:nvPr/>
        </p:nvPicPr>
        <p:blipFill>
          <a:blip r:embed="rId2"/>
          <a:stretch/>
        </p:blipFill>
        <p:spPr>
          <a:xfrm>
            <a:off x="7018200" y="5446800"/>
            <a:ext cx="2125800" cy="141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s://mtdata.ru/u22/photoC38C/20334328975-0/original.jpeg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13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28600" y="4724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России баклажан известен с XVII века. Считается, что его привозили из Турции и Персии купцы, а также казаки, которые совершали на эти территории частые набеги. Родиной же баклажана являются Индия и Бирма, в которых до сих пор произрастает дикая форма этого овощ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" descr="http://www.svdeti.ru/images/stories/2016/ovoshchi-predkov-12.jpg"/>
          <p:cNvPicPr/>
          <p:nvPr/>
        </p:nvPicPr>
        <p:blipFill>
          <a:blip r:embed="rId1"/>
          <a:stretch/>
        </p:blipFill>
        <p:spPr>
          <a:xfrm>
            <a:off x="0" y="0"/>
            <a:ext cx="4562640" cy="46022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4572000" y="45720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одина баклажана — Юго-Восточная Азия — Бирма и тропические районы Индии. Предполагают, что баклажан был введен в культуру в Индии в первом тысячелетии до нашей эры. В начале нашей эры из Индии он проник в соседние страны. Постепенно культура баклажана распространилась в Китай, Японию и Северную Африку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43ebe62a362bed5caa7c39d46fe0c5e7"/>
          <p:cNvPicPr/>
          <p:nvPr/>
        </p:nvPicPr>
        <p:blipFill>
          <a:blip r:embed="rId1"/>
          <a:stretch/>
        </p:blipFill>
        <p:spPr>
          <a:xfrm>
            <a:off x="1295280" y="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304920" y="449424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на тыквы – Мексика. Местные жители одомашн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кву более 3000 лет наза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ссии тыква появилась в XVI веке и очень быстро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лагодаря своей неприхотливости, прижилась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естьянских огород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107244754_PEREC6666666666666666666666"/>
          <p:cNvPicPr/>
          <p:nvPr/>
        </p:nvPicPr>
        <p:blipFill>
          <a:blip r:embed="rId1"/>
          <a:stretch/>
        </p:blipFill>
        <p:spPr>
          <a:xfrm>
            <a:off x="152280" y="0"/>
            <a:ext cx="5010120" cy="375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7pEy"/>
          <p:cNvPicPr/>
          <p:nvPr/>
        </p:nvPicPr>
        <p:blipFill>
          <a:blip r:embed="rId2"/>
          <a:stretch/>
        </p:blipFill>
        <p:spPr>
          <a:xfrm>
            <a:off x="5105520" y="4267080"/>
            <a:ext cx="3619440" cy="2295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232920" y="4419720"/>
            <a:ext cx="38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чал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а пере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явился в Росси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5087520" y="319680"/>
            <a:ext cx="4051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ерец является одним из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ревнейших культивируемых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астений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рхеологические раскопки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Перу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Центральной Америки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Мексике показали, что перец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использовался людьми ещ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а 6 тыс. лет до н.э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istock_photo_of_potatoes"/>
          <p:cNvPicPr/>
          <p:nvPr/>
        </p:nvPicPr>
        <p:blipFill>
          <a:blip r:embed="rId1"/>
          <a:stretch/>
        </p:blipFill>
        <p:spPr>
          <a:xfrm>
            <a:off x="0" y="3666960"/>
            <a:ext cx="4695840" cy="3191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161640" y="454320"/>
            <a:ext cx="839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на картофеля - Южная Америка. Впервые картофе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али культивировать приблизительно 5 тысяч лет 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тели бассейна озера Титикака, которое расположе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границе Перу и  Боливии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ю картофель пришел в самом начале XVIII 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11" descr="103366011_kartofel_3"/>
          <p:cNvPicPr/>
          <p:nvPr/>
        </p:nvPicPr>
        <p:blipFill>
          <a:blip r:embed="rId2"/>
          <a:stretch/>
        </p:blipFill>
        <p:spPr>
          <a:xfrm>
            <a:off x="5181480" y="2971800"/>
            <a:ext cx="3662640" cy="27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621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конце 18 века по приказу императрицы Екатерины ІІ, из Европы была привезена целая корзина помидор.. В промышленных масштабах помидоры стали выращиваться в середине 19-го века в Астраханской губернии, в Крыму и на Ставрополье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2" descr="https://im0-tub-ru.yandex.net/i?id=65750e012d73f3c986e8d98598e6d7f1-l&amp;n=13"/>
          <p:cNvPicPr/>
          <p:nvPr/>
        </p:nvPicPr>
        <p:blipFill>
          <a:blip r:embed="rId1"/>
          <a:stretch/>
        </p:blipFill>
        <p:spPr>
          <a:xfrm>
            <a:off x="0" y="3343320"/>
            <a:ext cx="6248520" cy="35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s://avatars.mds.yandex.net/get-zen_doc/52326/pub_5aa381a4c8901016264a1001_5aa388e6482677b9894bd919/scale_1200"/>
          <p:cNvPicPr/>
          <p:nvPr/>
        </p:nvPicPr>
        <p:blipFill>
          <a:blip r:embed="rId2"/>
          <a:stretch/>
        </p:blipFill>
        <p:spPr>
          <a:xfrm>
            <a:off x="6343560" y="2438280"/>
            <a:ext cx="2800440" cy="19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куруза была введена в культуру 7—12 тыс. лет назад н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рритории современной Мексики. Первое знакомство с кукурузой народов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и произошло во время русско-турецкой войны 1768—1774 гг., ког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я овладела Крымом. Кукурузу в России на первых порах называл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урецкой пшеницей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5" name="Picture 5" descr="0630"/>
          <p:cNvPicPr/>
          <p:nvPr/>
        </p:nvPicPr>
        <p:blipFill>
          <a:blip r:embed="rId1"/>
          <a:stretch/>
        </p:blipFill>
        <p:spPr>
          <a:xfrm>
            <a:off x="1523880" y="175248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228960" y="0"/>
            <a:ext cx="472428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ые древние образцы культурного ячменя найдены в Сирии и в самых древних египетских гробницах. Как и пшеница, он был окультурен в эпоху неолита Ближнем Востоке не менее 10 тыс. лет наза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ю этот вид злаковых попал из Азии. Правда, данных о том, когда точно это произошло, нет. Быстро и легко прижился ячмень в регионах, в которых выращивание многих других культур попросту невозможн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6370860"/>
          <p:cNvPicPr/>
          <p:nvPr/>
        </p:nvPicPr>
        <p:blipFill>
          <a:blip r:embed="rId1"/>
          <a:stretch/>
        </p:blipFill>
        <p:spPr>
          <a:xfrm>
            <a:off x="4381560" y="304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i?id=297158079-09-72&amp;n=21"/>
          <p:cNvPicPr/>
          <p:nvPr/>
        </p:nvPicPr>
        <p:blipFill>
          <a:blip r:embed="rId2"/>
          <a:stretch/>
        </p:blipFill>
        <p:spPr>
          <a:xfrm rot="586200">
            <a:off x="5409720" y="4343040"/>
            <a:ext cx="2828880" cy="18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-228600" y="15228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ть данные, что родина пшеницы - юго-восток современной Турции.   Уже 6-8 тысяч лет назад пшеницу возделывали в странах Ближнего и Среднего Востока –в современной Турции, Сирии, Ираке, Иране, в Западной Европе пшеница появилась с VI до II тысячелетия до н. 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Руси пшеница появилась в V веке до н. э. Это один из самых первых злаков, которые  наши  предки славяне позаимствовали  у готов, живших на юге Восточной Европ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ris3"/>
          <p:cNvPicPr/>
          <p:nvPr/>
        </p:nvPicPr>
        <p:blipFill>
          <a:blip r:embed="rId1"/>
          <a:stretch/>
        </p:blipFill>
        <p:spPr>
          <a:xfrm>
            <a:off x="5029200" y="228600"/>
            <a:ext cx="3600360" cy="187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Stock Photos - удивительная природа"/>
          <p:cNvPicPr/>
          <p:nvPr/>
        </p:nvPicPr>
        <p:blipFill>
          <a:blip r:embed="rId2"/>
          <a:stretch/>
        </p:blipFill>
        <p:spPr>
          <a:xfrm>
            <a:off x="4724280" y="2362320"/>
            <a:ext cx="4187880" cy="414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на ржи – территория современной Чех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 культуре ржи в древней Руси упоминается впервые, лишь в летописях Нестора (1056—1115 гг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вес и рожь одомашнены значительно позднее, чем пшеница и ячмень. До этого они существовали как дикие растения, засорявшие посевы пшен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1" descr="19843_55"/>
          <p:cNvPicPr/>
          <p:nvPr/>
        </p:nvPicPr>
        <p:blipFill>
          <a:blip r:embed="rId1"/>
          <a:stretch/>
        </p:blipFill>
        <p:spPr>
          <a:xfrm>
            <a:off x="4191120" y="1523880"/>
            <a:ext cx="495288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456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Родиной гречихи является Северная Индия. Гречиха выведена в культуру более 5 тысяч лет назад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предполпжение, что в Россию гречиха попала из Византи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i-516"/>
          <p:cNvPicPr/>
          <p:nvPr/>
        </p:nvPicPr>
        <p:blipFill>
          <a:blip r:embed="rId1"/>
          <a:stretch/>
        </p:blipFill>
        <p:spPr>
          <a:xfrm>
            <a:off x="4267080" y="228600"/>
            <a:ext cx="4645080" cy="348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i?id=466004819-55-72&amp;n=21"/>
          <p:cNvPicPr/>
          <p:nvPr/>
        </p:nvPicPr>
        <p:blipFill>
          <a:blip r:embed="rId2"/>
          <a:stretch/>
        </p:blipFill>
        <p:spPr>
          <a:xfrm>
            <a:off x="47242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4267080" y="152280"/>
            <a:ext cx="4572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па - это одно из древнейших культурных растений. Репа была введена в культуру около 40 веков назад. Древние египтяне и греки широко возделывали репу, но считали её пищей рабов и беднейших крестьян. НаРуси репа с древних времён была важнейшим продуктом питания, о ней существуют упоминания в древних летописях. До XVIII века репа была главным овощем рациона питания у русских, затем постепенно была вытеснена картофел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https://foodsinfo.ru/wp-content/uploads/2019/03/0002-1.jpg"/>
          <p:cNvPicPr/>
          <p:nvPr/>
        </p:nvPicPr>
        <p:blipFill>
          <a:blip r:embed="rId1"/>
          <a:stretch/>
        </p:blipFill>
        <p:spPr>
          <a:xfrm>
            <a:off x="0" y="1676520"/>
            <a:ext cx="407664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s://oldfarmer.ru/wp-content/uploads/2019/12/kabachki-sorta-yakor.png"/>
          <p:cNvPicPr/>
          <p:nvPr/>
        </p:nvPicPr>
        <p:blipFill>
          <a:blip r:embed="rId1"/>
          <a:stretch/>
        </p:blipFill>
        <p:spPr>
          <a:xfrm>
            <a:off x="228600" y="1066680"/>
            <a:ext cx="4302000" cy="533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s://mtdata.ru/u3/photoDCBD/20665397823-0/original.jpg"/>
          <p:cNvPicPr/>
          <p:nvPr/>
        </p:nvPicPr>
        <p:blipFill>
          <a:blip r:embed="rId2"/>
          <a:stretch/>
        </p:blipFill>
        <p:spPr>
          <a:xfrm>
            <a:off x="6694560" y="4572000"/>
            <a:ext cx="244944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4572000" y="685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мнению исследователей, родиной кабачков является Центральная Америка, где его начали культивировать в качестве огородной культуры 5 тыс. лет назад. Только в XVI в. о кабачке узнали в Европ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России кабачок стал известен только в XIX в. Он попал в нашу страну из Греции и Тур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пус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-360"/>
            <a:ext cx="40384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на капусты - Средиземноморье. Выращивают ее с 3-го тысячелетия до новой эры. Известно, что славяне начали возделывать капусту не позднее чем в IX ве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цветную капусту – около 200 лет наза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i-32"/>
          <p:cNvPicPr/>
          <p:nvPr/>
        </p:nvPicPr>
        <p:blipFill>
          <a:blip r:embed="rId1"/>
          <a:stretch/>
        </p:blipFill>
        <p:spPr>
          <a:xfrm>
            <a:off x="4038480" y="9525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0c235c94621535b6bb0ac918d62209a9"/>
          <p:cNvPicPr/>
          <p:nvPr/>
        </p:nvPicPr>
        <p:blipFill>
          <a:blip r:embed="rId2"/>
          <a:stretch/>
        </p:blipFill>
        <p:spPr>
          <a:xfrm>
            <a:off x="304920" y="4267080"/>
            <a:ext cx="3276360" cy="2460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3725280" y="617220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цветную капусту – около 200 лет наз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5" descr="i?id=147336769-44-72&amp;n=21"/>
          <p:cNvPicPr/>
          <p:nvPr/>
        </p:nvPicPr>
        <p:blipFill>
          <a:blip r:embed="rId3"/>
          <a:stretch/>
        </p:blipFill>
        <p:spPr>
          <a:xfrm>
            <a:off x="5410080" y="4572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2-07T09:47:4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