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B21-2585-45DE-B69A-8057B5B1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50F-0036-454D-A586-CCF0F589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0C6-1208-43EB-8C53-64FA050E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F8E-F3AE-4EA8-A2A6-9C7BA740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24E5-ED11-4B5F-AA36-25F0618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46C2-50F0-4683-94E1-2307865D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74A-22AE-4A8A-A835-AF8661EA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35A6-3A97-4559-AAF0-2BBEB9B8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90E2-7AAC-4BAC-A2FC-F201B682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F726-C2CF-4655-8A8F-A7DDAF73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0FF6-2801-4453-838D-059D14C7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982-58E4-4672-B6B8-7F883712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8BD-CD6E-42E6-8813-1D12492B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ECB0-A096-432E-B63A-36BC512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BC91-7F3A-4B4D-8785-14842319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5472-1B45-45BE-BD19-49BECC57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09A6-81EF-4E9C-8967-EBF81AE7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76DD-5197-42D8-ACB9-00CB9112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EC0C-70B3-4069-8704-B02676B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CC99-22DC-4104-889C-60CE0CB6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B314F-78E5-48CB-8FB1-79E6A24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F1F9-B032-4B9D-970F-BC950201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C5C-42B9-4F30-8A9B-8F8C3483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9D06-E02B-46EC-A08A-D841F7A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49EE-625F-4F07-A231-8B556811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60D3-F26E-438A-8C94-C1FB61F1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4657-FC9E-429E-9912-73C2F17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F6C7-71F3-4648-AC2A-9B75CF0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18B1-8A02-44B4-B5C8-FD9A6712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B7A57-197A-478D-852A-BCB4448C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6DD5-67C9-4CC3-B887-EA4831A3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AD42-B3C2-479F-8541-4E51E5C9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E269-1924-4665-9366-80432D1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A1E-0BF0-4AC9-91BE-23FDD84A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212A-C02D-481A-96E7-44C6A9CE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4FCA-AC1D-44F1-A735-F69EB39D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7746-28C5-4678-B1A7-8DCB946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BD3F-4DA7-4D01-8ACD-9DBBFCD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19751-4C70-49FF-A9B6-749D321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F653-9386-41E3-8F95-2C03638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BC04-7B53-429B-911A-3A069157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AC31-ED00-40AA-9129-CCB15851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5807-222F-4BF0-BF4A-88AD6C9C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764-D24C-446C-A19F-3833692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E65-F0CC-41B6-A23E-A17BBAE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41E-D3FB-473B-8D34-16AF7AFB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870-9367-49A0-9F86-A9D9C1B3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132-6B15-4101-8269-21FC079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2E8-7154-4953-9829-7DBA12FEAB8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D0F8-4CCE-4FF5-987A-28088F641A6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418-05EC-4D28-BA63-820785C166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8C09-7DDE-4B52-8918-4EE0A770A5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1152360" y="622440"/>
            <a:ext cx="5973840" cy="366372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5730840"/>
            <a:ext cx="713268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9"/>
          <p:cNvSpPr/>
          <p:nvPr/>
        </p:nvSpPr>
        <p:spPr>
          <a:xfrm>
            <a:off x="4356000" y="26028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ю вод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 руки м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чек мыла я  возь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адошки им потр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:\Users\Людмила\Downloads\IMG_2568-27-06-18-08-22.JPG"/>
          <p:cNvPicPr/>
          <p:nvPr/>
        </p:nvPicPr>
        <p:blipFill>
          <a:blip r:embed="rId1"/>
          <a:stretch/>
        </p:blipFill>
        <p:spPr>
          <a:xfrm>
            <a:off x="88920" y="260280"/>
            <a:ext cx="4584600" cy="4105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:\Users\Людмила\Downloads\IMG_2566-27-06-18-08-22.JPG"/>
          <p:cNvPicPr/>
          <p:nvPr/>
        </p:nvPicPr>
        <p:blipFill>
          <a:blip r:embed="rId2"/>
          <a:stretch/>
        </p:blipFill>
        <p:spPr>
          <a:xfrm>
            <a:off x="3780000" y="2781360"/>
            <a:ext cx="496872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684360" y="40464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унуть посильн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много пузырей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за что их не пой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:\Users\Людмила\Downloads\FullSizeRender-22-06-18-02-49-4.jpg"/>
          <p:cNvPicPr/>
          <p:nvPr/>
        </p:nvPicPr>
        <p:blipFill>
          <a:blip r:embed="rId1"/>
          <a:stretch/>
        </p:blipFill>
        <p:spPr>
          <a:xfrm>
            <a:off x="4897440" y="170028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Людмила\Downloads\IMG_2528-22-06-18-02-49 (1).JPG"/>
          <p:cNvPicPr/>
          <p:nvPr/>
        </p:nvPicPr>
        <p:blipFill>
          <a:blip r:embed="rId2"/>
          <a:stretch/>
        </p:blipFill>
        <p:spPr>
          <a:xfrm>
            <a:off x="684360" y="2205000"/>
            <a:ext cx="4012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512720" y="-360"/>
            <a:ext cx="72741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адили мы цвет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мотрите, вот они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ем мы ухаживать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ем поливать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ем за цветочкам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ружно наблюда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2" descr="C:\Users\Людмила\Downloads\IMG_2504.JPG"/>
          <p:cNvPicPr/>
          <p:nvPr/>
        </p:nvPicPr>
        <p:blipFill>
          <a:blip r:embed="rId1"/>
          <a:stretch/>
        </p:blipFill>
        <p:spPr>
          <a:xfrm>
            <a:off x="223920" y="115920"/>
            <a:ext cx="4492440" cy="311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Users\Людмила\Downloads\IMG_2503.JPG"/>
          <p:cNvPicPr/>
          <p:nvPr/>
        </p:nvPicPr>
        <p:blipFill>
          <a:blip r:embed="rId2"/>
          <a:stretch/>
        </p:blipFill>
        <p:spPr>
          <a:xfrm>
            <a:off x="4968720" y="2349360"/>
            <a:ext cx="3818160" cy="428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Людмила\Downloads\IMG_2553-22-06-18-02-49.JPG"/>
          <p:cNvPicPr/>
          <p:nvPr/>
        </p:nvPicPr>
        <p:blipFill>
          <a:blip r:embed="rId3"/>
          <a:stretch/>
        </p:blipFill>
        <p:spPr>
          <a:xfrm>
            <a:off x="250920" y="3319560"/>
            <a:ext cx="45003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6"/>
          <p:cNvSpPr/>
          <p:nvPr/>
        </p:nvSpPr>
        <p:spPr>
          <a:xfrm>
            <a:off x="1403280" y="1760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де можно пускать кора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C:\Users\Людмила\Downloads\IMG_2515-22-06-18-02-49.JPG"/>
          <p:cNvPicPr/>
          <p:nvPr/>
        </p:nvPicPr>
        <p:blipFill>
          <a:blip r:embed="rId1"/>
          <a:stretch/>
        </p:blipFill>
        <p:spPr>
          <a:xfrm>
            <a:off x="3789360" y="2708280"/>
            <a:ext cx="5329080" cy="3997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Людмила\Downloads\IMG_2513-22-06-18-02-49.JPG"/>
          <p:cNvPicPr/>
          <p:nvPr/>
        </p:nvPicPr>
        <p:blipFill>
          <a:blip r:embed="rId2"/>
          <a:stretch/>
        </p:blipFill>
        <p:spPr>
          <a:xfrm>
            <a:off x="33480" y="674640"/>
            <a:ext cx="4754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8"/>
          <p:cNvSpPr/>
          <p:nvPr/>
        </p:nvSpPr>
        <p:spPr>
          <a:xfrm>
            <a:off x="611280" y="476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дуть в воду из трубочки и получатся пузы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C:\Users\Людмила\Downloads\IMG_2511-22-06-18-02-49.JPG"/>
          <p:cNvPicPr/>
          <p:nvPr/>
        </p:nvPicPr>
        <p:blipFill>
          <a:blip r:embed="rId1"/>
          <a:stretch/>
        </p:blipFill>
        <p:spPr>
          <a:xfrm>
            <a:off x="4067280" y="2997360"/>
            <a:ext cx="4897440" cy="3671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Людмила\Downloads\IMG_2510-22-06-18-02-49.JPG"/>
          <p:cNvPicPr/>
          <p:nvPr/>
        </p:nvPicPr>
        <p:blipFill>
          <a:blip r:embed="rId2"/>
          <a:stretch/>
        </p:blipFill>
        <p:spPr>
          <a:xfrm>
            <a:off x="108000" y="878040"/>
            <a:ext cx="482292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6"/>
          <p:cNvSpPr/>
          <p:nvPr/>
        </p:nvSpPr>
        <p:spPr>
          <a:xfrm>
            <a:off x="2268360" y="333360"/>
            <a:ext cx="64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бывает разноцвет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C:\Users\Людмила\Downloads\IMG_2509-22-06-18-02-49.JPG"/>
          <p:cNvPicPr/>
          <p:nvPr/>
        </p:nvPicPr>
        <p:blipFill>
          <a:blip r:embed="rId1"/>
          <a:stretch/>
        </p:blipFill>
        <p:spPr>
          <a:xfrm>
            <a:off x="46080" y="189000"/>
            <a:ext cx="5184720" cy="388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Users\Людмила\Downloads\FullSizeRender-22-06-18-02-49.jpg"/>
          <p:cNvPicPr/>
          <p:nvPr/>
        </p:nvPicPr>
        <p:blipFill>
          <a:blip r:embed="rId2"/>
          <a:stretch/>
        </p:blipFill>
        <p:spPr>
          <a:xfrm>
            <a:off x="3995640" y="2781360"/>
            <a:ext cx="4926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5" descr=""/>
          <p:cNvPicPr/>
          <p:nvPr/>
        </p:nvPicPr>
        <p:blipFill>
          <a:blip r:embed="rId1"/>
          <a:stretch/>
        </p:blipFill>
        <p:spPr>
          <a:xfrm>
            <a:off x="1695600" y="841320"/>
            <a:ext cx="5181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5T18:35:58Z</dcterms:created>
  <dc:creator>кристина</dc:creator>
  <dc:description/>
  <dc:language>en-US</dc:language>
  <cp:lastModifiedBy>Леонель Месси</cp:lastModifiedBy>
  <dcterms:modified xsi:type="dcterms:W3CDTF">2023-02-07T13:24:38Z</dcterms:modified>
  <cp:revision>84</cp:revision>
  <dc:subject/>
  <dc:title>Презентация PowerPoint</dc:title>
</cp:coreProperties>
</file>