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8404-1842-4AC4-BFC2-112C66D8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F80A-6A16-4E0E-B15C-98A34EB3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EEAD-AF93-48E5-B773-F6FFA879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51C6-F3B1-4EE5-9E84-642DDA597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AE66-ACBA-4D4D-92C1-957DD159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4023-5224-428D-9489-F9B25DBE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EC19-A342-4509-BEC5-6699DF54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9E6D-8FC2-4DCC-BC75-8A528D47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4A63-5155-4D70-8DEF-D4BAEEA3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6040-4C6F-4CD2-8CEB-5727079D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12C9-527E-4A09-9A5E-D6B015E8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9DB6-F740-4C28-9010-A283C332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87B9-EC4E-43D6-82BE-5C748205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D54E-6230-4BB1-9AF7-B62D2FDA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A8F8-0F3B-4097-89B7-27E5B153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5148-0072-4C97-836A-8E3B8417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6D16-B4DE-4280-89FE-EAAF34B4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8DB01-DD62-4530-95C9-9184A62D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4E821-A45C-4466-997C-60536F26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718FA-E932-4633-A543-C762D5F7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B1A1F-5CE9-49C9-99FC-EBBB3C0F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55EE0-8A9E-4FFB-B223-58903525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C5D-B7EB-4382-BA60-55764D27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A7B2F-D30D-48FD-BA58-D892F0BD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581D2-882C-45F3-8F9F-C2017229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F6E06-A29B-4B2F-A69E-A2AB4772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F2A19-6D02-486E-A329-D3EAFCF6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85F41-60A4-4EA3-AED1-7C56A080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DB2A5-3A69-4247-9F7C-8427ED70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BA3F0-FA04-4139-906A-34FAD9CC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8C647-53F1-4FC1-AC8E-DBE1C886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E06FD-AFCE-47BD-912D-5B93A1D6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BE8E4-8C1C-4789-892B-3DA9BA8E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840D-B575-4FCE-BE76-59B48DA0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EB297-3645-492C-B941-F59A7FC2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1CEC7-7F55-4F6C-9272-981BA01C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8EE00-787F-4261-8CD8-E90CC241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438C5-0942-45C4-83CF-BE20DF79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20621-514D-42AF-8D48-0092E835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90B9A-00E0-4929-B18D-24FD93D3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9F3B5-CD2D-4792-82D8-29199990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1DE72-DCF1-47DD-A683-47543B8C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29238-0A6F-42E6-946E-C7869B2A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CE52-5438-4070-94A9-CD47BF25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7698-AA4C-41B7-AB52-DA770D54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3AF2-8FF9-4A79-ABB3-479ED2CC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E384-9575-4966-90D4-BD0B71B4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B104-58FC-4061-8FEF-B9125033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C22B-7EEF-4F85-A0FC-90087C97F22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CC60-74DA-483E-B7B0-C501F2C507C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CAC8-4399-4402-B402-EB6669EB772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BC51-359B-43C4-A901-2EF44702932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Прямоугольник 3" descr=""/>
          <p:cNvPicPr/>
          <p:nvPr/>
        </p:nvPicPr>
        <p:blipFill>
          <a:blip r:embed="rId1"/>
          <a:stretch/>
        </p:blipFill>
        <p:spPr>
          <a:xfrm>
            <a:off x="1152360" y="622440"/>
            <a:ext cx="5973840" cy="366372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4" descr=""/>
          <p:cNvPicPr/>
          <p:nvPr/>
        </p:nvPicPr>
        <p:blipFill>
          <a:blip r:embed="rId2"/>
          <a:stretch/>
        </p:blipFill>
        <p:spPr>
          <a:xfrm>
            <a:off x="249120" y="5730840"/>
            <a:ext cx="713268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9"/>
          <p:cNvSpPr/>
          <p:nvPr/>
        </p:nvSpPr>
        <p:spPr>
          <a:xfrm>
            <a:off x="4356000" y="260280"/>
            <a:ext cx="43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ю водо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о руки мо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сочек мыла я  возь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адошки им потр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C:\Users\Людмила\Downloads\IMG_2568-27-06-18-08-22.JPG"/>
          <p:cNvPicPr/>
          <p:nvPr/>
        </p:nvPicPr>
        <p:blipFill>
          <a:blip r:embed="rId1"/>
          <a:stretch/>
        </p:blipFill>
        <p:spPr>
          <a:xfrm>
            <a:off x="88920" y="260280"/>
            <a:ext cx="4584600" cy="4105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C:\Users\Людмила\Downloads\IMG_2566-27-06-18-08-22.JPG"/>
          <p:cNvPicPr/>
          <p:nvPr/>
        </p:nvPicPr>
        <p:blipFill>
          <a:blip r:embed="rId2"/>
          <a:stretch/>
        </p:blipFill>
        <p:spPr>
          <a:xfrm>
            <a:off x="3780000" y="2781360"/>
            <a:ext cx="496872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684360" y="404640"/>
            <a:ext cx="460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унуть посильне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т много пузырей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, два, три, четыре, пять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за что их не пой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C:\Users\Людмила\Downloads\FullSizeRender-22-06-18-02-49-4.jpg"/>
          <p:cNvPicPr/>
          <p:nvPr/>
        </p:nvPicPr>
        <p:blipFill>
          <a:blip r:embed="rId1"/>
          <a:stretch/>
        </p:blipFill>
        <p:spPr>
          <a:xfrm>
            <a:off x="4897440" y="1700280"/>
            <a:ext cx="3816360" cy="4176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C:\Users\Людмила\Downloads\IMG_2528-22-06-18-02-49 (1).JPG"/>
          <p:cNvPicPr/>
          <p:nvPr/>
        </p:nvPicPr>
        <p:blipFill>
          <a:blip r:embed="rId2"/>
          <a:stretch/>
        </p:blipFill>
        <p:spPr>
          <a:xfrm>
            <a:off x="684360" y="2205000"/>
            <a:ext cx="40129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512720" y="-360"/>
            <a:ext cx="727416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адили мы цветы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мотрите, вот они!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удем мы ухаживать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удем поливать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удем за цветочками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ружно наблюдать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Picture 2" descr="C:\Users\Людмила\Downloads\IMG_2504.JPG"/>
          <p:cNvPicPr/>
          <p:nvPr/>
        </p:nvPicPr>
        <p:blipFill>
          <a:blip r:embed="rId1"/>
          <a:stretch/>
        </p:blipFill>
        <p:spPr>
          <a:xfrm>
            <a:off x="223920" y="115920"/>
            <a:ext cx="4492440" cy="3114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C:\Users\Людмила\Downloads\IMG_2503.JPG"/>
          <p:cNvPicPr/>
          <p:nvPr/>
        </p:nvPicPr>
        <p:blipFill>
          <a:blip r:embed="rId2"/>
          <a:stretch/>
        </p:blipFill>
        <p:spPr>
          <a:xfrm>
            <a:off x="4968720" y="2349360"/>
            <a:ext cx="3818160" cy="4289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C:\Users\Людмила\Downloads\IMG_2553-22-06-18-02-49.JPG"/>
          <p:cNvPicPr/>
          <p:nvPr/>
        </p:nvPicPr>
        <p:blipFill>
          <a:blip r:embed="rId3"/>
          <a:stretch/>
        </p:blipFill>
        <p:spPr>
          <a:xfrm>
            <a:off x="250920" y="3319560"/>
            <a:ext cx="450036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6"/>
          <p:cNvSpPr/>
          <p:nvPr/>
        </p:nvSpPr>
        <p:spPr>
          <a:xfrm>
            <a:off x="1403280" y="1760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де можно пускать корабл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8" descr="C:\Users\Людмила\Downloads\IMG_2515-22-06-18-02-49.JPG"/>
          <p:cNvPicPr/>
          <p:nvPr/>
        </p:nvPicPr>
        <p:blipFill>
          <a:blip r:embed="rId1"/>
          <a:stretch/>
        </p:blipFill>
        <p:spPr>
          <a:xfrm>
            <a:off x="3789360" y="2708280"/>
            <a:ext cx="5329080" cy="3997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C:\Users\Людмила\Downloads\IMG_2513-22-06-18-02-49.JPG"/>
          <p:cNvPicPr/>
          <p:nvPr/>
        </p:nvPicPr>
        <p:blipFill>
          <a:blip r:embed="rId2"/>
          <a:stretch/>
        </p:blipFill>
        <p:spPr>
          <a:xfrm>
            <a:off x="33480" y="674640"/>
            <a:ext cx="47545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8"/>
          <p:cNvSpPr/>
          <p:nvPr/>
        </p:nvSpPr>
        <p:spPr>
          <a:xfrm>
            <a:off x="611280" y="476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подуть в воду из трубочки и получатся пузы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8" descr="C:\Users\Людмила\Downloads\IMG_2511-22-06-18-02-49.JPG"/>
          <p:cNvPicPr/>
          <p:nvPr/>
        </p:nvPicPr>
        <p:blipFill>
          <a:blip r:embed="rId1"/>
          <a:stretch/>
        </p:blipFill>
        <p:spPr>
          <a:xfrm>
            <a:off x="4067280" y="2997360"/>
            <a:ext cx="4897440" cy="3671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Users\Людмила\Downloads\IMG_2510-22-06-18-02-49.JPG"/>
          <p:cNvPicPr/>
          <p:nvPr/>
        </p:nvPicPr>
        <p:blipFill>
          <a:blip r:embed="rId2"/>
          <a:stretch/>
        </p:blipFill>
        <p:spPr>
          <a:xfrm>
            <a:off x="108000" y="878040"/>
            <a:ext cx="4822920" cy="36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6"/>
          <p:cNvSpPr/>
          <p:nvPr/>
        </p:nvSpPr>
        <p:spPr>
          <a:xfrm>
            <a:off x="2268360" y="333360"/>
            <a:ext cx="640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бывает разноцвет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8" descr="C:\Users\Людмила\Downloads\IMG_2509-22-06-18-02-49.JPG"/>
          <p:cNvPicPr/>
          <p:nvPr/>
        </p:nvPicPr>
        <p:blipFill>
          <a:blip r:embed="rId1"/>
          <a:stretch/>
        </p:blipFill>
        <p:spPr>
          <a:xfrm>
            <a:off x="46080" y="189000"/>
            <a:ext cx="5184720" cy="3887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C:\Users\Людмила\Downloads\FullSizeRender-22-06-18-02-49.jpg"/>
          <p:cNvPicPr/>
          <p:nvPr/>
        </p:nvPicPr>
        <p:blipFill>
          <a:blip r:embed="rId2"/>
          <a:stretch/>
        </p:blipFill>
        <p:spPr>
          <a:xfrm>
            <a:off x="3995640" y="2781360"/>
            <a:ext cx="49262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Прямоугольник 5" descr=""/>
          <p:cNvPicPr/>
          <p:nvPr/>
        </p:nvPicPr>
        <p:blipFill>
          <a:blip r:embed="rId1"/>
          <a:stretch/>
        </p:blipFill>
        <p:spPr>
          <a:xfrm>
            <a:off x="1695600" y="841320"/>
            <a:ext cx="51814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5T18:35:58Z</dcterms:created>
  <dc:creator>кристина</dc:creator>
  <dc:description/>
  <dc:language>en-US</dc:language>
  <cp:lastModifiedBy>Леонель Месси</cp:lastModifiedBy>
  <dcterms:modified xsi:type="dcterms:W3CDTF">2023-02-07T13:24:38Z</dcterms:modified>
  <cp:revision>84</cp:revision>
  <dc:subject/>
  <dc:title>Презентация PowerPoint</dc:title>
</cp:coreProperties>
</file>