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CCF-01CC-42BF-8187-1B479ADC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721-1FDE-4B10-BA60-B194C0F9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31D-A21B-433F-9943-D7E9A5DB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966-EE65-4006-834F-5F3112E6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47E5-E796-4C58-80FF-91FECF34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F71C-1203-4EDE-97D5-9B69D313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C6AE-7D36-4131-A006-70D9E578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AFBE-EFC2-4D11-A285-A1B494CD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1451-E22B-49A3-9024-77ACB81E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5983-9B59-48D6-8F5C-2B48A67C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1DB0-6550-4172-A136-FF2C0E45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255-3E25-4B7F-85B9-F01F64AA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EE7C-CFCA-43F8-B61B-B56BD0B6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EAE9-BF9E-47FB-8E61-FB0E56DB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ED9E-22C0-4ED2-B16B-B8E3CBDF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4335-960C-4F25-8387-D7FDB5B4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450B-81EA-42CC-AF9E-46A93AC3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E247F-4983-40FE-8D43-CE6AEC24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98965-1179-46DD-8737-28648CFA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FEA12-2B26-40FA-BCC2-466EE9A9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FD4B8-0E78-4C64-880B-FE036DEA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71D6B-0861-4324-B741-11E30A3B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B48-019E-4E13-8D52-62960E33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B83C9-4079-4CB8-B9EB-79B99667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4E8E7-D334-4813-817A-8C295931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4D080-B47E-477B-9389-24E789AA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38571-0AE6-4407-936C-590A79F6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ED2A6-1DD1-425D-8EE0-3E2AB810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A0EC8-AA17-42D5-A773-4893C04C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A0A8A-8B16-45A0-B3A6-E97744E1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6449F-9C55-4378-9E70-87A9CB92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54E76-F45E-4C07-A471-4A1347B8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12B1B-5B6A-47AC-9280-28A9A6DE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6FA-C6F5-47A0-80BB-02F02777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CC7A4-D5AD-4709-9C2E-5A961133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BFF46-5965-4DF4-91D6-08339650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C59A5-34F3-4CCE-B634-C272E72E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546E4-CAC7-4BB3-9EEB-A6B9C25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1219B-FFB7-4740-89ED-FAA594F7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C4662-E662-4E68-8F16-17BFEE5F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D860C-7370-436F-85BC-2915047A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E4B0D-E701-452D-BE91-FD774B25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1C18B-D0C6-441F-95EA-A978B5F6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B79-82C8-4590-BE11-D3E082DC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EFC-6062-4E5D-9205-E62CC319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9B6-95A9-4958-9DCF-32D1E9C1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4D2-C7D3-4A82-A162-0FC78E03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B0C-67A5-4C54-86AE-62C9F2CD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47D8-F7FC-47F7-9737-7EF91F474A6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DDB4-723F-48D1-B6B1-21956C499AD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ABDF-81D5-4CFE-BE99-AE88BC3722E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D2DB-233B-4FB9-9358-711AFDA538B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Toshiba\Desktop\Проект ОБЖ\979371.jpeg"/>
          <p:cNvPicPr/>
          <p:nvPr/>
        </p:nvPicPr>
        <p:blipFill>
          <a:blip r:embed="rId1"/>
          <a:stretch/>
        </p:blipFill>
        <p:spPr>
          <a:xfrm>
            <a:off x="914400" y="4419720"/>
            <a:ext cx="1731960" cy="2093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Основные понятия о здоровье и здоровом образе жизни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6" name="Picture 5" descr="zdoroviy_obraz_zhizhy"/>
          <p:cNvPicPr/>
          <p:nvPr/>
        </p:nvPicPr>
        <p:blipFill>
          <a:blip r:embed="rId2"/>
          <a:stretch/>
        </p:blipFill>
        <p:spPr>
          <a:xfrm>
            <a:off x="396252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eddae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Факторы риска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Факторы риска внешней сред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изические  (солнце, радиостанции и т.п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иологические (инфекции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Химические (моющие, чистящие и красящие средств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ые (социальная напряженность, революция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сихического характера( ссоры, конфликты, стресс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Факторы риска внутренней среды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иологические – развитие болезне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рог чувствительности – это минимальное воздействие, вызывающее ответную реакцию организм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 правило, чем сильнее воздействие, тем больше реакция. Но бывают и исключения: на небольшое воздействие организм реагирует чрезвычайно сильно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ллергическая реакция немедленного тип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акция на сверхслабые воздействия какого-либо хим. вещества в течение длительного времен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C:\Users\Toshiba\Desktop\57454.jpg"/>
          <p:cNvPicPr/>
          <p:nvPr/>
        </p:nvPicPr>
        <p:blipFill>
          <a:blip r:embed="rId1"/>
          <a:stretch/>
        </p:blipFill>
        <p:spPr>
          <a:xfrm>
            <a:off x="5943600" y="609480"/>
            <a:ext cx="2971800" cy="44103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Солнц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амым мощным природным фактором физического воздействия является – солнечный све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ительное пребывание на солнц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жет привести к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жогам различной степен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пловому удару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авила поведения человека на солнце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язательно носите в жаркую погоду головной убор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горать нужно постепенно (с 2-3 мин в первый день и прибавляя в последующие дни по 1-2 мин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пребывать на открытом солнце больше 2 часов в ден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ed3"/>
            </a:gs>
            <a:gs pos="100000">
              <a:srgbClr val="dee9f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24456"/>
                </a:solidFill>
                <a:uFillTx/>
                <a:latin typeface="Trebuchet MS"/>
              </a:rPr>
              <a:t>Факторы, разрушающие здоровье человек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2" name="Picture 2" descr="C:\Users\Toshiba\Desktop\71891451_13091065.jpg"/>
          <p:cNvPicPr/>
          <p:nvPr/>
        </p:nvPicPr>
        <p:blipFill>
          <a:blip r:embed="rId1"/>
          <a:stretch/>
        </p:blipFill>
        <p:spPr>
          <a:xfrm>
            <a:off x="2968560" y="2584440"/>
            <a:ext cx="3249720" cy="2438280"/>
          </a:xfrm>
          <a:prstGeom prst="rect">
            <a:avLst/>
          </a:prstGeom>
          <a:ln w="0">
            <a:noFill/>
          </a:ln>
        </p:spPr>
      </p:pic>
      <p:grpSp>
        <p:nvGrpSpPr>
          <p:cNvPr id="283" name="Прямоугольник 4"/>
          <p:cNvGrpSpPr/>
          <p:nvPr/>
        </p:nvGrpSpPr>
        <p:grpSpPr>
          <a:xfrm>
            <a:off x="317520" y="2170080"/>
            <a:ext cx="2571840" cy="1354320"/>
            <a:chOff x="317520" y="2170080"/>
            <a:chExt cx="2571840" cy="1354320"/>
          </a:xfrm>
        </p:grpSpPr>
        <p:pic>
          <p:nvPicPr>
            <p:cNvPr id="2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17520" y="2170080"/>
              <a:ext cx="25718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380880" y="2209680"/>
              <a:ext cx="2438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Употребление табака (курение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Прямоугольник 5"/>
          <p:cNvGrpSpPr/>
          <p:nvPr/>
        </p:nvGrpSpPr>
        <p:grpSpPr>
          <a:xfrm>
            <a:off x="3365640" y="5065560"/>
            <a:ext cx="2571480" cy="1354320"/>
            <a:chOff x="3365640" y="5065560"/>
            <a:chExt cx="2571480" cy="1354320"/>
          </a:xfrm>
        </p:grpSpPr>
        <p:pic>
          <p:nvPicPr>
            <p:cNvPr id="287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365640" y="5065560"/>
              <a:ext cx="257148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429000" y="5105520"/>
              <a:ext cx="24382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Употребление алкого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Прямоугольник 6"/>
          <p:cNvGrpSpPr/>
          <p:nvPr/>
        </p:nvGrpSpPr>
        <p:grpSpPr>
          <a:xfrm>
            <a:off x="6261120" y="2170080"/>
            <a:ext cx="2571840" cy="1354320"/>
            <a:chOff x="6261120" y="2170080"/>
            <a:chExt cx="2571840" cy="1354320"/>
          </a:xfrm>
        </p:grpSpPr>
        <p:pic>
          <p:nvPicPr>
            <p:cNvPr id="290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6261120" y="2170080"/>
              <a:ext cx="25718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324480" y="2209680"/>
              <a:ext cx="2438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Наркомания и токсиком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Users\Toshiba\Desktop\df354f3f0082fade71ce30af69d.jpg"/>
          <p:cNvPicPr/>
          <p:nvPr/>
        </p:nvPicPr>
        <p:blipFill>
          <a:blip r:embed="rId1"/>
          <a:stretch/>
        </p:blipFill>
        <p:spPr>
          <a:xfrm>
            <a:off x="7170840" y="3809880"/>
            <a:ext cx="197316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Куре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Курение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— вдыхание дыма препаратов, преимущественно растительного происхождения, тлеющих в потоке вдыхаемого воздуха, с целью насыщения организма содержащимися в них активными веществами путём их возгонки и последующего всасывания в лёгких и дыхательных путях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урение приносит вред организму человека, т.к. вдыхаемый дым обжигает слизистые и в нём содержится большое количество вредных веществ (угарный газ, нитрозамины и т.п.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Чрезмерное курение вызывает такие заболевания, как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ак лёгких, рта и дыхательных путей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хроническая обструктивная болезнь легких (ХОБЛ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сихические, сердечно-сосудистые и др. заболевания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мпотенция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Алкоголиз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Алкоголизм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— заболевание, характеризующееся болезненным пристрастием к алкоголю, с психической и физической зависимостью от нег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ительное злоупотребление алкоголем приводит к необратимым изменениям внутренних органов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На фоне хронического алкоголизма развиваются такие заболевания, как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нутримозговое кровоизлия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ирроз печен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анкреати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астри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к пищев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к желуд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к прямой киш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емолитическая анем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ритм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лкогольная кардиомиопат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фропат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7" name="Picture 3" descr="C:\Users\Toshiba\Desktop\f013.gif"/>
          <p:cNvPicPr/>
          <p:nvPr/>
        </p:nvPicPr>
        <p:blipFill>
          <a:blip r:embed="rId1"/>
          <a:stretch/>
        </p:blipFill>
        <p:spPr>
          <a:xfrm>
            <a:off x="4191120" y="3200400"/>
            <a:ext cx="4667040" cy="310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Наркомания и токсиком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аркомания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— хроническое прогредиентное заболевание, вызванное употреблением веществ-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наркотиков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Также употребляется термин «токсикомания» — обычно это означает зависимость от веществ, которые законом не отнесены к наркотика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Наркотики вызывают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ильную психологическую зависимость (эйфория, чувство бодрости, повышенное настроение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физическую зависимость (тягостные, мучительные ощущения, болезненное состояние при перерыве в постоянном приёме наркотиков (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ломка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зменение чувствительности к наркотику (толерантность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C:\Users\Toshiba\Desktop\Проект ОБЖ\sm_img-859210_980x600.jpg"/>
          <p:cNvPicPr/>
          <p:nvPr/>
        </p:nvPicPr>
        <p:blipFill>
          <a:blip r:embed="rId1"/>
          <a:stretch/>
        </p:blipFill>
        <p:spPr>
          <a:xfrm>
            <a:off x="5791320" y="4605480"/>
            <a:ext cx="2590560" cy="22525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24456"/>
                </a:solidFill>
                <a:uFillTx/>
                <a:latin typeface="Trebuchet MS"/>
              </a:rPr>
              <a:t>Наркомания. Оказание помощи при отравлении наркотиками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человек увеличивает дозу и делает это неоднократно, то это приводит к отравлению и даже к гибели от передозировк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ля оказания помощи необходимо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ложить пострадавшего на бок или на живо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чистить дыхательные пу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ть понюхать ватку, смоченную в нашатырном спир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звать «скорую помощь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Вывод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461600"/>
            <a:ext cx="495288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 сегодняшний день практически каждый человек, живущий в странах хоть какого – либо технического прогресса, имеет массу дел и обязанносте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рою ему не хватает времени даже на свои дела. В результате, с горою мелочных технических проблем человек просто забывает главные истины и цели, запутывается, забывает о своем здоровье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этому надо обязательно продумывать свои жизненные задачи и цели, чтобы выделить тем самым время для укрепления своего здоровья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5" name="Picture 2" descr="C:\Users\Toshiba\Desktop\Проект ОБЖ\44640ae20bbd4fa14cd853f1d8787643.jpg"/>
          <p:cNvPicPr/>
          <p:nvPr/>
        </p:nvPicPr>
        <p:blipFill>
          <a:blip r:embed="rId1"/>
          <a:stretch/>
        </p:blipFill>
        <p:spPr>
          <a:xfrm>
            <a:off x="4950000" y="1749600"/>
            <a:ext cx="420048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Здоровье челове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доровь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— состояние любого живого организма, при котором он в целом и все его органы способны полностью выполнять свои функции; отсутствие недуга, болезн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Прямоугольник 5"/>
          <p:cNvSpPr/>
          <p:nvPr/>
        </p:nvSpPr>
        <p:spPr>
          <a:xfrm>
            <a:off x="3276720" y="1905120"/>
            <a:ext cx="213336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6"/>
          <p:cNvSpPr/>
          <p:nvPr/>
        </p:nvSpPr>
        <p:spPr>
          <a:xfrm>
            <a:off x="685800" y="2438280"/>
            <a:ext cx="2590920" cy="60984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ДУХО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7"/>
          <p:cNvSpPr/>
          <p:nvPr/>
        </p:nvSpPr>
        <p:spPr>
          <a:xfrm>
            <a:off x="5410080" y="2438280"/>
            <a:ext cx="2590920" cy="60984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ФИЗ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Прямоугольник 8"/>
          <p:cNvGrpSpPr/>
          <p:nvPr/>
        </p:nvGrpSpPr>
        <p:grpSpPr>
          <a:xfrm>
            <a:off x="622440" y="3005280"/>
            <a:ext cx="2760480" cy="3566880"/>
            <a:chOff x="622440" y="3005280"/>
            <a:chExt cx="2760480" cy="3566880"/>
          </a:xfrm>
        </p:grpSpPr>
        <p:pic>
          <p:nvPicPr>
            <p:cNvPr id="223" name="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622440" y="3005280"/>
              <a:ext cx="2760480" cy="35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85800" y="3048120"/>
              <a:ext cx="259092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Достигается умением жить в согласии с собой, с родными, с друзьями</a:t>
              </a: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;</a:t>
              </a: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 способностью прогнозировать различные ситуации и разрабатывать модели своего поведения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Прямоугольник 9"/>
          <p:cNvGrpSpPr/>
          <p:nvPr/>
        </p:nvGrpSpPr>
        <p:grpSpPr>
          <a:xfrm>
            <a:off x="5346720" y="3005280"/>
            <a:ext cx="2786040" cy="3566880"/>
            <a:chOff x="5346720" y="3005280"/>
            <a:chExt cx="2786040" cy="3566880"/>
          </a:xfrm>
        </p:grpSpPr>
        <p:pic>
          <p:nvPicPr>
            <p:cNvPr id="226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5346720" y="3005280"/>
              <a:ext cx="2786040" cy="35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410080" y="3048120"/>
              <a:ext cx="259092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Georgia"/>
                </a:rPr>
                <a:t>Зависит от двигательной активности, рационального питания, соблюдения правил личной гигиены и безопасного поведения</a:t>
              </a:r>
              <a:r>
                <a:rPr b="0" lang="en-US" sz="1700" spc="-1" strike="noStrike">
                  <a:solidFill>
                    <a:srgbClr val="000000"/>
                  </a:solidFill>
                  <a:latin typeface="Georgia"/>
                </a:rPr>
                <a:t>;</a:t>
              </a:r>
              <a:r>
                <a:rPr b="0" lang="ru-RU" sz="1700" spc="-1" strike="noStrike">
                  <a:solidFill>
                    <a:srgbClr val="000000"/>
                  </a:solidFill>
                  <a:latin typeface="Georgia"/>
                </a:rPr>
                <a:t> оптимального сочетания умственного и физического труда, умения отдыха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правляющая кнопка: назад 12">
            <a:hlinkClick r:id="rId3" action="ppaction://hlinksldjump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Здоровье челове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31" name="Прямоугольник 4"/>
          <p:cNvGrpSpPr/>
          <p:nvPr/>
        </p:nvGrpSpPr>
        <p:grpSpPr>
          <a:xfrm>
            <a:off x="3133800" y="1255680"/>
            <a:ext cx="2266920" cy="897120"/>
            <a:chOff x="3133800" y="1255680"/>
            <a:chExt cx="2266920" cy="897120"/>
          </a:xfrm>
        </p:grpSpPr>
        <p:pic>
          <p:nvPicPr>
            <p:cNvPr id="23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3133800" y="1255680"/>
              <a:ext cx="22669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200400" y="1295280"/>
              <a:ext cx="2133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eorgia"/>
                </a:rPr>
                <a:t>ЗДОРОВЬ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Прямоугольник 6"/>
          <p:cNvGrpSpPr/>
          <p:nvPr/>
        </p:nvGrpSpPr>
        <p:grpSpPr>
          <a:xfrm>
            <a:off x="695160" y="2017800"/>
            <a:ext cx="2571840" cy="1049400"/>
            <a:chOff x="695160" y="2017800"/>
            <a:chExt cx="2571840" cy="1049400"/>
          </a:xfrm>
        </p:grpSpPr>
        <p:pic>
          <p:nvPicPr>
            <p:cNvPr id="235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695160" y="2017800"/>
              <a:ext cx="25718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62120" y="205740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Georgia"/>
                </a:rPr>
                <a:t>Индивидуа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Прямоугольник 7"/>
          <p:cNvGrpSpPr/>
          <p:nvPr/>
        </p:nvGrpSpPr>
        <p:grpSpPr>
          <a:xfrm>
            <a:off x="5267160" y="2017800"/>
            <a:ext cx="2571840" cy="1049400"/>
            <a:chOff x="5267160" y="2017800"/>
            <a:chExt cx="2571840" cy="1049400"/>
          </a:xfrm>
        </p:grpSpPr>
        <p:pic>
          <p:nvPicPr>
            <p:cNvPr id="23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5267160" y="2017800"/>
              <a:ext cx="25718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334120" y="205740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Georgia"/>
                </a:rPr>
                <a:t>Обществен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Прямоугольник 8"/>
          <p:cNvGrpSpPr/>
          <p:nvPr/>
        </p:nvGrpSpPr>
        <p:grpSpPr>
          <a:xfrm>
            <a:off x="695160" y="2932200"/>
            <a:ext cx="2571840" cy="2036520"/>
            <a:chOff x="695160" y="2932200"/>
            <a:chExt cx="2571840" cy="2036520"/>
          </a:xfrm>
        </p:grpSpPr>
        <p:pic>
          <p:nvPicPr>
            <p:cNvPr id="241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95160" y="2932200"/>
              <a:ext cx="2571840" cy="20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62120" y="2971800"/>
              <a:ext cx="24382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Зависит от самих людей и требует постоянного контроля и мер предосторожност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Прямоугольник 9"/>
          <p:cNvGrpSpPr/>
          <p:nvPr/>
        </p:nvGrpSpPr>
        <p:grpSpPr>
          <a:xfrm>
            <a:off x="5267160" y="2852640"/>
            <a:ext cx="2571840" cy="2116080"/>
            <a:chOff x="5267160" y="2852640"/>
            <a:chExt cx="2571840" cy="2116080"/>
          </a:xfrm>
        </p:grpSpPr>
        <p:pic>
          <p:nvPicPr>
            <p:cNvPr id="244" name="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5267160" y="2852640"/>
              <a:ext cx="257184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334120" y="2971800"/>
              <a:ext cx="24382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Зависит от политических, социально-экономических и природно-экологических фактор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Прямоугольник 13"/>
          <p:cNvGrpSpPr/>
          <p:nvPr/>
        </p:nvGrpSpPr>
        <p:grpSpPr>
          <a:xfrm>
            <a:off x="-66600" y="4834080"/>
            <a:ext cx="9277200" cy="2116080"/>
            <a:chOff x="-66600" y="4834080"/>
            <a:chExt cx="9277200" cy="2116080"/>
          </a:xfrm>
        </p:grpSpPr>
        <p:pic>
          <p:nvPicPr>
            <p:cNvPr id="247" name="Прямоугольник 13" descr=""/>
            <p:cNvPicPr/>
            <p:nvPr/>
          </p:nvPicPr>
          <p:blipFill>
            <a:blip r:embed="rId6"/>
            <a:stretch/>
          </p:blipFill>
          <p:spPr>
            <a:xfrm>
              <a:off x="-66600" y="4834080"/>
              <a:ext cx="927720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0" y="4876920"/>
              <a:ext cx="914400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Общественное и индивидуально здоровье взаимозависимы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Ведь общественное здоровье в конечном счете складывается из здоровья членов обществ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Социальное здоровь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1752120"/>
            <a:ext cx="4419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b4a5e"/>
                </a:solidFill>
                <a:uFillTx/>
                <a:latin typeface="Georgia"/>
              </a:rPr>
              <a:t>Социальное здоровье современного человека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это не что иное, как его социальная активность, поведение в обществе, личное отношение к миру.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чень важно, чтобы человек стремился к самореализации и постоянному личностному развитию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пособ самореализации зависит от того, что он ценит более всего и чего хочет добиться. (учеба, карьера, семья, дети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2" descr="C:\Users\Toshiba\Desktop\soczdor.jpg"/>
          <p:cNvPicPr/>
          <p:nvPr/>
        </p:nvPicPr>
        <p:blipFill>
          <a:blip r:embed="rId1"/>
          <a:stretch/>
        </p:blipFill>
        <p:spPr>
          <a:xfrm>
            <a:off x="4413240" y="2127240"/>
            <a:ext cx="4511520" cy="2981160"/>
          </a:xfrm>
          <a:prstGeom prst="rect">
            <a:avLst/>
          </a:prstGeom>
          <a:ln w="0">
            <a:noFill/>
          </a:ln>
        </p:spPr>
      </p:pic>
      <p:sp>
        <p:nvSpPr>
          <p:cNvPr id="25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Управляющая кнопка: назад 5">
            <a:hlinkClick r:id="rId2" action="ppaction://hlinksldjump"/>
          </p:cNvPr>
          <p:cNvSpPr/>
          <p:nvPr/>
        </p:nvSpPr>
        <p:spPr>
          <a:xfrm>
            <a:off x="784872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Оценка здоровь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 определить здоров человек или болен?  Для этого необходимо исследовать состояние и деятельность различных систем и орган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оказатели состояния здоровья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ровень кровяного давления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астота сердечных сокраще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астота дыха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анные анализ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нтгенологическое исследование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сновные критерии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личие или отсутствие на момент обследования хронических заболеваний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ровень достигнутого физического и нервно-психического развит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стояние основных систем организма – дыхательной, сердечно-сосудистой, выделительной, нервно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епень сопротивляемости организма внешним воздействиям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24456"/>
                </a:solidFill>
                <a:uFillTx/>
                <a:latin typeface="Trebuchet MS"/>
              </a:rPr>
              <a:t>Группы здоровья детей и подростко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Крест 10"/>
          <p:cNvSpPr/>
          <p:nvPr/>
        </p:nvSpPr>
        <p:spPr>
          <a:xfrm>
            <a:off x="228600" y="1447920"/>
            <a:ext cx="685800" cy="6094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c4652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Крест 13"/>
          <p:cNvSpPr/>
          <p:nvPr/>
        </p:nvSpPr>
        <p:spPr>
          <a:xfrm>
            <a:off x="228600" y="4648320"/>
            <a:ext cx="685800" cy="6094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5c92b5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Крест 14"/>
          <p:cNvSpPr/>
          <p:nvPr/>
        </p:nvSpPr>
        <p:spPr>
          <a:xfrm>
            <a:off x="228600" y="3581280"/>
            <a:ext cx="685800" cy="6098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438086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Крест 15"/>
          <p:cNvSpPr/>
          <p:nvPr/>
        </p:nvSpPr>
        <p:spPr>
          <a:xfrm>
            <a:off x="228600" y="2438280"/>
            <a:ext cx="685800" cy="6098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a04d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1143000" y="1447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ти и подростки, у которых отсутствуют хронические заболевания, редко болеющие и имеющие нормальное физическое и нервно-псих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7"/>
          <p:cNvSpPr/>
          <p:nvPr/>
        </p:nvSpPr>
        <p:spPr>
          <a:xfrm>
            <a:off x="1066680" y="2362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ти и подростки, у которых отсутствуют хронич. заболевания, но имеются некоторые отклонения от нормы в физическом развитии или в работе какие-либо органов, часто (4 раза в год) и длительно (25 дней) болеющие одним заболева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1143000" y="358128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ти и подростки, имеющие хронич.заболевания, редко обостряющиеся, без выраженного нарушения общего состояния и самочув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9"/>
          <p:cNvSpPr/>
          <p:nvPr/>
        </p:nvSpPr>
        <p:spPr>
          <a:xfrm>
            <a:off x="1219320" y="4495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ти и подростки с хронич. заболеваниями, врожденными пороками развития, с нарушениями общего состояния и самочувствия после обострения хронич.заболеваний, с затяжным периодом выздоро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1219320" y="5791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ти и подростки с тяжелыми хронич. заболеваниями и со сниженными функциональными возможнос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рест 21"/>
          <p:cNvSpPr/>
          <p:nvPr/>
        </p:nvSpPr>
        <p:spPr>
          <a:xfrm>
            <a:off x="228600" y="5791320"/>
            <a:ext cx="685800" cy="6094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5c92b5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Здоровый образ жизн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Здоровый образ жизни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индивидуальная система поведения и привычек каждого отдельного человека, обеспечивающая ему необходимый уровень жизнедеятельности и здоровое долголети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 жизни должен меняться с возрастом, он должен быть обеспечен энергетически, предполагать укрепление здоровья, иметь свой распорядок и рит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В основе здорового образа жизни лежат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3733920"/>
          <a:ext cx="9144000" cy="3124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Биологические принци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Социальные принци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247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6664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пит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6664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солнечный с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6664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теп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6664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двигательная акти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6664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уеди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6664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игров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6664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эстет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нравств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присутствие волевого нач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способность к самоогранич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C:\Users\Toshiba\Desktop\Проект ОБЖ\27082011_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rebuchet MS"/>
              </a:rPr>
              <a:t>Элементы ЗОЖ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876560" y="914400"/>
            <a:ext cx="4267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птимальный уровень двигательной активност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калива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Рациональное пита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Соблюдение режима труда и отдых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Личная гигиена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Регулярное прохождение медицинских осмотр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Экологически грамотное повед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сихическая и эмоциональная устойчиво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Сексуальное воспита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каз от вредных привычек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езопасное поведение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Users\Toshiba\Desktop\0_65cae_e2a4cee9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34c22"/>
                </a:solidFill>
                <a:uFillTx/>
                <a:latin typeface="Trebuchet MS"/>
              </a:rPr>
              <a:t>Современные методы оздоро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1676520"/>
            <a:ext cx="9144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4c22"/>
                </a:solidFill>
                <a:latin typeface="Georgia"/>
              </a:rPr>
              <a:t>Совершенствование духовност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4c22"/>
                </a:solidFill>
                <a:latin typeface="Georgia"/>
              </a:rPr>
              <a:t>Физическое совершенствован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4c22"/>
                </a:solidFill>
                <a:latin typeface="Georgia"/>
              </a:rPr>
              <a:t>Дыхательные техники и их примене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4c22"/>
                </a:solidFill>
                <a:latin typeface="Georgia"/>
              </a:rPr>
              <a:t>Пит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4c22"/>
                </a:solidFill>
                <a:latin typeface="Georgia"/>
              </a:rPr>
              <a:t>Управление эмоция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4c22"/>
                </a:solidFill>
                <a:latin typeface="Georgia"/>
              </a:rPr>
              <a:t>Управление мысля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4c22"/>
                </a:solidFill>
                <a:latin typeface="Georgia"/>
              </a:rPr>
              <a:t>Биоэнергети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27:52Z</dcterms:created>
  <dc:creator>Toshiba</dc:creator>
  <dc:description/>
  <dc:language>en-US</dc:language>
  <cp:lastModifiedBy>User</cp:lastModifiedBy>
  <dcterms:modified xsi:type="dcterms:W3CDTF">2023-02-08T12:25:54Z</dcterms:modified>
  <cp:revision>83</cp:revision>
  <dc:subject/>
  <dc:title>Проект ПО ОБЖ на тему «Наркомания»</dc:title>
</cp:coreProperties>
</file>