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EB4-1831-46E0-B606-75FF95F9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7CA-F739-4ED8-B579-9AF0AB03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6C1-0C36-4689-828C-8E4D64BD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FB0-4C96-4BE5-815F-45345815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667B-03CF-44AC-B3F0-6AEEB349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0D84-4554-40BF-A27E-3CF1E475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8D36-BCED-4DC3-944F-6AD03153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6670-4766-4376-BCD7-4FD45A28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3148-B8DC-4757-BB6D-991CC85A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D6C2-B404-4313-9005-9C21E359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10F1-4CA2-43ED-96FA-AC04BC0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8BE-E9EA-4930-A26E-7E68C1F3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6F5A-D580-474A-A5CB-D57DF1F9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198E-E0D9-43BC-A086-58BF0440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F45E-3975-47BB-B00B-AFF7A335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0B9F-009E-4832-8A54-A004AA0F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B429-2BF6-47BF-BC97-D143AC98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73663-4D20-487D-9CEC-F22B4E20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812B3-6142-4B29-B48A-6278A042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7EA87-21D7-4358-9AD7-8DAD8E2B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5BB26-33FA-4DAE-B32E-EBA184BA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3A2AD-53A1-4092-9F62-96BCF55C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7F1-A8F3-4966-96EE-540E3F2E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329BF-1903-4D20-8C7A-7546AE33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2F745-F746-4174-BA2E-33BA3B6E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FDD99-9EA7-4BF2-B203-C21D0339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3DA99-2080-4B5B-A8A2-613E5E8A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16BD2-17CC-4E8A-81FB-A1D8C1E5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FE52C-B96B-42B8-9049-12421A58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6DE5F-8846-407E-8059-DE3D7694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67A45-F13D-4917-A663-85431802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41B2A-42E4-4D3E-9C76-7101B279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4293-042A-4FF3-B08F-A8F4C498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3E4-2CA3-4FB3-B7B8-749C2C70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5340-2473-4AE0-B98C-2E27178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DA04-DB40-45A0-8558-CE879844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27BF-06B4-4708-8149-0B06A288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252B-DF0F-4CDC-A8F8-DE71D0C8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1463-388B-48B7-B8A4-B666F6BF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06E3-C043-4D3C-956E-59817D8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2905-C7AE-4FD3-A6EA-9FDD4CB6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E25F-303A-4E2A-B92B-76CA883D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4587F-B706-476D-A6DD-9712DDE5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7F4-B051-4944-898B-EBAE6B87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649-5CFD-42A6-975A-D8FCEFD2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177-377E-47BD-A4D3-CA315AD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630-E7B7-4125-B8F9-AB3D1E2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067-9EA6-479E-A3C5-49BE321D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F03-C64C-47DA-9E8D-F576F5607FE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9397-1A98-48AD-BA51-99440022372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8FF-E33C-415D-A45D-516E5ADFD9F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7224-5358-461C-B60B-B190D0F53B5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Toshiba\Desktop\Проект ОБЖ\979371.jpeg"/>
          <p:cNvPicPr/>
          <p:nvPr/>
        </p:nvPicPr>
        <p:blipFill>
          <a:blip r:embed="rId1"/>
          <a:stretch/>
        </p:blipFill>
        <p:spPr>
          <a:xfrm>
            <a:off x="914400" y="4419720"/>
            <a:ext cx="1731960" cy="2093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сновные понятия о здоровье и здоровом образе жизни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6" name="Picture 5" descr="zdoroviy_obraz_zhizhy"/>
          <p:cNvPicPr/>
          <p:nvPr/>
        </p:nvPicPr>
        <p:blipFill>
          <a:blip r:embed="rId2"/>
          <a:stretch/>
        </p:blipFill>
        <p:spPr>
          <a:xfrm>
            <a:off x="396252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eddae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Факторы риск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Факторы риска внешней сред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изические  (солнце, радиостанции и т.п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иологические (инфекции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Химические (моющие, чистящие и красящие средств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ые (социальная напряженность, революция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ического характера( ссоры, конфликты, стресс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Факторы риска внутренней среды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иологические – развитие болезн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рог чувствительности – это минимальное воздействие, вызывающее ответную реакцию организм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правило, чем сильнее воздействие, тем больше реакция. Но бывают и исключения: на небольшое воздействие организм реагирует чрезвычайно сильно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ллергическая реакция немедленного тип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акция на сверхслабые воздействия какого-либо хим. вещества в течение длительного време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C:\Users\Toshiba\Desktop\57454.jpg"/>
          <p:cNvPicPr/>
          <p:nvPr/>
        </p:nvPicPr>
        <p:blipFill>
          <a:blip r:embed="rId1"/>
          <a:stretch/>
        </p:blipFill>
        <p:spPr>
          <a:xfrm>
            <a:off x="5943600" y="609480"/>
            <a:ext cx="2971800" cy="4410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Солнц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ым мощным природным фактором физического воздействия является – солнечный све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ительное пребывание на солнц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жет привести к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жогам различной степен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пловому удар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ила поведения человека на солнце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язательно носите в жаркую погоду головной убор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горать нужно постепенно (с 2-3 мин в первый день и прибавляя в последующие дни по 1-2 мин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пребывать на открытом солнце больше 2 часов в ден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ed3"/>
            </a:gs>
            <a:gs pos="100000">
              <a:srgbClr val="dee9f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24456"/>
                </a:solidFill>
                <a:uFillTx/>
                <a:latin typeface="Trebuchet MS"/>
              </a:rPr>
              <a:t>Факторы, разрушающие здоровье челове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2" name="Picture 2" descr="C:\Users\Toshiba\Desktop\71891451_13091065.jpg"/>
          <p:cNvPicPr/>
          <p:nvPr/>
        </p:nvPicPr>
        <p:blipFill>
          <a:blip r:embed="rId1"/>
          <a:stretch/>
        </p:blipFill>
        <p:spPr>
          <a:xfrm>
            <a:off x="2968560" y="2584440"/>
            <a:ext cx="32497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283" name="Прямоугольник 4"/>
          <p:cNvGrpSpPr/>
          <p:nvPr/>
        </p:nvGrpSpPr>
        <p:grpSpPr>
          <a:xfrm>
            <a:off x="317520" y="2170080"/>
            <a:ext cx="2571840" cy="1354320"/>
            <a:chOff x="317520" y="2170080"/>
            <a:chExt cx="2571840" cy="1354320"/>
          </a:xfrm>
        </p:grpSpPr>
        <p:pic>
          <p:nvPicPr>
            <p:cNvPr id="2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17520" y="2170080"/>
              <a:ext cx="25718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80880" y="2209680"/>
              <a:ext cx="2438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Употребление табака (курени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Прямоугольник 5"/>
          <p:cNvGrpSpPr/>
          <p:nvPr/>
        </p:nvGrpSpPr>
        <p:grpSpPr>
          <a:xfrm>
            <a:off x="3365640" y="5065560"/>
            <a:ext cx="2571480" cy="1354320"/>
            <a:chOff x="3365640" y="5065560"/>
            <a:chExt cx="2571480" cy="1354320"/>
          </a:xfrm>
        </p:grpSpPr>
        <p:pic>
          <p:nvPicPr>
            <p:cNvPr id="287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365640" y="5065560"/>
              <a:ext cx="257148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429000" y="5105520"/>
              <a:ext cx="24382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Употребление алкого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Прямоугольник 6"/>
          <p:cNvGrpSpPr/>
          <p:nvPr/>
        </p:nvGrpSpPr>
        <p:grpSpPr>
          <a:xfrm>
            <a:off x="6261120" y="2170080"/>
            <a:ext cx="2571840" cy="1354320"/>
            <a:chOff x="6261120" y="2170080"/>
            <a:chExt cx="2571840" cy="1354320"/>
          </a:xfrm>
        </p:grpSpPr>
        <p:pic>
          <p:nvPicPr>
            <p:cNvPr id="290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261120" y="2170080"/>
              <a:ext cx="25718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324480" y="2209680"/>
              <a:ext cx="2438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Наркомания и токсиком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Toshiba\Desktop\df354f3f0082fade71ce30af69d.jpg"/>
          <p:cNvPicPr/>
          <p:nvPr/>
        </p:nvPicPr>
        <p:blipFill>
          <a:blip r:embed="rId1"/>
          <a:stretch/>
        </p:blipFill>
        <p:spPr>
          <a:xfrm>
            <a:off x="7170840" y="3809880"/>
            <a:ext cx="197316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Кур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Курение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— вдыхание дыма препаратов, преимущественно растительного происхождения, тлеющих в потоке вдыхаемого воздуха, с целью насыщения организма содержащимися в них активными веществами путём их возгонки и последующего всасывания в лёгких и дыхательных путях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урение приносит вред организму человека, т.к. вдыхаемый дым обжигает слизистые и в нём содержится большое количество вредных веществ (угарный газ, нитрозамины и т.п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Чрезмерное курение вызывает такие заболевания, как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к лёгких, рта и дыхательных путе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хроническая обструктивная болезнь легких (ХОБЛ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ические, сердечно-сосудистые и др. заболевания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мпотенция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Алкоголиз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лкоголизм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— заболевание, характеризующееся болезненным пристрастием к алкоголю, с психической и физической зависимостью от не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ительное злоупотребление алкоголем приводит к необратимым изменениям внутренних орган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На фоне хронического алкоголизма развиваются такие заболевания, как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нутримозговое кровоизлия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рроз печен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анкреати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астри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к пищев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к желуд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к прямой киш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емолитическая анем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ритм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лкогольная кардиомиопат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фропат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7" name="Picture 3" descr="C:\Users\Toshiba\Desktop\f013.gif"/>
          <p:cNvPicPr/>
          <p:nvPr/>
        </p:nvPicPr>
        <p:blipFill>
          <a:blip r:embed="rId1"/>
          <a:stretch/>
        </p:blipFill>
        <p:spPr>
          <a:xfrm>
            <a:off x="4191120" y="3200400"/>
            <a:ext cx="4667040" cy="310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Наркомания и токсиком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аркоман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— хроническое прогредиентное заболевание, вызванное употреблением веществ-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наркотиков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акже употребляется термин «токсикомания» — обычно это означает зависимость от веществ, которые законом не отнесены к наркотика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Наркотики вызывают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ильную психологическую зависимость (эйфория, чувство бодрости, повышенное настроение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физическую зависимость (тягостные, мучительные ощущения, болезненное состояние при перерыве в постоянном приёме наркотиков (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ломка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зменение чувствительности к наркотику (толерантность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:\Users\Toshiba\Desktop\Проект ОБЖ\sm_img-859210_980x600.jpg"/>
          <p:cNvPicPr/>
          <p:nvPr/>
        </p:nvPicPr>
        <p:blipFill>
          <a:blip r:embed="rId1"/>
          <a:stretch/>
        </p:blipFill>
        <p:spPr>
          <a:xfrm>
            <a:off x="5791320" y="4605480"/>
            <a:ext cx="2590560" cy="2252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24456"/>
                </a:solidFill>
                <a:uFillTx/>
                <a:latin typeface="Trebuchet MS"/>
              </a:rPr>
              <a:t>Наркомания. Оказание помощи при отравлении наркотиками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человек увеличивает дозу и делает это неоднократно, то это приводит к отравлению и даже к гибели от передозиров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ля оказания помощи необходим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ложить пострадавшего на бок или на живо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чистить дыхательные пу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ть понюхать ватку, смоченную в нашатырном спир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звать «скорую помощь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Выво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61600"/>
            <a:ext cx="495288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сегодняшний день практически каждый человек, живущий в странах хоть какого – либо технического прогресса, имеет массу дел и обязанност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рою ему не хватает времени даже на свои дела. В результате, с горою мелочных технических проблем человек просто забывает главные истины и цели, запутывается, забывает о своем здоровь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этому надо обязательно продумывать свои жизненные задачи и цели, чтобы выделить тем самым время для укрепления своего здоровья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5" name="Picture 2" descr="C:\Users\Toshiba\Desktop\Проект ОБЖ\44640ae20bbd4fa14cd853f1d8787643.jpg"/>
          <p:cNvPicPr/>
          <p:nvPr/>
        </p:nvPicPr>
        <p:blipFill>
          <a:blip r:embed="rId1"/>
          <a:stretch/>
        </p:blipFill>
        <p:spPr>
          <a:xfrm>
            <a:off x="4950000" y="1749600"/>
            <a:ext cx="420048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Здоровье челове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доровь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— состояние любого живого организма, при котором он в целом и все его органы способны полностью выполнять свои функции; отсутствие недуга, болезн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3276720" y="1905120"/>
            <a:ext cx="213336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685800" y="2438280"/>
            <a:ext cx="2590920" cy="6098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УХО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5410080" y="2438280"/>
            <a:ext cx="2590920" cy="6098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ФИЗ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Прямоугольник 8"/>
          <p:cNvGrpSpPr/>
          <p:nvPr/>
        </p:nvGrpSpPr>
        <p:grpSpPr>
          <a:xfrm>
            <a:off x="622440" y="3005280"/>
            <a:ext cx="2760480" cy="3566880"/>
            <a:chOff x="622440" y="3005280"/>
            <a:chExt cx="2760480" cy="3566880"/>
          </a:xfrm>
        </p:grpSpPr>
        <p:pic>
          <p:nvPicPr>
            <p:cNvPr id="223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622440" y="3005280"/>
              <a:ext cx="2760480" cy="35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800" y="3048120"/>
              <a:ext cx="25909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Достигается умением жить в согласии с собой, с родными, с друзьями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;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способностью прогнозировать различные ситуации и разрабатывать модели своего поведения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Прямоугольник 9"/>
          <p:cNvGrpSpPr/>
          <p:nvPr/>
        </p:nvGrpSpPr>
        <p:grpSpPr>
          <a:xfrm>
            <a:off x="5346720" y="3005280"/>
            <a:ext cx="2786040" cy="3566880"/>
            <a:chOff x="5346720" y="3005280"/>
            <a:chExt cx="2786040" cy="3566880"/>
          </a:xfrm>
        </p:grpSpPr>
        <p:pic>
          <p:nvPicPr>
            <p:cNvPr id="226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5346720" y="3005280"/>
              <a:ext cx="2786040" cy="35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410080" y="3048120"/>
              <a:ext cx="25909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Georgia"/>
                </a:rPr>
                <a:t>Зависит от двигательной активности, рационального питания, соблюдения правил личной гигиены и безопасного поведения</a:t>
              </a:r>
              <a:r>
                <a:rPr b="0" lang="en-US" sz="1700" spc="-1" strike="noStrike">
                  <a:solidFill>
                    <a:srgbClr val="000000"/>
                  </a:solidFill>
                  <a:latin typeface="Georgia"/>
                </a:rPr>
                <a:t>;</a:t>
              </a:r>
              <a:r>
                <a:rPr b="0" lang="ru-RU" sz="1700" spc="-1" strike="noStrike">
                  <a:solidFill>
                    <a:srgbClr val="000000"/>
                  </a:solidFill>
                  <a:latin typeface="Georgia"/>
                </a:rPr>
                <a:t> оптимального сочетания умственного и физического труда, умения отдыха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правляющая кнопка: назад 12">
            <a:hlinkClick r:id="rId3" action="ppaction://hlinksldjump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Здоровье челове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31" name="Прямоугольник 4"/>
          <p:cNvGrpSpPr/>
          <p:nvPr/>
        </p:nvGrpSpPr>
        <p:grpSpPr>
          <a:xfrm>
            <a:off x="3133800" y="1255680"/>
            <a:ext cx="2266920" cy="897120"/>
            <a:chOff x="3133800" y="1255680"/>
            <a:chExt cx="2266920" cy="897120"/>
          </a:xfrm>
        </p:grpSpPr>
        <p:pic>
          <p:nvPicPr>
            <p:cNvPr id="23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133800" y="1255680"/>
              <a:ext cx="22669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00400" y="1295280"/>
              <a:ext cx="2133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ЗДОРОВ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Прямоугольник 6"/>
          <p:cNvGrpSpPr/>
          <p:nvPr/>
        </p:nvGrpSpPr>
        <p:grpSpPr>
          <a:xfrm>
            <a:off x="695160" y="2017800"/>
            <a:ext cx="2571840" cy="1049400"/>
            <a:chOff x="695160" y="2017800"/>
            <a:chExt cx="2571840" cy="1049400"/>
          </a:xfrm>
        </p:grpSpPr>
        <p:pic>
          <p:nvPicPr>
            <p:cNvPr id="235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695160" y="2017800"/>
              <a:ext cx="25718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62120" y="205740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Georgia"/>
                </a:rPr>
                <a:t>Индивидуа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Прямоугольник 7"/>
          <p:cNvGrpSpPr/>
          <p:nvPr/>
        </p:nvGrpSpPr>
        <p:grpSpPr>
          <a:xfrm>
            <a:off x="5267160" y="2017800"/>
            <a:ext cx="2571840" cy="1049400"/>
            <a:chOff x="5267160" y="2017800"/>
            <a:chExt cx="2571840" cy="1049400"/>
          </a:xfrm>
        </p:grpSpPr>
        <p:pic>
          <p:nvPicPr>
            <p:cNvPr id="23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267160" y="2017800"/>
              <a:ext cx="25718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334120" y="205740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Georgia"/>
                </a:rPr>
                <a:t>Обществ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Прямоугольник 8"/>
          <p:cNvGrpSpPr/>
          <p:nvPr/>
        </p:nvGrpSpPr>
        <p:grpSpPr>
          <a:xfrm>
            <a:off x="695160" y="2932200"/>
            <a:ext cx="2571840" cy="2036520"/>
            <a:chOff x="695160" y="2932200"/>
            <a:chExt cx="2571840" cy="2036520"/>
          </a:xfrm>
        </p:grpSpPr>
        <p:pic>
          <p:nvPicPr>
            <p:cNvPr id="241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95160" y="2932200"/>
              <a:ext cx="2571840" cy="20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62120" y="2971800"/>
              <a:ext cx="24382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Зависит от самих людей и требует постоянного контроля и мер предосторожност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Прямоугольник 9"/>
          <p:cNvGrpSpPr/>
          <p:nvPr/>
        </p:nvGrpSpPr>
        <p:grpSpPr>
          <a:xfrm>
            <a:off x="5267160" y="2852640"/>
            <a:ext cx="2571840" cy="2116080"/>
            <a:chOff x="5267160" y="2852640"/>
            <a:chExt cx="2571840" cy="2116080"/>
          </a:xfrm>
        </p:grpSpPr>
        <p:pic>
          <p:nvPicPr>
            <p:cNvPr id="244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5267160" y="2852640"/>
              <a:ext cx="257184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334120" y="2971800"/>
              <a:ext cx="24382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Зависит от политических, социально-экономических и природно-экологических фактор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Прямоугольник 13"/>
          <p:cNvGrpSpPr/>
          <p:nvPr/>
        </p:nvGrpSpPr>
        <p:grpSpPr>
          <a:xfrm>
            <a:off x="-66600" y="4834080"/>
            <a:ext cx="9277200" cy="2116080"/>
            <a:chOff x="-66600" y="4834080"/>
            <a:chExt cx="9277200" cy="2116080"/>
          </a:xfrm>
        </p:grpSpPr>
        <p:pic>
          <p:nvPicPr>
            <p:cNvPr id="247" name="Прямоугольник 13" descr=""/>
            <p:cNvPicPr/>
            <p:nvPr/>
          </p:nvPicPr>
          <p:blipFill>
            <a:blip r:embed="rId6"/>
            <a:stretch/>
          </p:blipFill>
          <p:spPr>
            <a:xfrm>
              <a:off x="-66600" y="4834080"/>
              <a:ext cx="927720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0" y="4876920"/>
              <a:ext cx="914400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Общественное и индивидуально здоровье взаимозависимы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Georgia"/>
                </a:rPr>
                <a:t>Ведь общественное здоровье в конечном счете складывается из здоровья членов обществ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Социальное здоровь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1752120"/>
            <a:ext cx="4419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b4a5e"/>
                </a:solidFill>
                <a:uFillTx/>
                <a:latin typeface="Georgia"/>
              </a:rPr>
              <a:t>Социальное здоровье современного человека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это не что иное, как его социальная активность, поведение в обществе, личное отношение к миру.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чень важно, чтобы человек стремился к самореализации и постоянному личностному развит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особ самореализации зависит от того, что он ценит более всего и чего хочет добиться. (учеба, карьера, семья, дети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2" descr="C:\Users\Toshiba\Desktop\soczdor.jpg"/>
          <p:cNvPicPr/>
          <p:nvPr/>
        </p:nvPicPr>
        <p:blipFill>
          <a:blip r:embed="rId1"/>
          <a:stretch/>
        </p:blipFill>
        <p:spPr>
          <a:xfrm>
            <a:off x="4413240" y="2127240"/>
            <a:ext cx="4511520" cy="2981160"/>
          </a:xfrm>
          <a:prstGeom prst="rect">
            <a:avLst/>
          </a:prstGeom>
          <a:ln w="0">
            <a:noFill/>
          </a:ln>
        </p:spPr>
      </p:pic>
      <p:sp>
        <p:nvSpPr>
          <p:cNvPr id="25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правляющая кнопка: назад 5">
            <a:hlinkClick r:id="rId2" action="ppaction://hlinksldjump"/>
          </p:cNvPr>
          <p:cNvSpPr/>
          <p:nvPr/>
        </p:nvSpPr>
        <p:spPr>
          <a:xfrm>
            <a:off x="784872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Оценка здоровь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определить здоров человек или болен?  Для этого необходимо исследовать состояние и деятельность различных систем и орган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казатели состояния здоровья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ровень кровяного давления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астота сердечных сокраще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астота дыха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е анализ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нтгенологическое исследовани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сновные критери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личие или отсутствие на момент обследования хронических заболевани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ровень достигнутого физического и нервно-психического развит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стояние основных систем организма – дыхательной, сердечно-сосудистой, выделительной, нервно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епень сопротивляемости организма внешним воздействия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24456"/>
                </a:solidFill>
                <a:uFillTx/>
                <a:latin typeface="Trebuchet MS"/>
              </a:rPr>
              <a:t>Группы здоровья детей и подростко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Крест 10"/>
          <p:cNvSpPr/>
          <p:nvPr/>
        </p:nvSpPr>
        <p:spPr>
          <a:xfrm>
            <a:off x="228600" y="1447920"/>
            <a:ext cx="685800" cy="6094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c4652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Крест 13"/>
          <p:cNvSpPr/>
          <p:nvPr/>
        </p:nvSpPr>
        <p:spPr>
          <a:xfrm>
            <a:off x="228600" y="4648320"/>
            <a:ext cx="685800" cy="6094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5c92b5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Крест 14"/>
          <p:cNvSpPr/>
          <p:nvPr/>
        </p:nvSpPr>
        <p:spPr>
          <a:xfrm>
            <a:off x="228600" y="3581280"/>
            <a:ext cx="685800" cy="6098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438086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Крест 15"/>
          <p:cNvSpPr/>
          <p:nvPr/>
        </p:nvSpPr>
        <p:spPr>
          <a:xfrm>
            <a:off x="228600" y="2438280"/>
            <a:ext cx="685800" cy="6098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a04d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1143000" y="1447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, у которых отсутствуют хронические заболевания, редко болеющие и имеющие нормальное физическое и нервно-псих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7"/>
          <p:cNvSpPr/>
          <p:nvPr/>
        </p:nvSpPr>
        <p:spPr>
          <a:xfrm>
            <a:off x="1066680" y="2362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, у которых отсутствуют хронич. заболевания, но имеются некоторые отклонения от нормы в физическом развитии или в работе какие-либо органов, часто (4 раза в год) и длительно (25 дней) болеющие одним заболева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1143000" y="35812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, имеющие хронич.заболевания, редко обостряющиеся, без выраженного нарушения общего состояния и самочув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1219320" y="4495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 с хронич. заболеваниями, врожденными пороками развития, с нарушениями общего состояния и самочувствия после обострения хронич.заболеваний, с затяжным периодом выздор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219320" y="5791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ти и подростки с тяжелыми хронич. заболеваниями и со сниженными функциональными возмож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рест 21"/>
          <p:cNvSpPr/>
          <p:nvPr/>
        </p:nvSpPr>
        <p:spPr>
          <a:xfrm>
            <a:off x="228600" y="5791320"/>
            <a:ext cx="685800" cy="6094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5c92b5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424456"/>
                </a:solidFill>
                <a:uFillTx/>
                <a:latin typeface="Trebuchet MS"/>
              </a:rPr>
              <a:t>Здоровый образ жиз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Здоровый образ жизни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индивидуальная система поведения и привычек каждого отдельного человека, обеспечивающая ему необходимый уровень жизнедеятельности и здоровое долголет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 жизни должен меняться с возрастом, он должен быть обеспечен энергетически, предполагать укрепление здоровья, иметь свой распорядок и рит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В основе здорового образа жизни лежат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733920"/>
          <a:ext cx="9144000" cy="3124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Биологические принци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Социальные принци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247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пит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солнечный 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теп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двигательная а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уеди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игров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6664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эстет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нрав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присутствие волевого нач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способность к самоогранич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Users\Toshiba\Desktop\Проект ОБЖ\27082011_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rebuchet MS"/>
              </a:rPr>
              <a:t>Элементы ЗОЖ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876560" y="914400"/>
            <a:ext cx="4267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птимальный уровень двигательной актив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калив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ациональное пит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облюдение режима труда и отдых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Личная гигиена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егулярное прохождение медицинских осмотр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Экологически грамотное повед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сихическая и эмоциональная устойчиво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ексуальное воспит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каз от вредных привыче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езопасное поведени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Users\Toshiba\Desktop\0_65cae_e2a4cee9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34c22"/>
                </a:solidFill>
                <a:uFillTx/>
                <a:latin typeface="Trebuchet MS"/>
              </a:rPr>
              <a:t>Современные методы оздоро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16765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Совершенствование духов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Физическое совершенств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Дыхательные техники и их примене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Управление эмоция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Управление мысля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4c22"/>
                </a:solidFill>
                <a:latin typeface="Georgia"/>
              </a:rPr>
              <a:t>Биоэнергети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27:52Z</dcterms:created>
  <dc:creator>Toshiba</dc:creator>
  <dc:description/>
  <dc:language>en-US</dc:language>
  <cp:lastModifiedBy>User</cp:lastModifiedBy>
  <dcterms:modified xsi:type="dcterms:W3CDTF">2023-02-08T12:25:54Z</dcterms:modified>
  <cp:revision>83</cp:revision>
  <dc:subject/>
  <dc:title>Проект ПО ОБЖ на тему «Наркомания»</dc:title>
</cp:coreProperties>
</file>