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48B-87DA-4172-AC91-9ED5E22E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CFF-7698-458B-B430-AF62850F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EA0-089C-438D-A98C-AA5513EB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543-CE21-45EA-A024-C93458CF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5508-835D-4A36-8408-D2149B2E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CD64-14E5-4C65-B09F-89575079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94C9-F693-4F4D-A7F8-C74BCBC0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A833-72F6-41A7-8668-2798AEA6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759B-FB42-49B4-B331-89828415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6C10-8F5D-45C4-8FC4-42996E2C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9B58-9190-4D6B-8050-90284E0A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865-0D09-4512-811D-214AC8B9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AA7A-32A8-4664-A072-64AF03B8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DC81-751A-4FB5-93CB-1F9513DA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DDAF-7FEC-4614-AADE-A2A2D3A6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A23B-35E1-41AC-B309-CB89EC5D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0FAF-72D8-498B-BAEA-BFEDB0A6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16C-4BE0-41A0-AF66-C6CF1509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81B-7E6C-41F2-BC5C-8B489799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0CC-D996-434F-A406-0E3A8275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B1F-A1F1-4CCA-9040-C629745D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0396-914A-4ABC-910A-C48C3E1E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A2A-521D-4D9B-8CEF-359F1419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7CC-8EAD-494F-B511-E2A07BE0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88CE-6294-4825-B9A2-FD48679603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111E-174B-4629-85AF-52C5FC5DF8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3573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617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РЕДСТВА</a:t>
            </a:r>
            <a:br>
              <a:rPr sz="4400"/>
            </a:b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НДИВИДУАЛЬНОЙ</a:t>
            </a:r>
            <a:br>
              <a:rPr sz="4400"/>
            </a:b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АЩИТЫ НАСЕЛЕНИЯ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Гнездо 1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1 - шприц-тюбик с противоболевым средством (промедолом). Он применяется при ранениях, переломах и ожогах как противоболевое средство. Инъекция внутримышечна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звлеките шприц-тюбик из аптечки. Возьмитесь левой рукой за ребристый ободок, а правой - за корпус тюбика и энергичным вращательным движением поверните его до упора по ходу часовой стрелки. Затем снимите колпачок, защищающий иглу, и, держа шприц-тюбик иглой вверх, выдавите из него воздух до появления капли жидкости на кончике иглы. После этого, не касаясь иглы руками, введите ее в мягкие ткани бедра, руки или ягодицу и выдавите содержимое шприц-тюбика. Извлекайте иглу, не разжимая пальцев. В экстренных случаях укол можно сделать и через одежд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Гнезда 2, 3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2 - средство для предупреждения отравления фосфорорганическими ОВ (тарен) находится в круглом красном пенале. В пенале 6 таблеток. Принимают его по сигналу Химическая тревога - одну таблетку. Затем сразу же надевают противогаз. При появлении и нарастании признаков отравления следует принять еще одну таблетку. Повторно принимать препарат рекомендуется не ранее чем через 5-6 час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3 - противобактериальное средство ©2 (сульфади-метоксин) находится в большом круглом пенале без окраски (14 таблеток). Использовать его следует при желудочно-кишечном расстройстве, возникающем после облучения. В первые сутки принимают 7 таблеток (в один прием), а в последующие двое суток - по 4 таблетки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Гнезда 4, 5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4 - радиозащитное средство ©1 (цистамин) находится в двух восьмигранных пеналах по 6 таблеток в каждом. Этот препарат принимают по сигналу Радиационная опасность 6 таблеток в течение 30-40 минут, запивая водой. При новой угрозе облучения, но не ранее 4-5 часов после первого приема, рекомендуется принять еще 6 таблето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5 - противобактериальное средство ©1 (хлортетра-циклин) находится в двух одинаковых четырехгранных пеналах без окраски по 5 таблеток в каждом. Принимать его следует в случае применения противником бактериальных средств, при инфекционном заболевании, а также при ранениях и ожогах. Сначала принимают содержимое одного пенала (сразу 5 таблеток), а затем через 6 часов принимают содержимое другого пенала (также 5 таблеток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Гнездо 6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561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Гнездо 6 - радиозащитное средство ©2 (йодистый калий) находится в четырехгранном пенале белого цвета. В пенале 10 таблеток. Принимать его следует по одной таблетке ежедневно в течение 10 дней после выпадения радиоактивных осадков, при употреблении в пищу зараженного молока. Следует учитывать то, что радиозащитные вещества эффективны, если введены в организм за 30-60 минут перед облучением или принятием зараженной пищи и воды. Защитное их воздействие сохраняется в течение 5-6 часов с момента приема. При необходимости рекомендуется повторить прием таблето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086600" y="299736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Гнездо 7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964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7 - противорвотное средство (этаперазин) находится в круглом пенале голубого цвета в количестве 5 таблеток. Его принимают по одной таблетке сразу после облучения, а также при появлении тошноты после ушиба головы. Хорошим средством профилактики радиационных поражений являются различные адсорбенты: активированный уголь, сернистый барий и др., которые, вбирая в себя радиоактивные вещества, предотвращают распространение их в организме человека. </a:t>
            </a:r>
            <a:r>
              <a:rPr b="0" lang="ru-RU" sz="2100" spc="-1" strike="noStrike">
                <a:solidFill>
                  <a:srgbClr val="c13503"/>
                </a:solidFill>
                <a:latin typeface="Arial"/>
              </a:rPr>
              <a:t>Примечани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Детям до 8 лет на один прием давать 1/4 дозы взрослого, детям от 8 до 15 лет - 1/2 дозы взрослого из перечисленных средств, кроме радиозащитного средства 2 и противоболевого средства, которые даются в полной дозе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Виды аптече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87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птечка индивидуальная может быть выполнена в трех модификациях АИ-1, АИ-1М, АИ-2. Размеры аптечек индивидуальных АИ-1М, АИ-2 и их масса близки к данным аптечки АИ-1. Срок хранения каждой из аптечек – 3 года. В футляр каждой аптечки вложена инструкция по пользовани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921360" y="2781360"/>
            <a:ext cx="222264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Аптечка АИ-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птечка индивидуальная АИ-1 содержит шприц-тюбик с афином (для защиты от фосфорганических ОВ), шприц-тюбик с промедолом (противоболевое средство), два пенала с цистамином (для профилактики и лечения лучевой болезни), два пенала с тетрациклином (антибиотик) и пенал с этаперазином (противорвотное средство), размещенными в полиэтиленовом футляре массой 95 г и габаритными размерами 91х101х22 м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Аптечка АИ-1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течка индивидуальная АИ-1М имеет почти тот же набор лекарственных средств, что и АИ-1. Ее отличие от аптечки индивидуальной АИ-1 состоит в том, что для защиты от фосфорганических ОВ она содержит два шприц-тюбика с афином, а антибиотик тетрациклин заменен антибиотиком доксициклин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Аптечка  АИ-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561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став аптечки индивидуальной АИ-2 входят: шприц-тюбик с промедолом (противоболевое средство); пенал с антидотом тареном (для защиты от фосфорорганических ОВ); два пенала с хлортетрациклином (противобактериальное средство № 1) и пенал с сульфодиметоксином (противобактериальное средство № 2); два пенала с цистамином (радиозащитное средство № 1) и пенал с калием йодистым (радиозащитное средство № 2) для лечения и профилактики лучевой болезни; пенал с этаперазином (противорвотное средство), размещенными в полиэтиленовом футляр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877080" y="2859120"/>
            <a:ext cx="22669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Индивидуальный перевязочный паке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ндивидуальный перевязочный пакет состоит из бинта шириной 10 см и длиной 7 м и двух ватно-марлевых подушечек размером 17,5х32 см. Одна из подушечек пришита около начала бинта неподвижно, а другую можно передвигать по бинту для удобства наложения повязки. Свернутые подушечки и бинт завернуты в вощеную бумагу и вложены в герметичный чехол из прорезиненной ткани, целлофана или пергаментной бумаги. В пакете имеется булавка, на чехле указаны правила пользования пакетом. При вскрытии пакета нельзя нарушать стерильность поверхности подушечки, которой она прикладывается к ране или месту ожога. Руками можно трогать только поверхность подушечки, прошитую цветными нитка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Средства оказания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медицинской помощи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Применение индивидуального перевязочного пакет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6596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необширных поражениях подушечки следуют накладывать одна на другую, при сквозных ранениях подвижную подушечку следует переместить по бинту и закрыть вход в отверстие. На раненую поверхность (при сквозном отверстии – на входное и выходное отверстие) подушечки накладывают внутренней стороной. Окончив бинтование, конец бинта закрепляют булавко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наложении окклюзионной повязки сначала на рану накладывают кусок материала, не пропускающего воздух (клеенку, прорезиненную оболочку от ППМИ), затем стерильную салфетку или стерильный бинт в 3-4 слоя, далее слой ваты и туго забинтовывают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22222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Индивидуальный противохимический пакет ИПП-8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665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дивидуальный противохимический пакет ИПП-8 предназначен для обеззараживания капельно-жидких ОВ (отравляющих веществ), попавших на открытые участки тела, одежду, обувь и индивидуальные средства защи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12000" y="2637000"/>
            <a:ext cx="2808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остав ИПП-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акет состоит из стеклянного флакона с дегазирующим раствором и четырех ватно-марлевых тампонов. Важно бережно хранить пакет, чтобы не повредить стеклянный флакон с жидкостью. Когда необходимо, тампоны смачивают жидкостью из флакона и протирают зараженные участки. В первую очередь обеззараживаются открытые участки кожи, а затем края воротника и манжетов, средства индивидуальной защиты и снаряжение. Жидкость пакета ядовита - она не должна попасть в глаза. Если при обработке жидкостью появляется жжение, то нет необходимости волноваться: оно быстро исчезнет и не повлияет на самочувстви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газирующая жидкость способна убивать и микробов, т.е. обладает дезинфицирующими свойствами. Пакет может использоваться при заражении бактериальными средствами. Однако целевое назначение индивидуального противохимического пакета - это проведение частичной санитарной обработки при заражении отравляющими вещества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именение ИПП-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отсутствии ИПП-8 капельно-жидкие ОВ обезвреживаются раствором, приготовленным из одного литра 3%-ного раствора перекиси водорода и 30 г едкого натра. Едкий натр можно заменить силикатным клеем (150 г клея на 1 литр 3%-ной перекиси водорода). Способ применения раствора такой же, как и жидкости из ИПП-8. При обращении с сухим едким натром нужно следить, чтобы он не попал в глаза и на кож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ользовании ИПП-8 надо иметь в виду, что жидкость из него можно применять для обеззараживания ОВ, попавших на кожу, только у детей от 7 лет и старше; для обработки кожи у детей от 1,5 до 7 лет следует использовать щелочно-перекисную рецептур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Сумка медицинская санитарна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078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умка медицинская санитарная представляет собой совокупность предметов медицинского имущества, предназначенных для оказания первой медицинской помощи, находящихся в специальной таре (сумке), комплектуется различными видами перевязочного материала (бинтами марлевыми стерильными, салфетками стерильными малыми и большими, косынками медицинскими перевязочными); ватой гигроскопической и нестерильной в пачках; пакетами перевязочными медицинскими индивидуальными; жгутами кровоостанавливающими; 5 % раствором настойки йода в ампулах; ампулами с раствором аммиака и др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516720" y="278136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иды медикамен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медикамента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используемым при оказании первой медицинской помощи, относя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нтисептические средств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нтидоты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диозащитные средств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тивоболевые средства и д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Антисептические средств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иболее распространенными </a:t>
            </a:r>
            <a:r>
              <a:rPr b="0" lang="ru-RU" sz="2100" spc="-1" strike="noStrike">
                <a:solidFill>
                  <a:srgbClr val="669999"/>
                </a:solidFill>
                <a:latin typeface="Arial"/>
              </a:rPr>
              <a:t>антисептическими средств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являются: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5 % раствор йод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ым смазывают кожу вокруг ран и обеззараживают руки;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0,1 – 0,5 % раствор калия перманганат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применяемого для полоскания полости рта и промывания желудка при отравлениях фосфором, солями синильной кислоты, алкалоидами;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3 % раствор перекиси водород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для дезинфекции, очищения загрязненных ран, оказывает также кровоостанавливающее действие;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70 % раствор спирта этиловог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используется как обеззараживающее и раздражающее наружное средство и для согревающих компрессов;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фурацили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хлорами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хлорная извест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именяются как дезинфицирующее средств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Антидо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ля лечения поражений отравляющими веществами, попавшими в организм, используются противоядия – антидоты. </a:t>
            </a:r>
            <a:r>
              <a:rPr b="0" lang="en-US" sz="2100" spc="-1" strike="noStrike" u="sng">
                <a:solidFill>
                  <a:srgbClr val="669999"/>
                </a:solidFill>
                <a:uFillTx/>
                <a:latin typeface="Arial"/>
              </a:rPr>
              <a:t>Антидот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это лекарственные средства (медикаменты), обезвреживающие яд в организме путем химического или физико-химического взаимодействия с ядом в процессе физических или химических превращений, либо уменьшающие вызванные ядом патологические нарушения в организме.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мером антидота, действующего на основе физико-химического взаимодействия с ядом, является </a:t>
            </a:r>
            <a:r>
              <a:rPr b="0" lang="en-US" sz="2100" spc="-1" strike="noStrike">
                <a:solidFill>
                  <a:srgbClr val="008000"/>
                </a:solidFill>
                <a:latin typeface="Arial"/>
              </a:rPr>
              <a:t>активированный угол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100" spc="-1" strike="noStrike">
                <a:solidFill>
                  <a:srgbClr val="008000"/>
                </a:solidFill>
                <a:latin typeface="Arial"/>
              </a:rPr>
              <a:t>Перманганат кали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упомянутый как антисептическое средство, употребляется также в качестве антидота для обеззараживания яда путем химического взаимодействия с ним в организм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иды антидо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оказании первой медицинской помощи используют </a:t>
            </a:r>
            <a:r>
              <a:rPr b="0" lang="ru-RU" sz="2100" spc="-1" strike="noStrike">
                <a:solidFill>
                  <a:srgbClr val="669999"/>
                </a:solidFill>
                <a:latin typeface="Arial"/>
              </a:rPr>
              <a:t>антидот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В качестве антидотов при химических поражениях применяют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) Зарином, зоманом - вводимый подкожно или внутримышечно атропин, афин или будаксин из шприц-тюбика однократного или многократного использования, входящие в состав в аптечки индивидуальной АИ-1 (АИ-1М), вместо них принимают 1-2 таблетки тарена из гнезда №2 аптечки АИ-2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) Азотистыми ипритами, ипритом, люизитом – капли и аэрозоли, попавшие на кожу, удаляют ватным тампоном и обрабатывают эти места раствором из ИПП-8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) синильной кислотой, бромцеаном и хлорцеаном – раздавливают ампулу с амилнитритом и вводят под противогаз или подносят к носу (рту), при этом рекомендуют использовать не более 2-х ампу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начение антидо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менение антидотов существенно сокращает период выздоровления пораженных. Профилактическое использование антидотов в комплексе со средствами индивидуальной защиты повышает защищенность человека от АХОВ (аварийными химически опасными веществами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Медицинское имуще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оказании различных видов медицинской помощи используется медицинское имущество. </a:t>
            </a:r>
            <a:r>
              <a:rPr b="0" lang="en-US" sz="2600" spc="-1" strike="noStrike" u="sng">
                <a:solidFill>
                  <a:srgbClr val="669999"/>
                </a:solidFill>
                <a:uFillTx/>
                <a:latin typeface="Arial"/>
              </a:rPr>
              <a:t>Медицинское имуществ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это совокупность специальных материальных средств, предназначенных для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казания медицинской помощ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явления (диагностики), леч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филактики поражений и заболевани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ведения санитарно – гигиенических и противоэпидемических мероприяти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орудования медицинских учреждений и медицинских формирова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диозащитные сред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бую группу медикаментов, применяемых при оказании первой медицинской помощи, составляют радиозащитные средства (их называют также противолучевые средства, радиопротекторы). </a:t>
            </a:r>
            <a:r>
              <a:rPr b="0" lang="ru-RU" sz="2600" spc="-1" strike="noStrike" u="sng">
                <a:solidFill>
                  <a:srgbClr val="cccc00"/>
                </a:solidFill>
                <a:uFillTx/>
                <a:latin typeface="Arial"/>
              </a:rPr>
              <a:t>Радиозащитные средств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это лекарственные средства, повышающие устойчивость организма к действию ионизирующего излучения, они применяются для профилактики радиационных поражений и лучевой болезни. Например, меркамина гидрохлорид, цистамина гидрохлорид, мексамин, батило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ручные сред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Подручным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являются средства, которые используются для оказания медицинской помощи при отсутствии табельных, и обеспечивают их замену. К ним относятся некоторые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лекарственные растени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тка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белье для перевязо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ри ранах и ожогах;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брючные рем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пояс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платк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шарф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которые могут быть использованы для остановки артериального кровотечения вместо жгута;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фанерные полоск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доск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палк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 другие предметы, применяемые вместо шин и т.д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ручные средства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РОВООСТАНАВЛИВАЮЩИЙ ЖГУТ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ясной ремень, галстук, косынка, шарф, кашне, лента для бан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емешок сумочки, ранца, школьного портфел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Шнур электробритвы, аудио и видеоаппаратуры, оргтехни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бшлаг верхней одежды, тканевой шов юбки и брюк, свернутый скотч, полиэтил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еревки, кабели, провода, проволока, тросы, кана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стяжки, стропы, фалы, шнур от куртки (ветровки) рюкзака, палат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ХИРУРГИЧЕСКИЙ ИНСТРУМЕНТ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аникюрный набор, лезвия, извлеченные из станков для бритья, перочинный нож. Зубочистка, шило, соломинка для коктейля, стебли камыша, тростника, бамбу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ручные средства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ЕРЕВЯЗОЧНЫЕ СРЕДСТВ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ижнее и верхнее белье, рубашки, платья разорвать на лоску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остыни, наволочки, полотенца, флаги, транспаранты, парус, палат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Запас гигиенических средств: вата, носовые платки и д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ЕЗИНФЕКЦИЯ РАН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лкогольные напитки, одеколон, духи, туалетная в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скаленное лезвие ножа, металлической обшивки, съемных деталей, проволо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ЕЗИНФЕКЦИЯ ИНСТРУМЕНТОВ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гонь, кипяток, алкогол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ручные средства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ТРАВМЕ ПОЗВОНОЧНИК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бор, доски, фанера, штакетник, панели ПВХ, пластик, постформинг, крышка стола, шкафа, снятая с петель дверь, листы жести, более толстого металла, плоский шифер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ПЕРЕЛОМ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йки, палки, штакетник, ветви, пучки стеблей, прутья, проволока, армату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исты пластика, картон, фанера, плотно скатанная одежда, трость, зонтик, лыж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ожка, вилка, лезвие ножа, пилка для ног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апки, файлы, дискеты, коробки компакт дис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лом нижней конечности - привязать (прибинтовать) поврежденную ногу к здорово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лом верхней конечности - привязать поврежденную руку к туловищ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ручные средства 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ЛЯ НОСИЛОК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ставить палки (ветви, лыжи, весла и т.п.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рукава нескольких курток, ветровок, пиджаков, свитеров, смокингов, пальто, плаща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юбку или платье из плотной ткани, чехол сидения машины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отверстия спального мешка, фрагмента парус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ПАСАТЕЛЬНЫЙ КРУГ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лиэтиленовые пакеты и сумки, кусок парусины свернутой в мешо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устые пластиковые бутылки, канистры, емкости, обломки пенопл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уртка, застегнутая до подбородка на молнию (откинуться на спину и хлопающими движениями нижним краем куртки по воде, наполнить ее воздухом; опустить нижний край под воду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Виды медицинского имуществ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 медицинскому имуществу относятся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лекарственные средств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ммунобиологические препарат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еревязочные средств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езинфекционные, дератизационные и дезинсекционные средств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шовный материал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едметы ухода за больным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едицинская техник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химические реактивы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лекарственное растительное сырье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инеральные вод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медицинского имущества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, используемого для оказания первой медицинской помощи в зонах поражения, должны входить только такие специальные материальные средства, которые являются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компактным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малогабаритным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не требующими источников энергообеспече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всегда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готовые к использовани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Виды средств оказания ПМП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пециальными медицинскими средствами являются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табельны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подручные средств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казания первой медицинской помощ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Табельные сред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736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Табельными средствам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оказания медицинской помощи являются </a:t>
            </a:r>
            <a:r>
              <a:rPr b="0" lang="en-US" sz="2600" spc="-1" strike="noStrike" u="sng">
                <a:solidFill>
                  <a:srgbClr val="008000"/>
                </a:solidFill>
                <a:uFillTx/>
                <a:latin typeface="Arial"/>
              </a:rPr>
              <a:t>медикамент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8000"/>
                </a:solidFill>
                <a:uFillTx/>
                <a:latin typeface="Arial"/>
              </a:rPr>
              <a:t>перевязочные средст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8000"/>
                </a:solidFill>
                <a:uFillTx/>
                <a:latin typeface="Arial"/>
              </a:rPr>
              <a:t>кровоостанавливающие жгут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8000"/>
                </a:solidFill>
                <a:uFillTx/>
                <a:latin typeface="Arial"/>
              </a:rPr>
              <a:t>шины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ля иммобилизации. Ими обеспечиваются, в соответствии с табелями оснащения, пункты медицинских спасательных центров, а также спасатели спасательных центров, медицинские формирования Всероссийской службы медицины катаст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Виды табельных средст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629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табельным средства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предназначенным для оказания первой медицинской помощи, относятся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аптечка индивидуальна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пакет перевязочны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медицинский индивидуальны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пакет противохимически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ндивидуальны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сумка медицинская санитарна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 др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3203640" cy="244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802560" y="4149720"/>
            <a:ext cx="234144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Аптечка индивидуальна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491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птечка индивидуальная представляет собой набор лекарственных средств для оказания самопомощи и взаимопомощи при ранениях, переломах и ожогах (для снятия боли) и предупреждения или ослабления поражения фосфорорганическими ОВ, бактериальными средствами и радиоактивными веществами. Аптечка представляет собой футляр из пластика размером 90х100х20 мм, массой 130 г, в который вложены пластмассовые тюбики и пеналы с препаратами. Препараты вложены в семь гнезд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948360" y="2781360"/>
            <a:ext cx="19908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2:17:29Z</dcterms:created>
  <dc:creator>OEM</dc:creator>
  <dc:description/>
  <dc:language>en-US</dc:language>
  <cp:lastModifiedBy>User</cp:lastModifiedBy>
  <dcterms:modified xsi:type="dcterms:W3CDTF">2023-02-08T12:06:07Z</dcterms:modified>
  <cp:revision>16</cp:revision>
  <dc:subject/>
  <dc:title>СРЕДСТВА ИНДИВИДУАЛЬНОЙ ЗАЩИТЫ НАСЕЛЕНИЯ </dc:title>
</cp:coreProperties>
</file>