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EEB-59F9-4645-8193-40DAE473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306-DB51-4D7E-A6F3-73B3115C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C36B4-EFE1-4C54-9B5A-C21D983F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D8B42-6E59-4E6D-AFA5-FFD6EA3F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E0610-DDF1-4F32-8A22-3DF48191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5C6ED-A326-461A-AAEC-9E661EF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B2588-C21C-44F4-B930-992763A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1C5C0-3EB1-4EAB-B4C9-42022D1E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21C5A-4D5A-48C4-8817-D96C75D4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BE868-E7C9-4798-9B65-77E40D8E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228F0-DACB-47F5-B1CA-F7422BCF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0D610-C5A2-4C77-A282-46276429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952-58C4-4E12-8D4F-B339CF63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477EC-1FD4-4429-A2D2-4AB5A867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CB141-4FF7-434A-A68C-2DB784B6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057F4-A46A-46B5-9D78-14286A1C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BA9E4-D078-48DE-91E5-C8F59ABC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6D657-05DB-40AC-8B3B-C9F996C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8019F-E6E4-481C-B587-57E4EAA6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F2D8F-89C5-4B89-860C-605FF5F9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A2BA1-95D8-4AC0-9FB0-C01C7D7A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9EF2C-C975-40BE-B234-EA37C9EC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FD17B-3192-4419-8FA2-35EE2F59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628-1D5A-4F48-967F-0FFF3400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B7B03-C4F1-4A25-8D09-8BF66617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556A0-5586-4981-A9E5-67342BB1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C453A-0051-4D98-B0C8-9E09CB9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DB217-7FD8-4B7E-8896-D80B4E32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9F666-BA56-40B6-B9A7-2D173EA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3400C-8E17-410E-B2F6-07171FC2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A9EF3-F908-4ECD-B8CE-8A70EB90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1BE61-659A-4F2C-BF4C-26E0E88D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25AEA-18CA-4CCC-9B33-337BD29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688F3-F167-4E51-9BDB-1D56EFE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D13E-F09E-4CFA-8B59-3EFDC37B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C73B8-D961-440B-A125-1F79333D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0C7C0-8A79-4F33-9868-3C8BF962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F849D-C166-43E5-9619-0ADCE604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BEAB0-4A63-4038-AD2D-C45D86F6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64F07-6562-4695-A29E-0FE8FFF5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968CB-0F6A-436D-841A-FF58C51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96736-0640-4A81-B6BD-51363D5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AD728-AB28-4208-B1DA-8F32A3C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A55B0-5D93-4FDE-A979-653736D3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F3804-E0F6-4757-8115-AFB059A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6772-3A7E-4147-940D-104C64A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1EE88-500F-45F4-9AAE-CC2FBA1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9CAE9-EFF7-4D3A-B833-C45C3C2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7BEC0-A6FF-4253-9EF3-A01A3C70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654BF-E32F-419F-8314-9575AA41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C5F9C-AB94-4A9C-B547-CBA997E9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C81AA-6AEB-497F-A331-30CAFD32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B0ED2-0F4B-4579-B4F7-FB26E06F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489D4-217E-4CF2-BA73-222BDE70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5F709-0E87-45F0-B2BA-C78679DF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AF209-AB4E-4029-B821-22F7200C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627A-44B4-4DB5-AE40-2F14CB3A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72D95-77A7-4E87-83DA-0EE7950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C617C-F355-4B07-AB8A-933E263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42C99-729E-4645-B840-2CCE37C8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3CE98-2C31-48AD-A3DF-B9C3E86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58686-4306-42CD-B6DD-9EF7BAF8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CD186-DF9C-40A7-8F05-814D486F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7A2A9-0BC9-4E46-BA18-B51EF1D4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CEB0A-1021-414D-9D2E-5A6DE650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CB74F-821B-410E-B456-2ECC8A87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54E96-0D85-423C-9E50-20E9B9D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8F78-3B42-48F1-9C6D-DE4296FC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5ACD3-B4FB-43BA-ACDE-2675E886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DAB0E-D18F-46E0-A775-F434C7C8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27715-0AC2-441C-92F3-B2C307AD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3CF91-61BA-4B6B-8219-1F3E4567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B0AEC-ECC6-4AA4-8C02-D96DF76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18910-007C-47F5-9A15-8B76E0B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34384-0137-4197-91F8-049B0526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8727F-E374-47F0-B1A1-C7F5A733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5609E-BBD8-42B1-AE22-68BBCA3A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6995D-0CC7-4658-A766-E2E7D430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5618-B3DB-4320-803D-75D0D3F8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B63C4-84FA-4F68-B9C8-5E48B30E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18BEF-E606-444A-845A-F05C3351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2D656-0D44-4837-AB51-9E36748B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F8A29-595F-4380-98A4-D96A11D6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977D1-5967-4BD7-A22D-7E26D1DE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9390E-F389-4A70-A16E-4DB23B2A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D3617-E68E-4D53-8CEC-53C95DD0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86E59-288E-47AB-B5B4-C4FA5DB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7DE9A-EF32-4452-8626-4F40230E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F63FF-79E8-4E59-8A11-C541C6E8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34F9-E02C-46F5-9FEA-2807CF65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82856-82BD-40C3-B6DF-F696EFB4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5821B-7151-4019-9B05-A0690C27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B41C2-56BD-4C90-84B8-9C825DF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02CB3-F6D2-487A-BE13-DEA13032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B34B5-5A61-4188-A096-0739BBF6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E5877-3522-4522-BE40-96D49AB7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49DAF-7DA0-4228-801A-F93B9B3D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87142-583F-41B8-91B3-BAEF0CE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7D3E2-1061-4537-8FCD-C1219FF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1A6B7-EA61-4608-9A78-52C8F1C8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414B-567E-4906-9219-6B51257F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60769-BAE1-4470-BA7C-8153251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ED476-5BD5-4547-9E85-99678C24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273B6-BDEA-4100-9958-3D442A0E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24BE8-1D24-43E4-9D4B-6339C4E7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A7D0E-A96A-437C-A054-22F9543B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7D611-9836-478E-B743-4BED25C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3215A-8C7D-4258-9B32-E45C0B07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E5641-F891-4A9D-88F8-DCD3E75E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304C5-3E13-440F-8B70-121A2AA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8175A-4BD2-424D-A5A1-2307E3DF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907-184F-4EA6-A316-9C964EA0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6179-A420-4EB2-A2C5-0B237D3B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2D100-FBD3-4EB2-83AD-4D336F3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C6E9F-D007-49FF-8796-8C561112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BE730-3A9E-4F59-B32F-DF55D5A1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EE1D1-7365-4513-ABBC-F3869D7D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C1B5A-B362-478C-885B-9B400F95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42FA-9D9A-4ACC-9358-509FB839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CB25-3EA6-4B43-B54D-566076A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7CE7-601B-4FEF-A74D-16DAE847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0631-C1B9-49C6-9659-A2DCF7DE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EA8A-7F1C-45CB-8ABE-6ECAC768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3EA6-F45E-498B-BA0E-5160BFAD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6660-078B-4558-9B0B-250D73B7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1344-0A1E-458F-899B-6C9D47A4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EC2B-FAA6-4F77-B003-BB1EF619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27C-B623-4907-BF43-C666118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DD79-1863-45E0-9FCE-BD89E5CE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EE8A-63FA-4ED2-968F-C597DC6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5F5F-2BDF-4527-86F4-2283698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1F3E-2C1D-48B8-B811-3CD48B8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228C-D78D-4A23-8C0D-6422137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F30A-2EBF-49FE-9764-E5F44B10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B8E7-61E8-42E4-803E-92AE0593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0287-8930-43B4-B7DB-3F9CC282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7288-E060-4495-9A75-49605F42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FB6FD-00AE-4235-8460-38B6ADC0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A17-92A4-44F3-B485-0152BE34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3865-8D50-4D76-AA92-31E6A92F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7465-422A-4FD9-AA52-AFDED4B3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E9204-F2CA-4F3A-8D7B-4732394B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F950-240E-4C88-B806-D5570534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7E5B-AE8A-4A16-AC8D-1248A270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DF23-9EC2-4744-8E3C-A96381A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1E4E-9D2A-4F86-AE42-D854D25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7898-87A3-405A-8847-5C80260D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7225-BB99-4932-9AE2-9E58FAAE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FA97-59EF-4DFF-9A19-3721FBA7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357-C645-4409-8829-D9D09F5C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AC83-BE19-4832-A8FE-522C7CF5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4B19-0FFE-43F8-AFC0-B164FE07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6371-0C2C-4AD6-AA0E-531DD8E3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791F-2DAE-4694-A5BE-635A2737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A03BD-106B-442A-94A2-E992C45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B1AA7-5300-471D-BDF5-3883DFF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EBB3-9A72-4D9B-8502-9A28B81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2CA23-0A31-4BB0-966A-84D036BD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5A11E-2092-4CFA-847B-1E347423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B7BC-30BE-45C7-9397-0696B7A3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B83-E069-4A0F-97B1-338C63F1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7B45E-88FC-4D7A-96E7-14379F9D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DBE3-1B48-4324-8F83-45313577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C91B0-6F41-4CC9-958B-40E83C5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8811-F787-42D3-89C0-EC8126E9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F9CF-2F07-40BA-8882-5F0D8FDF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E1AAC-82DF-47F8-86D6-69256B65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96E6-2061-488D-B569-B2356EFE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C7608-EFC5-47EC-9E4F-B7F1543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1423-1679-4F42-A424-49CF78A2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8847F-F2C7-42D3-8D85-676F713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A88-304C-4FF1-A644-A606C315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E6AF-31CD-496A-8115-A43126F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AC42-8F07-4591-82F3-6FAB19F7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F0035-2702-47D9-8647-29F3E920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85F4-C213-49F8-9283-3884A15E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EF488-3696-4F4D-9C51-43ED651E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2D41-AB97-4E5C-A089-39C7887A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06C54-3240-4072-9CF5-8D4526A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57291-FED3-4308-8B40-DEB4C701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AC07-41E2-457C-82B5-5C218D00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1BF7-E9DD-4C6C-9467-FE3D9E77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FEA-B688-4239-9B2C-9182CDE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44B9-C679-422F-8C8D-2F19388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BB4BC-F6F7-4F16-8B25-F8B43F48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62C8D-BF44-4E27-87B6-B179BEA1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577A-F1E0-43D7-8755-295DD887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EE18F-EECC-49FF-96F7-9A679D90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42DCF-2973-4F92-B1F3-9C452C10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DD732-5886-42A7-A702-17F14913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34715-567C-4104-B65D-3F6CD485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0B94B-0277-40BA-8CDF-C53A5F1C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6CEF3-9EDB-40C2-81D5-7F76D855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5ED-B51E-49DC-8EB0-404A137F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C8FED-AD48-417F-B4ED-B3D1D88C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2051F-A563-4CF4-A8F1-6B407ED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A1CE3-8987-47E6-AF5F-CA64230C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DC586-5E73-4BD5-9E86-35B32ED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CAFA3-E9F5-44A1-B53C-70F8E9E7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09CD4-8723-47E4-9E1F-D5F76CE8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14300-5527-47E0-90C6-88C15AAB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C172B-24A6-4666-A21F-B8272984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2A903-A9F5-4E52-BED5-94245D77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E7DF7-8E6B-43EA-9612-2BF641F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38F2-5A60-48AB-9BEE-6A767C1393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69C1-7B4E-4DE5-8D3B-5AE74C659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2FC-CAC9-4DB6-810B-9D171E5B48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6C6-825A-4EAA-9CEB-C216941121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880F-A611-4F34-B5DF-90DB95102C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409E-542C-462E-BA56-0C212B8EA3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13A-ECCB-4D6A-9837-F8E6C18836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827C-575F-4070-9CD2-13D59B89E1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7F8B-FE54-4A9C-BDF2-F86BB35B57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589D-FDCD-47B3-A897-DBDFA53A64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CDDC-9532-45F4-9482-70CFFE6D6A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F71-CDED-4DF4-A4E5-45C6913FA8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7097-EAB0-439B-919B-C5A3FE111D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D283-05AD-4100-A84B-98B8C05B88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950-793C-4FD6-9940-022C060F31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27B1-3C33-4CCC-96C6-BB38AC5B3F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91FD-C84B-4D45-BDB5-9BFA6AB2FA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3" descr="лечение открытого пневмотаракса"/>
          <p:cNvPicPr/>
          <p:nvPr/>
        </p:nvPicPr>
        <p:blipFill>
          <a:blip r:embed="rId1"/>
          <a:srcRect l="-1322" t="19988" r="0" b="31670"/>
          <a:stretch/>
        </p:blipFill>
        <p:spPr>
          <a:xfrm>
            <a:off x="611280" y="1349280"/>
            <a:ext cx="7850160" cy="550872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мощь при проникающей или открытой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5"/>
          <p:cNvSpPr/>
          <p:nvPr/>
        </p:nvSpPr>
        <p:spPr>
          <a:xfrm>
            <a:off x="285840" y="3643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21420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д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проникающая или закрытая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множественных переломах ребер жизненная ёмкость легких уменьшается за счет уменьшения подвижности грудной клетки и лег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тсутствии нарушения каркаса грудной клетки могут отмечаться признаки повреждения внутренних органов    (скопление воздуха и/или  крови в плевральной пол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" descr="нестабильная грудная клетка"/>
          <p:cNvPicPr/>
          <p:nvPr/>
        </p:nvPicPr>
        <p:blipFill>
          <a:blip r:embed="rId1"/>
          <a:stretch/>
        </p:blipFill>
        <p:spPr>
          <a:xfrm>
            <a:off x="468360" y="1125360"/>
            <a:ext cx="8209080" cy="539928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множественных переломах реб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мощь при множественных переломах костей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сте повреждения наклеить полоски лейкопл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3" descr="нестабильная грудная клетка"/>
          <p:cNvPicPr/>
          <p:nvPr/>
        </p:nvPicPr>
        <p:blipFill>
          <a:blip r:embed="rId1"/>
          <a:srcRect l="2634" t="7999" r="34235" b="1328"/>
          <a:stretch/>
        </p:blipFill>
        <p:spPr>
          <a:xfrm>
            <a:off x="3995640" y="1484280"/>
            <a:ext cx="5148360" cy="513576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11"/>
          <p:cNvSpPr/>
          <p:nvPr/>
        </p:nvSpPr>
        <p:spPr>
          <a:xfrm rot="2034000">
            <a:off x="4787640" y="321264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 rot="2034000">
            <a:off x="4716000" y="357300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 rot="2034000">
            <a:off x="4642920" y="393336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 rot="2034000">
            <a:off x="4572000" y="4436640"/>
            <a:ext cx="151272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18"/>
          <p:cNvSpPr/>
          <p:nvPr/>
        </p:nvSpPr>
        <p:spPr>
          <a:xfrm rot="2034000">
            <a:off x="4571640" y="4941360"/>
            <a:ext cx="1440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19"/>
          <p:cNvSpPr/>
          <p:nvPr/>
        </p:nvSpPr>
        <p:spPr>
          <a:xfrm rot="19806600">
            <a:off x="4642920" y="357336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20"/>
          <p:cNvSpPr/>
          <p:nvPr/>
        </p:nvSpPr>
        <p:spPr>
          <a:xfrm rot="19804200">
            <a:off x="4571640" y="4076280"/>
            <a:ext cx="151272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21"/>
          <p:cNvSpPr/>
          <p:nvPr/>
        </p:nvSpPr>
        <p:spPr>
          <a:xfrm rot="19951800">
            <a:off x="4500360" y="458136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2"/>
          <p:cNvSpPr/>
          <p:nvPr/>
        </p:nvSpPr>
        <p:spPr>
          <a:xfrm rot="20101800">
            <a:off x="4572000" y="494172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5"/>
          <p:cNvSpPr/>
          <p:nvPr/>
        </p:nvSpPr>
        <p:spPr>
          <a:xfrm rot="19806600">
            <a:off x="4571640" y="321300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рвая помощь при травме гру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звать скорую медицинскую 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рыть рану стерильной ватно-марлевой повязкой не закрепляя нижний кр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сли рана отсутствует – лейкопластырную повязку на болезненное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ложить на повреждённый бок с возвышенной верхней частью тулови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допускать переохлаждения пострадав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ыть готовым к сердечно-легочной реани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 ДТ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108000" y="1557360"/>
            <a:ext cx="57592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ТП травма груди возникает, как прави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рямого механического воздействия на грудную клетку, приводящего к переломам рёб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органы травмируются костными отломками или распространяющейся кинетической энергией уда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 7" descr="DPP_1577"/>
          <p:cNvPicPr/>
          <p:nvPr/>
        </p:nvPicPr>
        <p:blipFill>
          <a:blip r:embed="rId1"/>
          <a:stretch/>
        </p:blipFill>
        <p:spPr>
          <a:xfrm>
            <a:off x="5651640" y="2205000"/>
            <a:ext cx="3020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 ДТ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95280" y="2133720"/>
            <a:ext cx="82296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реждения чаще возника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ре грудной клеткой о  рулевое коле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ре пассажиров, если они не пристегнуты ремнями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толкновении  транспортных средств на большой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аезде на пеше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реждения о рулевое коле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6" descr="тело об рулевое колесо"/>
          <p:cNvPicPr/>
          <p:nvPr/>
        </p:nvPicPr>
        <p:blipFill>
          <a:blip r:embed="rId1"/>
          <a:srcRect l="26101" t="33751" r="25403" b="34878"/>
          <a:stretch/>
        </p:blipFill>
        <p:spPr>
          <a:xfrm>
            <a:off x="4643280" y="1773360"/>
            <a:ext cx="4105440" cy="43210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7" descr="ударился о руль"/>
          <p:cNvPicPr/>
          <p:nvPr/>
        </p:nvPicPr>
        <p:blipFill>
          <a:blip r:embed="rId2"/>
          <a:stretch/>
        </p:blipFill>
        <p:spPr>
          <a:xfrm>
            <a:off x="395280" y="1773360"/>
            <a:ext cx="4248000" cy="4319640"/>
          </a:xfrm>
          <a:prstGeom prst="rect">
            <a:avLst/>
          </a:prstGeom>
          <a:ln w="0">
            <a:noFill/>
          </a:ln>
        </p:spPr>
      </p:pic>
      <p:sp>
        <p:nvSpPr>
          <p:cNvPr id="786" name="Заголовок 1"/>
          <p:cNvSpPr/>
          <p:nvPr/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24000" y="1412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травме грудной клетк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ается  целостность костного каркаса (переломы ребер, грудины).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режда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е органы (легкие, сердц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ухоносные пути и кровеносные сосу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ые мышцы (диафраг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Заголовок 1"/>
          <p:cNvSpPr/>
          <p:nvPr/>
        </p:nvSpPr>
        <p:spPr>
          <a:xfrm>
            <a:off x="428760" y="35712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900000" y="522936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ые  признаки травмы грудной клетки – боль и дыхательная недостато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дыхательной недостаточ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897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ение сидя или полуси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мное, частое, прерывистое, поверхностное 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юшный цвет 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4" descr="Изображение 400"/>
          <p:cNvPicPr/>
          <p:nvPr/>
        </p:nvPicPr>
        <p:blipFill>
          <a:blip r:embed="rId1"/>
          <a:stretch/>
        </p:blipFill>
        <p:spPr>
          <a:xfrm>
            <a:off x="5292720" y="1628640"/>
            <a:ext cx="35272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28760" y="164268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никающая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рыт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имеется сообщение через рану между органами грудной клетки и окружающей сре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никающая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ыт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отсутствуют проникающие ранения в области грудной клет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у пострадавших в ДТП отмечается закрытая травма грудной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Заголовок 1"/>
          <p:cNvSpPr/>
          <p:nvPr/>
        </p:nvSpPr>
        <p:spPr>
          <a:xfrm>
            <a:off x="428760" y="35712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никающая или открытая травма грудной кле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раны в области грудной кл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ыхании через рану может циркулировать воздух (на выдохе появляется кровавая пен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целостности плевральной полости приводит к скоплению в ней воздуха и спадению легкого на стороне повреждения, что уменьшает количество поступающего кислорода в организм пострадавш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ание воздуха в плевральную полость называется пневмоторак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3" descr="открытый пневмоторакс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51688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никающая или открытая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2987640" y="1557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3564000" y="213372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7596360" y="206064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6948360" y="1557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4:39:55Z</dcterms:created>
  <dc:creator>АВЛ</dc:creator>
  <dc:description/>
  <dc:language>en-US</dc:language>
  <cp:lastModifiedBy>пользователь</cp:lastModifiedBy>
  <dcterms:modified xsi:type="dcterms:W3CDTF">2012-03-30T08:20:05Z</dcterms:modified>
  <cp:revision>173</cp:revision>
  <dc:subject/>
  <dc:title>Дорожно-транспортные проишествия</dc:title>
</cp:coreProperties>
</file>