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B0A-AD42-464A-9D13-427F736F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11B-E184-482C-BAEC-BB29552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8C2D-AD13-405A-A51A-786E784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8A95-BD8F-478A-BD14-47FDEBF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0738-D2F0-40F2-B958-F609754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7B12A-A279-4665-89F6-2B27748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78890-495E-4D78-8E4A-D09B270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36075-4373-4553-94F5-CF6EAFB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65E73-151B-49BD-8847-4262B064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6FF3C-0E89-4E91-8749-68A02BF7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28A82-51F4-4EB0-AFF7-8152CCF2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AB53-677B-40CD-A4E2-EBDFCB81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764-4863-4B3C-A5C1-BFE68206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B1A16-B71C-4786-8F10-312B263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011EA-8340-4791-AFE1-E5DED42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42EF0-624D-4E2A-B0DF-DA16599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431D-E1D1-4D82-8C49-9AF99C5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F0541-BDF3-4C08-9100-594689D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C72D1-7015-4D14-B4C9-D22152C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D6551-D11C-4B66-AFBC-14C382D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8C6A8-DD55-4B36-826B-EABE0D0D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B9C95-D99C-440B-ABB3-00B35BD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52F75-7018-4162-BB60-3C1BE7C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6C8-63FC-4FEE-969E-99EDED16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AB3AA-7CDE-4C79-8908-3FD78E2C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D45FA-32E6-4F4A-9D70-2C64736B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76E84-3FB9-497F-BFF9-775DF8E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2A66E-BEE8-4401-9AE1-189143E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3B7B9-E7E6-4310-81B5-9060393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6548F-9A43-4B99-B57E-BF7B9B9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755B5-B4D5-4DFF-B5F5-464A740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7284-A7BB-4E04-BD86-BE8A440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CA9D-78BE-4AA4-8AA9-2B12135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4AA3A-0ECC-46AA-B3C8-1930C93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1B6-0A8E-4C06-8DFA-9F86425B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5D43B-C8FB-4B46-B441-E2CBE29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D6CFE-048F-4CF0-922D-65C4108E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0724-40DA-4E25-AFE6-69916659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DBFFF-EDDB-4D93-AA5E-D974AEB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235CC-A4B2-4261-872E-59BE0BEC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F1E7-3632-4F26-B8C7-A0C53B7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7CD8E-BBF5-4591-B2B5-A84416E5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EBA7-C9A1-4477-8AB3-CFF7A75A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07FEA-2C07-4A77-920B-E91DB735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37AC-1857-439B-BBA5-58C484C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62FC-8DF3-4677-A8F1-EB96ED1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19A75-7D6B-4940-AE57-A7EBE0F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7E1AB-77D6-4731-A3BA-B891BF6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C607F-E904-43B7-B090-EB18EBB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E0D6-14AC-4A82-98FB-CDF50965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1B266-19F9-4BAC-8CAC-A3DE88D4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254C6-9079-47D7-AB66-36F32BB6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C1559-D995-4765-B2B3-CF5196C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AAFAA-AFC4-4F53-B0EA-8441DC7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9291A-F131-4DB9-87AA-9A12B67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3152D-029D-4A16-AD68-73D03E0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333A-BF0E-44FA-B917-097AECD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1BEFB-8CA8-49A7-9D03-E2B867C5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75931-2AA6-4238-BBF6-4D45115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CD0C8-83D7-42DC-9F60-BC8BB39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70075-81B1-4B12-AD94-6B38FE1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6CF57-D9FF-4AB6-A064-5AC150D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680D1-2272-4F00-B3D2-410F2D47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F3D52-7F9C-4FA9-BD93-47C84900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586BA-F799-4660-8625-5751FAF9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3EB91-BE35-4BFC-B84C-792BC35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D9ABB-48F9-40DB-B258-52BE8E7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B99-899B-4A52-B1F3-F5C88AE0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975DC-975D-4D02-A1C6-8404C43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27822-1B40-4260-AECA-385E075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D69A2-6E62-428A-8353-6E67D2A0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BDE69-3590-4CC1-88E7-77A2C5E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D996B-6203-4B23-91F4-CDE6AE5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3FA57-EB50-43C0-8617-CB27E70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56682-1C45-4783-8A3F-5E529DB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55554-D43C-4672-8F5C-F7AAE79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446C4-6FDB-479D-BB8C-F2F2EBD8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606A5-68A8-4FCE-B701-4958CF6C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14C-DCC6-4839-9F22-EFEB989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D0ECD-CE30-47B3-9B62-45828EA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55D89-0065-44B6-B8F9-1AF62951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97434-1547-4E77-9C62-6C4A47F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9F4F1-726E-47B6-94B5-76787627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DC4D0-C720-4328-B350-06F3D66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DDDE6-8D18-44F4-B318-E1308FF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ABDD8-D795-4C63-AF1C-7ACA713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FE900-4C49-4266-B2DE-70FC502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187DA-AB14-4927-84A2-FF048E1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5FE7C-2FF1-44B0-8664-E8F85AB6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1D4-55A4-4C76-9F9C-845B69D2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D9398-DAC8-45A6-BB2B-DA556282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036B7-139E-48B3-B6E3-4E53FA08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6C04D-B949-4BB1-AAB8-A290FE2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3DDF4-5551-4290-ACA7-3F175CB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553A2-457F-496D-A132-528270DD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825C9-62CC-46A1-9A8F-048A4C3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99C22-13C1-4FA1-B3BF-1AB97BFD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8D49F-C3CE-41A9-A62A-9B7FCEF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9F2CC-1439-4E52-8070-659234A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1E5AF-583B-4047-9B46-D5B1CA0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2C18-57A3-437F-982D-13599DE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E8FD7-FCA6-4028-80FC-84BE96C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82A5F-E5F3-4152-BFE8-533A1622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63DFA-AE5C-4F35-A839-9F2F15D0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EDADB-533D-4EB1-AC4B-15C7A9F4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3A1E5-A9A3-42AE-80EF-414B4C8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DC0A6-5699-49FC-9C03-90BC515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98470-DC23-4377-8197-8BE65941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51930-CB7B-4259-93D7-572AAD9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2A62E-2916-4845-9393-BFF35981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DA2FA-C950-4362-B8C3-CF1F825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E08-28B0-4E9E-A2C1-441D9C7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695F-5DBE-4AF7-ADA3-50CF996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81C10-F529-41CF-9E97-F1BEBE5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A6ABA-5E4E-4546-8258-CA1130D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D7833-355A-4E89-BBE0-DBE3F24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C839B-78BF-4490-BD39-8854EF9B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88D0E-DDB9-4DAD-A03A-37013E5A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DA4-3326-4A8E-B241-DDC8206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0BCF-74A6-4A2E-9F76-12DE436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536-28B4-40B0-A8FC-715112A1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C5B-A711-4191-B691-5E9CB735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5BED-81F7-48D3-8903-9B636222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6C54-C369-49BD-A898-7F5A0C0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2F73-9F80-41C3-B7A6-C6D0B41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6915-A427-44B6-A60B-B950099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5F38-8AC3-4184-9F42-233E1129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DB6-9E8F-448A-A6DD-11A45196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2EF1-D0A9-494E-9199-4D991BB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36A1-A42E-475C-9F3F-985987D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2E4B-B2AB-4536-9FF9-0B04742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3363-749A-4D00-AAD9-47DA4A1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318E-1133-448A-87FA-2E40919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9208-7F11-49A6-9EE4-ADCDF8E4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78B3-9652-4D99-AB5D-4D2ECB21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0B33-EA58-42D7-B0D9-4D923D26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8A91-1254-46DF-94F8-B722627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F4AF-04D9-478C-A702-2F332F9E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30E-8404-4308-97A8-A7FE234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8FCA-B076-4774-B8F8-10EDEC5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A0A2-502A-4D6B-9EAD-70EB875C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DE97-3267-4AA4-9DE0-E674338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A840-149D-4DA1-AC0D-033F80B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74FE-FC0A-45A2-8D24-F8C4825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A09F-3900-4ADB-8659-CDB5280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4BF8-FED4-4EA2-948A-4D70481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8204-D778-472C-8C30-11EFCA24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45CB-37F2-418D-BA4F-337C65AE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04BC-2ED1-4E59-95ED-5C59D56E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4AD-66E5-4974-83B5-DF5D1118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3DC0-2FFF-4630-909E-28E7245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19BAB-46F6-4C0F-A596-BB528F6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EE32-8A65-420C-BFF1-D4E37B53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2456-7DB2-46E4-BBA8-589801C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4E2F-D598-4DED-897D-570032C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4C87-61BF-4BD5-A31A-1F64742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6470-21DB-418F-9B0F-2865D5C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D7A8-A0E8-49E7-B272-92226C4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0315-BE17-433C-A55B-88D7C2C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CE56-096D-46FF-BCB2-E3ED9E54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A94-0201-42E4-9E2A-26620DD9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501B-675D-450F-8405-E24227D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BD7C-1C3E-4A3B-8FFD-DA539C11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524F-4942-43AC-9D3B-70998B24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BF6F-2E77-45A8-A983-8FEBA70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46D4-C8DC-487F-B6BF-B564F8B2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273E-1737-4685-A77B-B5FF6D0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EDF3-EC7F-4B68-96A7-660F619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70D9-77AE-47B3-9CAB-C135288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365E-3A2A-44B6-8E25-87920A6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9766-B2C4-4EC6-9576-D8E0178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C01-CCA1-493B-9E51-328B71E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986FC-FB74-4C5E-92CF-B41B405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DA94-6972-4579-A4A3-68AAEC7C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6D89-2F38-413A-94B5-1D786C04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DEA4-3FFE-46EE-98BC-8E745E4D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DE689-A33A-4B11-8461-6262DB7C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C89AE-4105-4A58-8822-0A2BD69B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E1B1-0F8F-486F-8B82-411FA06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FFCD-AA57-42D6-B0C2-9367E28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498B-D84A-4536-A901-357CFFB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8F72C-2ED5-48D3-AF4E-455D990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22F-E7A9-4339-A928-7939AD3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2967-B5EB-448C-B1F1-8ACDD8CC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1DD7-90EF-4075-A10F-630DF7A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EC81-5EB6-4BF5-954C-2E5A896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F961B-8D96-4D3A-B7B9-74575E4B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A747-6E8F-4C32-B066-6BF5920E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51C0-555D-4BD4-A93F-172495E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DF7D-7B91-4783-93BB-0D6BF63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019A-FB2B-400A-964F-E526976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EF2B-88F0-4F94-8830-31D65CF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4BA66-DE6F-4408-BFCE-4AAFAFEE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C61-CD88-45C0-8E55-745F28A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A55A4-2D2D-4D7F-AA72-40166308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625E-46C6-454C-A296-0C05CF4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47C7-5AD9-450C-9A23-A586243B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9FE7-7F9A-44C2-AEB4-7C5E007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D3A6-7478-49A4-9BD0-6609319B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77ACF-63A4-423C-AE15-8D7EE747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F3B3-75FE-4E3C-9C91-69B0714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A00F7-54EC-4C3E-A7F7-CF5C8835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2F58C-CD1D-4B4E-A080-D92A78F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1EF5-6212-49B3-93F9-19B9D07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074-8E21-42C1-8E42-BAE007DBB8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E6F7-6E47-4508-91FF-C1F224F8C0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8E6-AA9F-46FE-BA14-9E04CD6EA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065-A826-471D-8C96-5F45ACAC94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AEE5-69DA-43C7-9C7E-4EF7A35A1D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862-FCFD-4AF9-9957-8A62C7126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E3FC-A093-4350-8065-B159263F2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2CE3-B2D6-4FA5-9DFF-674E78A11E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67A-714A-4FF1-845D-E4EB2C62AA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C76-47A3-4512-9D93-1A4CFCCA1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882-92DC-48E2-8E2F-A240E1FF33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196B-448D-449B-A0F3-E1526BA55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C365-77C5-4EC9-A6B8-7421414571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DEC-0F35-4405-A3D2-0FE2ED6654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389-7E5C-4346-99B4-39A8B783A2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92DE-B643-4AD0-91EB-AFCADFE28F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0A2-9602-4491-8BA3-9E6B7FBE4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3" descr="лечение открытого пневмотаракса"/>
          <p:cNvPicPr/>
          <p:nvPr/>
        </p:nvPicPr>
        <p:blipFill>
          <a:blip r:embed="rId1"/>
          <a:srcRect l="-1322" t="19988" r="0" b="31670"/>
          <a:stretch/>
        </p:blipFill>
        <p:spPr>
          <a:xfrm>
            <a:off x="611280" y="1349280"/>
            <a:ext cx="7850160" cy="550872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проникающей или открытой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285840" y="3643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21420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роникающая или за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ножественных переломах ребер жизненная ёмкость легких уменьшается за счет уменьшения подвижности грудной клетки и лег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сутствии нарушения каркаса грудной клетки могут отмечаться признаки повреждения внутренних органов    (скопление воздуха и/или  крови в плевральной пол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нестабильная грудная клетка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3992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множественных переломах реб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множественных переломах костей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е повреждения наклеить полоски лейкопл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3" descr="нестабильная грудная клетка"/>
          <p:cNvPicPr/>
          <p:nvPr/>
        </p:nvPicPr>
        <p:blipFill>
          <a:blip r:embed="rId1"/>
          <a:srcRect l="2634" t="7999" r="34235" b="1328"/>
          <a:stretch/>
        </p:blipFill>
        <p:spPr>
          <a:xfrm>
            <a:off x="3995640" y="1484280"/>
            <a:ext cx="5148360" cy="513576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1"/>
          <p:cNvSpPr/>
          <p:nvPr/>
        </p:nvSpPr>
        <p:spPr>
          <a:xfrm rot="2034000">
            <a:off x="4787640" y="321264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 rot="2034000">
            <a:off x="4716000" y="357300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 rot="2034000">
            <a:off x="4642920" y="393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 rot="2034000">
            <a:off x="4572000" y="443664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 rot="2034000">
            <a:off x="4571640" y="4941360"/>
            <a:ext cx="1440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19"/>
          <p:cNvSpPr/>
          <p:nvPr/>
        </p:nvSpPr>
        <p:spPr>
          <a:xfrm rot="19806600">
            <a:off x="4642920" y="357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20"/>
          <p:cNvSpPr/>
          <p:nvPr/>
        </p:nvSpPr>
        <p:spPr>
          <a:xfrm rot="19804200">
            <a:off x="4571640" y="407628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21"/>
          <p:cNvSpPr/>
          <p:nvPr/>
        </p:nvSpPr>
        <p:spPr>
          <a:xfrm rot="19951800">
            <a:off x="4500360" y="458136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2"/>
          <p:cNvSpPr/>
          <p:nvPr/>
        </p:nvSpPr>
        <p:spPr>
          <a:xfrm rot="20101800">
            <a:off x="4572000" y="494172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 rot="19806600">
            <a:off x="4571640" y="321300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вая помощь при травме гру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вать скорую медицинск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ыть рану стерильной ватно-марлевой повязкой не закрепляя нижний к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рана отсутствует – лейкопластырную повязку на болезненн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ложить на повреждённый бок с возвышенной верхней частью тулов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пускать переохлаждения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ыть готовым к сердечно-легочной реани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08000" y="1557360"/>
            <a:ext cx="5759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ТП травма груди возникает, как прави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ямого механического воздействия на грудную клетку, приводящего к переломам рёб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органы травмируются костными отломками или распространяющейся кинетической энергией уд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7" descr="DPP_1577"/>
          <p:cNvPicPr/>
          <p:nvPr/>
        </p:nvPicPr>
        <p:blipFill>
          <a:blip r:embed="rId1"/>
          <a:stretch/>
        </p:blipFill>
        <p:spPr>
          <a:xfrm>
            <a:off x="5651640" y="22050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95280" y="213372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я чаще возник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грудной клеткой о  рулевое коле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пассажиров, если они не пристегнуты ремнями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толкновении  транспортных средств на большой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аезде на пеше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реждения о рулевое коле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6" descr="тело об рулевое колесо"/>
          <p:cNvPicPr/>
          <p:nvPr/>
        </p:nvPicPr>
        <p:blipFill>
          <a:blip r:embed="rId1"/>
          <a:srcRect l="26101" t="33751" r="25403" b="34878"/>
          <a:stretch/>
        </p:blipFill>
        <p:spPr>
          <a:xfrm>
            <a:off x="4643280" y="177336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ударился о руль"/>
          <p:cNvPicPr/>
          <p:nvPr/>
        </p:nvPicPr>
        <p:blipFill>
          <a:blip r:embed="rId2"/>
          <a:stretch/>
        </p:blipFill>
        <p:spPr>
          <a:xfrm>
            <a:off x="395280" y="1773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786" name="Заголовок 1"/>
          <p:cNvSpPr/>
          <p:nvPr/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240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равме грудной клетк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ается  целостность костного каркаса (переломы ребер, грудины)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режд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органы (легкие, сердц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оносные пути и кровеносные сосу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мышцы (диафраг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Заголовок 1"/>
          <p:cNvSpPr/>
          <p:nvPr/>
        </p:nvSpPr>
        <p:spPr>
          <a:xfrm>
            <a:off x="428760" y="3571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900000" y="522936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ые  признаки травмы грудной клетки – боль и дыхательная недостато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дыхательной недостаточ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 сидя или полуси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ное, частое, прерывистое, поверхностное 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юшный цвет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4" descr="Изображение 400"/>
          <p:cNvPicPr/>
          <p:nvPr/>
        </p:nvPicPr>
        <p:blipFill>
          <a:blip r:embed="rId1"/>
          <a:stretch/>
        </p:blipFill>
        <p:spPr>
          <a:xfrm>
            <a:off x="5292720" y="1628640"/>
            <a:ext cx="35272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28760" y="164268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имеется сообщение через рану между органами грудной клетки и окружающей ср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отсутствуют проникающие ранения в области грудной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у пострадавших в ДТП отмечается закрытая травма грудной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Заголовок 1"/>
          <p:cNvSpPr/>
          <p:nvPr/>
        </p:nvSpPr>
        <p:spPr>
          <a:xfrm>
            <a:off x="428760" y="35712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раны в области грудной кл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ыхании через рану может циркулировать воздух (на выдохе появляется кровавая п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целостности плевральной полости приводит к скоплению в ней воздуха и спадению легкого на стороне повреждения, что уменьшает количество поступающего кислорода в организм пострад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ние воздуха в плевральную полость называется пневмоторак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3" descr="открытый пневмоторакс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1688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98764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3564000" y="213372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596360" y="206064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94836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4:39:55Z</dcterms:created>
  <dc:creator>АВЛ</dc:creator>
  <dc:description/>
  <dc:language>en-US</dc:language>
  <cp:lastModifiedBy>пользователь</cp:lastModifiedBy>
  <dcterms:modified xsi:type="dcterms:W3CDTF">2012-03-30T08:20:05Z</dcterms:modified>
  <cp:revision>173</cp:revision>
  <dc:subject/>
  <dc:title>Дорожно-транспортные проишествия</dc:title>
</cp:coreProperties>
</file>