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3BC-372D-4E24-A356-24E0870A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A50-1E83-4D09-9317-40E3732D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B87-EF77-4FF4-B29F-C2B6CD90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770-77AB-4006-88A5-0B8453ED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ECFC-9354-4A1E-AA59-29F3801C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719A-FA01-4BF8-A6CF-0A68C79F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D153-C6D7-477E-B840-E6DDA5A5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6A58-1293-45F2-9C0B-96E2B26C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9E68-AD86-4901-A16A-EEFCA465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5D8A-481B-463D-A934-6D000FCA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A27A-4EA2-4BD6-9EDA-E97BEEFA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DDD-DF82-47A4-B36E-296F7552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77E2-8E8A-4647-B5CB-4CFAB983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ABC1-BEB8-43AC-9951-CF59B71E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2B50-60DE-4323-928F-28CD1A0E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6B2E-BCAD-4A6C-99B9-437D2752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91D4-1109-485D-B4BA-A26011AB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EEB4D-AC28-416C-95AA-D14C5C1A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9294C-D6C4-4ED5-B62E-50756D80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AF3E-6263-478A-9D05-9BB7B6BC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CEA41-5246-492B-A3EC-9EBDA8D6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20D0B-26CA-46ED-A185-141779D4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E00-B6CB-4F45-9C3E-D531D282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1DEE8-300E-4F99-B7EA-6E9F03F8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A2A6-9E0C-4715-9D55-F4D0BA73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3808-26DE-49E7-B810-FE96EAB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60574-FCCE-49AB-AC5F-E3E097F2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E409-5600-492A-A5EF-23F72F1F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CB18A-D243-41FB-9A0A-90CFE2F0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AA166-B255-4C53-B791-6849BB44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395CB-CC7B-4E5F-A446-F8706AC8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19D90-3515-457A-B67D-AEB0D6FC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D997D-765A-4E46-B3A7-480E92BC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994-69F3-4B8C-8B48-F3BA1A07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9B3F2-F194-4F7D-A74F-5FC5CCF0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928D1-DF11-48AC-BF91-466C8C1F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4066E-759E-412E-9AE6-CBF27EB6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75FA3-AD6D-4C6A-BFCA-8DC3A818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04137-5E62-48D9-94BA-D5496CF3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99CED-BDA0-42CE-9454-74242BD8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72F2D-47AC-478C-B776-07FBB072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5A0B7-8E20-4B8A-948B-7FE529C6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D4685-F2E6-4713-9C17-16FBC927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DE8-2ED4-4328-A2BF-6B4F90DE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FF2-9AB7-40CF-AF39-EBB1CC5E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576-85A8-49ED-83A2-1C7AEE79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312-14A6-4154-B9AA-8AD368C0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573-3772-477C-AB4A-9B040680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E071-56C6-4808-8DE3-6DA7B99EB54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BF46-0293-4E4D-A129-E1D10B39F99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2549-D731-4EFB-A259-D5F8D33F54C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35AE-C432-42BC-843C-689F1BFBA54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hyperlink" Target="http://images.yandex.ru/search?p=13&amp;ed=1&amp;text=&#1087;&#1086;&#1090;&#1077;&#1087;&#1083;&#1077;&#1085;&#1080;&#1077;%20&#1082;&#1083;&#1080;&#1084;&#1072;&#1090;&#1072;&amp;spsite=fake-016-90704.ru&amp;img_url=cedarlounge.files.wordpress.com/2007/11/ser_27052007125123.jpg&amp;rpt=simage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p=11&amp;ed=1&amp;text=&#1084;&#1077;&#1090;&#1077;&#1086;&#1088;&#1080;&#1090;&amp;spsite=fake-007-1512671.ru&amp;img_url=fotostar.ucoz.ru/_ph/41/463789884.jpg&amp;rpt=simage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text=&#1072;&#1090;&#1084;&#1086;&#1089;&#1092;&#1077;&#1088;&#1072;%20&#1079;&#1077;&#1084;&#1083;&#1080;&amp;stype=image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p=31&amp;ed=1&amp;text=&#1074;&#1086;&#1079;&#1076;&#1091;&#1096;&#1085;&#1072;&#1103;%20&#1089;&#1088;&#1077;&#1076;&#1072;&amp;spsite=www.volganet.ru&amp;img_url=www.volganet.ru/irj/go/km/docs/documents/Public%20Documents/Images/&#1048;&#1079;&#1086;&#1073;&#1088;&#1072;&#1078;&#1077;&#1085;&#1080;&#1103;/&#1040;&#1088;&#1093;&#1080;&#1074;/img_14255.jpeg&amp;rpt=simag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p=4&amp;ed=1&amp;text=&#1074;&#1086;&#1079;&#1076;&#1091;&#1096;&#1085;&#1072;&#1103;%20&#1089;&#1088;&#1077;&#1076;&#1072;&amp;spsite=www.comehome.perm.ru&amp;img_url=www.comehome.perm.ru/documents/_______________.jpg&amp;rpt=simage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p=2&amp;ed=1&amp;text=&#1074;&#1099;&#1073;&#1088;&#1086;&#1089;&#1099;%20&#1074;&#1088;&#1077;&#1076;&#1085;&#1099;&#1093;%20&#1074;&#1077;&#1097;&#1077;&#1089;&#1090;&#1074;%20&#1074;%20&#1072;&#1090;&#1084;&#1086;&#1089;&#1092;&#1077;&#1088;&#1091;&amp;spsite=fake-003-1324579.ru&amp;img_url=www.izvestia64.ru/images/uploads/a4mMGf60wS1.JPG&amp;rpt=simage&amp;nl=1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ages.yandex.ru/search?p=11&amp;ed=1&amp;text=&#1074;&#1099;&#1073;&#1088;&#1086;&#1089;&#1099;%20&#1074;&#1088;&#1077;&#1076;&#1085;&#1099;&#1093;%20&#1074;&#1077;&#1097;&#1077;&#1089;&#1090;&#1074;%20&#1074;%20&#1072;&#1090;&#1084;&#1086;&#1089;&#1092;&#1077;&#1088;&#1091;&amp;spsite=fake-018-461575.ru&amp;img_url=new.vostok-motors.ru/news/2008/07/25/x_trail_fcv_at_nurburgring.jpg&amp;rpt=simage&amp;nl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igpics.gorbushka.ru/all-4u.ru8LD5sN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p=1&amp;text=&#1074;&#1099;&#1088;&#1091;&#1073;&#1082;&#1072;%20&#1083;&#1077;&#1089;&#1072;%20&#1082;&#1072;&#1088;&#1090;&#1080;&#1085;&#1082;&#1080;&amp;spsite=fake-019-1216843.ru&amp;img_url=img-fotki.yandex.ru/get/29/ya-morales.10/0_17819_92a1f4ef_XL&amp;rpt=simage&amp;nl=1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search?p=15&amp;ed=1&amp;text=&#1074;&#1077;&#1090;&#1088;&#1099;%20&#1087;&#1091;&#1089;&#1090;&#1099;&#1085;&#1080;&amp;spsite=fake-017-21993.ru&amp;img_url=img-fotki.yandex.ru/get/5/vibpxhgglzd.567/0_14fc1_1ce6081f_XL&amp;rpt=simage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523800"/>
            <a:ext cx="7864560" cy="33228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5" descr="http://im0-tub.yandex.net/i?id=132317877&amp;tov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3786120"/>
            <a:ext cx="3071880" cy="2786040"/>
          </a:xfrm>
          <a:prstGeom prst="rect">
            <a:avLst/>
          </a:prstGeom>
          <a:ln w="9360">
            <a:solidFill>
              <a:srgbClr val="0f6fc6">
                <a:alpha val="5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260532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Метеориты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5840" y="999720"/>
            <a:ext cx="2714400" cy="500076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89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Так же  причиной  появления  огромного  количества  пыли  в  атмосфер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являются падающие на Землю метеориты. При попадание на  земную  поверхность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они поднимают в воздух огромные массы пы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Рисунок 7" descr="http://im4-tub.yandex.net/i?id=132525885&amp;tov=4">
            <a:hlinkClick r:id="rId2"/>
          </p:cNvPr>
          <p:cNvPicPr/>
          <p:nvPr/>
        </p:nvPicPr>
        <p:blipFill>
          <a:blip r:embed="rId3"/>
          <a:srcRect l="12592" t="0" r="12592" b="0"/>
          <a:stretch/>
        </p:blipFill>
        <p:spPr>
          <a:xfrm rot="454200">
            <a:off x="3333600" y="1268280"/>
            <a:ext cx="4815000" cy="37893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8"/>
          <p:cNvSpPr/>
          <p:nvPr/>
        </p:nvSpPr>
        <p:spPr>
          <a:xfrm rot="318000">
            <a:off x="3701880" y="531036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Метеоритный дожд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410040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Озоновые дыр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14200" y="1356840"/>
            <a:ext cx="4786560" cy="4891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ак же в атмосфере периодически то появляются,  то  исчезают  озоновые дыры  –  дыры  в  озоновом  экране.  Многие  ученые  считают   это   явление естественным   процессом    развития    географической    оболочки    Земл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Содержимое 9" descr="http://im2-tub.yandex.net/i?id=83613&amp;tov=2"/>
          <p:cNvPicPr/>
          <p:nvPr/>
        </p:nvPicPr>
        <p:blipFill>
          <a:blip r:embed="rId2"/>
          <a:stretch/>
        </p:blipFill>
        <p:spPr>
          <a:xfrm>
            <a:off x="5143680" y="1214280"/>
            <a:ext cx="3571560" cy="45007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0"/>
          <p:cNvSpPr/>
          <p:nvPr/>
        </p:nvSpPr>
        <p:spPr>
          <a:xfrm>
            <a:off x="5143680" y="592920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Озоновый слой над Европ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Следствия изменен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следствие промышленной  деятельности  человека  и  природы  атмосфера Земли загрязняется  различными  веществами  начиная  от  пыли  и  заканчивая сложными  химическими  соединениями.  Итогом  этого  служит   прежде   всего глобальное потепление климата и разрушение озонового экрана планет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Рисунок 6" descr="http://im3-tub.yandex.net/i?id=41816094&amp;tov=3"/>
          <p:cNvPicPr/>
          <p:nvPr/>
        </p:nvPicPr>
        <p:blipFill>
          <a:blip r:embed="rId2"/>
          <a:stretch/>
        </p:blipFill>
        <p:spPr>
          <a:xfrm>
            <a:off x="4714920" y="4786200"/>
            <a:ext cx="3357360" cy="16430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7"/>
          <p:cNvSpPr/>
          <p:nvPr/>
        </p:nvSpPr>
        <p:spPr>
          <a:xfrm>
            <a:off x="4714920" y="635796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Глобальное потеплен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Мероприятия по улучшению экологической обстановк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становка на предприятиях оборудования по очистке выброс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еспечить эффективными нейтрализаторами отработанных газов автотранспор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ширять экологическое образование и просвещение насел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лаживание постоянного мониторинга атмосфе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блюдение  гигиенических нормативов и техники безопасности труда, регламентация  деятельности чело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Атмосфе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тмосфера  –  газовая  оболочка  Земли,  именно  благодаря  атмосфере   стало возможным зарождение и дальнейшее развитие жизни на нашей планете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Рисунок 3" descr="http://im2-tub.yandex.net/i?id=58954572&amp;tov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71960" y="3357720"/>
            <a:ext cx="4214880" cy="26431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5830560" y="621504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Атмосфера Земл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Значение атмосфер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Значение атмосферы для Земл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колоссально – исчезнет  атмосфер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исчезнет  планета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Но последнее время мы  все чаще и чаще слышим о проблемах загрязнения атмосферы, разрушения озонового экрана, о губительном  воздействии  солнечной  радиации. То тут,  то  там  происходят  экологические  катастрофы, оказывающие в различной степени негативное воздействие на  земную атмосферу,  непосредственно  влияя  на  её  газовый  состав.   К   сожалению, приходится  констатировать,  что  атмосфера  с  каждым  годом  промышленной деятельности  человека  становиться  всё  меньше  и  меньше  пригодной   для нормальной жизнедеятельности живых организм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Рисунок 3" descr="http://im3-tub.yandex.net/i?id=97923687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86280" y="642960"/>
            <a:ext cx="3071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Состав атмосфе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 сегодняшнем химическом составе атмосферы  преобладает  азот и кислород. Представительство таких элементов как углекислый  газ,  аргон  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ругих  инертных  газов  очень  мало,  в  общей  сложности  около   1%,   но минимальное изменение их  содержания  может  оказать  серьёзное  влияние  на жизнь нашей плане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Причины изменения газового состава атмосфер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уществует масса причин изменения газового состава атмосферы – первое,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амое  главное  это   деятельность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еловека. Второе,  как  ни  странно,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еятельность самой приро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Рисунок 3" descr="http://im7-tub.yandex.net/i?id=27245195&amp;tov=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00840" y="2857680"/>
            <a:ext cx="2786040" cy="31669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5857920" y="60721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оздушная сред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Антропогенное воздейств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еятельность   человека   оказывает разрушающее действие на химический  состав  атмосферы.  При  производстве  в окружающую среду  выбрасывается  углекислый  газ  и  ряд  других  парниковых газов. Так  же  губительное  воздействие   оказывают выхлопные газы автомобилей, содержащие оксид азота, свинец, а также  большое количество диоксида углерода (углекислого газ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3" descr="http://im3-tub.yandex.net/i?id=142151823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43720" y="4572000"/>
            <a:ext cx="2786040" cy="17146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http://im3-tub.yandex.net/i?id=45313860&amp;tov=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760" y="5000760"/>
            <a:ext cx="2928960" cy="13572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5"/>
          <p:cNvSpPr/>
          <p:nvPr/>
        </p:nvSpPr>
        <p:spPr>
          <a:xfrm>
            <a:off x="214200" y="635796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ыхлопные газы автомобил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5661720" y="628668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ыбросы производст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Разрушение озонового экра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дной из главных особенностей  атмосфе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является  наличие  озонового экрана. Фреоны -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фторсодержащие химическ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элементы, широко используются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 производстве аэрозолей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холодильников,  оказывают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ильное  воздействие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на озоновый экран, разрушая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i-main-pic" descr="Картинка 4 из 3182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86280" y="2857680"/>
            <a:ext cx="28576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Парниковый эффек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арниковый эффект обусловлен увеличением прозрачности атмосферы для основной части солнечной энергии и усилением поглощения инфракрасной части теплового излуч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ырубка  лесов  способствует  и  усилению парникового эффекта, ведь растения поглощают углекислый газ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Рисунок 3" descr="http://im4-tub.yandex.net/i?id=52711816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760" y="4214880"/>
            <a:ext cx="3214440" cy="19526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5143680" y="621504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ырубка лес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Естественное воздейств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82904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природа вносит  изменения в состав атмосферы Земли, в основном, запыляя её. «Огромные массы  пыли  поднимают  в воздух ветры пустынь. Она заносится на большую  высоту  и  может разнестись очень далеко. Мельчайшие  частицы  каменистых  пород, поднятые  в  воздух,  закрывают  горизон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00800" y="1714680"/>
            <a:ext cx="31860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Рисунок 3" descr="http://im8-tub.yandex.net/i?id=41280722&amp;tov=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72080" y="1785960"/>
            <a:ext cx="3214800" cy="43578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5715000" y="6215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етры в пустын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6:05:09Z</dcterms:created>
  <dc:creator>Admin</dc:creator>
  <dc:description/>
  <dc:language>en-US</dc:language>
  <cp:lastModifiedBy>User</cp:lastModifiedBy>
  <dcterms:modified xsi:type="dcterms:W3CDTF">2023-02-08T05:14:39Z</dcterms:modified>
  <cp:revision>13</cp:revision>
  <dc:subject/>
  <dc:title>     Презентация по ОБЖ  на тему:  «Изменение состава атмосферы»</dc:title>
</cp:coreProperties>
</file>