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9C8-42AE-4556-A25F-D7DFF771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87D-FA0C-4B2C-8AA5-ABC7F7F6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087-A1FF-4E53-AB36-564CD462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3AA-3883-4F4E-9E29-B6B57088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A5B-A125-49DC-90D4-46C8D49F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7F62-5CE7-439A-833F-F7070EB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6CA-C2DB-4F33-9E79-924414A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DD8-B9C5-45F3-B608-B41CE3D9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8FD-5CDB-4649-A79B-E6A91F3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3290-65F3-4D5E-90F7-DF853F5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1D1-AFE5-40D4-97A6-963F5761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22F-47E3-40E9-BFFD-C30902E8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FF5-42E7-4371-9132-EB0CC45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C33E-6A41-4811-ABA4-DA3FF3F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394B-608A-442F-8258-06F6811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3D2-5860-4D52-91AD-480FF976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EF01-7AB4-41A4-8AA2-DE3B2D76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9AB6-5A7E-4C89-9E99-75BF4F0D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C717-9CE9-41EC-B063-1CE522C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3EC4-139B-4A06-A349-D901588E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AA4F-C698-445B-ACB3-CDA212B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CF09-E712-421B-A46F-89CCD2F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9B4-8596-4D78-954E-BD9D885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AB25-8573-4087-A996-4A7733F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CB04-9E18-4592-A3ED-A42A3C7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1810-346E-4F12-A4AB-9E75FB2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AC9F-CD48-4AC5-B41A-F67A52F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E60C-ADC8-49BA-9435-2E7DC87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094C-937D-45D7-8ED7-9A5B0005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5BF6-BFEA-4C19-A61F-A563392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400C-E7A2-474F-9E63-E687DB45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3BBC-C9AE-4380-BEFF-387682A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D519-9C66-4648-AB9C-1BCA128A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BC1-C437-4406-A5EA-371A023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7822-D27F-41A4-AB56-01F199C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4563-F9D9-4FFA-B8C3-6F8B7F5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1FA5-0679-47FD-B939-B2FE2D4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3667-01ED-4F47-8512-3ADE468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460A-78BA-41B5-94BA-21B2F87D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476C-7135-4159-B54D-2F07E67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DB43-22D2-4E5E-BA25-825B46E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DA34-CEFC-44C4-9E6B-69D86507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913E-1D30-4286-9337-AC0EBD57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165-A57F-4190-B27F-B5DE3888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972-1364-46F8-9DD6-2BF80F7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B29-1D80-4EA6-AFED-ADE5DE3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21C-30C3-4FC7-A0DE-3A68182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075-F4AA-49BB-9407-1674AB1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69DD-F238-406B-B785-6933328ABA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037-C709-4928-AF01-D4AA352DA6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B5B-CBEA-4A73-BA16-31F4869C40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168-E573-4AFE-99EB-4330E5C52F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hyperlink" Target="http://images.yandex.ru/search?p=13&amp;ed=1&amp;text=&#1087;&#1086;&#1090;&#1077;&#1087;&#1083;&#1077;&#1085;&#1080;&#1077;%20&#1082;&#1083;&#1080;&#1084;&#1072;&#1090;&#1072;&amp;spsite=fake-016-90704.ru&amp;img_url=cedarlounge.files.wordpress.com/2007/11/ser_27052007125123.jpg&amp;rpt=simage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1&amp;ed=1&amp;text=&#1084;&#1077;&#1090;&#1077;&#1086;&#1088;&#1080;&#1090;&amp;spsite=fake-007-1512671.ru&amp;img_url=fotostar.ucoz.ru/_ph/41/463789884.jpg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text=&#1072;&#1090;&#1084;&#1086;&#1089;&#1092;&#1077;&#1088;&#1072;%20&#1079;&#1077;&#1084;&#1083;&#1080;&amp;stype=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31&amp;ed=1&amp;text=&#1074;&#1086;&#1079;&#1076;&#1091;&#1096;&#1085;&#1072;&#1103;%20&#1089;&#1088;&#1077;&#1076;&#1072;&amp;spsite=www.volganet.ru&amp;img_url=www.volganet.ru/irj/go/km/docs/documents/Public%20Documents/Images/&#1048;&#1079;&#1086;&#1073;&#1088;&#1072;&#1078;&#1077;&#1085;&#1080;&#1103;/&#1040;&#1088;&#1093;&#1080;&#1074;/img_14255.jpe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4&amp;ed=1&amp;text=&#1074;&#1086;&#1079;&#1076;&#1091;&#1096;&#1085;&#1072;&#1103;%20&#1089;&#1088;&#1077;&#1076;&#1072;&amp;spsite=www.comehome.perm.ru&amp;img_url=www.comehome.perm.ru/documents/_______________.jpg&amp;rpt=s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2&amp;ed=1&amp;text=&#1074;&#1099;&#1073;&#1088;&#1086;&#1089;&#1099;%20&#1074;&#1088;&#1077;&#1076;&#1085;&#1099;&#1093;%20&#1074;&#1077;&#1097;&#1077;&#1089;&#1090;&#1074;%20&#1074;%20&#1072;&#1090;&#1084;&#1086;&#1089;&#1092;&#1077;&#1088;&#1091;&amp;spsite=fake-003-1324579.ru&amp;img_url=www.izvestia64.ru/images/uploads/a4mMGf60wS1.JPG&amp;rpt=simage&amp;nl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yandex.ru/search?p=11&amp;ed=1&amp;text=&#1074;&#1099;&#1073;&#1088;&#1086;&#1089;&#1099;%20&#1074;&#1088;&#1077;&#1076;&#1085;&#1099;&#1093;%20&#1074;&#1077;&#1097;&#1077;&#1089;&#1090;&#1074;%20&#1074;%20&#1072;&#1090;&#1084;&#1086;&#1089;&#1092;&#1077;&#1088;&#1091;&amp;spsite=fake-018-461575.ru&amp;img_url=new.vostok-motors.ru/news/2008/07/25/x_trail_fcv_at_nurburgring.jpg&amp;rpt=simage&amp;nl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gpics.gorbushka.ru/all-4u.ru8LD5sN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&amp;text=&#1074;&#1099;&#1088;&#1091;&#1073;&#1082;&#1072;%20&#1083;&#1077;&#1089;&#1072;%20&#1082;&#1072;&#1088;&#1090;&#1080;&#1085;&#1082;&#1080;&amp;spsite=fake-019-1216843.ru&amp;img_url=img-fotki.yandex.ru/get/29/ya-morales.10/0_17819_92a1f4ef_XL&amp;rpt=simage&amp;nl=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5&amp;ed=1&amp;text=&#1074;&#1077;&#1090;&#1088;&#1099;%20&#1087;&#1091;&#1089;&#1090;&#1099;&#1085;&#1080;&amp;spsite=fake-017-21993.ru&amp;img_url=img-fotki.yandex.ru/get/5/vibpxhgglzd.567/0_14fc1_1ce6081f_XL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523800"/>
            <a:ext cx="7864560" cy="33228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http://im0-tub.yandex.net/i?id=132317877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786120"/>
            <a:ext cx="3071880" cy="2786040"/>
          </a:xfrm>
          <a:prstGeom prst="rect">
            <a:avLst/>
          </a:prstGeom>
          <a:ln w="9360">
            <a:solidFill>
              <a:srgbClr val="0f6fc6">
                <a:alpha val="5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26053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Метеорит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999720"/>
            <a:ext cx="2714400" cy="500076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9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Так же  причиной  появления  огромного  количества  пыли  в  атмосфе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являются падающие на Землю метеориты. При попадание на  земную  поверх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ни поднимают в воздух огромные массы пы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7" descr="http://im4-tub.yandex.net/i?id=132525885&amp;tov=4">
            <a:hlinkClick r:id="rId2"/>
          </p:cNvPr>
          <p:cNvPicPr/>
          <p:nvPr/>
        </p:nvPicPr>
        <p:blipFill>
          <a:blip r:embed="rId3"/>
          <a:srcRect l="12592" t="0" r="12592" b="0"/>
          <a:stretch/>
        </p:blipFill>
        <p:spPr>
          <a:xfrm rot="454200">
            <a:off x="3333600" y="1268280"/>
            <a:ext cx="4815000" cy="3789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 rot="318000">
            <a:off x="3701880" y="5310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етеоритный дожд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41004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Озоновые ды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4786560" cy="4891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 же в атмосфере периодически то появляются,  то  исчезают  озоновые дыры  –  дыры  в  озоновом  экране.  Многие  ученые  считают   это   явление естественным   процессом    развития    географической    оболочки    Зем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9" descr="http://im2-tub.yandex.net/i?id=83613&amp;tov=2"/>
          <p:cNvPicPr/>
          <p:nvPr/>
        </p:nvPicPr>
        <p:blipFill>
          <a:blip r:embed="rId2"/>
          <a:stretch/>
        </p:blipFill>
        <p:spPr>
          <a:xfrm>
            <a:off x="5143680" y="1214280"/>
            <a:ext cx="3571560" cy="4500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0"/>
          <p:cNvSpPr/>
          <p:nvPr/>
        </p:nvSpPr>
        <p:spPr>
          <a:xfrm>
            <a:off x="5143680" y="592920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Озоновый слой над Европ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Следствия измене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следствие промышленной  деятельности  человека  и  природы  атмосфера Земли загрязняется  различными  веществами  начиная  от  пыли  и  заканчивая сложными  химическими  соединениями.  Итогом  этого  служит   прежде   всего глобальное потепление климата и разрушение озонового экрана плане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6" descr="http://im3-tub.yandex.net/i?id=41816094&amp;tov=3"/>
          <p:cNvPicPr/>
          <p:nvPr/>
        </p:nvPicPr>
        <p:blipFill>
          <a:blip r:embed="rId2"/>
          <a:stretch/>
        </p:blipFill>
        <p:spPr>
          <a:xfrm>
            <a:off x="4714920" y="4786200"/>
            <a:ext cx="3357360" cy="1643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4714920" y="635796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Глобальное потепл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роприятия по улучшению экологической обстанов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ановка на предприятиях оборудования по очистке выбро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эффективными нейтрализаторами отработанных газов автотранспор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ширять экологическое образование и просвещение насел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аживание постоянного мониторинга атмосфе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людение  гигиенических нормативов и техники безопасности труда, регламентация  деятельности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Атмосф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тмосфера  –  газовая  оболочка  Земли,  именно  благодаря  атмосфере   стало возможным зарождение и дальнейшее развитие жизни на нашей планете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http://im2-tub.yandex.net/i?id=5895457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71960" y="3357720"/>
            <a:ext cx="4214880" cy="26431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5830560" y="621504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Атмосфера Зем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Значение атмосфе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Значение атмосферы для Зем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лоссально – исчезнет  атмосфер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счезнет  планета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о последнее время мы  все чаще и чаще слышим о проблемах загрязнения атмосферы, разрушения озонового экрана, о губительном  воздействии  солнечной  радиации. То тут,  то  там  происходят  экологические  катастрофы, оказывающие в различной степени негативное воздействие на  земную атмосферу,  непосредственно  влияя  на  её  газовый  состав.   К   сожалению, приходится  констатировать,  что  атмосфера  с  каждым  годом  промышленной деятельности  человека  становиться  всё  меньше  и  меньше  пригодной   для нормальной жизнедеятельности живых организм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3" descr="http://im3-tub.yandex.net/i?id=979236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642960"/>
            <a:ext cx="3071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Состав атмосф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сегодняшнем химическом составе атмосферы  преобладает  азот и кислород. Представительство таких элементов как углекислый  газ,  аргон 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ругих  инертных  газов  очень  мало,  в  общей  сложности  около   1%,   но минимальное изменение их  содержания  может  оказать  серьёзное  влияние  на жизнь нашей плане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чины изменения газового состава атмосфе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уществует масса причин изменения газового состава атмосферы – первое,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амое  главное  это   деятельность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ка. Второе,  как  ни  странно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еятельность самой прир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http://im7-tub.yandex.net/i?id=27245195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00840" y="2857680"/>
            <a:ext cx="2786040" cy="31669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5857920" y="607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оздушная сре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Антропогенное воздейств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еятельность   человека   оказывает разрушающее действие на химический  состав  атмосферы.  При  производстве  в окружающую среду  выбрасывается  углекислый  газ  и  ряд  других  парниковых газов. Так  же  губительное  воздействие   оказывают выхлопные газы автомобилей, содержащие оксид азота, свинец, а также  большое количество диоксида углерода (углекислого газ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http://im3-tub.yandex.net/i?id=142151823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4572000"/>
            <a:ext cx="278604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im3-tub.yandex.net/i?id=45313860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5000760"/>
            <a:ext cx="2928960" cy="1357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214200" y="635796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хлопные газы автомоби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661720" y="628668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бросы производ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Разрушение озонового экра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дной из главных особенностей  атмосфе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является  наличие  озонового экрана. Фреоны 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торсодержащие химическ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элементы, широко используютс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производстве аэрозолей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холодильников,  оказывают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ильное  воздействие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 озоновый экран, разрушая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i-main-pic" descr="Картинка 4 из 3182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2857680"/>
            <a:ext cx="2857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арниковый эффе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рниковый эффект обусловлен увеличением прозрачности атмосферы для основной части солнечной энергии и усилением поглощения инфракрасной части теплового изл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рубка  лесов  способствует  и  усилению парникового эффекта, ведь растения поглощают углекислый газ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http://im4-tub.yandex.net/i?id=52711816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4214880"/>
            <a:ext cx="3214440" cy="1952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5143680" y="621504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рубка ле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стественное воздейств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82904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природа вносит  изменения в состав атмосферы Земли, в основном, запыляя её. «Огромные массы  пыли  поднимают  в воздух ветры пустынь. Она заносится на большую  высоту  и  может разнестись очень далеко. Мельчайшие  частицы  каменистых  пород, поднятые  в  воздух,  закрывают  горизо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00800" y="1714680"/>
            <a:ext cx="31860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Рисунок 3" descr="http://im8-tub.yandex.net/i?id=41280722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2080" y="1785960"/>
            <a:ext cx="3214800" cy="4357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5715000" y="6215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етры в пусты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6:05:09Z</dcterms:created>
  <dc:creator>Admin</dc:creator>
  <dc:description/>
  <dc:language>en-US</dc:language>
  <cp:lastModifiedBy>User</cp:lastModifiedBy>
  <dcterms:modified xsi:type="dcterms:W3CDTF">2023-02-08T05:14:39Z</dcterms:modified>
  <cp:revision>13</cp:revision>
  <dc:subject/>
  <dc:title>     Презентация по ОБЖ  на тему:  «Изменение состава атмосферы»</dc:title>
</cp:coreProperties>
</file>