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C36-9059-40C4-9552-1DF3A78B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72A-E346-455F-99A0-0CBDAE13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B9C-4772-4003-91EC-224EAB92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9B3-8A82-4483-861B-AD4258A8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D5D-688D-41E5-A700-9A04A0E1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2F4-8316-462D-9F4B-22D71DEF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DB5-519F-4BF8-A4E5-13B26EDD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A65-1E33-452E-9F73-15BFF09F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CDC-6180-4D7D-9E6F-3F3E44A1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C06-8678-4943-B8D7-EA3F6CBC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B9C-3970-4851-9405-32BF0F53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A24-DA49-41CC-B6E6-A7B42212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E6DA-E230-43BE-8232-D7CCFB882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1560" y="3733920"/>
            <a:ext cx="7329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остояние природной среды и жизнедеятельность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1560" y="5412960"/>
            <a:ext cx="732960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abc32"/>
                </a:solidFill>
                <a:latin typeface="Calibri"/>
              </a:rPr>
              <a:t>Цель урока: формирование представлений о влиянии деятельности человека на состояние окружающей среды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49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мсаем лёд, меняем рек теч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ердим о том,    что дел невпроворот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мы ещё придём    просить прощен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этих рек, барханов и боло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самого гигантского     восх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самого мельчайшего    малька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 об этом  думать неох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йчас нам не до этого  п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эродромы,  пирсы    и перрон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са без птиц  и земли без воды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ё меньше - окружающей прир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ё больше - окружающе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8360" y="189000"/>
            <a:ext cx="8136000" cy="100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гласны ли вы со словами Роберта Рождественског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468360" y="189000"/>
            <a:ext cx="8136000" cy="100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еловек может жить без природ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468360" y="189000"/>
            <a:ext cx="8136000" cy="100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природа без челове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280" y="1444680"/>
            <a:ext cx="8229600" cy="119232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уществуют ли науки, которые изучают взаимодействие человека с природ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2708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Экологи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наука о взаимодействиях живых организмов и их сообществ между собой и с окружающей сре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андшафтоведени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— наука, изучающая строение, происхождение, функционирование и трансформацию земных ландшаф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родопо́льзовани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наука о рациональном (для соответствующего исторического момента) использовании природных ресурсов общест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9280" y="1444320"/>
            <a:ext cx="8229600" cy="60948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тропогенные факторы, которые оказывают нежелательное воздействие и на человека, и на окружающую природную среду, называются загрязняющи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rcRect l="0" t="3233" r="-223" b="0"/>
          <a:stretch/>
        </p:blipFill>
        <p:spPr>
          <a:xfrm>
            <a:off x="468360" y="-47520"/>
            <a:ext cx="770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2"/>
          <a:srcRect l="0" t="3012" r="-794" b="0"/>
          <a:stretch/>
        </p:blipFill>
        <p:spPr>
          <a:xfrm>
            <a:off x="395280" y="0"/>
            <a:ext cx="817236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9280" y="1444320"/>
            <a:ext cx="8229600" cy="60948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9280" y="2054160"/>
            <a:ext cx="822960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Экологические последствия хозяйственной деятельности человека породили много серьёзных экологических проб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5715000" cy="3790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2411280" y="1766880"/>
            <a:ext cx="6381720" cy="471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209520" y="836640"/>
            <a:ext cx="8602560" cy="5162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5"/>
          <a:stretch/>
        </p:blipFill>
        <p:spPr>
          <a:xfrm>
            <a:off x="1042920" y="326880"/>
            <a:ext cx="6464520" cy="615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6"/>
          <a:stretch/>
        </p:blipFill>
        <p:spPr>
          <a:xfrm>
            <a:off x="112680" y="669960"/>
            <a:ext cx="90313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49280" y="2054160"/>
            <a:ext cx="822960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332000" y="-187200"/>
            <a:ext cx="626436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354880" cy="164952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то относится к преднамеренным антропогенным преобразованиям в природ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2054160"/>
            <a:ext cx="864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своение земель под сельскохозяйственные угодь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сооружение водохранили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строительство городов и промышленных предприят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сушение боло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загрязнение окружающей сред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изменения газового состава атмосфе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бразование фотохимических туманов (смогов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ускорение коррозии металл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83600" cy="136188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то относится к попутным антропогенным изменениям в природ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2054160"/>
            <a:ext cx="864216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загрязнение окружающей сред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бразование фотохимических туманов (смогов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ускорение коррозии металл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изменение газового состава атмосфе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своение земель под сельскохозяйственные угодь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сооружение водохранили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строительство городов и промышленных предприят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сушение боло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3T13:20:06Z</dcterms:created>
  <dc:creator>Левановы</dc:creator>
  <dc:description/>
  <dc:language>en-US</dc:language>
  <cp:lastModifiedBy>User</cp:lastModifiedBy>
  <dcterms:modified xsi:type="dcterms:W3CDTF">2023-02-08T05:13:01Z</dcterms:modified>
  <cp:revision>6</cp:revision>
  <dc:subject/>
  <dc:title>Состояние природной среды и жизнедеятельность человека</dc:title>
</cp:coreProperties>
</file>