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3D85-226F-4F09-8AE8-3F270919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2048-D94D-4C5C-A04A-52DE831F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224C-3B77-416C-8C2C-E683DE01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46E6-B877-4109-8ED9-DB3C81DA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FEC3-B161-4863-A0CA-3F5A13A3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B25D-7063-4EEA-B0C7-D42D87D9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57C3-1C90-492C-8923-22C672F3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5A78-3E30-4E03-B225-F7965ECC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9389-7EFC-411C-941D-55B49E06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D3F1-8379-44DD-8513-6D07C1A9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6D6-ABB8-40FC-AB25-F1CE45CA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B9A4-DF11-4068-8DC2-AA5902D9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7F8F-751E-45D4-9D01-AB85ED795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1560" y="3733920"/>
            <a:ext cx="73296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остояние природной среды и жизнедеятельность челов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1560" y="5412960"/>
            <a:ext cx="732960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7abc32"/>
                </a:solidFill>
                <a:latin typeface="Calibri"/>
              </a:rPr>
              <a:t>Цель урока: формирование представлений о влиянии деятельности человека на состояние окружающей среды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4928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омсаем лёд, меняем рек течень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вердим о том,    что дел невпроворот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 мы ещё придём    просить прощень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этих рек, барханов и боло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самого гигантского     восхо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самого мельчайшего    малька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 об этом  думать неох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йчас нам не до этого  п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эродромы,  пирсы    и перрон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са без птиц  и земли без воды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ё меньше - окружающей прир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ё больше - окружающей сре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468360" y="189000"/>
            <a:ext cx="8136000" cy="1008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гласны ли вы со словами Роберта Рождественског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468360" y="189000"/>
            <a:ext cx="8136000" cy="1008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еловек может жить без природ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468360" y="189000"/>
            <a:ext cx="8136000" cy="1008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природа без человек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9280" y="1444680"/>
            <a:ext cx="8229600" cy="1192320"/>
          </a:xfrm>
          <a:prstGeom prst="rect">
            <a:avLst/>
          </a:prstGeom>
          <a:solidFill>
            <a:srgbClr val="7abc3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уществуют ли науки, которые изучают взаимодействие человека с природой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2708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Экология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наука о взаимодействиях живых организмов и их сообществ между собой и с окружающей сред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Ландшафтоведение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— наука, изучающая строение, происхождение, функционирование и трансформацию земных ландшаф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родопо́льзование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наука о рациональном (для соответствующего исторического момента) использовании природных ресурсов обществ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9280" y="1444320"/>
            <a:ext cx="8229600" cy="609480"/>
          </a:xfrm>
          <a:prstGeom prst="rect">
            <a:avLst/>
          </a:prstGeom>
          <a:solidFill>
            <a:srgbClr val="7abc3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тропогенные факторы, которые оказывают нежелательное воздействие и на человека, и на окружающую природную среду, называются загрязняющи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2"/>
          <a:srcRect l="0" t="3233" r="-223" b="0"/>
          <a:stretch/>
        </p:blipFill>
        <p:spPr>
          <a:xfrm>
            <a:off x="468360" y="-47520"/>
            <a:ext cx="770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2"/>
          <a:srcRect l="0" t="3012" r="-794" b="0"/>
          <a:stretch/>
        </p:blipFill>
        <p:spPr>
          <a:xfrm>
            <a:off x="395280" y="0"/>
            <a:ext cx="817236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9280" y="1444320"/>
            <a:ext cx="8229600" cy="609480"/>
          </a:xfrm>
          <a:prstGeom prst="rect">
            <a:avLst/>
          </a:prstGeom>
          <a:solidFill>
            <a:srgbClr val="7abc3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49280" y="2054160"/>
            <a:ext cx="8229600" cy="39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Экологические последствия хозяйственной деятельности человека породили много серьёзных экологических пробл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5715000" cy="3790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2411280" y="1766880"/>
            <a:ext cx="6381720" cy="471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4"/>
          <a:stretch/>
        </p:blipFill>
        <p:spPr>
          <a:xfrm>
            <a:off x="209520" y="836640"/>
            <a:ext cx="8602560" cy="5162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5"/>
          <a:stretch/>
        </p:blipFill>
        <p:spPr>
          <a:xfrm>
            <a:off x="1042920" y="326880"/>
            <a:ext cx="6464520" cy="6153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6"/>
          <a:stretch/>
        </p:blipFill>
        <p:spPr>
          <a:xfrm>
            <a:off x="112680" y="669960"/>
            <a:ext cx="90313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49280" y="2054160"/>
            <a:ext cx="8229600" cy="39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332000" y="-187200"/>
            <a:ext cx="6264360" cy="69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354880" cy="1649520"/>
          </a:xfrm>
          <a:prstGeom prst="rect">
            <a:avLst/>
          </a:prstGeom>
          <a:solidFill>
            <a:srgbClr val="7abc3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Что относится к преднамеренным антропогенным преобразованиям в природе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920" y="2054160"/>
            <a:ext cx="864216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освоение земель под сельскохозяйственные угодь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сооружение водохранили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строительство городов и промышленных предприят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осушение боло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загрязнение окружающей сред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изменения газового состава атмосфер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образование фотохимических туманов (смогов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ускорение коррозии металл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83600" cy="1361880"/>
          </a:xfrm>
          <a:prstGeom prst="rect">
            <a:avLst/>
          </a:prstGeom>
          <a:solidFill>
            <a:srgbClr val="7abc3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Что относится к попутным антропогенным изменениям в природе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0920" y="2054160"/>
            <a:ext cx="8642160" cy="39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загрязнение окружающей сред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образование фотохимических туманов (смогов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ускорение коррозии металл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изменение газового состава атмосфер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освоение земель под сельскохозяйственные угодь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сооружение водохранили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строительство городов и промышленных предприят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осушение боло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3T13:20:06Z</dcterms:created>
  <dc:creator>Левановы</dc:creator>
  <dc:description/>
  <dc:language>en-US</dc:language>
  <cp:lastModifiedBy>User</cp:lastModifiedBy>
  <dcterms:modified xsi:type="dcterms:W3CDTF">2023-02-08T05:13:01Z</dcterms:modified>
  <cp:revision>6</cp:revision>
  <dc:subject/>
  <dc:title>Состояние природной среды и жизнедеятельность человека</dc:title>
</cp:coreProperties>
</file>