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A51D7A-71F8-47BB-8F30-922B6A67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9B31C-8322-4B3A-AF64-53E724D746F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297D-3112-4146-B7D2-B44C6557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4003-81FF-468A-A784-7CBA9D8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7597-87EF-4CFA-ADC0-66383FD1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579D-10A9-413A-BC10-C8DD5CE9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29704-9168-45CC-8B4D-BF8199D0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75940-A5E5-458F-B593-EEAC9231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1DCE8-26D2-4D32-94F3-36DE511B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41505-6804-47A1-9BCC-2C81236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C7863-AF08-4C5F-BDED-0443DAE9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90E6F-FB49-47D8-BD54-F5B14A3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E7746-8F86-4125-A81A-B20853D5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0611-CAE3-4B2C-956D-EDDF6784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92DCA-28E3-436E-9A32-A657B87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7296-841B-431B-81F6-0D56C95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B2B87-DB20-446D-87C5-AFFC974F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A215F-4ACE-475F-86ED-5C0D4616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D310F-3CCD-46F9-824A-E55A5716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0A34-E816-444F-AA5D-5D71CF6C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CA3B-B76F-451C-B215-019D176E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70A3-2B42-48DB-9908-1A2762EE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3893-2792-470B-BF38-D775953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283D-345B-4CC6-949A-237A6833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EEB3-5E7E-41C4-AD5F-DB09034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612D-2AA8-417F-94CD-747D8B3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4C5B-7F56-4CE4-9425-DE30B16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C5C6-ED96-4CBA-BFB8-897A7A4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E36F-CEFA-48A8-9FB8-4329CE6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C054-3F14-4C3C-8634-698C9ED7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415B-8362-4D79-A1EF-3FAD8E65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50CD-D2A3-48F1-B714-FF4D80B2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3719-55FB-4BB3-9522-488A1BC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60B8-DDB6-48C5-84D7-74FD6638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B5F7-CC35-4774-B492-99ACA2A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7406-67F4-4AE7-81C3-2909F38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29D7-F974-416B-A5CD-174E75D8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998B-B350-41E8-923C-069F695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633647-8E94-42F3-8CEE-5A46559F09D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DED833-29CA-4FAB-9420-3B95B768F76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AB1A3D-9762-4EE8-A103-8DAB6C7C4A8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69972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ученица 11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МКОУ «Богучарская СОШ № 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Баглачева Елиза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00" strike="noStrike">
                <a:solidFill>
                  <a:srgbClr val="f9f9f9"/>
                </a:solidFill>
                <a:latin typeface="Constantia"/>
              </a:rPr>
              <a:t>Биохимический анализ производных кожи (ногти)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5840" y="152280"/>
            <a:ext cx="840060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3. Обнаружение аминокислоты цистеина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4200" y="1523880"/>
            <a:ext cx="6429240" cy="50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добавлении серной кислоты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(H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щелочной раствор ногтя наблюдается  помутнение, затем образование белого осадка (происходит коагуляция растворенного в щелочи белка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щущается запах сероводород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(H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)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аличие которого определяется с помощью смоченной раствором ацетата свинц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((CH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O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b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оски бумаги (при опускании в пробирку бумага почернела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CH3COO)2Pb + H2S = PbS + 2CH3COOH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чит, образовался сульфид свинц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ывод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оставе ногтя присутствует серосодержащая аминокислота цистеин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3800" y="1523880"/>
            <a:ext cx="20642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7" name="Picture 2" descr="C:\Users\Лиза\Desktop\cFq2ShJOqhU.jpg"/>
          <p:cNvPicPr/>
          <p:nvPr/>
        </p:nvPicPr>
        <p:blipFill>
          <a:blip r:embed="rId1"/>
          <a:stretch/>
        </p:blipFill>
        <p:spPr>
          <a:xfrm>
            <a:off x="6643800" y="1196640"/>
            <a:ext cx="2071440" cy="266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Лиза\Desktop\9J1Ksqjz4z8.jpg"/>
          <p:cNvPicPr/>
          <p:nvPr/>
        </p:nvPicPr>
        <p:blipFill>
          <a:blip r:embed="rId2"/>
          <a:stretch/>
        </p:blipFill>
        <p:spPr>
          <a:xfrm>
            <a:off x="6643800" y="3857760"/>
            <a:ext cx="2071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4. Ксантопротеиновая реакц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9004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усочек ногтя поместить в пробирку, добавить концентрированную азотную кислоту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HN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огреть в кипящей водяной бан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оготь не разрушается, но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крашивается в желтый цвет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 подщелачивании раствора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краска становится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расно-коричнево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ывод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составе ногтя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сутствуют ароматические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минокислоты тирозин,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енилаланин, триптофан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15000" y="2714760"/>
            <a:ext cx="299268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Users\Лиза\Desktop\MwEhELK3hs8.jpg"/>
          <p:cNvPicPr/>
          <p:nvPr/>
        </p:nvPicPr>
        <p:blipFill>
          <a:blip r:embed="rId1"/>
          <a:stretch/>
        </p:blipFill>
        <p:spPr>
          <a:xfrm>
            <a:off x="5715000" y="2786040"/>
            <a:ext cx="299988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кань ногтя состоит из белка, растворяющегося в щелочной среде и содержащего аминокислоты цистеин, аргинин, тирозин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состав роговых образований (ногтей) входят белки склеропротеины (кератины), которые имеют фибриллярную структуру с вытянутыми молекулами, прошитыми дисульфидным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S-S)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язями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лагодаря такой канатообразной структуре ногти обладают прочностью и эластичностью, что определяет их функции в организме человек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став ногтей соответствует их функциям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Заключение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яснить, какие химические вещества образуют ногти человек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Задачи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зучить химическую природу ткани ногтя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явить соответствие состава ногтей их функциям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вести опыты, которые позволят установить природу ткани ногтя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ипотеза: ногти человека состоят из белк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Цель исследован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3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ъект исследован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щество, образующее ногти человек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мет исследован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ти человек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Методы исследован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учение научно-популярной литературы, анкетирование, эксперимент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77588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4000" spc="-100" strike="noStrike">
                <a:solidFill>
                  <a:srgbClr val="f9f9f9"/>
                </a:solidFill>
                <a:latin typeface="Constantia"/>
              </a:rPr>
              <a:t>Гипотеза</a:t>
            </a:r>
            <a:br>
              <a:rPr sz="4200"/>
            </a:br>
            <a:r>
              <a:rPr b="1" lang="ru-RU" sz="3100" spc="-100" strike="noStrike">
                <a:solidFill>
                  <a:srgbClr val="f9f9f9"/>
                </a:solidFill>
                <a:latin typeface="Constantia"/>
              </a:rPr>
              <a:t>ногти человека состоят из белка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ждый образованный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еловек  должен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нимать, какую роль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полняют  части его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рганизма, в том числе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 ногти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Актуальность темы 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Picture 2" descr="C:\Users\Лиза\Desktop\1569262867_klassicheskij-manikjur-34.jpg"/>
          <p:cNvPicPr/>
          <p:nvPr/>
        </p:nvPicPr>
        <p:blipFill>
          <a:blip r:embed="rId1"/>
          <a:stretch/>
        </p:blipFill>
        <p:spPr>
          <a:xfrm>
            <a:off x="4857840" y="2214720"/>
            <a:ext cx="36720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Что такое «ногти»</a:t>
            </a:r>
            <a:r>
              <a:rPr b="1" lang="en-US" sz="3600" spc="-100" strike="noStrike">
                <a:solidFill>
                  <a:srgbClr val="f9f9f9"/>
                </a:solidFill>
                <a:latin typeface="Constantia"/>
              </a:rPr>
              <a:t>?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ти — не просто украшение кончиков пальцев, это часть покровной системы организма, защищающей внутренние органы от повреждений и проникновения инфекц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5" name="Picture 2" descr="C:\Users\Лиза\Desktop\1569262867_klassicheskij-manikjur-34.jpg"/>
          <p:cNvPicPr/>
          <p:nvPr/>
        </p:nvPicPr>
        <p:blipFill>
          <a:blip r:embed="rId1"/>
          <a:stretch/>
        </p:blipFill>
        <p:spPr>
          <a:xfrm>
            <a:off x="4860000" y="2133000"/>
            <a:ext cx="3672000" cy="309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Лиза\Desktop\1569262867_klassicheskij-manikjur-34.jpg"/>
          <p:cNvPicPr/>
          <p:nvPr/>
        </p:nvPicPr>
        <p:blipFill>
          <a:blip r:embed="rId2"/>
          <a:stretch/>
        </p:blipFill>
        <p:spPr>
          <a:xfrm>
            <a:off x="4857840" y="2143080"/>
            <a:ext cx="367200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асти ногтя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трикс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 Ногтевая пластин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. Ногтевое ложе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. Кутикул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Строение ногтей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2" descr="C:\Users\Лиза\Desktop\1569262867_klassicheskij-manikjur-34.jpg"/>
          <p:cNvPicPr/>
          <p:nvPr/>
        </p:nvPicPr>
        <p:blipFill>
          <a:blip r:embed="rId1"/>
          <a:stretch/>
        </p:blipFill>
        <p:spPr>
          <a:xfrm>
            <a:off x="4857840" y="2143080"/>
            <a:ext cx="36720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1. Растворение ногтя в щелочи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576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бирку опустить кусочек ногтя и залить его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 мл 5% раствора гидроксида натрия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NaOH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ипятить на водяной бане 10 минут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створ становится мутновато-желтым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3286080"/>
            <a:ext cx="4059720" cy="28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3" name="Picture 2" descr="C:\Users\Лиза\Desktop\pUXNgC3GlkQ.jpg"/>
          <p:cNvPicPr/>
          <p:nvPr/>
        </p:nvPicPr>
        <p:blipFill>
          <a:blip r:embed="rId1"/>
          <a:stretch/>
        </p:blipFill>
        <p:spPr>
          <a:xfrm>
            <a:off x="928800" y="4000680"/>
            <a:ext cx="3142800" cy="2571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Лиза\Desktop\R42DWLDLREc.jpg"/>
          <p:cNvPicPr/>
          <p:nvPr/>
        </p:nvPicPr>
        <p:blipFill>
          <a:blip r:embed="rId2"/>
          <a:stretch/>
        </p:blipFill>
        <p:spPr>
          <a:xfrm>
            <a:off x="5357880" y="3500280"/>
            <a:ext cx="2642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1. Растворение ногтя в щелочи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6" name="Picture 5" descr="C:\Users\Лиза\Desktop\hkXufuf46Xg.jpg"/>
          <p:cNvPicPr/>
          <p:nvPr/>
        </p:nvPicPr>
        <p:blipFill>
          <a:blip r:embed="rId1"/>
          <a:stretch/>
        </p:blipFill>
        <p:spPr>
          <a:xfrm flipH="1">
            <a:off x="6715440" y="1714320"/>
            <a:ext cx="2085120" cy="307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8" name="Picture 4" descr="C:\Users\Лиза\Desktop\szmfsGfxxQc.jpg"/>
          <p:cNvPicPr/>
          <p:nvPr/>
        </p:nvPicPr>
        <p:blipFill>
          <a:blip r:embed="rId2"/>
          <a:stretch/>
        </p:blipFill>
        <p:spPr>
          <a:xfrm>
            <a:off x="4643280" y="3214800"/>
            <a:ext cx="2071440" cy="31428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6"/>
          <p:cNvSpPr/>
          <p:nvPr/>
        </p:nvSpPr>
        <p:spPr>
          <a:xfrm>
            <a:off x="357120" y="1643040"/>
            <a:ext cx="5143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тобы ускорить растворение, необходимо тщательно размешивать и разминать ноготь в пробир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еклянной палоч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оготь раствор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ывод: в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ещество,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торого состоит ноготь, взаимодействует с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щел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00" strike="noStrike">
                <a:solidFill>
                  <a:srgbClr val="f9f9f9"/>
                </a:solidFill>
                <a:latin typeface="Constantia"/>
              </a:rPr>
              <a:t>Опыт 2. Биуретовая реакция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86120" cy="49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явление бледно-сиреневого окрашивания при добавлении в щелочной раствор ногтя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рех капель раствора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льфата меди (II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CuSO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ывод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оть состоит из протеина (белка), так как такое окрашивание свидетельствует о наличии пептидных связей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14960" y="1523880"/>
            <a:ext cx="35715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3" name="Picture 2" descr="C:\Users\Лиза\Desktop\TdvDU6vsDFw.jpg"/>
          <p:cNvPicPr/>
          <p:nvPr/>
        </p:nvPicPr>
        <p:blipFill>
          <a:blip r:embed="rId1"/>
          <a:stretch/>
        </p:blipFill>
        <p:spPr>
          <a:xfrm>
            <a:off x="5214960" y="1628640"/>
            <a:ext cx="357156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153</TotalTime>
  <Application>LibreOffice/7.4.7.2$Linux_X86_64 LibreOffice_project/40$Build-2</Application>
  <AppVersion>15.0000</AppVersion>
  <Words>492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8T17:50:04Z</dcterms:created>
  <dc:creator>Лиза</dc:creator>
  <dc:description/>
  <dc:language>en-US</dc:language>
  <cp:lastModifiedBy>Olga</cp:lastModifiedBy>
  <dcterms:modified xsi:type="dcterms:W3CDTF">2021-03-30T18:45:29Z</dcterms:modified>
  <cp:revision>39</cp:revision>
  <dc:subject/>
  <dc:title>Биохимический анализ производных ног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