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CE6D1E-92C3-4845-8F49-7B29604D9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745275-45C3-474A-8311-DA346B93A9C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70B42-1917-4790-8DE7-80833BAF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3A0F-9817-4994-B26E-C8193A54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D7A26-5513-4CE8-ABF2-6F0289CA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0F0D-69F1-4C52-A898-2475F107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F1A54-0419-45DA-8BE7-BF2A990A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02058-FB96-43A9-AE2C-A917516E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F45FF-1B4E-426D-AF05-DFD4FFFA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236A9-5634-4B84-8FFD-58C7BC2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7BD3F-CA6A-4A2A-A1E7-E7FBCEA1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A5537-660A-4626-87F6-9E3A776B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92AA3-5F17-4799-95B3-189B2908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F303-4BC8-4ABF-BE51-FBF1CACC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A2FE5-557A-4708-98EF-5AABA20B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89012-1736-44B8-A19C-5A2F6757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33C8C-D402-4D46-A3F3-215B2104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D538F-0D89-4AE6-AB1B-84441CFF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B5081-60B1-4788-9240-7B66CFD9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D8CEA-CAE6-4A25-B40E-24987108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D676-3E37-4B6A-8754-389AC8B0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06C3C-7282-49F4-A608-6486134A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B1EE-99A3-405F-ADBE-D7EA2895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3D4F-A766-41AB-8667-7810D51D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B4A3-4A4F-44C3-97E1-119BA2E4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BA09-444E-4117-9FEA-33B03A45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41EF-9C0D-4527-BAD5-27942D5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055F-7789-44F3-A350-E4A72A8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C603-1789-481B-940C-9E1204AD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8D0B8-05B2-4F15-9D60-37433036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591C-60B8-4823-98C8-BDA6DC69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621F-251F-4BA8-AA62-86E5AD56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6EB4-EA4A-4845-9B2B-D52E1FA4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F8ED-4B22-49BF-BAFE-4730997A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55A6-5B72-4744-9E4B-FBDCDEC0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DE8D-ECCB-4F18-BAC1-B2C13E21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3F42-63ED-4831-99DF-366EA721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B5AA-4766-4C32-84ED-D6111DC3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A076EAD-C3DF-49FE-909D-2911E7E6EB8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E9299E7-8B37-4230-845E-2A2DCCD13B9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E5C3FB2-3BA8-4DCE-9F4B-8C47A3FAD9A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369972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97" strike="noStrike">
                <a:solidFill>
                  <a:srgbClr val="fefac9"/>
                </a:solidFill>
                <a:latin typeface="Constantia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97" strike="noStrike">
                <a:solidFill>
                  <a:srgbClr val="fefac9"/>
                </a:solidFill>
                <a:latin typeface="Constantia"/>
              </a:rPr>
              <a:t>ученица 11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97" strike="noStrike">
                <a:solidFill>
                  <a:srgbClr val="fefac9"/>
                </a:solidFill>
                <a:latin typeface="Constantia"/>
              </a:rPr>
              <a:t>МКОУ «Богучарская СОШ № 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97" strike="noStrike">
                <a:solidFill>
                  <a:srgbClr val="fefac9"/>
                </a:solidFill>
                <a:latin typeface="Constantia"/>
              </a:rPr>
              <a:t>Баглачева Елиза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00" strike="noStrike">
                <a:solidFill>
                  <a:srgbClr val="f9f9f9"/>
                </a:solidFill>
                <a:latin typeface="Constantia"/>
              </a:rPr>
              <a:t>Биохимический анализ производных кожи (ногти)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5840" y="152280"/>
            <a:ext cx="840060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Опыт 3. Обнаружение аминокислоты цистеина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14200" y="1523880"/>
            <a:ext cx="6429240" cy="50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добавлении серной кислоты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(H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щелочной раствор ногтя наблюдается  помутнение, затем образование белого осадка (происходит коагуляция растворенного в щелочи белка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щущается запах сероводород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(H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)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наличие которого определяется с помощью смоченной раствором ацетата свинц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((CH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O)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b)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лоски бумаги (при опускании в пробирку бумага почернела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CH3COO)2Pb + H2S = PbS + 2CH3COOH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начит, образовался сульфид свинца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ывод: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составе ногтя присутствует серосодержащая аминокислота цистеин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3800" y="1523880"/>
            <a:ext cx="206424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7" name="Picture 2" descr="C:\Users\Лиза\Desktop\cFq2ShJOqhU.jpg"/>
          <p:cNvPicPr/>
          <p:nvPr/>
        </p:nvPicPr>
        <p:blipFill>
          <a:blip r:embed="rId1"/>
          <a:stretch/>
        </p:blipFill>
        <p:spPr>
          <a:xfrm>
            <a:off x="6643800" y="1196640"/>
            <a:ext cx="2071440" cy="266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Users\Лиза\Desktop\9J1Ksqjz4z8.jpg"/>
          <p:cNvPicPr/>
          <p:nvPr/>
        </p:nvPicPr>
        <p:blipFill>
          <a:blip r:embed="rId2"/>
          <a:stretch/>
        </p:blipFill>
        <p:spPr>
          <a:xfrm>
            <a:off x="6643800" y="3857760"/>
            <a:ext cx="20714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Опыт 4. Ксантопротеиновая реакция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690048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усочек ногтя поместить в пробирку, добавить концентрированную азотную кислоту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HN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огреть в кипящей водяной бан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оготь не разрушается, но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крашивается в желтый цвет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 подщелачивании раствора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краска становится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расно-коричневой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ывод: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составе ногтя 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сутствуют ароматические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минокислоты тирозин,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енилаланин, триптофан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15000" y="2714760"/>
            <a:ext cx="299268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2" descr="C:\Users\Лиза\Desktop\MwEhELK3hs8.jpg"/>
          <p:cNvPicPr/>
          <p:nvPr/>
        </p:nvPicPr>
        <p:blipFill>
          <a:blip r:embed="rId1"/>
          <a:stretch/>
        </p:blipFill>
        <p:spPr>
          <a:xfrm>
            <a:off x="5715000" y="2786040"/>
            <a:ext cx="299988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кань ногтя состоит из белка, растворяющегося в щелочной среде и содержащего аминокислоты цистеин, аргинин, тирозин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состав роговых образований (ногтей) входят белки склеропротеины (кератины), которые имеют фибриллярную структуру с вытянутыми молекулами, прошитыми дисульфидными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S-S)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вязями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лагодаря такой канатообразной структуре ногти обладают прочностью и эластичностью, что определяет их функции в организме человек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став ногтей соответствует их функциям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04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Заключение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яснить, какие химические вещества образуют ногти человека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Задачи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зучить химическую природу ткани ногтя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явить соответствие состава ногтей их функциям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вести опыты, которые позволят установить природу ткани ногтя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ипотеза: ногти человека состоят из белка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Цель исследования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8229240" cy="43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ъект исследован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ещество, образующее ногти человек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дмет исследования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гти человек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Методы исследования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учение научно-популярной литературы, анкетирование, эксперимент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77588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1" lang="ru-RU" sz="4000" spc="-100" strike="noStrike">
                <a:solidFill>
                  <a:srgbClr val="f9f9f9"/>
                </a:solidFill>
                <a:latin typeface="Constantia"/>
              </a:rPr>
              <a:t>Гипотеза</a:t>
            </a:r>
            <a:br>
              <a:rPr sz="4200"/>
            </a:br>
            <a:r>
              <a:rPr b="1" lang="ru-RU" sz="3100" spc="-100" strike="noStrike">
                <a:solidFill>
                  <a:srgbClr val="f9f9f9"/>
                </a:solidFill>
                <a:latin typeface="Constantia"/>
              </a:rPr>
              <a:t>ногти человека состоят из белка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ждый образованный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еловек  должен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нимать, какую роль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полняют  части его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рганизма, в том числе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 ногти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Актуальность темы 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1" name="Picture 2" descr="C:\Users\Лиза\Desktop\1569262867_klassicheskij-manikjur-34.jpg"/>
          <p:cNvPicPr/>
          <p:nvPr/>
        </p:nvPicPr>
        <p:blipFill>
          <a:blip r:embed="rId1"/>
          <a:stretch/>
        </p:blipFill>
        <p:spPr>
          <a:xfrm>
            <a:off x="4857840" y="2214720"/>
            <a:ext cx="3672000" cy="36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Что такое «ногти»</a:t>
            </a:r>
            <a:r>
              <a:rPr b="1" lang="en-US" sz="3600" spc="-100" strike="noStrike">
                <a:solidFill>
                  <a:srgbClr val="f9f9f9"/>
                </a:solidFill>
                <a:latin typeface="Constantia"/>
              </a:rPr>
              <a:t>?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гти — не просто украшение кончиков пальцев, это часть покровной системы организма, защищающей внутренние органы от повреждений и проникновения инфекци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5" name="Picture 2" descr="C:\Users\Лиза\Desktop\1569262867_klassicheskij-manikjur-34.jpg"/>
          <p:cNvPicPr/>
          <p:nvPr/>
        </p:nvPicPr>
        <p:blipFill>
          <a:blip r:embed="rId1"/>
          <a:stretch/>
        </p:blipFill>
        <p:spPr>
          <a:xfrm>
            <a:off x="4860000" y="2133000"/>
            <a:ext cx="3672000" cy="309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Лиза\Desktop\1569262867_klassicheskij-manikjur-34.jpg"/>
          <p:cNvPicPr/>
          <p:nvPr/>
        </p:nvPicPr>
        <p:blipFill>
          <a:blip r:embed="rId2"/>
          <a:stretch/>
        </p:blipFill>
        <p:spPr>
          <a:xfrm>
            <a:off x="4857840" y="2143080"/>
            <a:ext cx="367200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асти ногтя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атрикс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. Ногтевая пластина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3. Ногтевое ложе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4. Кутикула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Строение ногтей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9" name="Picture 2" descr="C:\Users\Лиза\Desktop\1569262867_klassicheskij-manikjur-34.jpg"/>
          <p:cNvPicPr/>
          <p:nvPr/>
        </p:nvPicPr>
        <p:blipFill>
          <a:blip r:embed="rId1"/>
          <a:stretch/>
        </p:blipFill>
        <p:spPr>
          <a:xfrm>
            <a:off x="4857840" y="2143080"/>
            <a:ext cx="3672000" cy="36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Опыт 1. Растворение ногтя в щелочи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5768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бирку опустить кусочек ногтя и залить его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 мл 5% раствора гидроксида натрия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NaOH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ипятить на водяной бане 10 минут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створ становится мутновато-желтым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3286080"/>
            <a:ext cx="4059720" cy="28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3" name="Picture 2" descr="C:\Users\Лиза\Desktop\pUXNgC3GlkQ.jpg"/>
          <p:cNvPicPr/>
          <p:nvPr/>
        </p:nvPicPr>
        <p:blipFill>
          <a:blip r:embed="rId1"/>
          <a:stretch/>
        </p:blipFill>
        <p:spPr>
          <a:xfrm>
            <a:off x="928800" y="4000680"/>
            <a:ext cx="3142800" cy="2571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Лиза\Desktop\R42DWLDLREc.jpg"/>
          <p:cNvPicPr/>
          <p:nvPr/>
        </p:nvPicPr>
        <p:blipFill>
          <a:blip r:embed="rId2"/>
          <a:stretch/>
        </p:blipFill>
        <p:spPr>
          <a:xfrm>
            <a:off x="5357880" y="3500280"/>
            <a:ext cx="26427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rgbClr val="f9f9f9"/>
                </a:solidFill>
                <a:latin typeface="Constantia"/>
              </a:rPr>
              <a:t>Опыт 1. Растворение ногтя в щелочи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6" name="Picture 5" descr="C:\Users\Лиза\Desktop\hkXufuf46Xg.jpg"/>
          <p:cNvPicPr/>
          <p:nvPr/>
        </p:nvPicPr>
        <p:blipFill>
          <a:blip r:embed="rId1"/>
          <a:stretch/>
        </p:blipFill>
        <p:spPr>
          <a:xfrm flipH="1">
            <a:off x="6715440" y="1714320"/>
            <a:ext cx="2085120" cy="307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8" name="Picture 4" descr="C:\Users\Лиза\Desktop\szmfsGfxxQc.jpg"/>
          <p:cNvPicPr/>
          <p:nvPr/>
        </p:nvPicPr>
        <p:blipFill>
          <a:blip r:embed="rId2"/>
          <a:stretch/>
        </p:blipFill>
        <p:spPr>
          <a:xfrm>
            <a:off x="4643280" y="3214800"/>
            <a:ext cx="2071440" cy="314280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6"/>
          <p:cNvSpPr/>
          <p:nvPr/>
        </p:nvSpPr>
        <p:spPr>
          <a:xfrm>
            <a:off x="357120" y="1643040"/>
            <a:ext cx="5143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тобы ускорить растворение, необходимо тщательно размешивать и разминать ноготь в пробир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теклянной палоч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оготь раствор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ывод: в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ещество,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торого состоит ноготь, взаимодействует с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щелоч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00" strike="noStrike">
                <a:solidFill>
                  <a:srgbClr val="f9f9f9"/>
                </a:solidFill>
                <a:latin typeface="Constantia"/>
              </a:rPr>
              <a:t>Опыт 2. Биуретовая реакция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686120" cy="49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явление бледно-сиреневого окрашивания при добавлении в щелочной раствор ногтя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рех капель раствора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льфата меди (II)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CuSO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ывод: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готь состоит из протеина (белка), так как такое окрашивание свидетельствует о наличии пептидных связей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14960" y="1523880"/>
            <a:ext cx="357156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3" name="Picture 2" descr="C:\Users\Лиза\Desktop\TdvDU6vsDFw.jpg"/>
          <p:cNvPicPr/>
          <p:nvPr/>
        </p:nvPicPr>
        <p:blipFill>
          <a:blip r:embed="rId1"/>
          <a:stretch/>
        </p:blipFill>
        <p:spPr>
          <a:xfrm>
            <a:off x="5214960" y="1628640"/>
            <a:ext cx="3571560" cy="46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153</TotalTime>
  <Application>LibreOffice/7.4.7.2$Linux_X86_64 LibreOffice_project/40$Build-2</Application>
  <AppVersion>15.0000</AppVersion>
  <Words>492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8T17:50:04Z</dcterms:created>
  <dc:creator>Лиза</dc:creator>
  <dc:description/>
  <dc:language>en-US</dc:language>
  <cp:lastModifiedBy>Olga</cp:lastModifiedBy>
  <dcterms:modified xsi:type="dcterms:W3CDTF">2021-03-30T18:45:29Z</dcterms:modified>
  <cp:revision>39</cp:revision>
  <dc:subject/>
  <dc:title>Биохимический анализ производных ног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