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wmf" ContentType="image/x-wmf"/>
  <Override PartName="/ppt/media/image29.wmf" ContentType="image/x-wmf"/>
  <Override PartName="/ppt/media/image2.png" ContentType="image/png"/>
  <Override PartName="/ppt/media/image25.jpeg" ContentType="image/jpeg"/>
  <Override PartName="/ppt/media/image4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17.png" ContentType="image/png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559675" cy="10691813"/>
  <p:custShowLst>
    <p:custShow name="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53"/>
      </p:sldLst>
    </p:custShow>
    <p:custShow name="2" id="1">
      <p:sldLst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C959-7CDD-4827-A1F2-BCE7EAD8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0965-6C4C-4ABE-8FD4-253FEE88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B458-3259-4A66-8DE4-1CDC17AF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54AF6-DD33-44DC-B382-E0602BB8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60CA-E579-4684-B665-FB7E7C4D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1ED7-24A0-481D-BBEA-9C169653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CB63-81A0-4F7A-9C26-702951E9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0F75-F02A-4D47-96B1-8D75CB76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334F9-FEA6-4AA3-9FF3-30CAADC8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555F-5116-43B4-8C72-730B4CF0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3E72-BAC2-4993-9BCF-2C1AE1FC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AF42-98B4-4BE9-BE97-54298FB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1A7C-8171-4391-A2E2-36666CE54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93000"/>
            <a:ext cx="1692360" cy="765000"/>
          </a:xfrm>
          <a:solidFill>
            <a:srgbClr val="ff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Традиционный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показ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7451640" y="6093000"/>
            <a:ext cx="1692360" cy="765000"/>
          </a:xfrm>
          <a:solidFill>
            <a:srgbClr val="ff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По методике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Домана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сын чернее ночи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Грязь лежит на рожице,-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Ясно, это </a:t>
            </a: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ПЛОХО ОЧЕНЬ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Для ребячьей кожицы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мальчик любит мыло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И зубной порошок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мальчик очень милый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Поступает </a:t>
            </a:r>
            <a:r>
              <a:rPr b="1" lang="ru-RU" sz="60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О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492360" cy="27702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бьёт дрянной драчун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Слабого мальчишку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Я такого не хочу 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Даже вставить в книжку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8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вот кричит: 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Не трожь тех, 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кто меньше ростом!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мальчик так хорош,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 Narrow"/>
                <a:ea typeface="DejaVu Sans"/>
              </a:rPr>
              <a:t>ЗАГЛЯДЕНЬЕ ПРОСТО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ты порвал подряд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Книжицу и мячик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Октябрята говорят:</a:t>
            </a:r>
            <a:br>
              <a:rPr sz="6600"/>
            </a:b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ПЛОХОВАТЫЙ МАЛЬЧИК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3120" y="423720"/>
            <a:ext cx="8445600" cy="38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Презентация «Что такое хорошо и что такое плохо» выполнена по известному стихотворению Владимира Маяковского, которое все знают с детства, оно напоминает деткам о том, что делать хорошо, а что плохо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В презентации  предусмотрено два вида показа слайдов: традиционный и по методике Доман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Показ по методике Домана предназначен для совершенствования навыков чтения у детей раннего возраста, занимающихся по данной методике. Согласно методике, сначала идет текст, затем картинк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Рисунки сканированы с книги и обработаны, а некоторые смонтированы в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DejaVu Sans"/>
              </a:rPr>
              <a:t>Photoshop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20000" y="476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91200" y="2708280"/>
            <a:ext cx="3419640" cy="34876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мальчик любит труд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Тычет в книжку пальчик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Про такого пишут тут: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Он </a:t>
            </a:r>
            <a:r>
              <a:rPr b="1" lang="ru-RU" sz="60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ИЙ МАЛЬЧИК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1511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79280" y="2349360"/>
            <a:ext cx="3165480" cy="3456000"/>
            <a:chOff x="179280" y="2349360"/>
            <a:chExt cx="3165480" cy="345600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179280" y="4000680"/>
              <a:ext cx="3165480" cy="18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1415880" y="3213000"/>
              <a:ext cx="72720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887400" y="2349360"/>
              <a:ext cx="1765440" cy="12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2000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От вороны карапуз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Убежал, заохав.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Мальчик этот просто трус.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 </a:t>
            </a:r>
            <a:r>
              <a:rPr b="1" lang="ru-RU" sz="6000" spc="-1" strike="noStrike">
                <a:solidFill>
                  <a:srgbClr val="000099"/>
                </a:solidFill>
                <a:latin typeface="Arial Narrow"/>
                <a:ea typeface="DejaVu Sans"/>
              </a:rPr>
              <a:t>ОЧЕНЬ ПЛОХО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хоть и сам с вершок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Спорит с грозной птицей.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Храбрый мальчик, </a:t>
            </a:r>
            <a:r>
              <a:rPr b="1" lang="ru-RU" sz="60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О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В жизни пригодится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в грязь полез и рад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Что грязна рубаха.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Про такого говорят: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Он плохой, </a:t>
            </a: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НЕРЯХА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чистит валенки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Моет сам галоши.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Он хотя и маленький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Но вполне </a:t>
            </a:r>
            <a:r>
              <a:rPr b="1" lang="ru-RU" sz="66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ИЙ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Крошка сын к отцу пришёл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И спросила кроха: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- Что такое </a:t>
            </a:r>
            <a:r>
              <a:rPr b="1" lang="ru-RU" sz="6000" spc="-1" strike="noStrike">
                <a:solidFill>
                  <a:srgbClr val="ff0000"/>
                </a:solidFill>
                <a:latin typeface="Arial Narrow"/>
              </a:rPr>
              <a:t>ХОРОШО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и что такое </a:t>
            </a:r>
            <a:r>
              <a:rPr b="1" lang="ru-RU" sz="6000" spc="-1" strike="noStrike">
                <a:solidFill>
                  <a:srgbClr val="000099"/>
                </a:solidFill>
                <a:latin typeface="Arial Narrow"/>
              </a:rPr>
              <a:t>ПЛОХО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Помни это каждый сын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Знай любой ребёнок: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Вырастет из сына свин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сын – свинёнок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Мальчик радостный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 пошёл, и решила кроха: «Буду делать </a:t>
            </a:r>
            <a:r>
              <a:rPr b="1" lang="ru-RU" sz="66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О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 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И не буду – </a:t>
            </a: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ПЛОХО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»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50920" y="260280"/>
            <a:ext cx="8640720" cy="5799240"/>
            <a:chOff x="250920" y="260280"/>
            <a:chExt cx="8640720" cy="57992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8640720" cy="57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971640" y="331920"/>
              <a:ext cx="7127640" cy="51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093080" y="3357720"/>
            <a:ext cx="1774800" cy="327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2022480" cy="334944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03640" y="544500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Крошка сын к отцу пришёл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спросила кроха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- Что так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О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что тако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24000" y="44280"/>
            <a:ext cx="8640720" cy="5799240"/>
            <a:chOff x="324000" y="44280"/>
            <a:chExt cx="8640720" cy="57992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324000" y="44280"/>
              <a:ext cx="8640720" cy="57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044720" y="115920"/>
              <a:ext cx="712764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643280" y="404640"/>
              <a:ext cx="0" cy="47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1682640" cy="327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659640" y="3141720"/>
            <a:ext cx="2011320" cy="334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71640" y="544500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efd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У меня секретов нет, -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Слушайте, детишки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апы этого ответ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омещаю в книжке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26028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ветер крыши рвёт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град загрохал, -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Каждый знает – это вот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Для прогулок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76500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Дождь покапал и прошёл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Солнце в целом свете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ОЧЕНЬ ХОРОШО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большим и детям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8900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сын чернее ночи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Грязь лежит на рожице,-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Ясно, эт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 ОЧЕНЬ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Для ребячьей кожиц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1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492360" cy="2770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530064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мальчик любит мыло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зубной порошок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мальчик очень милый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оступ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18900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бьёт дрянной драчун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Слабого мальчишку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Я такого не хочу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Даже вставить в книжку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189000"/>
            <a:ext cx="3961080" cy="1439640"/>
          </a:xfrm>
          <a:custGeom>
            <a:avLst/>
            <a:gdLst/>
            <a:ahLst/>
            <a:rect l="l" t="t" r="r" b="b"/>
            <a:pathLst>
              <a:path w="11003" h="3999">
                <a:moveTo>
                  <a:pt x="0" y="1965"/>
                </a:moveTo>
                <a:lnTo>
                  <a:pt x="1965" y="1965"/>
                </a:lnTo>
                <a:lnTo>
                  <a:pt x="180" y="90"/>
                </a:lnTo>
                <a:lnTo>
                  <a:pt x="9038" y="0"/>
                </a:lnTo>
                <a:lnTo>
                  <a:pt x="1965" y="1965"/>
                </a:lnTo>
                <a:lnTo>
                  <a:pt x="270" y="90"/>
                </a:lnTo>
                <a:lnTo>
                  <a:pt x="11003" y="2034"/>
                </a:lnTo>
                <a:lnTo>
                  <a:pt x="1965" y="1965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вот кричит: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Не трожь тех,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кто меньше ростом!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мальчик так хорош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ЗАГЛЯДЕНЬЕ ПРОСТ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20000" y="476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1200" y="2708280"/>
            <a:ext cx="3419640" cy="3487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32360" y="544500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ты порвал подряд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Книжицу и мячик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ктябрята говорят: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ВАТЫЙ МАЛЬЧИК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9000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1511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79280" y="2349360"/>
            <a:ext cx="3165480" cy="3456000"/>
            <a:chOff x="179280" y="2349360"/>
            <a:chExt cx="3165480" cy="3456000"/>
          </a:xfrm>
        </p:grpSpPr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179280" y="4000680"/>
              <a:ext cx="3165480" cy="18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1415880" y="3213000"/>
              <a:ext cx="72720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887400" y="2349360"/>
              <a:ext cx="1765440" cy="12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79280" y="544500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мальчик любит труд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Тычет в книжку пальчик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ро такого пишут тут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ИЙ МАЛЬЧИК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9000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859280" y="522936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т вороны карапуз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Убежал, заохав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Мальчик этот просто трус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ОЧЕНЬ ПЛОХ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33336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хоть и сам с вершок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Спорит с грозной птицей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Храбрый мальчик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В жизни пригодится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530064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в грязь полез и рад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Что грязна рубаха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ро такого говорят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н плохой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НЕРЯХА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067280" y="26028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чистит валенки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Моет сам галоши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н хотя и маленький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Но впол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ИЙ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9000">
    <p:cover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184464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омни это каждый сын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Знай любой ребёнок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Вырастет из сына свин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сын – свинёнок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У меня секретов нет, -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Слушайте, детишки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Папы этого ответ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Помещаю в книжке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50920" y="260280"/>
            <a:ext cx="8640720" cy="5799240"/>
            <a:chOff x="250920" y="260280"/>
            <a:chExt cx="8640720" cy="57992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8640720" cy="57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971640" y="331920"/>
              <a:ext cx="7127640" cy="51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093080" y="3357720"/>
            <a:ext cx="1774800" cy="3276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2022480" cy="334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56000" y="544500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efd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Мальчик радостный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 пошёл, и решила кроха: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«Буду дел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не буду –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800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93080" y="3357720"/>
            <a:ext cx="1771560" cy="32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2022480" cy="334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411280" y="2060640"/>
            <a:ext cx="4176720" cy="1584360"/>
          </a:xfrm>
          <a:prstGeom prst="rect">
            <a:avLst/>
          </a:prstGeom>
        </p:spPr>
        <p:txBody>
          <a:bodyPr wrap="none" fromWordArt="1" lIns="90000" rIns="90000" tIns="46800" bIns="46800" anchor="ctr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9900"/>
                </a:solidFill>
                <a:latin typeface="DejaVu Sans"/>
              </a:rPr>
              <a:t>КОНЕЦ</a:t>
            </a:r>
            <a:endParaRPr b="0" lang="en-US" sz="1800" spc="-1" strike="noStrike">
              <a:ln w="0">
                <a:noFill/>
              </a:ln>
              <a:solidFill>
                <a:srgbClr val="ff9900"/>
              </a:solidFill>
              <a:latin typeface="DejaVu Sans"/>
              <a:ea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24000" y="44280"/>
            <a:ext cx="8640720" cy="5799240"/>
            <a:chOff x="324000" y="44280"/>
            <a:chExt cx="8640720" cy="5799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24000" y="44280"/>
              <a:ext cx="8640720" cy="57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1044720" y="115920"/>
              <a:ext cx="712764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43280" y="404640"/>
              <a:ext cx="0" cy="47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1682640" cy="327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59640" y="3141720"/>
            <a:ext cx="2011320" cy="334944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8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 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ветер крыши рвёт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град загрохал, - 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Каждый знает – это вот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Для прогулок </a:t>
            </a: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ПЛОХО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Дождь покапал и прошёл.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Солнце в целом свете.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 – </a:t>
            </a:r>
            <a:r>
              <a:rPr b="1" lang="ru-RU" sz="6600" spc="-1" strike="noStrike">
                <a:solidFill>
                  <a:srgbClr val="ff0000"/>
                </a:solidFill>
                <a:latin typeface="Arial Narrow"/>
                <a:ea typeface="DejaVu Sans"/>
              </a:rPr>
              <a:t>ОЧЕНЬ ХОРОШО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И большим и детям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2T06:56:09Z</dcterms:created>
  <dc:creator/>
  <dc:description/>
  <dc:language>en-US</dc:language>
  <cp:lastModifiedBy>Виктор А. Солонецкий</cp:lastModifiedBy>
  <dcterms:modified xsi:type="dcterms:W3CDTF">2014-01-06T20:29:40Z</dcterms:modified>
  <cp:revision>14</cp:revision>
  <dc:subject/>
  <dc:title>Что такое хорошо и что такое плох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