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B49-C8F2-4D02-9B73-668944CF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90B-800F-4380-9FA1-408BD5A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AFB-1BE3-49A5-9D1B-FCBD193B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7FA-1163-4906-9B61-5C9159CE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2099-F0C4-42A9-BB2F-F70843ED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328A-9804-4412-B56C-709BB35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4B68-EA2D-499C-B105-F2679133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3110-124F-4000-A372-C079B27F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0014-5864-4239-97AA-3D4F2EED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A55E-9772-403E-B4B5-9E9A0421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96F4-78B1-4928-9D1C-2159740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22D-D5DC-404B-9FF1-3B4A8687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BB57-C426-4103-8E6C-0E7CD489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34F1-E08E-4D52-BCD6-94270EF8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06AF-E373-41F5-B0DC-3775428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AC57-9446-4E62-8EC1-B04407A3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16B8-81E6-4E0A-863E-9C0D11CC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A96-83D1-43FD-93E3-0F74B41B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771-E291-4AB8-A3CF-F9FA209D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B93-10A7-4BF2-92E0-FD9B699B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0EC-6193-4B64-8958-ADA8F49C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CA4-FEFC-4754-AF5E-D511E21F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432-0E77-4A09-8A01-50F66AE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1B1-1571-4BB7-B2A0-323A0F04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85A8-BE9F-4ED7-AF13-46270C7BB2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53A0-DD9A-49EC-9F85-B73CD20A9A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45000"/>
            <a:ext cx="2014560" cy="1008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5373720"/>
            <a:ext cx="1871640" cy="10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1699920"/>
            <a:ext cx="7469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Диагностика по разделу «Формирование элементарных математических представлений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79280" y="3860280"/>
            <a:ext cx="50007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ятый год жиз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005360"/>
            <a:ext cx="1728720" cy="12240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0" y="3860640"/>
            <a:ext cx="1584360" cy="12970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4653000"/>
            <a:ext cx="2233440" cy="1224000"/>
          </a:xfrm>
          <a:prstGeom prst="rect">
            <a:avLst/>
          </a:prstGeom>
          <a:solidFill>
            <a:srgbClr val="ffcf01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знаний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геометрических фигур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51195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ложить круги, треугольники, квадраты, прямоугольники и назвать все группы фигу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205000"/>
            <a:ext cx="4334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2347920"/>
            <a:ext cx="647640" cy="289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2276640"/>
            <a:ext cx="360360" cy="360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227664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068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2997360"/>
            <a:ext cx="64908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3139920"/>
            <a:ext cx="1152720" cy="505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1640" y="2997360"/>
            <a:ext cx="647640" cy="647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006800"/>
            <a:ext cx="936720" cy="934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4078440"/>
            <a:ext cx="936720" cy="86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221000"/>
            <a:ext cx="194472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3933720"/>
            <a:ext cx="1152360" cy="100800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риентировка в пространстве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483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казать, что слева от треугольника, что справа, что вперед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2852640"/>
            <a:ext cx="1295640" cy="136836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3716280"/>
            <a:ext cx="19432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139920"/>
            <a:ext cx="1152720" cy="1081080"/>
          </a:xfrm>
          <a:prstGeom prst="rect">
            <a:avLst/>
          </a:prstGeom>
          <a:solidFill>
            <a:srgbClr val="ffcf01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5640" y="3284640"/>
            <a:ext cx="194472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Умение ориентироваться во времени, назвать части суток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ложить картинки по порядку, начиная с утра, а затем сказать, в какой временной отрезок что происходил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ое сейчас время суто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95280" y="2349360"/>
            <a:ext cx="8280360" cy="1244880"/>
            <a:chOff x="395280" y="2349360"/>
            <a:chExt cx="8280360" cy="12448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395280" y="2421000"/>
              <a:ext cx="1800360" cy="11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2556000" y="2421000"/>
              <a:ext cx="17287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4716360" y="2349360"/>
              <a:ext cx="187164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">
              <a:lum bright="6000"/>
            </a:blip>
            <a:stretch/>
          </p:blipFill>
          <p:spPr>
            <a:xfrm>
              <a:off x="6804000" y="2349360"/>
              <a:ext cx="1871640" cy="123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Умение ориентироваться во времени, назвать части суток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ложить картинки по порядку, начиная с утра, а затем сказать, в какой временной отрезок что происходил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ое сейчас время суто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1800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643280" y="2421000"/>
            <a:ext cx="1729080" cy="1173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484360" y="2421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804000" y="2349360"/>
            <a:ext cx="1871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ценка результатов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- балл ребёнок самостоятельно справляется с задани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,5 - балла  ребёнок справляется с заданием с дозированной помощью взрослого или со второй попыт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 - баллов  ребёнок не справляется с задани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Диагностические таблиц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8360" y="1916280"/>
          <a:ext cx="8209080" cy="4784400"/>
        </p:xfrm>
        <a:graphic>
          <a:graphicData uri="http://schemas.openxmlformats.org/drawingml/2006/table">
            <a:tbl>
              <a:tblPr/>
              <a:tblGrid>
                <a:gridCol w="360360"/>
                <a:gridCol w="1487520"/>
                <a:gridCol w="887400"/>
                <a:gridCol w="865440"/>
                <a:gridCol w="958680"/>
                <a:gridCol w="914400"/>
                <a:gridCol w="911160"/>
                <a:gridCol w="911520"/>
                <a:gridCol w="912600"/>
              </a:tblGrid>
              <a:tr h="82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милия, имя ребё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РИЕНТИРОВКА В ПРОСТРАН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РИЕНТИРОВКА ВО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пере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т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ч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Диагностическая кар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назначена для выявления знаний детей пятого года жизни по разделу «Формирование элементарных математических представлений.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навыков счёта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508464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считать мяч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3870" t="0" r="1290" b="0"/>
          <a:stretch/>
        </p:blipFill>
        <p:spPr>
          <a:xfrm>
            <a:off x="0" y="234936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870" t="0" r="1290" b="0"/>
          <a:stretch/>
        </p:blipFill>
        <p:spPr>
          <a:xfrm>
            <a:off x="1797120" y="234936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3870" t="0" r="1290" b="0"/>
          <a:stretch/>
        </p:blipFill>
        <p:spPr>
          <a:xfrm>
            <a:off x="3639960" y="234936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3870" t="0" r="1290" b="0"/>
          <a:stretch/>
        </p:blipFill>
        <p:spPr>
          <a:xfrm>
            <a:off x="5483160" y="234936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rcRect l="3870" t="0" r="1290" b="0"/>
          <a:stretch/>
        </p:blipFill>
        <p:spPr>
          <a:xfrm>
            <a:off x="7326360" y="2349360"/>
            <a:ext cx="153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знаний цифр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звать циф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ложить их по поряд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276640"/>
            <a:ext cx="6769080" cy="1557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1 3 5 2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276640"/>
            <a:ext cx="6769080" cy="1557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1 2 3 4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умения соотносить количество предметов с цифр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522900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считать пять ёлочек и четыре гриб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означить количества цифр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844640"/>
            <a:ext cx="6256080" cy="3384720"/>
            <a:chOff x="971640" y="1844640"/>
            <a:chExt cx="6256080" cy="338472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844640"/>
              <a:ext cx="6256080" cy="2408400"/>
              <a:chOff x="971640" y="1844640"/>
              <a:chExt cx="6256080" cy="240840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7164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36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36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87280" y="3141720"/>
                <a:ext cx="865440" cy="11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56000" y="3141720"/>
                <a:ext cx="865080" cy="11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708360" y="3141720"/>
                <a:ext cx="865080" cy="11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788000" y="3141720"/>
                <a:ext cx="865080" cy="11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40360" y="3070080"/>
                <a:ext cx="865080" cy="11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" descr=""/>
            <p:cNvPicPr/>
            <p:nvPr/>
          </p:nvPicPr>
          <p:blipFill>
            <a:blip r:embed="rId11"/>
            <a:stretch/>
          </p:blipFill>
          <p:spPr>
            <a:xfrm>
              <a:off x="1187280" y="4292640"/>
              <a:ext cx="7639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2"/>
            <a:stretch/>
          </p:blipFill>
          <p:spPr>
            <a:xfrm>
              <a:off x="1908000" y="4365720"/>
              <a:ext cx="6652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3"/>
            <a:stretch/>
          </p:blipFill>
          <p:spPr>
            <a:xfrm>
              <a:off x="2700360" y="4365720"/>
              <a:ext cx="6699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4"/>
            <a:stretch/>
          </p:blipFill>
          <p:spPr>
            <a:xfrm>
              <a:off x="3492360" y="4437000"/>
              <a:ext cx="60192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5"/>
            <a:stretch/>
          </p:blipFill>
          <p:spPr>
            <a:xfrm>
              <a:off x="4284720" y="4437000"/>
              <a:ext cx="558720" cy="73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45396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умений отсчитывать количество на один предмет больше или меньше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4760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считать белочек на одну больше, чем три гриб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считать белочек на одну меньше, чем четыре гриб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349280" y="2357280"/>
            <a:ext cx="6570720" cy="1173240"/>
            <a:chOff x="1349280" y="2357280"/>
            <a:chExt cx="6570720" cy="117324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1290" t="0" r="0" b="1443"/>
            <a:stretch/>
          </p:blipFill>
          <p:spPr>
            <a:xfrm>
              <a:off x="1349280" y="2357280"/>
              <a:ext cx="13147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rcRect l="1290" t="0" r="0" b="1443"/>
            <a:stretch/>
          </p:blipFill>
          <p:spPr>
            <a:xfrm>
              <a:off x="2644920" y="2357280"/>
              <a:ext cx="131436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rcRect l="1290" t="0" r="0" b="1443"/>
            <a:stretch/>
          </p:blipFill>
          <p:spPr>
            <a:xfrm>
              <a:off x="4013280" y="2357280"/>
              <a:ext cx="131436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4"/>
            <a:srcRect l="1290" t="0" r="0" b="1443"/>
            <a:stretch/>
          </p:blipFill>
          <p:spPr>
            <a:xfrm>
              <a:off x="5237280" y="2357280"/>
              <a:ext cx="131436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5"/>
            <a:srcRect l="1290" t="0" r="0" b="1443"/>
            <a:stretch/>
          </p:blipFill>
          <p:spPr>
            <a:xfrm>
              <a:off x="6605640" y="2357280"/>
              <a:ext cx="1314360" cy="117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1619280" y="364500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59280" y="364500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5435640" y="358308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5508720" y="358308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6877080" y="358308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4211640" y="3645000"/>
            <a:ext cx="8334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Умение сравнивать две группы предметов, по-разному расположенные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4903560"/>
            <a:ext cx="77724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их кувшинов больше (меньше) или их поровн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10526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105264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43280" y="2060640"/>
            <a:ext cx="1052640" cy="158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332000" y="3357720"/>
            <a:ext cx="544320" cy="105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979640" y="3357720"/>
            <a:ext cx="54432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627280" y="3357720"/>
            <a:ext cx="54468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знаний порядковых чисел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колько игрушек в ряду; какая по счёту собачк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1152" r="1163" b="1152"/>
          <a:stretch/>
        </p:blipFill>
        <p:spPr>
          <a:xfrm>
            <a:off x="826920" y="2079720"/>
            <a:ext cx="1622520" cy="1617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rcRect l="1290" t="0" r="0" b="1443"/>
          <a:stretch/>
        </p:blipFill>
        <p:spPr>
          <a:xfrm>
            <a:off x="2503440" y="2205000"/>
            <a:ext cx="1420920" cy="1268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rcRect l="0" t="0" r="1050" b="0"/>
          <a:stretch/>
        </p:blipFill>
        <p:spPr>
          <a:xfrm>
            <a:off x="4067280" y="2205000"/>
            <a:ext cx="140472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rcRect l="0" t="0" r="1290" b="0"/>
          <a:stretch/>
        </p:blipFill>
        <p:spPr>
          <a:xfrm>
            <a:off x="5802480" y="2133720"/>
            <a:ext cx="1096920" cy="136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236000" y="2205000"/>
            <a:ext cx="92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1800" y="43920"/>
            <a:ext cx="77932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умений раскладывать предметы по увеличению или уменьшению длин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5047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ложить полоски по порядку от самой длинной до самой короткой, а затем сказать, какие они по дли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2779560"/>
            <a:ext cx="230364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355920"/>
            <a:ext cx="468000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932280"/>
            <a:ext cx="3095640" cy="358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508640"/>
            <a:ext cx="1871640" cy="360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205000"/>
            <a:ext cx="3457440" cy="358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6:32:10Z</dcterms:created>
  <dc:creator/>
  <dc:description/>
  <dc:language>en-US</dc:language>
  <cp:lastModifiedBy/>
  <dcterms:modified xsi:type="dcterms:W3CDTF">2009-06-29T11:39:57Z</dcterms:modified>
  <cp:revision>69</cp:revision>
  <dc:subject/>
  <dc:title>Слайд 1</dc:title>
</cp:coreProperties>
</file>