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102-E315-478B-BC4A-93C965D1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6BC-5649-4757-9F5A-B51EAFDD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BA2-6B41-4A55-99C1-E64C492B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EE7-CF87-4156-BE27-4B10234B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CC75-0747-43D2-9682-5368C93E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A3AC-3BBC-494D-BE4B-0EB9282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2843-F049-4A85-A6A2-87379F3C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2CC-BA41-4C72-92AA-541AEEDC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D3F-9748-4753-AA53-2BAACB1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386A-547C-40C7-935B-ADAB6955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6039-37E5-4898-9CAA-D65DA0A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250-2260-46A5-9D01-2FF468A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BF26-3A6B-4DA0-B313-AE1BF938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E868-CC22-4763-BD3B-EB124CB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13A2-6807-435F-80E6-7B0AB81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3324-4BF0-4B51-BB02-17EF0A64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A8A-22A7-4260-8908-71F6954C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1E7-858D-4D0D-B95D-AEE2EB1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762-3463-43F3-AA7D-1049D3F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0C2-4330-4EEC-968D-F984B70E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CA8-6F0A-4829-A1DB-262DC9D0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CE4-9E85-48CD-B527-A8E5DBC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8C7-D759-4EE8-9107-04E675C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CB4-AFFF-49BB-8FC4-6226E25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70A6-515D-48EE-B7A7-A8AFFC0F2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774-20C2-41D4-8227-C80039029A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45000"/>
            <a:ext cx="2014560" cy="1008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373720"/>
            <a:ext cx="1871640" cy="100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699920"/>
            <a:ext cx="7469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ка по разделу «Формирование элементарных математических представлени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79280" y="3860280"/>
            <a:ext cx="50007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ятый год жи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005360"/>
            <a:ext cx="1728720" cy="12240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3860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4653000"/>
            <a:ext cx="2233440" cy="1224000"/>
          </a:xfrm>
          <a:prstGeom prst="rect">
            <a:avLst/>
          </a:prstGeom>
          <a:solidFill>
            <a:srgbClr val="ffcf01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геометрических фигу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5119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ложить круги, треугольники, квадраты, прямоугольники и назвать все группы фигу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205000"/>
            <a:ext cx="4334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347920"/>
            <a:ext cx="647640" cy="289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2276640"/>
            <a:ext cx="360360" cy="360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27664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068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97360"/>
            <a:ext cx="64908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3139920"/>
            <a:ext cx="1152720" cy="505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1640" y="2997360"/>
            <a:ext cx="647640" cy="647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006800"/>
            <a:ext cx="936720" cy="93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4078440"/>
            <a:ext cx="936720" cy="86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221000"/>
            <a:ext cx="19447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3933720"/>
            <a:ext cx="1152360" cy="1008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риентировка в пространств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483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азать, что слева от треугольника, что справа, что впере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2852640"/>
            <a:ext cx="1295640" cy="13683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3716280"/>
            <a:ext cx="194328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139920"/>
            <a:ext cx="1152720" cy="1081080"/>
          </a:xfrm>
          <a:prstGeom prst="rect">
            <a:avLst/>
          </a:prstGeom>
          <a:solidFill>
            <a:srgbClr val="ffcf01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5640" y="3284640"/>
            <a:ext cx="194472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ение ориентироваться во времени, назвать части суток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картинки по порядку, начиная с утра, а затем сказать, в какой временной отрезок что происходил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ейчас время суто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5280" y="2349360"/>
            <a:ext cx="8280360" cy="1244880"/>
            <a:chOff x="395280" y="2349360"/>
            <a:chExt cx="8280360" cy="1244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1800360" cy="11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556000" y="2421000"/>
              <a:ext cx="17287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4716360" y="2349360"/>
              <a:ext cx="187164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>
              <a:lum bright="6000"/>
            </a:blip>
            <a:stretch/>
          </p:blipFill>
          <p:spPr>
            <a:xfrm>
              <a:off x="6804000" y="2349360"/>
              <a:ext cx="1871640" cy="12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Умение ориентироваться во времени, назвать части суток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картинки по порядку, начиная с утра, а затем сказать, в какой временной отрезок что происходил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ейчас время суто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800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43280" y="2421000"/>
            <a:ext cx="1729080" cy="1173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84360" y="2421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804000" y="2349360"/>
            <a:ext cx="1871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ценка результато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- балл ребёнок самостоятельно справляется с зад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,5 - балла  ребёнок справляется с заданием с дозированной помощью взрослого или со второй попыт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 - баллов  ребёнок не справляется с зад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ческие таблиц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1916280"/>
          <a:ext cx="8209080" cy="4784400"/>
        </p:xfrm>
        <a:graphic>
          <a:graphicData uri="http://schemas.openxmlformats.org/drawingml/2006/table">
            <a:tbl>
              <a:tblPr/>
              <a:tblGrid>
                <a:gridCol w="360360"/>
                <a:gridCol w="1487520"/>
                <a:gridCol w="887400"/>
                <a:gridCol w="865440"/>
                <a:gridCol w="958680"/>
                <a:gridCol w="914400"/>
                <a:gridCol w="911160"/>
                <a:gridCol w="911520"/>
                <a:gridCol w="912600"/>
              </a:tblGrid>
              <a:tr h="82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РИЕНТИРОВКА В ПРОСТРАН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РИЕНТИРОВКА ВО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пер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ч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Диагностическая кар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назначена для выявления знаний детей пятого года жизни по разделу «Формирование элементарных математических представлений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навыков счёт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5084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считать мя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870" t="0" r="1290" b="0"/>
          <a:stretch/>
        </p:blipFill>
        <p:spPr>
          <a:xfrm>
            <a:off x="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870" t="0" r="1290" b="0"/>
          <a:stretch/>
        </p:blipFill>
        <p:spPr>
          <a:xfrm>
            <a:off x="179712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3870" t="0" r="1290" b="0"/>
          <a:stretch/>
        </p:blipFill>
        <p:spPr>
          <a:xfrm>
            <a:off x="363996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3870" t="0" r="1290" b="0"/>
          <a:stretch/>
        </p:blipFill>
        <p:spPr>
          <a:xfrm>
            <a:off x="5483160" y="234936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3870" t="0" r="1290" b="0"/>
          <a:stretch/>
        </p:blipFill>
        <p:spPr>
          <a:xfrm>
            <a:off x="7326360" y="2349360"/>
            <a:ext cx="153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циф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звать циф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их по поряд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276640"/>
            <a:ext cx="6769080" cy="1557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1 3 5 2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276640"/>
            <a:ext cx="6769080" cy="1557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1 2 3 4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я соотносить количество предметов с цифр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5229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пять ёлочек и четыре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означить количества циф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844640"/>
            <a:ext cx="6256080" cy="3384720"/>
            <a:chOff x="971640" y="1844640"/>
            <a:chExt cx="6256080" cy="338472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844640"/>
              <a:ext cx="6256080" cy="2408400"/>
              <a:chOff x="971640" y="1844640"/>
              <a:chExt cx="6256080" cy="24084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1844640"/>
                <a:ext cx="15033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3141720"/>
                <a:ext cx="86544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5600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0836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788000" y="314172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40360" y="3070080"/>
                <a:ext cx="865080" cy="11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" descr=""/>
            <p:cNvPicPr/>
            <p:nvPr/>
          </p:nvPicPr>
          <p:blipFill>
            <a:blip r:embed="rId11"/>
            <a:stretch/>
          </p:blipFill>
          <p:spPr>
            <a:xfrm>
              <a:off x="1187280" y="4292640"/>
              <a:ext cx="7639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1908000" y="4365720"/>
              <a:ext cx="665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3"/>
            <a:stretch/>
          </p:blipFill>
          <p:spPr>
            <a:xfrm>
              <a:off x="2700360" y="4365720"/>
              <a:ext cx="669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4"/>
            <a:stretch/>
          </p:blipFill>
          <p:spPr>
            <a:xfrm>
              <a:off x="3492360" y="4437000"/>
              <a:ext cx="6019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5"/>
            <a:stretch/>
          </p:blipFill>
          <p:spPr>
            <a:xfrm>
              <a:off x="4284720" y="4437000"/>
              <a:ext cx="558720" cy="73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4539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й отсчитывать количество на один предмет больше или меньш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4760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белочек на одну больше, чем три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считать белочек на одну меньше, чем четыре гриб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49280" y="2357280"/>
            <a:ext cx="6570720" cy="1173240"/>
            <a:chOff x="1349280" y="2357280"/>
            <a:chExt cx="6570720" cy="1173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1290" t="0" r="0" b="1443"/>
            <a:stretch/>
          </p:blipFill>
          <p:spPr>
            <a:xfrm>
              <a:off x="1349280" y="2357280"/>
              <a:ext cx="13147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rcRect l="1290" t="0" r="0" b="1443"/>
            <a:stretch/>
          </p:blipFill>
          <p:spPr>
            <a:xfrm>
              <a:off x="264492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rcRect l="1290" t="0" r="0" b="1443"/>
            <a:stretch/>
          </p:blipFill>
          <p:spPr>
            <a:xfrm>
              <a:off x="401328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rcRect l="1290" t="0" r="0" b="1443"/>
            <a:stretch/>
          </p:blipFill>
          <p:spPr>
            <a:xfrm>
              <a:off x="523728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"/>
            <a:srcRect l="1290" t="0" r="0" b="1443"/>
            <a:stretch/>
          </p:blipFill>
          <p:spPr>
            <a:xfrm>
              <a:off x="6605640" y="2357280"/>
              <a:ext cx="1314360" cy="117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1619280" y="364500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59280" y="364500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543564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550872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877080" y="3583080"/>
            <a:ext cx="833400" cy="1069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211640" y="3645000"/>
            <a:ext cx="8334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ение сравнивать две группы предметов, по-разному расположенные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4903560"/>
            <a:ext cx="77724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х кувшинов больше (меньше) или их поровн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10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544320" cy="105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54432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627280" y="3357720"/>
            <a:ext cx="54468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знаний порядковых чисел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колько игрушек в ряду; какая по счёту собачк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152" r="1163" b="1152"/>
          <a:stretch/>
        </p:blipFill>
        <p:spPr>
          <a:xfrm>
            <a:off x="826920" y="2079720"/>
            <a:ext cx="1622520" cy="1617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1290" t="0" r="0" b="1443"/>
          <a:stretch/>
        </p:blipFill>
        <p:spPr>
          <a:xfrm>
            <a:off x="2503440" y="2205000"/>
            <a:ext cx="1420920" cy="1268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0" t="0" r="1050" b="0"/>
          <a:stretch/>
        </p:blipFill>
        <p:spPr>
          <a:xfrm>
            <a:off x="4067280" y="2205000"/>
            <a:ext cx="140472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0" t="0" r="1290" b="0"/>
          <a:stretch/>
        </p:blipFill>
        <p:spPr>
          <a:xfrm>
            <a:off x="5802480" y="2133720"/>
            <a:ext cx="1096920" cy="136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92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1800" y="43920"/>
            <a:ext cx="77932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ыявление умений раскладывать предметы по увеличению или уменьшению длин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5047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ложить полоски по порядку от самой длинной до самой короткой, а затем сказать, какие они по дл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2779560"/>
            <a:ext cx="230364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355920"/>
            <a:ext cx="468000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932280"/>
            <a:ext cx="3095640" cy="358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508640"/>
            <a:ext cx="1871640" cy="36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205000"/>
            <a:ext cx="345744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6:32:10Z</dcterms:created>
  <dc:creator/>
  <dc:description/>
  <dc:language>en-US</dc:language>
  <cp:lastModifiedBy/>
  <dcterms:modified xsi:type="dcterms:W3CDTF">2009-06-29T11:39:57Z</dcterms:modified>
  <cp:revision>69</cp:revision>
  <dc:subject/>
  <dc:title>Слайд 1</dc:title>
</cp:coreProperties>
</file>