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C1FBA-ECEB-4156-BFEA-FA6A97C60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D61C3-0895-4065-ADFE-BAD9F5D6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BDBC4-E59F-44C0-903B-B5C2DB2A3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F4B69-D134-42CE-A742-42D6C6E57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40FF3-E1B7-4BFB-A7B7-6B820E7B9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AE5B8-F7AC-4963-9421-82C8778D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D0A8F-C02C-49A3-B941-4DF951C4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93DA5-BB23-4DC1-AB92-267987FF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A2076-6932-47FE-829D-B32BFE91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1EA95-F3AA-453C-8A3E-C273E50A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7DB30-871A-4ADC-B5F1-C5D47B4B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FD978-0AE3-46E7-B6D2-3B886366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6453A-4768-4350-8E1D-C13449CC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59DEE-0364-4624-870C-ACFDD913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D5210-8BA6-4FB3-8E3D-CBAF1314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A86527-79C1-475F-B115-582AF1B5D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A841A-D54B-44DE-AEFC-B19A6A5B5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0D5DE-05A2-408A-9BD2-C3016AF6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EC9D8-8BEF-44B4-8210-1F070B17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35A30-6471-4400-AAA8-E1747D9E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F182A-ED04-4A39-ABDE-1A6DD911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3ECEC-F5D5-4333-8834-684B2EC3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895CA-0E12-4D36-9660-858BBFFA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A448F-DB89-4961-9A76-C5A2866D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C03E-9319-4729-ACA9-DEC7F5A4969A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3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E5DE-9FC5-429E-A21C-40B3B4C77980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6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drive.google.com/open?id=1a02Cac_IBdcP4C7B_DNiKWZhzSZBPhhL" TargetMode="External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65040" y="109440"/>
            <a:ext cx="8120160" cy="1322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763640" y="5445000"/>
            <a:ext cx="7086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3080" algn="r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итель – дефектолог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73080" algn="r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ероника Сергеевна Лозякова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566720" y="1573200"/>
            <a:ext cx="5864400" cy="50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63680" y="255600"/>
            <a:ext cx="8242200" cy="1152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95280" y="2275200"/>
            <a:ext cx="8388360" cy="23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овые технологии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Информационные компьютерные технологии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Технология проблемного обучения.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хнология развивающего обучения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Технология дифференцированного обучения 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14400" y="60480"/>
            <a:ext cx="7223040" cy="1323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1628640"/>
            <a:ext cx="9144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3080" indent="-73080">
              <a:lnSpc>
                <a:spcPct val="100000"/>
              </a:lnSpc>
              <a:spcBef>
                <a:spcPts val="414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 отношению к детям (в соответствии с видами работ с детьми)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marL="73080">
              <a:lnSpc>
                <a:spcPct val="10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учебную зону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двигательную зону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игровую зону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Учебная зона кабинета специалиста обеспечивает место проведения занятий и содержит: столы и стулья в соответствии с численностью в группах (до 6 человек), магнитную доску, рабочий стол учителя-дефектолога, учебные пособия,  демонстрационный и раздаточный материал. Учебная зона должна соответствовать требованиям СанПиНа к учебному помещению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marL="73080">
              <a:lnSpc>
                <a:spcPct val="10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вигательная зона рабочего кабинета обеспечивает соблюдение режима двигательной активности детей и предусматривает небольшое свободное пространство (как правило, оснащенное ковровым покрытием) для проведения подвижных упражнений и игр. Зона может использоваться для проведения нестандартных по форме занятий, чередования работы за столом и упражнений на ковре (например, дети располагаются на ковре по кругу для выполнения игры-задания)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marL="73080">
              <a:lnSpc>
                <a:spcPct val="10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гровая зона рабочего кабинета обеспечивает проведение развивающей игровой деятельности и содержит оснащение игровым материалом развивающего характера в соответствии с возрастом детей. Под игровую зону может оборудоваться отдельное помещение или быть выделено пространство в кабинете – отдельный игровой стол или шкаф с игровым материалом и местом для игры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4360" y="476280"/>
            <a:ext cx="800244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3080" indent="-73080">
              <a:lnSpc>
                <a:spcPct val="100000"/>
              </a:lnSpc>
              <a:spcBef>
                <a:spcPts val="414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 отношению к деятельности специалиста  (в соответствии с направлениями работы учителя-дефектолога)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marL="73080">
              <a:lnSpc>
                <a:spcPct val="10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диагностическую зону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коррекционно-развивающую зону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консультативную зону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marL="73080">
              <a:lnSpc>
                <a:spcPct val="10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методическую зону (пособия, программы и документация специалиста)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marL="73080">
              <a:lnSpc>
                <a:spcPct val="10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Диагностическая зон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оснащается специализированным инструментарием в соответствии с методическими требованиями к проведению дефектологического обследования детей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marL="73080">
              <a:lnSpc>
                <a:spcPct val="10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Коррекционно-развивающая зона 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держит специально подобранный материал (пособия, игровые средства, дидактический и раздаточный материал и др.) для развития и коррекции учебно-познавательной деятельности детей. Необходимо предусмотреть рациональное размещение наглядности с тем, чтобы пособиями было удобно пользоваться и в то же время, они не перегружали видимое пространство кабинета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marL="73080">
              <a:lnSpc>
                <a:spcPct val="10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Консультативная зон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предусматривает организацию рабочего места для проведения консультаций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marL="73080">
              <a:lnSpc>
                <a:spcPct val="10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Методическая зон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оснащается специально подобранными изданиями книг, пособий, журналов, обеспечивающими научность деятельности специалиста, учебными и развивающими программами, нормативными документами и содержит оформленную текущую документацию учителя-дефектолога. Данная зона отвечает задачам организационно-планирующей деятельности специалиста и содержит также рабочий стол, стеллажи или шкафы для хранения материалов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marL="7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7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63680" y="255600"/>
            <a:ext cx="3249360" cy="2335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211720" y="328680"/>
            <a:ext cx="2895480" cy="2170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840040" y="2054160"/>
            <a:ext cx="3298680" cy="24814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244440" y="4071960"/>
            <a:ext cx="3394080" cy="2548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5645160" y="4211640"/>
            <a:ext cx="3254400" cy="244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95280" y="1197000"/>
            <a:ext cx="8424720" cy="50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Результатами освоения программы являются целевые ориентиры дошкольного и школьного образования, которые представляют собой социально-нормативные возрастные характеристики возможных достижений ребенка.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d5a3"/>
                </a:solidFill>
                <a:latin typeface="Times New Roman"/>
                <a:ea typeface="DejaVu Sans"/>
              </a:rPr>
              <a:t>В </a:t>
            </a:r>
            <a:r>
              <a:rPr b="1" lang="ru-RU" sz="2000" spc="-1" strike="noStrike">
                <a:solidFill>
                  <a:srgbClr val="e2d5a3"/>
                </a:solidFill>
                <a:latin typeface="Times New Roman"/>
                <a:ea typeface="DejaVu Sans"/>
              </a:rPr>
              <a:t>результате</a:t>
            </a:r>
            <a:r>
              <a:rPr b="0" lang="ru-RU" sz="2000" spc="-1" strike="noStrike">
                <a:solidFill>
                  <a:srgbClr val="e2d5a3"/>
                </a:solidFill>
                <a:latin typeface="Times New Roman"/>
                <a:ea typeface="DejaVu Sans"/>
              </a:rPr>
              <a:t> </a:t>
            </a:r>
            <a:r>
              <a:rPr b="1" lang="ru-RU" sz="2000" spc="-1" strike="noStrike">
                <a:solidFill>
                  <a:srgbClr val="e2d5a3"/>
                </a:solidFill>
                <a:latin typeface="Times New Roman"/>
                <a:ea typeface="DejaVu Sans"/>
              </a:rPr>
              <a:t>реализации</a:t>
            </a:r>
            <a:r>
              <a:rPr b="0" lang="ru-RU" sz="2000" spc="-1" strike="noStrike">
                <a:solidFill>
                  <a:srgbClr val="e2d5a3"/>
                </a:solidFill>
                <a:latin typeface="Times New Roman"/>
                <a:ea typeface="DejaVu Sans"/>
              </a:rPr>
              <a:t> </a:t>
            </a:r>
            <a:r>
              <a:rPr b="1" lang="ru-RU" sz="2000" spc="-1" strike="noStrike">
                <a:solidFill>
                  <a:srgbClr val="e2d5a3"/>
                </a:solidFill>
                <a:latin typeface="Times New Roman"/>
                <a:ea typeface="DejaVu Sans"/>
              </a:rPr>
              <a:t>программы достигаются следующие результаты:</a:t>
            </a:r>
            <a:r>
              <a:rPr b="0" lang="ru-RU" sz="2000" spc="-1" strike="noStrike">
                <a:solidFill>
                  <a:srgbClr val="e2d5a3"/>
                </a:solidFill>
                <a:latin typeface="Times New Roman"/>
                <a:ea typeface="DejaVu San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улучшение общего развития воспитанников,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развитие их познавательной сферы,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расширение запаса представлений об окружающем мире,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развитие устной и письменной речи,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формирование прочных учебных знаний, умений и навыков,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развитие положительных качеств личности,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улучшение детского самоконтроля и саморегуляции,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снижение уровня агрессивности и тревожности,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развитие коммуникативных способностей и успешной социальной адаптации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1112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деление диагностики и социальной реабилитации;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деление медико – социальной реабилитации;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деление реабилитации несовершеннолетних с ограниченными  умственными и физическими возможностями;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деление участковой социальной службы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0920" y="2565360"/>
            <a:ext cx="843588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547560" indent="-411120" algn="ctr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ша цель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филактика безнадзорности и беспризорности, а также социальная реабилитация несовершеннолетних, оказавшихся в трудной жизненной ситуации, в том числе детей с девиантным поведением, детей-сирот и детей, оставшихся без попечения родителей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148428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Отделение создано для обслуживания детей в возрасте от  3 до 18 лет в количестве 21 человека, а также семей, в которых эти дети воспитываются.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8360" y="692280"/>
            <a:ext cx="8136000" cy="64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В учреждении разработана и действует комплексная программа 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cccff"/>
                </a:solidFill>
                <a:uFillTx/>
                <a:latin typeface="Times New Roman"/>
                <a:ea typeface="DejaVu Sans"/>
                <a:hlinkClick r:id="rId2"/>
              </a:rPr>
              <a:t>«Крепка семья - сильна Россия»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В рамках этой программы специалисты отделений разработали подпрограммы, методические листовки для родителей.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50920" y="1238400"/>
            <a:ext cx="8353440" cy="42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2d5a3"/>
                </a:solidFill>
                <a:latin typeface="Times New Roman"/>
                <a:ea typeface="Times New Roman"/>
              </a:rPr>
              <a:t>Цель работы учителя-дефектолога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Выявление актуального уровня развития ребенка, коррекция и развитие высших психических функций, формирование у детей знаний об окружающем мире, преодоление школьных трудностей в овладении учебных знаний, умений и навыков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44440" y="542880"/>
            <a:ext cx="8435880" cy="768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50920" y="1268280"/>
            <a:ext cx="856908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3080" indent="-7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уществление комплексной диагностики и определение путей коррекции, наблюдение за динамикой  психического развития в условиях коррекционной работы;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73080" indent="-7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явление неблагоприятных вариантов развития;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73080" indent="-7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ведение индивидуальных и групповых коррекционно – развивающих занятий;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73080" indent="-7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слеживание соответствия выбранной программы уровню развития ребенка;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73080" indent="-7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истематизация и совершенствование  приемов и методов работы в соответствии с программным содержанием, внедрять в коррекционно-образовательный процесс современные инновационные технологии;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73080" indent="-7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нсультирование специалистов и родителей в вопросах коррекционной педагогики, привлечение к активному участию в коррекционно-развивающем  процессе, с использованием  разных форм взаимодействия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7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22240" y="311040"/>
            <a:ext cx="7096320" cy="1121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71640" y="1700280"/>
            <a:ext cx="708660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3080" indent="-7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мплексность и единство диагностики и коррекции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73080" indent="-7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строение коррекционно – педагогической работы с учетом возрастных и индивидуальных особенностей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73080" indent="-7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оделирование вариантов взаимодействия специалистов в зависимости  от особенностей ребенка и первоочередными задачами коррекционного воздействия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73080" indent="-7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существление анализа состояния сформированности учебных знаний, умений и навыков и психофизического развития ребенка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73080" indent="-7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зучение динамики развития познавательных процессов и освоения программных знаний, умений и навыков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46160" y="517680"/>
            <a:ext cx="8680320" cy="1122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1557360"/>
            <a:ext cx="896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73080" algn="ctr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 результатам диагностики, были разработаны следующие программы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73080" algn="ctr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73080" algn="ctr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73080" indent="-7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Познавай – ка!» (ознакомление с окружающим миром и развитие речи)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73080" indent="-7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Хочу все знать!» (развитие ВПФ)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73080" indent="-7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Профилактика и коррекция нарушений письменной речи»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7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7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граммы составлены с учетом: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73080" indent="-7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целей и задач учреждения;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73080" indent="-7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требностей и возможностей воспитанников, на основе результатов дефектологического обследования детей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7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50920" y="58680"/>
            <a:ext cx="856908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2708280"/>
            <a:ext cx="87138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Деление детей на подгруппы осуществляется с учетом возраста и результатов диагностического обследования.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Выбор формы проведения занятия с детьми зависит от вида и содержания занятия и возраста детей.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При этом следует учитывать, что в одной группе могут быть дети разного возраста, отличающиеся по уровню психического развития, по запасу знаний и умений.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620640"/>
            <a:ext cx="849780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2d5a3"/>
                </a:solidFill>
                <a:latin typeface="Times New Roman"/>
                <a:ea typeface="DejaVu Sans"/>
              </a:rPr>
              <a:t>Основные формы работы-дефектолога: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подгрупповые и индивидуальные занятия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В практической деятельности учителя-дефектолога преобладают индивидуальные занятия, так как они позволяют максимально учесть индивидуальные особенности каждого ребенка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16T19:11:31Z</dcterms:created>
  <dc:creator>Алексей Лозяков</dc:creator>
  <dc:description/>
  <dc:language>en-US</dc:language>
  <cp:lastModifiedBy>Алексей Лозяков</cp:lastModifiedBy>
  <dcterms:modified xsi:type="dcterms:W3CDTF">2023-02-08T15:33:13Z</dcterms:modified>
  <cp:revision>43</cp:revision>
  <dc:subject/>
  <dc:title>Государственное казенное учреждение социального обслуживания Московской области «Чеховский социально – реабилитационный  центр «Аистенок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