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2DBFA-3E37-4F58-B2C3-3104816B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C32A-EFEB-45BD-81D0-147C9D95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44F0D-7DA0-427C-AE02-2AD89D42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938B6-C02A-4639-BFF9-D619BD0B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D21B4-4EDF-4342-A492-F1FFA11A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85173-F515-40F4-9717-E3910D58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A4C5A-5984-4C43-A7C3-8BCDCE7F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0AECD-AD31-406F-95F6-082549E8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060F4-F359-4897-9571-88C98C04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F91AF-DB95-4CC5-93C9-F4BE14CC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9C37E-FB30-47DD-AE15-E287500B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470A5-0141-4090-B105-892D10D2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C2FB8-3881-4D88-8925-5E4ABBCB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C36B9-D53C-4F13-B66A-96827DA7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7AA1D-D228-4F2F-9423-11D676FE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F88F8-BD42-4B40-82B7-0E2D757B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5E193-68E3-4B3F-836D-6CE3A5D6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C4FB6-6FBD-442F-B977-41670B68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A186-0317-4B53-9747-2F4DAC11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047C3-013C-4870-A968-8F357838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C48AA-47FD-4753-8F79-4F7A7329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DB7C-151A-4A78-B1ED-84032344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9CC40-E8A5-4334-BDFD-2930CE6B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0B5D-EBFF-42F1-8319-E6F5414A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E79F-0D93-4852-BAAB-A299BBB302D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A0A3-1704-4E24-BD09-17730E85E5F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6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drive.google.com/open?id=1a02Cac_IBdcP4C7B_DNiKWZhzSZBPhhL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65040" y="109440"/>
            <a:ext cx="8120160" cy="1322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63640" y="5445000"/>
            <a:ext cx="7086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080" algn="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– дефектолог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algn="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роника Сергеевна Лозяков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566720" y="1573200"/>
            <a:ext cx="586440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3680" y="25560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2275200"/>
            <a:ext cx="8388360" cy="23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овые технологи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Информационные компьютерные технологи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Технология проблемного обучения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развивающего обучени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Технология дифференцированного обучения 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60480"/>
            <a:ext cx="7223040" cy="1323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628640"/>
            <a:ext cx="9144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080" indent="-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 отношению к детям (в соответствии с видами работ с детьми)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учебную зону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двигательную зону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игровую зону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чебная зона кабинета специалиста обеспечивает место проведения занятий и содержит: столы и стулья в соответствии с численностью в группах (до 6 человек), магнитную доску, рабочий стол учителя-дефектолога, учебные пособия,  демонстрационный и раздаточный материал. Учебная зона должна соответствовать требованиям СанПиНа к учебному помещению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вигательная зона рабочего кабинета обеспечивает соблюдение режима двигательной активности детей и предусматривает небольшое свободное пространство (как правило, оснащенное ковровым покрытием) для проведения подвижных упражнений и игр. Зона может использоваться для проведения нестандартных по форме занятий, чередования работы за столом и упражнений на ковре (например, дети располагаются на ковре по кругу для выполнения игры-задания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гровая зона рабочего кабинета обеспечивает проведение развивающей игровой деятельности и содержит оснащение игровым материалом развивающего характера в соответствии с возрастом детей. Под игровую зону может оборудоваться отдельное помещение или быть выделено пространство в кабинете – отдельный игровой стол или шкаф с игровым материалом и местом для игры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4360" y="476280"/>
            <a:ext cx="8002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080" indent="-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 отношению к деятельности специалиста  (в соответствии с направлениями работы учителя-дефектолога)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диагностическую зону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коррекционно-развивающую зону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консультативную зону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методическую зону (пособия, программы и документация специалиста)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Диагностическая зо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оснащается специализированным инструментарием в соответствии с методическими требованиями к проведению дефектологического обследования детей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Коррекционно-развивающая зона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держит специально подобранный материал (пособия, игровые средства, дидактический и раздаточный материал и др.) для развития и коррекции учебно-познавательной деятельности детей. Необходимо предусмотреть рациональное размещение наглядности с тем, чтобы пособиями было удобно пользоваться и в то же время, они не перегружали видимое пространство кабинета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Консультативная зо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предусматривает организацию рабочего места для проведения консультаций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Методическая зо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оснащается специально подобранными изданиями книг, пособий, журналов, обеспечивающими научность деятельности специалиста, учебными и развивающими программами, нормативными документами и содержит оформленную текущую документацию учителя-дефектолога. Данная зона отвечает задачам организационно-планирующей деятельности специалиста и содержит также рабочий стол, стеллажи или шкафы для хранения материалов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3680" y="255600"/>
            <a:ext cx="3249360" cy="2335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11720" y="328680"/>
            <a:ext cx="2895480" cy="2170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840040" y="2054160"/>
            <a:ext cx="3298680" cy="2481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44440" y="4071960"/>
            <a:ext cx="3394080" cy="254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645160" y="4211640"/>
            <a:ext cx="3254400" cy="24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1197000"/>
            <a:ext cx="8424720" cy="50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Результатами освоения программы являются целевые ориентиры дошкольного и школьного образования, которые представляют собой социально-нормативные возрастные характеристики возможных достижений ребенка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d5a3"/>
                </a:solidFill>
                <a:latin typeface="Times New Roman"/>
                <a:ea typeface="DejaVu Sans"/>
              </a:rPr>
              <a:t>В </a:t>
            </a:r>
            <a:r>
              <a:rPr b="1" lang="ru-RU" sz="2000" spc="-1" strike="noStrike">
                <a:solidFill>
                  <a:srgbClr val="e2d5a3"/>
                </a:solidFill>
                <a:latin typeface="Times New Roman"/>
                <a:ea typeface="DejaVu Sans"/>
              </a:rPr>
              <a:t>результате</a:t>
            </a:r>
            <a:r>
              <a:rPr b="0" lang="ru-RU" sz="2000" spc="-1" strike="noStrike">
                <a:solidFill>
                  <a:srgbClr val="e2d5a3"/>
                </a:solidFill>
                <a:latin typeface="Times New Roman"/>
                <a:ea typeface="DejaVu Sans"/>
              </a:rPr>
              <a:t> </a:t>
            </a:r>
            <a:r>
              <a:rPr b="1" lang="ru-RU" sz="2000" spc="-1" strike="noStrike">
                <a:solidFill>
                  <a:srgbClr val="e2d5a3"/>
                </a:solidFill>
                <a:latin typeface="Times New Roman"/>
                <a:ea typeface="DejaVu Sans"/>
              </a:rPr>
              <a:t>реализации</a:t>
            </a:r>
            <a:r>
              <a:rPr b="0" lang="ru-RU" sz="2000" spc="-1" strike="noStrike">
                <a:solidFill>
                  <a:srgbClr val="e2d5a3"/>
                </a:solidFill>
                <a:latin typeface="Times New Roman"/>
                <a:ea typeface="DejaVu Sans"/>
              </a:rPr>
              <a:t> </a:t>
            </a:r>
            <a:r>
              <a:rPr b="1" lang="ru-RU" sz="2000" spc="-1" strike="noStrike">
                <a:solidFill>
                  <a:srgbClr val="e2d5a3"/>
                </a:solidFill>
                <a:latin typeface="Times New Roman"/>
                <a:ea typeface="DejaVu Sans"/>
              </a:rPr>
              <a:t>программы достигаются следующие результаты:</a:t>
            </a:r>
            <a:r>
              <a:rPr b="0" lang="ru-RU" sz="2000" spc="-1" strike="noStrike">
                <a:solidFill>
                  <a:srgbClr val="e2d5a3"/>
                </a:solidFill>
                <a:latin typeface="Times New Roman"/>
                <a:ea typeface="DejaVu San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улучшение общего развития воспитанников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развитие их познавательной сферы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расширение запаса представлений об окружающем мире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развитие устной и письменной речи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формирование прочных учебных знаний, умений и навыков,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развитие положительных качеств личности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улучшение детского самоконтроля и саморегуляции,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снижение уровня агрессивности и тревожности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развитие коммуникативных способностей и успешной социальной адаптации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деление диагностики и социальной реабилитации;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деление медико – социальной реабилитации;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деление реабилитации несовершеннолетних с ограниченными  умственными и физическими возможностями;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деление участковой социальной службы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2565360"/>
            <a:ext cx="84358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547560" indent="-41112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ша цель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филактика безнадзорности и беспризорности, а также социальная реабилитация несовершеннолетних, оказавшихся в трудной жизненной ситуации, в том числе детей с девиантным поведением, детей-сирот и детей, оставшихся без попечения родителей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484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Отделение создано для обслуживания детей в возрасте от  3 до 18 лет в количестве 21 человека, а также семей, в которых эти дети воспитываются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692280"/>
            <a:ext cx="8136000" cy="64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В учреждении разработана и действует комплексная программа 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Times New Roman"/>
                <a:ea typeface="DejaVu Sans"/>
                <a:hlinkClick r:id="rId2"/>
              </a:rPr>
              <a:t>«Крепка семья - сильна Россия»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В рамках этой программы специалисты отделений разработали подпрограммы, методические листовки для родителей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1238400"/>
            <a:ext cx="8353440" cy="42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d5a3"/>
                </a:solidFill>
                <a:latin typeface="Times New Roman"/>
                <a:ea typeface="Times New Roman"/>
              </a:rPr>
              <a:t>Цель работы учителя-дефектолог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Выявление актуального уровня развития ребенка, коррекция и развитие высших психических функций, формирование у детей знаний об окружающем мире, преодоление школьных трудностей в овладении учебных знаний, умений и навыков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44440" y="542880"/>
            <a:ext cx="8435880" cy="768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уществление комплексной диагностики и определение путей коррекции, наблюдение за динамикой  психического развития в условиях коррекционной работы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явление неблагоприятных вариантов развития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ведение индивидуальных и групповых коррекционно – развивающих занятий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слеживание соответствия выбранной программы уровню развития ребенка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стематизация и совершенствование  приемов и методов работы в соответствии с программным содержанием, внедрять в коррекционно-образовательный процесс современные инновационные технологии;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сультирование специалистов и родителей в вопросах коррекционной педагогики, привлечение к активному участию в коррекционно-развивающем  процессе, с использованием  разных форм взаимодействия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22240" y="311040"/>
            <a:ext cx="7096320" cy="1121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71640" y="1700280"/>
            <a:ext cx="70866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мплексность и единство диагностики и коррекци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ение коррекционно – педагогической работы с учетом возрастных и индивидуальных особенностей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оделирование вариантов взаимодействия специалистов в зависимости  от особенностей ребенка и первоочередными задачами коррекционного воздействия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существление анализа состояния сформированности учебных знаний, умений и навыков и психофизического развития ребенк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учение динамики развития познавательных процессов и освоения программных знаний, умений и навыков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6160" y="517680"/>
            <a:ext cx="8680320" cy="1122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557360"/>
            <a:ext cx="896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algn="ct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результатам диагностики, были разработаны следующие программы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algn="ct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algn="ct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Познавай – ка!» (ознакомление с окружающим миром и развитие речи)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Хочу все знать!» (развитие ВПФ)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Профилактика и коррекция нарушений письменной речи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граммы составлены с учетом: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елей и задач учреждения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требностей и возможностей воспитанников, на основе результатов дефектологического обследования детей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58680"/>
            <a:ext cx="85690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2708280"/>
            <a:ext cx="871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Деление детей на подгруппы осуществляется с учетом возраста и результатов диагностического обследования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Выбор формы проведения занятия с детьми зависит от вида и содержания занятия и возраста детей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При этом следует учитывать, что в одной группе могут быть дети разного возраста, отличающиеся по уровню психического развития, по запасу знаний и умений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620640"/>
            <a:ext cx="849780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2d5a3"/>
                </a:solidFill>
                <a:latin typeface="Times New Roman"/>
                <a:ea typeface="DejaVu Sans"/>
              </a:rPr>
              <a:t>Основные формы работы-дефектолог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подгрупповые и индивидуальные занятия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В практической деятельности учителя-дефектолога преобладают индивидуальные занятия, так как они позволяют максимально учесть индивидуальные особенности каждого ребенка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16T19:11:31Z</dcterms:created>
  <dc:creator>Алексей Лозяков</dc:creator>
  <dc:description/>
  <dc:language>en-US</dc:language>
  <cp:lastModifiedBy>Алексей Лозяков</cp:lastModifiedBy>
  <dcterms:modified xsi:type="dcterms:W3CDTF">2023-02-08T15:33:13Z</dcterms:modified>
  <cp:revision>43</cp:revision>
  <dc:subject/>
  <dc:title>Государственное казенное учреждение социального обслуживания Московской области «Чеховский социально – реабилитационный  центр «Аистенок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