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9143-130D-4A4D-8A58-AFFAB03A5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808B-CAB0-4432-BAF8-C7E811B08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5A5E-D463-49D6-AA37-0C227BA6E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C46A-8F48-430F-A770-9A3BD933F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C5D3-36DB-4683-AEAF-77762A67A0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4772-CF6D-45DC-8F11-CAE44B6155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10FC-6622-447A-A287-815A4E7F92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825B-9CAE-4F6C-AAF2-1035834B8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AD7A-5B4C-4510-A20D-F412AE3DE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A03E-932B-4F21-A000-DBEA3662A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4101-045C-47AA-A546-628DA6FA0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7271-8AED-41D1-A606-EC3EDB97F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BF27-E875-4910-A9E4-41F0955069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C8CE-B3E6-4884-A49C-B7FBC9E4FA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A895-8724-4861-BB87-3FA29EBD6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0C14-8C6E-4C95-961B-67A6E8697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805C-AE8F-4942-AF6A-D145DD0E7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21DA-6728-4B0A-B9D0-5027539D8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9648-505D-46E6-9A9F-4889ECE05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D39B-0386-4161-98BE-FE16FA293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3634-0E5D-4691-9F6D-6E9A07771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F27C-EE0A-46A3-86E7-DCB64A9C1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732B-E016-4F11-B738-D55DA3041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E50B-4BEB-4F70-8051-E8A4B6036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142560" cy="4044960"/>
            <a:chOff x="0" y="2438280"/>
            <a:chExt cx="9142560" cy="4044960"/>
          </a:xfrm>
        </p:grpSpPr>
        <p:sp>
          <p:nvSpPr>
            <p:cNvPr id="1" name="Rectangle 2"/>
            <p:cNvSpPr/>
            <p:nvPr/>
          </p:nvSpPr>
          <p:spPr>
            <a:xfrm rot="20160000">
              <a:off x="3368520" y="4115880"/>
              <a:ext cx="4875480" cy="6080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4229280"/>
              <a:ext cx="4265640" cy="1941480"/>
            </a:xfrm>
            <a:custGeom>
              <a:avLst/>
              <a:gdLst>
                <a:gd name="textAreaLeft" fmla="*/ 0 w 4265640"/>
                <a:gd name="textAreaRight" fmla="*/ 4266000 w 42656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332320" y="2438280"/>
              <a:ext cx="3810240" cy="1954440"/>
            </a:xfrm>
            <a:custGeom>
              <a:avLst/>
              <a:gdLst>
                <a:gd name="textAreaLeft" fmla="*/ 0 w 3810240"/>
                <a:gd name="textAreaRight" fmla="*/ 3810240 w 381024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019920" y="2438280"/>
              <a:ext cx="3122640" cy="1208160"/>
            </a:xfrm>
            <a:custGeom>
              <a:avLst/>
              <a:gdLst>
                <a:gd name="textAreaLeft" fmla="*/ 0 w 3122640"/>
                <a:gd name="textAreaRight" fmla="*/ 3123000 w 3122640"/>
                <a:gd name="textAreaTop" fmla="*/ 0 h 1208160"/>
                <a:gd name="textAreaBottom" fmla="*/ 1208520 h 12081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713560" y="3932280"/>
              <a:ext cx="293400" cy="1890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999040" y="3798720"/>
              <a:ext cx="292320" cy="189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6094440" y="2914560"/>
              <a:ext cx="836640" cy="43524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5835600" y="3198960"/>
              <a:ext cx="1143000" cy="4842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5330880" y="3000240"/>
              <a:ext cx="3808440" cy="1397160"/>
            </a:xfrm>
            <a:custGeom>
              <a:avLst/>
              <a:gdLst>
                <a:gd name="textAreaLeft" fmla="*/ 0 w 3808440"/>
                <a:gd name="textAreaRight" fmla="*/ 3808800 w 38084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094440" y="2943360"/>
              <a:ext cx="914400" cy="4078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8456760" y="2606760"/>
              <a:ext cx="61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6094440" y="2743200"/>
              <a:ext cx="1135080" cy="60660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481720" y="3605040"/>
              <a:ext cx="503280" cy="3556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4219560"/>
              <a:ext cx="4118040" cy="14796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0" y="4753080"/>
              <a:ext cx="4321080" cy="1730160"/>
            </a:xfrm>
            <a:custGeom>
              <a:avLst/>
              <a:gdLst>
                <a:gd name="textAreaLeft" fmla="*/ 0 w 4321080"/>
                <a:gd name="textAreaRight" fmla="*/ 4321440 w 432108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Text Box 1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Text Box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7A5EB-6917-4EB6-9694-88689E4BBC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"/>
          <p:cNvGrpSpPr/>
          <p:nvPr/>
        </p:nvGrpSpPr>
        <p:grpSpPr>
          <a:xfrm>
            <a:off x="0" y="2438280"/>
            <a:ext cx="9142560" cy="4044960"/>
            <a:chOff x="0" y="2438280"/>
            <a:chExt cx="9142560" cy="4044960"/>
          </a:xfrm>
        </p:grpSpPr>
        <p:sp>
          <p:nvSpPr>
            <p:cNvPr id="58" name="Rectangle 2"/>
            <p:cNvSpPr/>
            <p:nvPr/>
          </p:nvSpPr>
          <p:spPr>
            <a:xfrm rot="20160000">
              <a:off x="3368520" y="4115880"/>
              <a:ext cx="4875480" cy="6080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0" y="4229280"/>
              <a:ext cx="4265640" cy="1941480"/>
            </a:xfrm>
            <a:custGeom>
              <a:avLst/>
              <a:gdLst>
                <a:gd name="textAreaLeft" fmla="*/ 0 w 4265640"/>
                <a:gd name="textAreaRight" fmla="*/ 4266000 w 4265640"/>
                <a:gd name="textAreaTop" fmla="*/ 0 h 1941480"/>
                <a:gd name="textAreaBottom" fmla="*/ 1941840 h 194148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5332320" y="2438280"/>
              <a:ext cx="3810240" cy="1954440"/>
            </a:xfrm>
            <a:custGeom>
              <a:avLst/>
              <a:gdLst>
                <a:gd name="textAreaLeft" fmla="*/ 0 w 3810240"/>
                <a:gd name="textAreaRight" fmla="*/ 3810240 w 381024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6019920" y="2438280"/>
              <a:ext cx="3122640" cy="1208160"/>
            </a:xfrm>
            <a:custGeom>
              <a:avLst/>
              <a:gdLst>
                <a:gd name="textAreaLeft" fmla="*/ 0 w 3122640"/>
                <a:gd name="textAreaRight" fmla="*/ 3123000 w 3122640"/>
                <a:gd name="textAreaTop" fmla="*/ 0 h 1208160"/>
                <a:gd name="textAreaBottom" fmla="*/ 1208520 h 12081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5713560" y="3932280"/>
              <a:ext cx="293400" cy="1890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5999040" y="3798720"/>
              <a:ext cx="292320" cy="189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6094440" y="2914560"/>
              <a:ext cx="836640" cy="43524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5835600" y="3198960"/>
              <a:ext cx="1143000" cy="4842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5330880" y="3000240"/>
              <a:ext cx="3808440" cy="1397160"/>
            </a:xfrm>
            <a:custGeom>
              <a:avLst/>
              <a:gdLst>
                <a:gd name="textAreaLeft" fmla="*/ 0 w 3808440"/>
                <a:gd name="textAreaRight" fmla="*/ 3808800 w 38084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094440" y="2943360"/>
              <a:ext cx="914400" cy="4078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456760" y="2606760"/>
              <a:ext cx="61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6094440" y="2743200"/>
              <a:ext cx="1135080" cy="60660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481720" y="3605040"/>
              <a:ext cx="503280" cy="3556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0" y="4219560"/>
              <a:ext cx="4118040" cy="14796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0" y="4753080"/>
              <a:ext cx="4321080" cy="1730160"/>
            </a:xfrm>
            <a:custGeom>
              <a:avLst/>
              <a:gdLst>
                <a:gd name="textAreaLeft" fmla="*/ 0 w 4321080"/>
                <a:gd name="textAreaRight" fmla="*/ 4321440 w 432108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07138-6B49-471D-9C1F-2461C8936990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8436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8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Инновации  и традиции в образовательной практике на уроках хореографии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411280" y="5300640"/>
            <a:ext cx="6400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дготовила: преподават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Лазуткина Ю.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2023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77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Традиционные методы</a:t>
            </a:r>
            <a:br>
              <a:rPr sz="4000"/>
            </a:b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и рекомендации по изучению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и становления и развития искусства тан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снов музыкального дви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анцевальной тех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строению и разучиванию танцевальных комбинац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становки тан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работки движ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0"/>
            <a:ext cx="8229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affff"/>
                </a:solidFill>
                <a:latin typeface="Garamond"/>
              </a:rPr>
              <a:t>Инновационные метод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временные педагогические технологии развития лидерских и диалогических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дагогические аспекты творческой деятель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тоды развития межличностного общения в коллектив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нтеграция в процессе создания коллективного творческого продукта танцевального коллек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тоды создания художественной среды средствами хореограф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Технологии развитие лидерских и диалогических способност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Педагогические аспекты развития творческих способност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деятельность носит поисковый характе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содействует эмоциональному раскрепощению и самореализации реб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648320" y="1743120"/>
            <a:ext cx="40384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affff"/>
                </a:solidFill>
                <a:latin typeface="Garamond"/>
              </a:rPr>
              <a:t>Метод интеграц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27040" y="1197000"/>
            <a:ext cx="3643200" cy="284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024360" cy="270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4722840" y="1219320"/>
            <a:ext cx="3836880" cy="2786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32403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affff"/>
                </a:solidFill>
                <a:latin typeface="Times New Roman"/>
              </a:rPr>
              <a:t>Межличностное общение в творческом коллектив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0affff"/>
                </a:solidFill>
                <a:latin typeface="Times New Roman"/>
              </a:rPr>
              <a:t>Основные методы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ностирующий (наблюдение, тестировани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ующий ( уроки этикета и вежливости, беседы на темы: как необходимо заходить в танцевальный класс, если ты опоздал; как необходимо вести себя на занятиях и т.д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affff"/>
                </a:solidFill>
                <a:latin typeface="Garamond"/>
              </a:rPr>
              <a:t>Методы создания художественной среды средствами хореограф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84360" y="2359080"/>
            <a:ext cx="3294000" cy="307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927680" y="2575080"/>
            <a:ext cx="382104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457200" y="274680"/>
            <a:ext cx="8229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2565360"/>
            <a:ext cx="822960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Garamond"/>
              </a:rPr>
              <a:t>    </a:t>
            </a:r>
            <a:r>
              <a:rPr b="1" i="1" lang="ru-RU" sz="3200" spc="-1" strike="noStrike">
                <a:solidFill>
                  <a:srgbClr val="ffc000"/>
                </a:solidFill>
                <a:latin typeface="Garamond"/>
              </a:rPr>
              <a:t>ТВОРЧЕСКИХ ВАМ УСПЕХОВ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44944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b9efee"/>
                </a:solidFill>
                <a:uFillTx/>
                <a:latin typeface="Garamond"/>
              </a:rPr>
              <a:t>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ЗАДАЧИ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 хореографического образова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- развитие его творческого потенциала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- информирование профессионального мастер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овременные образовательны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в процессе обучения детей  искусству танца:</a:t>
            </a:r>
            <a:br>
              <a:rPr sz="3200"/>
            </a:br>
            <a:br>
              <a:rPr sz="28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Информационные технологии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Экспериментальные методики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Технология игрового обучения 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-  Технология здоровьесберегающего обучения 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Информационные технолог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13"/>
              </a:spcBef>
              <a:spcAft>
                <a:spcPts val="1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нятия с использованием информационных технологий, максимально стимулируют познавательную самостоятельность, творческую активность и инициативу обучающихся, повышают  эффективность обучения хореограф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Информационные технолог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54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244800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Экспериментальные методик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37636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6372360" y="4149720"/>
            <a:ext cx="2592360" cy="237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2771640" y="2637000"/>
            <a:ext cx="3527640" cy="3528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79280" y="1071360"/>
            <a:ext cx="89647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мерами экспериментальных  методик являются: танцевальная импровизация, театрализация  тан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нце-терап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Технология игрового обуче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745080" cy="424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Технология здоровьесберегающего обучения</a:t>
            </a:r>
            <a:br>
              <a:rPr sz="36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Здоровьеформирующие образовательные технологии  направлены  на воспитание у обучающихся культуры здоровья, личностных качеств, способствующих его сохранению и укреплению, формирование представления о здоровье как ценности, мотивацию на ведение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>
                <a:solidFill>
                  <a:srgbClr val="0affff"/>
                </a:solidFill>
                <a:latin typeface="Garamond"/>
              </a:rPr>
              <a:t>ИННОВАЦИИ </a:t>
            </a:r>
            <a:br>
              <a:rPr sz="6000"/>
            </a:br>
            <a:r>
              <a:rPr b="1" i="1" lang="ru-RU" sz="6000" spc="-1" strike="noStrike">
                <a:solidFill>
                  <a:srgbClr val="0affff"/>
                </a:solidFill>
                <a:latin typeface="Garamond"/>
              </a:rPr>
              <a:t>И</a:t>
            </a:r>
            <a:br>
              <a:rPr sz="6000"/>
            </a:br>
            <a:r>
              <a:rPr b="1" i="1" lang="ru-RU" sz="6000" spc="-1" strike="noStrike">
                <a:solidFill>
                  <a:srgbClr val="0affff"/>
                </a:solidFill>
                <a:latin typeface="Garamond"/>
              </a:rPr>
              <a:t>  ТРАДИЦИ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4332240" cy="2522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89344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23-02-08T09:24:10Z</dcterms:modified>
  <cp:revision>1</cp:revision>
  <dc:subject/>
  <dc:title>Слайд 1</dc:title>
</cp:coreProperties>
</file>