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0644-5BB7-4FA7-AAA2-43C031000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8AAF-D2DB-43CC-A56A-3408E4432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F61D-35A2-43A9-952C-8343A1C43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AD0E-9005-4A90-87A6-941F0888B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7C3B5-F826-488D-943D-A3F3C9B563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845BD-062B-43E3-944A-C90E836E9E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AB29-B212-47A4-B49A-8BC988B3CC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41C7D-975D-4060-85A1-929E3B9B89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E2A30-63BC-423F-A97E-5ABE55252A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68BE8-9533-410D-A5AC-EC16BE23D1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E6A43-4F2A-469B-916C-ED4C61CC8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9702-3B52-4F0E-B5D6-DB5FD0D47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0F2C-B809-4DBA-AB12-D627AB0E3E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2A619-1E26-4881-9D0C-593D39DB22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275C-9F9C-4DAC-8D6B-837810EBD7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59621-581A-4949-9341-08637BEF50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FFA4-ECBA-48F4-A77B-5D056A91C3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B6E6-7295-4B4D-849D-394AD6EFE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9CD2-C788-4392-87C4-3F62CAD6C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2EB1-CCA5-4C70-B23F-39E847609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D4B8-EE4F-41F4-95A9-DBF06B03E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EEF9-DECA-4F15-8B8B-077D3116A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8B29-C990-4B55-B687-056EC46EE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F397-4306-446D-9A76-C40E40591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2438280"/>
            <a:ext cx="9142560" cy="4044960"/>
            <a:chOff x="0" y="2438280"/>
            <a:chExt cx="9142560" cy="4044960"/>
          </a:xfrm>
        </p:grpSpPr>
        <p:sp>
          <p:nvSpPr>
            <p:cNvPr id="1" name="Rectangle 2"/>
            <p:cNvSpPr/>
            <p:nvPr/>
          </p:nvSpPr>
          <p:spPr>
            <a:xfrm rot="20160000">
              <a:off x="3368520" y="4115880"/>
              <a:ext cx="4875480" cy="60804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4229280"/>
              <a:ext cx="4265640" cy="1941480"/>
            </a:xfrm>
            <a:custGeom>
              <a:avLst/>
              <a:gdLst>
                <a:gd name="textAreaLeft" fmla="*/ 0 w 4265640"/>
                <a:gd name="textAreaRight" fmla="*/ 4266000 w 4265640"/>
                <a:gd name="textAreaTop" fmla="*/ 0 h 1941480"/>
                <a:gd name="textAreaBottom" fmla="*/ 1941840 h 194148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332320" y="2438280"/>
              <a:ext cx="3810240" cy="1954440"/>
            </a:xfrm>
            <a:custGeom>
              <a:avLst/>
              <a:gdLst>
                <a:gd name="textAreaLeft" fmla="*/ 0 w 3810240"/>
                <a:gd name="textAreaRight" fmla="*/ 3810240 w 3810240"/>
                <a:gd name="textAreaTop" fmla="*/ 0 h 1954440"/>
                <a:gd name="textAreaBottom" fmla="*/ 1954800 h 195444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6019920" y="2438280"/>
              <a:ext cx="3122640" cy="1208160"/>
            </a:xfrm>
            <a:custGeom>
              <a:avLst/>
              <a:gdLst>
                <a:gd name="textAreaLeft" fmla="*/ 0 w 3122640"/>
                <a:gd name="textAreaRight" fmla="*/ 3123000 w 3122640"/>
                <a:gd name="textAreaTop" fmla="*/ 0 h 1208160"/>
                <a:gd name="textAreaBottom" fmla="*/ 1208520 h 12081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713560" y="3932280"/>
              <a:ext cx="293400" cy="1890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5999040" y="3798720"/>
              <a:ext cx="292320" cy="1890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6094440" y="2914560"/>
              <a:ext cx="836640" cy="43524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5835600" y="3198960"/>
              <a:ext cx="1143000" cy="4842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5330880" y="3000240"/>
              <a:ext cx="3808440" cy="1397160"/>
            </a:xfrm>
            <a:custGeom>
              <a:avLst/>
              <a:gdLst>
                <a:gd name="textAreaLeft" fmla="*/ 0 w 3808440"/>
                <a:gd name="textAreaRight" fmla="*/ 3808800 w 380844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6094440" y="2943360"/>
              <a:ext cx="914400" cy="4078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8456760" y="2606760"/>
              <a:ext cx="6120" cy="3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6094440" y="2743200"/>
              <a:ext cx="1135080" cy="60660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5481720" y="3605040"/>
              <a:ext cx="503280" cy="3556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0" y="4219560"/>
              <a:ext cx="4118040" cy="1479600"/>
            </a:xfrm>
            <a:custGeom>
              <a:avLst/>
              <a:gdLst>
                <a:gd name="textAreaLeft" fmla="*/ 0 w 4118040"/>
                <a:gd name="textAreaRight" fmla="*/ 4118400 w 411804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0" y="4753080"/>
              <a:ext cx="4321080" cy="1730160"/>
            </a:xfrm>
            <a:custGeom>
              <a:avLst/>
              <a:gdLst>
                <a:gd name="textAreaLeft" fmla="*/ 0 w 4321080"/>
                <a:gd name="textAreaRight" fmla="*/ 4321440 w 4321080"/>
                <a:gd name="textAreaTop" fmla="*/ 0 h 1730160"/>
                <a:gd name="textAreaBottom" fmla="*/ 1730520 h 17301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Text Box 1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Text Box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4F471-2974-411F-BEBF-6EB8858CEA8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"/>
          <p:cNvGrpSpPr/>
          <p:nvPr/>
        </p:nvGrpSpPr>
        <p:grpSpPr>
          <a:xfrm>
            <a:off x="0" y="2438280"/>
            <a:ext cx="9142560" cy="4044960"/>
            <a:chOff x="0" y="2438280"/>
            <a:chExt cx="9142560" cy="4044960"/>
          </a:xfrm>
        </p:grpSpPr>
        <p:sp>
          <p:nvSpPr>
            <p:cNvPr id="58" name="Rectangle 2"/>
            <p:cNvSpPr/>
            <p:nvPr/>
          </p:nvSpPr>
          <p:spPr>
            <a:xfrm rot="20160000">
              <a:off x="3368520" y="4115880"/>
              <a:ext cx="4875480" cy="60804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3"/>
            <p:cNvSpPr/>
            <p:nvPr/>
          </p:nvSpPr>
          <p:spPr>
            <a:xfrm>
              <a:off x="0" y="4229280"/>
              <a:ext cx="4265640" cy="1941480"/>
            </a:xfrm>
            <a:custGeom>
              <a:avLst/>
              <a:gdLst>
                <a:gd name="textAreaLeft" fmla="*/ 0 w 4265640"/>
                <a:gd name="textAreaRight" fmla="*/ 4266000 w 4265640"/>
                <a:gd name="textAreaTop" fmla="*/ 0 h 1941480"/>
                <a:gd name="textAreaBottom" fmla="*/ 1941840 h 194148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4"/>
            <p:cNvSpPr/>
            <p:nvPr/>
          </p:nvSpPr>
          <p:spPr>
            <a:xfrm>
              <a:off x="5332320" y="2438280"/>
              <a:ext cx="3810240" cy="1954440"/>
            </a:xfrm>
            <a:custGeom>
              <a:avLst/>
              <a:gdLst>
                <a:gd name="textAreaLeft" fmla="*/ 0 w 3810240"/>
                <a:gd name="textAreaRight" fmla="*/ 3810240 w 3810240"/>
                <a:gd name="textAreaTop" fmla="*/ 0 h 1954440"/>
                <a:gd name="textAreaBottom" fmla="*/ 1954800 h 195444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6019920" y="2438280"/>
              <a:ext cx="3122640" cy="1208160"/>
            </a:xfrm>
            <a:custGeom>
              <a:avLst/>
              <a:gdLst>
                <a:gd name="textAreaLeft" fmla="*/ 0 w 3122640"/>
                <a:gd name="textAreaRight" fmla="*/ 3123000 w 3122640"/>
                <a:gd name="textAreaTop" fmla="*/ 0 h 1208160"/>
                <a:gd name="textAreaBottom" fmla="*/ 1208520 h 12081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5713560" y="3932280"/>
              <a:ext cx="293400" cy="1890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5999040" y="3798720"/>
              <a:ext cx="292320" cy="1890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6094440" y="2914560"/>
              <a:ext cx="836640" cy="43524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5835600" y="3198960"/>
              <a:ext cx="1143000" cy="4842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5330880" y="3000240"/>
              <a:ext cx="3808440" cy="1397160"/>
            </a:xfrm>
            <a:custGeom>
              <a:avLst/>
              <a:gdLst>
                <a:gd name="textAreaLeft" fmla="*/ 0 w 3808440"/>
                <a:gd name="textAreaRight" fmla="*/ 3808800 w 380844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6094440" y="2943360"/>
              <a:ext cx="914400" cy="4078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8456760" y="2606760"/>
              <a:ext cx="6120" cy="3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6094440" y="2743200"/>
              <a:ext cx="1135080" cy="60660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5481720" y="3605040"/>
              <a:ext cx="503280" cy="3556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0" y="4219560"/>
              <a:ext cx="4118040" cy="1479600"/>
            </a:xfrm>
            <a:custGeom>
              <a:avLst/>
              <a:gdLst>
                <a:gd name="textAreaLeft" fmla="*/ 0 w 4118040"/>
                <a:gd name="textAreaRight" fmla="*/ 4118400 w 411804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0" y="4753080"/>
              <a:ext cx="4321080" cy="1730160"/>
            </a:xfrm>
            <a:custGeom>
              <a:avLst/>
              <a:gdLst>
                <a:gd name="textAreaLeft" fmla="*/ 0 w 4321080"/>
                <a:gd name="textAreaRight" fmla="*/ 4321440 w 4321080"/>
                <a:gd name="textAreaTop" fmla="*/ 0 h 1730160"/>
                <a:gd name="textAreaBottom" fmla="*/ 1730520 h 17301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B77FB-7E0A-4032-9A32-86B71833F1C3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684360" y="404640"/>
            <a:ext cx="77724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800"/>
            </a:b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«</a:t>
            </a: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Инновации  и традиции в образовательной практике на уроках хореографии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411280" y="5300640"/>
            <a:ext cx="64008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одготовила: преподавате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Лазуткина Ю.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2023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597708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affff"/>
                </a:solidFill>
                <a:latin typeface="Garamond"/>
              </a:rPr>
              <a:t>Традиционные методы</a:t>
            </a:r>
            <a:br>
              <a:rPr sz="4000"/>
            </a:br>
            <a:r>
              <a:rPr b="1" lang="ru-RU" sz="4000" spc="-1" strike="noStrike">
                <a:solidFill>
                  <a:srgbClr val="0affff"/>
                </a:solidFill>
                <a:latin typeface="Garamond"/>
              </a:rPr>
              <a:t>и рекомендации по изучению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стории становления и развития искусства тан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снов музыкального движ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танцевальной тех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строению и разучиванию танцевальных комбинац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становки тан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тработки движен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0"/>
            <a:ext cx="8229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affff"/>
                </a:solidFill>
                <a:latin typeface="Garamond"/>
              </a:rPr>
              <a:t>Инновационные методы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овременные педагогические технологии развития лидерских и диалогических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едагогические аспекты творческой деятель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етоды развития межличностного общения в коллектив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нтеграция в процессе создания коллективного творческого продукта танцевального коллект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етоды создания художественной среды средствами хореограф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affff"/>
                </a:solidFill>
                <a:latin typeface="Garamond"/>
              </a:rPr>
              <a:t>Технологии развитие лидерских и диалогических способносте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138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affff"/>
                </a:solidFill>
                <a:latin typeface="Garamond"/>
              </a:rPr>
              <a:t>Педагогические аспекты развития творческих способносте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- деятельность носит поисковый характе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- содействует эмоциональному раскрепощению и самореализации ребен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4648320" y="1743120"/>
            <a:ext cx="403848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affff"/>
                </a:solidFill>
                <a:latin typeface="Garamond"/>
              </a:rPr>
              <a:t>Метод интеграци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527040" y="1197000"/>
            <a:ext cx="3643200" cy="2844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3024360" cy="2708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4722840" y="1219320"/>
            <a:ext cx="3836880" cy="2786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4"/>
          <a:stretch/>
        </p:blipFill>
        <p:spPr>
          <a:xfrm>
            <a:off x="5003640" y="4149720"/>
            <a:ext cx="324036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affff"/>
                </a:solidFill>
                <a:latin typeface="Times New Roman"/>
              </a:rPr>
              <a:t>Межличностное общение в творческом коллектив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0affff"/>
                </a:solidFill>
                <a:latin typeface="Times New Roman"/>
              </a:rPr>
              <a:t>Основные методы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иагностирующий (наблюдение, тестировани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Формирующий ( уроки этикета и вежливости, беседы на темы: как необходимо заходить в танцевальный класс, если ты опоздал; как необходимо вести себя на занятиях и т.д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affff"/>
                </a:solidFill>
                <a:latin typeface="Garamond"/>
              </a:rPr>
              <a:t>Методы создания художественной среды средствами хореограф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84360" y="2359080"/>
            <a:ext cx="3294000" cy="3079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927680" y="2575080"/>
            <a:ext cx="382104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457200" y="274680"/>
            <a:ext cx="82296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457200" y="2565360"/>
            <a:ext cx="822960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Garamond"/>
              </a:rPr>
              <a:t>    </a:t>
            </a:r>
            <a:r>
              <a:rPr b="1" i="1" lang="ru-RU" sz="3200" spc="-1" strike="noStrike">
                <a:solidFill>
                  <a:srgbClr val="ffc000"/>
                </a:solidFill>
                <a:latin typeface="Garamond"/>
              </a:rPr>
              <a:t>ТВОРЧЕСКИХ ВАМ УСПЕХОВ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3059280" y="3357720"/>
            <a:ext cx="2449440" cy="24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457200" y="274680"/>
            <a:ext cx="822960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 u="sng">
                <a:solidFill>
                  <a:srgbClr val="b9efee"/>
                </a:solidFill>
                <a:uFillTx/>
                <a:latin typeface="Garamond"/>
              </a:rPr>
              <a:t>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Garamond"/>
              </a:rPr>
              <a:t>ЗАДАЧИ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 хореографического образования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- развитие его творческого потенциала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 - информирование профессионального мастерств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57200" y="274680"/>
            <a:ext cx="822960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овременные образовательные технологии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в процессе обучения детей  искусству танца:</a:t>
            </a:r>
            <a:br>
              <a:rPr sz="3200"/>
            </a:br>
            <a:br>
              <a:rPr sz="2800"/>
            </a:br>
            <a:r>
              <a:rPr b="1" lang="ru-RU" sz="3600" spc="-1" strike="noStrike">
                <a:solidFill>
                  <a:srgbClr val="ffc000"/>
                </a:solidFill>
                <a:latin typeface="Garamond"/>
              </a:rPr>
              <a:t>-  Информационные технологии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Garamond"/>
              </a:rPr>
              <a:t>-  Экспериментальные методики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Garamond"/>
              </a:rPr>
              <a:t>-  Технология игрового обучения  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Garamond"/>
              </a:rPr>
              <a:t>-  Технология здоровьесберегающего обучения 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Информационные технологи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13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Занятия с использованием информационных технологий, максимально стимулируют познавательную самостоятельность, творческую активность и инициативу обучающихся, повышают  эффективность обучения хореографи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Информационные технологи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689440" cy="540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2448000" cy="16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2746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Экспериментальные методик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2376360" cy="2664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6372360" y="4149720"/>
            <a:ext cx="2592360" cy="237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2771640" y="2637000"/>
            <a:ext cx="3527640" cy="3528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79280" y="1071360"/>
            <a:ext cx="896472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имерами экспериментальных  методик являются: танцевальная импровизация, театрализация  танц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танце-терап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 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Технология игрового обучен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745080" cy="424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81636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Garamond"/>
              </a:rPr>
              <a:t>Технология здоровьесберегающего обучения</a:t>
            </a:r>
            <a:br>
              <a:rPr sz="36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Здоровьеформирующие образовательные технологии  направлены  на воспитание у обучающихся культуры здоровья, личностных качеств, способствующих его сохранению и укреплению, формирование представления о здоровье как ценности, мотивацию на ведение здорового образа жизн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17672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6000" spc="-1" strike="noStrike">
                <a:solidFill>
                  <a:srgbClr val="0affff"/>
                </a:solidFill>
                <a:latin typeface="Garamond"/>
              </a:rPr>
              <a:t>ИННОВАЦИИ </a:t>
            </a:r>
            <a:br>
              <a:rPr sz="6000"/>
            </a:br>
            <a:r>
              <a:rPr b="1" i="1" lang="ru-RU" sz="6000" spc="-1" strike="noStrike">
                <a:solidFill>
                  <a:srgbClr val="0affff"/>
                </a:solidFill>
                <a:latin typeface="Garamond"/>
              </a:rPr>
              <a:t>И</a:t>
            </a:r>
            <a:br>
              <a:rPr sz="6000"/>
            </a:br>
            <a:r>
              <a:rPr b="1" i="1" lang="ru-RU" sz="6000" spc="-1" strike="noStrike">
                <a:solidFill>
                  <a:srgbClr val="0affff"/>
                </a:solidFill>
                <a:latin typeface="Garamond"/>
              </a:rPr>
              <a:t>  ТРАДИЦИИ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4332240" cy="2522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89344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23-02-08T09:24:10Z</dcterms:modified>
  <cp:revision>1</cp:revision>
  <dc:subject/>
  <dc:title>Слайд 1</dc:title>
</cp:coreProperties>
</file>