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B926-FDEC-4E9F-AE4E-C88500C7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E96-F7D7-4944-A010-114DA071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A60-F0CD-4448-BCB5-5708D855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C2CD-3F59-4C3C-81C1-25F9CEBE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67BE-E507-484D-999B-8249D23F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2A8C-F5A3-4026-996B-B6BB88DD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BA1A-D429-4E07-AEAB-A8044FB1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C3E0-E12B-4F99-A176-DC3B375D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C4CB-3427-4717-A26D-12918170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0CAF-49A9-4E47-8A76-B45B6F06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285C-AF38-4EFD-8D3B-CA655907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5D4-C648-4C65-BFBF-8F4EE913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1B08-E1E3-4AA1-BB45-A2430B9D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F3E7-A500-4269-8F9C-8B3CF90A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DF72-3855-4355-A7AD-747B8F7D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2103-3512-42D9-9CE9-FF52E081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C197-EA58-4CCE-99AF-4E51D2CE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E1E-B44E-4393-95B6-23C4D049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048-8893-49ED-A412-1A1CD0C2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38A-5975-4220-A576-42C034FD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5C4F-9AB4-48C4-A7F9-47100E75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424-23FC-49A2-BBA9-27BE5A45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58A-7238-4759-858C-11B7F7E9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88F5-A76B-4045-8847-0FEC28CF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1FEE21-344D-456D-8D2C-2C62A9469FA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138D23-F301-4981-A77D-4383157482D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-3240" y="3564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1259640" y="543960"/>
            <a:ext cx="6336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752904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детский сад № 4 «Янтарик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 «Янтарный городской округ»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85920" y="2786040"/>
            <a:ext cx="6486120" cy="28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 моделирования в образовательном процессе детского с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дготовила: воспитатель  Романова Е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-540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7" name="Прямоугольник 2"/>
          <p:cNvSpPr/>
          <p:nvPr/>
        </p:nvSpPr>
        <p:spPr>
          <a:xfrm>
            <a:off x="900000" y="620640"/>
            <a:ext cx="770400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метода «моделирования» в различных видах дет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Моделирование в математическом развитии де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ические блоки Дьенеш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набор объёмных геометрических фигур, различающихся по форме, цвету, размеру, толщ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Моделирование в разделе « Ознакомление с художественной литературой» и «Развиваем речь детей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немотабл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 это схема, в которую заложена определённая 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Моделирование в экологическом воспитании де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блюдая за животными и растениями, воспитатель с детьми обследует объект, и вычленяют на этой основе признаки и свойства живых организмов. Для построения плана обследования предметов природы, можно использовать карточки-символ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ожно выделить функции живых организмов: дышит, двигается, и обозначить их схематическими моделям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 помощью картинок-моделей можно обозначать выделенные признаки (цвет, форму, численность частей и др.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хемы-модели могут обозначать различные среды обитания живых существ (наземную, воздушную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-53280" y="0"/>
            <a:ext cx="9168120" cy="7190280"/>
          </a:xfrm>
          <a:prstGeom prst="rect">
            <a:avLst/>
          </a:prstGeom>
          <a:ln w="9525">
            <a:noFill/>
          </a:ln>
        </p:spPr>
      </p:pic>
      <p:sp>
        <p:nvSpPr>
          <p:cNvPr id="140" name="Прямоугольник 4"/>
          <p:cNvSpPr/>
          <p:nvPr/>
        </p:nvSpPr>
        <p:spPr>
          <a:xfrm>
            <a:off x="251640" y="332640"/>
            <a:ext cx="8496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434160" y="1052640"/>
            <a:ext cx="82807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агодаря моделированию, дети открывают причины, зависимости, связи и изменения в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6"/>
          <p:cNvSpPr/>
          <p:nvPr/>
        </p:nvSpPr>
        <p:spPr>
          <a:xfrm>
            <a:off x="214200" y="2786040"/>
            <a:ext cx="864072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елирование основной метод для получения обогащенной картины представлений о мире в сознании ребенка. Значение моделирования для формирования умений, навыков и эстетических критериев у детей очень большое. Моделирование это деятельность, при выполнении которой ребенок открыватель и творец. В нем спрятано научность, искусство, мастерство, как и во всем, связанном с обучением и воспитанием детей в дошкольном возра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4644000" y="188640"/>
            <a:ext cx="4175640" cy="3132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179640" y="188640"/>
            <a:ext cx="4355640" cy="3267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8" name="Picture 3" descr=""/>
          <p:cNvPicPr/>
          <p:nvPr/>
        </p:nvPicPr>
        <p:blipFill>
          <a:blip r:embed="rId4"/>
          <a:stretch/>
        </p:blipFill>
        <p:spPr>
          <a:xfrm>
            <a:off x="2267640" y="3429000"/>
            <a:ext cx="4336200" cy="32522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-74160" y="0"/>
            <a:ext cx="9143640" cy="6974280"/>
          </a:xfrm>
          <a:prstGeom prst="rect">
            <a:avLst/>
          </a:prstGeom>
          <a:ln w="9525">
            <a:noFill/>
          </a:ln>
        </p:spPr>
      </p:pic>
      <p:sp>
        <p:nvSpPr>
          <p:cNvPr id="151" name="Прямоугольник 4"/>
          <p:cNvSpPr/>
          <p:nvPr/>
        </p:nvSpPr>
        <p:spPr>
          <a:xfrm>
            <a:off x="611640" y="2925000"/>
            <a:ext cx="813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1160" y="2232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1" name="TextBox 4"/>
          <p:cNvSpPr/>
          <p:nvPr/>
        </p:nvSpPr>
        <p:spPr>
          <a:xfrm>
            <a:off x="378720" y="2003040"/>
            <a:ext cx="8286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457200" y="470880"/>
            <a:ext cx="81864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дель-это наглядно-практическое средство по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1619640" y="5229360"/>
            <a:ext cx="4806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857160" y="2214720"/>
            <a:ext cx="685764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делирование –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сс создания моделей и их использование в целях формирования знаний о свойствах, структуре, отношениях, связях объектов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енность моделирова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метода обучения в том, что оно делает наглядным скрытые от непосредственного восприятия свойства, связи, отношения объектов, которые являются существенными для понимания фактов, явлений, при формировании знаний, приближающихся по содержанию к понят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1160" y="2232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233280" y="188640"/>
            <a:ext cx="8659080" cy="6494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5840" y="1332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357120" y="2219400"/>
            <a:ext cx="8209440" cy="91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642960" y="1857240"/>
            <a:ext cx="764352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ступность метода моделирования для дошкольников показана была психологами (А.В.Запорожцем, Л.А.Венгером, Н.Н.Поддьяковым, Д.Б.Элькониным). Она определяется тем, ч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е моделирования лежит принцип замеще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альный предмет может быть замещён в деятельности детей другим предметом, изображением, зна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2571840" y="924840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8" name="TextBox 5"/>
          <p:cNvSpPr/>
          <p:nvPr/>
        </p:nvSpPr>
        <p:spPr>
          <a:xfrm>
            <a:off x="380880" y="376560"/>
            <a:ext cx="8500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0" name="Прямоугольник 8"/>
          <p:cNvSpPr/>
          <p:nvPr/>
        </p:nvSpPr>
        <p:spPr>
          <a:xfrm>
            <a:off x="642960" y="428760"/>
            <a:ext cx="7929360" cy="43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мод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дидактике выделены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ри вид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моделе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Предметная модел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ет вид физической конструкции предмета или предметов, закономерно связанных. В этом случае модель аналогична предмету, воспроизводит его главнейшие части, конструктивные особенности, пропорции и соотношения частей в пространстве, взаимосвязь объектов. От игрушки такая модель отличается точностью воспроизведения существенных связей и зависимостей внутри моделируемого объекта или между ними, возможностью обнаружить эти зависимости в деятельности с мод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4" name="TextBox 5"/>
          <p:cNvSpPr/>
          <p:nvPr/>
        </p:nvSpPr>
        <p:spPr>
          <a:xfrm>
            <a:off x="380880" y="376560"/>
            <a:ext cx="8500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6" name="Прямоугольник 8"/>
          <p:cNvSpPr/>
          <p:nvPr/>
        </p:nvSpPr>
        <p:spPr>
          <a:xfrm>
            <a:off x="642960" y="428760"/>
            <a:ext cx="7929360" cy="43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мод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дидактике выделены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ри вид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моделе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Предметная модел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ет вид физической конструкции предмета или предметов, закономерно связанных. В этом случае модель аналогична предмету, воспроизводит его главнейшие части, конструктивные особенности, пропорции и соотношения частей в пространстве, взаимосвязь объектов. От игрушки такая модель отличается точностью воспроизведения существенных связей и зависимостей внутри моделируемого объекта или между ними, возможностью обнаружить эти зависимости в деятельности с мод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0" name="TextBox 5"/>
          <p:cNvSpPr/>
          <p:nvPr/>
        </p:nvSpPr>
        <p:spPr>
          <a:xfrm>
            <a:off x="714240" y="571320"/>
            <a:ext cx="79293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Предметно-схематическая 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десь выделенные в объекте познания, существенные компоненты и связи между ними обозначаются при помощи предметов-заместителей и графических знаков. Структура такой модели должна быть подобна главнейшим компонентом изучаемого объекта и тем связям, отношениям, которые становятся предметом познания. Предметно-схематическая модель должна обнаружить эти связи, отчётливо представить их в изолированном, обобщённ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741960" y="3429000"/>
            <a:ext cx="77864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Графические модел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общённо передают разные виды отношений (графики, формулы, схемы). Этот вид моделей используется преимущественно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088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5" name="Прямоугольник 1"/>
          <p:cNvSpPr/>
          <p:nvPr/>
        </p:nvSpPr>
        <p:spPr>
          <a:xfrm>
            <a:off x="229320" y="384480"/>
            <a:ext cx="8568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323640" y="476640"/>
            <a:ext cx="777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апы работы с моде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428760" y="1340640"/>
            <a:ext cx="8153280" cy="33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28800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сс запоми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оздание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Использование моделей для организации собственной деятельности (ребёнок должен действовать самостоятельно с модель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4725360" y="3285000"/>
            <a:ext cx="4399200" cy="3299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3"/>
          <a:stretch/>
        </p:blipFill>
        <p:spPr>
          <a:xfrm>
            <a:off x="126720" y="3277800"/>
            <a:ext cx="4355640" cy="3267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539640" y="1052640"/>
            <a:ext cx="8146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основе моделей можно создавать разнообразные дидактические игры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омощи картинок-моделей организовывать различные виды ориентированной деятельности детей. Модели можно использовать на занятиях, в совместной с воспитателем и самостоятельной детской деятельности. К созданию моделей можно привлекать родителей и детей: взаимосвязь – воспитатель+родитель+ребенок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  <Words>748</Words>
  <Paragraphs>7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7:29:21Z</dcterms:created>
  <dc:creator>user</dc:creator>
  <dc:description/>
  <dc:language>en-US</dc:language>
  <cp:lastModifiedBy>user</cp:lastModifiedBy>
  <dcterms:modified xsi:type="dcterms:W3CDTF">2023-02-08T07:05:09Z</dcterms:modified>
  <cp:revision>6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