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875-EEA3-43F4-ADC7-0E97126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980-D5CC-49B9-ADEE-DB175E6F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7CB-4815-470A-89E6-41F6F24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61F-01F6-457D-A278-1B08E1AD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C7C04-4D67-42BB-82C6-4FADC38C2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E3C2-8E06-417D-8D3F-BC43FA7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CC5ED-FFD4-4FFA-A4A5-D78F9DEF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CD20D-DB9B-419E-BA1F-A2DAC60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1DB7F-F493-45C3-BCEE-2612AE3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EEAF3-5E2E-4919-BAE1-2A0000D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8F916-F5B4-4524-BC55-378D7B1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564-703E-435C-AD2F-6E96200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9F08C-E879-47FF-A8A5-FFD2C6A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FA896-F011-46F3-B6C6-D574C40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6C3E-5C74-4ACF-B230-1B0E86E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8A66-9E72-4439-BE46-79602AC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401F1-CA51-4DCA-8896-683CF9734C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79DDA-07BB-4A32-A8E6-275FDE9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914F7-03D4-46E7-8CA4-DB18A37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C88FB-3664-49D5-A5CD-990B1AB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CC433-6904-4CAF-9183-4F04D55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EAEE7-ABF4-46E5-8A76-600A9F7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E52-C368-4740-A164-2C4AB458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39AC3-1646-4F58-9C07-1210DC6A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F80D7-78A1-441F-A5E4-34E1C94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24C4D-167A-453F-97CF-F9CBD6E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5D052-4427-4C0B-8498-026DA63F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2DC37-0E17-444C-9479-DE7D1604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5B1AE-3D84-4781-A573-28706A12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3AEAB-D6FE-4D03-B3B7-8AFB06A8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54724-3E00-4F45-90F3-28DF8E7D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A4AC5-8556-4730-ACDD-64F6347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556E5-558B-4765-9469-17890E4E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A49-D981-4AFD-AF5D-A5E1D68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3B35D-40FF-4E00-9ACA-B1180C9D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C784C-1755-4C34-9EF9-76A2E8D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81691-E35F-46F9-B4C9-C188E8D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C351D-E2D0-4747-98C1-52B28C2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59C03-1C92-419E-9E5F-AF3B948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DF3C9-B2A4-4FC6-80E1-942250D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79CBC-1883-4DF6-8D97-ED20E209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60D0B-39DA-4356-A911-0EF0D5D6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4630A-3109-4BD5-8267-FAD1777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8E77E-ED41-4A88-B941-A85C70DE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878-6EF9-4B48-AAE9-608258D9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63429-4186-4115-AC16-9A34B2B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402A1-146F-4C50-8FB0-F4ED4ECB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3C812-62EC-4181-9C76-56AD9CD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28CD7-21B4-4A2D-9A3F-89DB4CF5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DF90-24C5-4A5A-A7B9-4C2B91FB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3D18B-43FF-4CE4-A9DE-2218863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3955A-3EB5-41A1-B838-EEE7AD7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42707-0B0B-4F51-A36E-53B4BBF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D39FE-390A-4BF6-97D0-75FE2B4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83DB4-E6F2-4C21-8B69-C167F0F1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C97-F566-4D9F-A835-7C0430D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8F1A5-338B-42AD-B4A4-72069AE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737E4-516E-4547-B1E4-C7BF4F82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FD642-BFAC-4DB5-BDF2-7D681F1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726CF-7C26-4457-A971-F91204A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F0599-2D5E-41DD-87E5-4C096F0F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328A9-D106-42B7-9709-8A23FAA7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023CD-3DC3-4D6D-98A4-988A041D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FA0DA-8321-4FB6-8055-3872F44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34763-E17B-4182-BF77-AA0202D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F3BD8-CA14-402F-B1C7-D4F6D9B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051-75D1-4038-B5EE-09935C5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22ECB-E3C8-49D6-B4E2-3C919B0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9D724-2039-47CD-9A05-2EC743B0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42083-3C13-45CE-8816-BBA8FB99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EE0DA-DB38-4F3B-A67B-2D626C4F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CED3C-7458-466B-98B8-699C28B0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A534F-1FA3-401B-BB9E-5338F24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36265-7D47-439B-8415-296E869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09657-C19D-4E89-9B95-4ACDEA4C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ACEF8-5B58-4471-BAE2-ED73D07A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87916-A12E-4DD9-9903-37E78A2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B45-FE7D-43EA-B773-909DB15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7CD65-AD0B-4489-AAD5-918FB39A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EC149-D19D-4F55-9927-E38AC80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FCBD0-2510-494A-9BDC-F6D3D87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8FA00-EE86-4E0B-B24B-66CAF120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7C3AF-DBD1-44EC-B727-2BFE7F27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E38-0250-4CA3-B79C-8795F6E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129-6C80-4095-A42E-F0E95E7564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8E9A-9CD6-409F-A32D-AF6577728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6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45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Капля 1"/>
          <p:cNvGrpSpPr/>
          <p:nvPr/>
        </p:nvGrpSpPr>
        <p:grpSpPr>
          <a:xfrm>
            <a:off x="-55440" y="-30240"/>
            <a:ext cx="6968880" cy="5254560"/>
            <a:chOff x="-55440" y="-30240"/>
            <a:chExt cx="6968880" cy="5254560"/>
          </a:xfrm>
        </p:grpSpPr>
        <p:pic>
          <p:nvPicPr>
            <p:cNvPr id="48" name="Капля 1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6968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004760" y="752400"/>
              <a:ext cx="4848480" cy="36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9" descr="1.jpg"/>
          <p:cNvPicPr/>
          <p:nvPr/>
        </p:nvPicPr>
        <p:blipFill>
          <a:blip r:embed="rId5"/>
          <a:stretch/>
        </p:blipFill>
        <p:spPr>
          <a:xfrm>
            <a:off x="54000" y="2643120"/>
            <a:ext cx="42876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istockphoto-512060613-612x612.jpg"/>
          <p:cNvPicPr/>
          <p:nvPr/>
        </p:nvPicPr>
        <p:blipFill>
          <a:blip r:embed="rId6"/>
          <a:stretch/>
        </p:blipFill>
        <p:spPr>
          <a:xfrm>
            <a:off x="5894280" y="3714840"/>
            <a:ext cx="69552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8710d920d76daa18adf8e4d5cd3e437b.image.271x280.gif"/>
          <p:cNvPicPr/>
          <p:nvPr/>
        </p:nvPicPr>
        <p:blipFill>
          <a:blip r:embed="rId7"/>
          <a:stretch/>
        </p:blipFill>
        <p:spPr>
          <a:xfrm>
            <a:off x="2357280" y="4286160"/>
            <a:ext cx="57024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june2516.gif"/>
          <p:cNvPicPr/>
          <p:nvPr/>
        </p:nvPicPr>
        <p:blipFill>
          <a:blip r:embed="rId8"/>
          <a:stretch/>
        </p:blipFill>
        <p:spPr>
          <a:xfrm>
            <a:off x="4179960" y="4357800"/>
            <a:ext cx="534960" cy="760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зд.jpg"/>
          <p:cNvPicPr/>
          <p:nvPr/>
        </p:nvPicPr>
        <p:blipFill>
          <a:blip r:embed="rId9"/>
          <a:srcRect l="6067" t="8720" r="53220" b="6982"/>
          <a:stretch/>
        </p:blipFill>
        <p:spPr>
          <a:xfrm>
            <a:off x="642960" y="3500280"/>
            <a:ext cx="588960" cy="1013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7" descr="зд.jpg"/>
          <p:cNvPicPr/>
          <p:nvPr/>
        </p:nvPicPr>
        <p:blipFill>
          <a:blip r:embed="rId10"/>
          <a:srcRect l="56435" t="8713" r="5002" b="1847"/>
          <a:stretch/>
        </p:blipFill>
        <p:spPr>
          <a:xfrm>
            <a:off x="6215040" y="2643120"/>
            <a:ext cx="64296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11.jpg"/>
          <p:cNvPicPr/>
          <p:nvPr/>
        </p:nvPicPr>
        <p:blipFill>
          <a:blip r:embed="rId11"/>
          <a:stretch/>
        </p:blipFill>
        <p:spPr>
          <a:xfrm>
            <a:off x="4983120" y="3786120"/>
            <a:ext cx="81612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9" descr="clip-art-playing-342512.jpg"/>
          <p:cNvPicPr/>
          <p:nvPr/>
        </p:nvPicPr>
        <p:blipFill>
          <a:blip r:embed="rId12"/>
          <a:stretch/>
        </p:blipFill>
        <p:spPr>
          <a:xfrm>
            <a:off x="1446120" y="4138560"/>
            <a:ext cx="590760" cy="862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446-45C8-4FCA-8F61-8516CFC13F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900-096F-4C16-91E7-89E3E1CFB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9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Рисунок 8" descr="зд.jpg"/>
          <p:cNvPicPr/>
          <p:nvPr/>
        </p:nvPicPr>
        <p:blipFill>
          <a:blip r:embed="rId4"/>
          <a:srcRect l="6064" t="8716" r="53229" b="6984"/>
          <a:stretch/>
        </p:blipFill>
        <p:spPr>
          <a:xfrm>
            <a:off x="0" y="3929040"/>
            <a:ext cx="642960" cy="1104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566-2696-4A10-8052-45A3396606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5B4-FC0E-4C8E-8B29-95F14300F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14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Рисунок 1" descr="boy-clipart-baseball-player-16.jpg"/>
          <p:cNvPicPr/>
          <p:nvPr/>
        </p:nvPicPr>
        <p:blipFill>
          <a:blip r:embed="rId4"/>
          <a:stretch/>
        </p:blipFill>
        <p:spPr>
          <a:xfrm>
            <a:off x="55440" y="3833640"/>
            <a:ext cx="766800" cy="2500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9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B03-E642-48CC-BF6A-59B6AE4661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0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1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7B0-EB54-455E-8CCD-B985E96A7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18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Рисунок 8" descr="1817e40a6bcb61d74b0c3eedd2b5637f_t.jpeg"/>
          <p:cNvPicPr/>
          <p:nvPr/>
        </p:nvPicPr>
        <p:blipFill>
          <a:blip r:embed="rId4"/>
          <a:stretch/>
        </p:blipFill>
        <p:spPr>
          <a:xfrm>
            <a:off x="214200" y="3857760"/>
            <a:ext cx="588960" cy="11174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2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6DF4-859B-45E2-BF6E-97662198F6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3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4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121-221F-44C8-AD37-7DB078FB2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234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Рисунок 8" descr="зд.jpg"/>
          <p:cNvPicPr/>
          <p:nvPr/>
        </p:nvPicPr>
        <p:blipFill>
          <a:blip r:embed="rId4"/>
          <a:srcRect l="56435" t="8713" r="5002" b="1847"/>
          <a:stretch/>
        </p:blipFill>
        <p:spPr>
          <a:xfrm>
            <a:off x="6107040" y="3714840"/>
            <a:ext cx="644760" cy="1238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5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94D5-E679-4E2F-A128-856D1A0982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6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7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5444-CF09-4E4F-90DE-DC6825D68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Рамка 7"/>
          <p:cNvGrpSpPr/>
          <p:nvPr/>
        </p:nvGrpSpPr>
        <p:grpSpPr>
          <a:xfrm>
            <a:off x="-30240" y="-30240"/>
            <a:ext cx="6918480" cy="5199120"/>
            <a:chOff x="-30240" y="-30240"/>
            <a:chExt cx="6918480" cy="5199120"/>
          </a:xfrm>
        </p:grpSpPr>
        <p:pic>
          <p:nvPicPr>
            <p:cNvPr id="279" name="Рамка 7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6918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0760" y="50760"/>
              <a:ext cx="675648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Рисунок 8" descr="Baby Pooh and Friends 65 iron on stickers (heat transfer).gif"/>
          <p:cNvPicPr/>
          <p:nvPr/>
        </p:nvPicPr>
        <p:blipFill>
          <a:blip r:embed="rId4"/>
          <a:stretch/>
        </p:blipFill>
        <p:spPr>
          <a:xfrm>
            <a:off x="6054840" y="3786120"/>
            <a:ext cx="571320" cy="1214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8677-70E0-49BA-8AE5-CA062C6992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432-C2FD-4698-9149-0FCFCA4AD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0640" y="915840"/>
            <a:ext cx="58327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бразовательная ситу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ак ведущая форма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по развитию речи дете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781000" y="4659120"/>
            <a:ext cx="143964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253f"/>
                </a:solidFill>
                <a:latin typeface="Calibri"/>
              </a:rPr>
              <a:t>Е. М. Жигайл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"/>
          <p:cNvSpPr/>
          <p:nvPr/>
        </p:nvSpPr>
        <p:spPr>
          <a:xfrm>
            <a:off x="1989000" y="19512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туация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297000" y="771480"/>
            <a:ext cx="62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общ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ециально проектируемая педагогом или возникающая спонтанно форма общения, направленная на упражнение детей в использовании освоенных речевых категорий (Ельцова О.М., Горбаческая Н.Н., Терехова А.Н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х организации чаще всего педагогу нужно «идти от детей», то есть находить эти ситуации в детской деятельности и использовать их для развития реч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404640" y="2587680"/>
            <a:ext cx="62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общения помогут решить любую из задач речевого развития, которые ставит ФГ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но можно разделить ситуации общения на два ви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е спонтанно в процессе дет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е в зависимости от поставленной речевой задачи: лексические, вербально оценочные, описательны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260280" y="12384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ами ситуации общения на развитие коммуникативных умений может быть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260280" y="700200"/>
            <a:ext cx="6337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не так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детей в умении соотносить форму приветствия с ситуацией ее использования: каждое приветствие уместно в той или иной ситуации: утром не скажешь «добрый вечер»; нельзя сказать «привет» тому, кто старше по возрасту или мало зна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лыб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в использовании при приветствии средств невербального общения: посмотреть человеку в глаза и улыбнуться, чтобы он понял: ему рады, приветствуют именно ег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опожа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ять детей в использовании форм жестового приветств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1"/>
          <p:cNvSpPr/>
          <p:nvPr/>
        </p:nvSpPr>
        <p:spPr>
          <a:xfrm>
            <a:off x="2343240" y="4767120"/>
            <a:ext cx="217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189000" y="135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специально планируемых ситуаци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60280" y="700200"/>
            <a:ext cx="633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-ВИКТОР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думай загадку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детей в описании предметов, придумывании загадок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то лучше знает свой город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восприятии и составлении описательных рассказов о местах и памятниках город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 какой сказки вещи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развитии объяснительной речи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газин волшебных вещей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жнение в использовании средств языковой выразит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2" descr=""/>
          <p:cNvPicPr/>
          <p:nvPr/>
        </p:nvPicPr>
        <p:blipFill>
          <a:blip r:embed="rId1"/>
          <a:srcRect l="0" t="927" r="0" b="12823"/>
          <a:stretch/>
        </p:blipFill>
        <p:spPr>
          <a:xfrm>
            <a:off x="260280" y="19512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404640" y="1058760"/>
            <a:ext cx="6048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ва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не возникает из самой природы ребенка. Она формируется в процессе его взаимодействия с окружающ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научить дошкольника посредством речи решать различные задачи: бытовые, игровые, учебные, трудовые. Это возможно через создание специальных ситуаций об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765000" y="14922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Благодарю за внимание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7"/>
          <p:cNvSpPr/>
          <p:nvPr/>
        </p:nvSpPr>
        <p:spPr>
          <a:xfrm>
            <a:off x="189000" y="195120"/>
            <a:ext cx="6480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облема речевого развития детей дошкольного возраста на сегодняшний день очень актуальна, т.к. процент дошкольников с различными речевыми нарушениями остается стабильно высоким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родным языком является одним из важных приобретений ребенка в дошкольном дет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дошкольном образовании речь рассматривается как одна из основ воспитания и обучен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– это инструмент развития высших отделов псих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звитием речи связано формирование как личности в целом, так и во всех основных психических процес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школьников родному языку должно стать одной из главных задач в подготовке детей к шк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развития связной речи ребёнка в дошкольном возрасте является совершенствование монологическ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 вышеназванные виды речев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ктуальны при работе над развитием речи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76280" y="627120"/>
            <a:ext cx="6048360" cy="30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формами педагогического взаимодействия в настоящее время стали 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тельные ситу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итуации общ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т быть заранее спланированы педагогом или возникать спонт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тельная ситуац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занятия позволяет индивидуализировать процесс обучения и применять дифференцированный подход к детям. Особенности данной формы работы рассмотрим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620640" y="119160"/>
            <a:ext cx="5400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620640" y="649440"/>
            <a:ext cx="59040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разовательные ситуации могут быть реально-практическими и игров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 реально-практическим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отнести рассматривание картины, предмета, чтение литературного текста, разучивание стихотворения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 игровым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туацию с дидактической куклой: «Напоим куклу чаем», «Оденем куклу на прогулку» и т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Calibri"/>
              </a:rPr>
              <a:t>игровых и реально-практическ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туаций в процессе обучения зависит от возраст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549360" y="268200"/>
            <a:ext cx="57592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inherit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младшем и среднем возрасте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грушек, картинок и даже чтение литературных произведений можно организовать с использованием игрового персона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старшем дошкольном возрасте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роль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-практических образовательных ситуац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учатся доброжелательно общаться с собеседником, задают вопросы, выстраивая их в логической последовательности, обобщают полученные сведения в единый рассказ, учатся презентовать составлен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ситу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-прежнему включаются в процесс обучения, но теперь они имеют проблемное содержание и включают более сложные игровые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1"/>
          <p:cNvSpPr/>
          <p:nvPr/>
        </p:nvSpPr>
        <p:spPr>
          <a:xfrm>
            <a:off x="2343240" y="4767120"/>
            <a:ext cx="217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15920" y="133200"/>
            <a:ext cx="6697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вестны четыре вида ситуац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иллюстр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ом разыгрываются простые сценки из жизни детей. Чаще всего такие ситуации используются в работе с детьми младшего дошкольного возраста. С помощью различных игровых материалов и дидактических пособий педагог демонстрирует детям образцы социально приемлемого поведения, а также активизирует их навыки эффективного общ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упражн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ёнок не только слушает и наблюдает, но и активно действует. Дети тренируются в выполнении отдельных игровых действий и связывании их в сюжет, учатся регулировать взаимоотношения со сверстниками в рамках игрового взаимодействия. Такой вид ИОС используется со средней групп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проблем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няются со старшего возраста. Участие в них способствует усвоению детьми основных направлений социальных отношений, их «отработке» и моделированию стратегии своего поведения в мире людей. Активно участвуя, ребенок находит выход своим чувствам и переживаниям, учится осознавать и приним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ситуации-оцен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няются в подготовительной группе. Они предполагают анализ и обоснование принятого решения, его оценку со стороны самих детей.  В этом случае игровая проблема уже решена, но от взрослого требуется помочь ребенку проанализировать и обосновать принятие решения, оценить ег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3"/>
          <p:cNvSpPr/>
          <p:nvPr/>
        </p:nvSpPr>
        <p:spPr>
          <a:xfrm>
            <a:off x="115920" y="123840"/>
            <a:ext cx="6408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откий алгоритм О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1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ситуацию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формирует у детей внутреннюю потребность включения в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2.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изация знаний и умений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рганизует «открытие» нового знания с опорой на имеющиеся знания и опыт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3. Затруднение в ситуации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могает дошкольникам проанализировать проблемную ситуацию, выявить причины затруд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4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рытие» нового знания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помощью педагога выбирают способ преодоления затруднения, определяют порядок действий через различные формы организации детских видов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5. Включение нового знания в систему знаний и умений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знание или способ действия дети применяют одновременно с освоенными ранее способ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6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.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помощью педагога фиксируют достижение целей. Для этого педагог или сами дети проговаривают условия, которые позволили достигнуть этой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7"/>
          <p:cNvSpPr/>
          <p:nvPr/>
        </p:nvSpPr>
        <p:spPr>
          <a:xfrm>
            <a:off x="260280" y="157320"/>
            <a:ext cx="65534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 ситуации, организуемые педагогом (приме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в транспо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 бабушкой едешь в электричке. Бабушка сошла на платформу, а ты не успел. Что ты будешь делать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 с прир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лежит бумажная бабочка с оторванным крылышком. Вокруг нее изображения «печальных» цветов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етям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казать свои предположения, почему у бабочки такой вид и почему цветы «грустны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и на 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а», «Свойства материал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сята хотят построить прочный дом, чтобы спрятаться от волка и не знают, из какого материала сделать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зык мимики и жес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уем по миру, но не знаем иностранных языков. Как б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7T16:34:52Z</dcterms:created>
  <dc:creator>12345</dc:creator>
  <dc:description/>
  <dc:language>en-US</dc:language>
  <cp:lastModifiedBy>User</cp:lastModifiedBy>
  <dcterms:modified xsi:type="dcterms:W3CDTF">2023-02-01T22:53:01Z</dcterms:modified>
  <cp:revision>133</cp:revision>
  <dc:subject/>
  <dc:title>Слайд 1</dc:title>
</cp:coreProperties>
</file>