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773-ECF9-4357-ABE9-05CDF0B9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84E-C710-495E-ABE7-13219CA9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A3E-B058-486F-884A-D61C2A91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A93-C9B1-4E19-ADB7-0929230C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352D9-916D-45A1-865C-F5CB20CB5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5705C-DF95-44A9-AFFD-123A733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53539-2BA9-4EE0-9DCE-2BEA64E4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715AC-9B32-476C-8216-54F6A4F1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17DD9-8E45-405C-A18D-FF9D964E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A492D-B32C-4CB1-96B4-7D9606C9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AFC0B-CB7E-417B-BA5A-38D85B88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475-ADC6-4548-972C-AAC3A94D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8C36D-8299-4612-894B-F56811E0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33F92-B7B4-4E0B-9A42-859095F4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365A9-245F-4A4C-9EBF-765F6A40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C4A33-4680-42BC-9777-D77C118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C6A1D-057F-4BB9-A31B-CCBDA13D53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E8FD8-A652-4F9E-B2A9-33DF8143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7EB4F-9451-4FA6-B829-34B89520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69FB8-337E-4B30-B847-F0316008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DFFD6-1F7C-44C1-8E8E-7DB8EB5A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3ED4E-7005-4A1B-9928-55D24134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4D1-69FE-48DF-BC35-8D6C3FB0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27AB8-B373-42B6-A85C-D14E74F1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4E44B-8E13-4711-BED2-C017FD7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7245F-8AEA-422D-BD60-0188DA1D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BF4E2-786B-4517-83AB-988C932F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8E357-6E05-4B2B-B52A-6005124E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1A886-BF12-4048-B5E0-3FD4B377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18575-7A31-4510-A6C6-2BCA702F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7DFD4-6242-46C1-A2EF-B0EDCA2B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6AF0C-B9A9-4F2C-8CFA-7201218E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09EE3-0B82-44BA-8EA1-F7E784C7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92E-C4C3-472D-988B-C0DA9C34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EBFF9-2054-4D2E-990A-3E1318BC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E2269-C25A-40D3-885D-DC521DE9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5BC36-7A0C-491B-BE76-5377E22B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DECF6-3D7E-4EDC-88E7-AFD5227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971B9-29FF-4D18-A531-C249DAD9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741A7-39DC-4E97-844D-8B7F97FA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A6A5A-B26A-46F3-8CC4-35AE1679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C7DC1-100D-4024-8D48-7F94249A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2E23C-EDED-40B4-84AF-C01DA24D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23D17-D417-4ADE-B285-34C351F9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3ED-BFD2-47BB-B006-C92438AF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E7EF6-56B1-4F62-80EE-EA552E1F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EBFB4-0BCE-4BB5-9316-336B3054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D45CA-3D55-4BCA-9625-48BD093A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AF5F7-EE21-4430-8DDA-799A8C2D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FED83-F94A-4975-90CB-CCFCDFD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DB844-47A0-4E09-98D0-CAACC24C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A4682-EA6F-43AC-9D5D-739B685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5BC6D-5FCD-477A-B698-DEB22B56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CAE24-EADC-4471-B754-D01DD15C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02EE0-41FB-4077-BA25-EE645C2F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A5E-38D9-4B89-A8DF-9B4A6C74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9D968-646C-4960-93DA-F4A5FA33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EB1B0-3042-49F5-8F99-D0F9D5DA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71CF8-DC7C-4F91-9E6D-265FDC8A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9664D-5B01-429D-BB2E-B83663AB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2EE19-E87F-442E-8470-B0273039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380BA-BC88-499E-86C8-2AA825CE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6A854-2CD2-495E-B4A9-F4F5E09D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40A03-3239-4F40-9C1E-108F5E66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E7F2C-93A1-460B-A1DC-BB50AEF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F2094-F852-4EC1-AABE-BC8913B3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6D2-E66B-4800-B303-315B9AEF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D06AD-34D4-4FC3-8224-B41240EA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6534B-4ADC-41C5-AC88-FE20C243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A9EB7-E967-4F62-AE8E-58A7D1A6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E78A6-6416-4376-A04A-7912FC39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093AA-E64A-4CEB-B98B-993B22CC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70974-3119-4F4B-8081-D0BDCEA5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70E3C-B914-4CF4-B3C7-FE1C67BA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9DB6D-C7E2-48AF-B5C1-15E2BDBA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6F0D5-9BA8-44A7-ABC4-C6E24E2C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1637F-7BD3-4D8F-9AFC-105FE8CB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D94-0449-4B0C-BC93-E47A27DB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82250-FBD5-4E02-ACB5-C0D1049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0D97E-F950-4E32-8293-1C8CF342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B3DC9-5B29-41B0-A734-7927A493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B97CD-5179-4414-AFD7-74613BCC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0CA65-63BB-4AA0-B72B-D0E4D1E3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CF7-3530-4C3D-B9E7-711B5C2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4E63-75E3-456F-9F5B-E6506C744E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9916-2889-41A7-BB93-76976F399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6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45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Капля 1"/>
          <p:cNvGrpSpPr/>
          <p:nvPr/>
        </p:nvGrpSpPr>
        <p:grpSpPr>
          <a:xfrm>
            <a:off x="-55440" y="-30240"/>
            <a:ext cx="6968880" cy="5254560"/>
            <a:chOff x="-55440" y="-30240"/>
            <a:chExt cx="6968880" cy="5254560"/>
          </a:xfrm>
        </p:grpSpPr>
        <p:pic>
          <p:nvPicPr>
            <p:cNvPr id="48" name="Капля 1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6968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004760" y="752400"/>
              <a:ext cx="4848480" cy="36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Рисунок 9" descr="1.jpg"/>
          <p:cNvPicPr/>
          <p:nvPr/>
        </p:nvPicPr>
        <p:blipFill>
          <a:blip r:embed="rId5"/>
          <a:stretch/>
        </p:blipFill>
        <p:spPr>
          <a:xfrm>
            <a:off x="54000" y="2643120"/>
            <a:ext cx="428760" cy="966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istockphoto-512060613-612x612.jpg"/>
          <p:cNvPicPr/>
          <p:nvPr/>
        </p:nvPicPr>
        <p:blipFill>
          <a:blip r:embed="rId6"/>
          <a:stretch/>
        </p:blipFill>
        <p:spPr>
          <a:xfrm>
            <a:off x="5894280" y="3714840"/>
            <a:ext cx="69552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8710d920d76daa18adf8e4d5cd3e437b.image.271x280.gif"/>
          <p:cNvPicPr/>
          <p:nvPr/>
        </p:nvPicPr>
        <p:blipFill>
          <a:blip r:embed="rId7"/>
          <a:stretch/>
        </p:blipFill>
        <p:spPr>
          <a:xfrm>
            <a:off x="2357280" y="4286160"/>
            <a:ext cx="57024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june2516.gif"/>
          <p:cNvPicPr/>
          <p:nvPr/>
        </p:nvPicPr>
        <p:blipFill>
          <a:blip r:embed="rId8"/>
          <a:stretch/>
        </p:blipFill>
        <p:spPr>
          <a:xfrm>
            <a:off x="4179960" y="4357800"/>
            <a:ext cx="534960" cy="760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зд.jpg"/>
          <p:cNvPicPr/>
          <p:nvPr/>
        </p:nvPicPr>
        <p:blipFill>
          <a:blip r:embed="rId9"/>
          <a:srcRect l="6067" t="8720" r="53220" b="6982"/>
          <a:stretch/>
        </p:blipFill>
        <p:spPr>
          <a:xfrm>
            <a:off x="642960" y="3500280"/>
            <a:ext cx="588960" cy="1013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7" descr="зд.jpg"/>
          <p:cNvPicPr/>
          <p:nvPr/>
        </p:nvPicPr>
        <p:blipFill>
          <a:blip r:embed="rId10"/>
          <a:srcRect l="56435" t="8713" r="5002" b="1847"/>
          <a:stretch/>
        </p:blipFill>
        <p:spPr>
          <a:xfrm>
            <a:off x="6215040" y="2643120"/>
            <a:ext cx="642960" cy="1238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8" descr="11.jpg"/>
          <p:cNvPicPr/>
          <p:nvPr/>
        </p:nvPicPr>
        <p:blipFill>
          <a:blip r:embed="rId11"/>
          <a:stretch/>
        </p:blipFill>
        <p:spPr>
          <a:xfrm>
            <a:off x="4983120" y="3786120"/>
            <a:ext cx="816120" cy="1244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9" descr="clip-art-playing-342512.jpg"/>
          <p:cNvPicPr/>
          <p:nvPr/>
        </p:nvPicPr>
        <p:blipFill>
          <a:blip r:embed="rId12"/>
          <a:stretch/>
        </p:blipFill>
        <p:spPr>
          <a:xfrm>
            <a:off x="1446120" y="4138560"/>
            <a:ext cx="590760" cy="862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E35A-BA33-4E06-B001-E59794FA8EF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4C1B-7A2E-475D-BA21-F2C60BD4E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99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Рисунок 8" descr="зд.jpg"/>
          <p:cNvPicPr/>
          <p:nvPr/>
        </p:nvPicPr>
        <p:blipFill>
          <a:blip r:embed="rId4"/>
          <a:srcRect l="6064" t="8716" r="53229" b="6984"/>
          <a:stretch/>
        </p:blipFill>
        <p:spPr>
          <a:xfrm>
            <a:off x="0" y="3929040"/>
            <a:ext cx="642960" cy="1104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40A7-2AC7-4EFD-BCDB-2E1070DB21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1BD9-057E-4494-AEB3-DA6D30E5F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144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Рисунок 1" descr="boy-clipart-baseball-player-16.jpg"/>
          <p:cNvPicPr/>
          <p:nvPr/>
        </p:nvPicPr>
        <p:blipFill>
          <a:blip r:embed="rId4"/>
          <a:stretch/>
        </p:blipFill>
        <p:spPr>
          <a:xfrm>
            <a:off x="55440" y="3833640"/>
            <a:ext cx="766800" cy="25005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9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BD80-7F4D-421D-9173-72C0D1068C0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0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1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5AB4-1E20-4EA0-8B20-72577C454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189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Рисунок 8" descr="1817e40a6bcb61d74b0c3eedd2b5637f_t.jpeg"/>
          <p:cNvPicPr/>
          <p:nvPr/>
        </p:nvPicPr>
        <p:blipFill>
          <a:blip r:embed="rId4"/>
          <a:stretch/>
        </p:blipFill>
        <p:spPr>
          <a:xfrm>
            <a:off x="214200" y="3857760"/>
            <a:ext cx="588960" cy="11174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2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4A65-C91D-414B-A9D2-18B1BFBBCAB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3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4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F582-950C-444B-813A-596487E23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234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Рисунок 8" descr="зд.jpg"/>
          <p:cNvPicPr/>
          <p:nvPr/>
        </p:nvPicPr>
        <p:blipFill>
          <a:blip r:embed="rId4"/>
          <a:srcRect l="56435" t="8713" r="5002" b="1847"/>
          <a:stretch/>
        </p:blipFill>
        <p:spPr>
          <a:xfrm>
            <a:off x="6107040" y="3714840"/>
            <a:ext cx="644760" cy="1238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5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3EB2-67D8-492E-A0C1-735D217232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6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7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5F35-94CC-4EDE-8A4E-061F73CF3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279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Рисунок 8" descr="Baby Pooh and Friends 65 iron on stickers (heat transfer).gif"/>
          <p:cNvPicPr/>
          <p:nvPr/>
        </p:nvPicPr>
        <p:blipFill>
          <a:blip r:embed="rId4"/>
          <a:stretch/>
        </p:blipFill>
        <p:spPr>
          <a:xfrm>
            <a:off x="6054840" y="3786120"/>
            <a:ext cx="571320" cy="12146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8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13D5-2852-4E85-8726-727A50D7D43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9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0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9D45-DA27-470F-B38A-83365A3AF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0640" y="915840"/>
            <a:ext cx="583272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Образовательная ситуаци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ак ведущая форма рабо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по развитию речи дете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781000" y="4659120"/>
            <a:ext cx="143964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253f"/>
                </a:solidFill>
                <a:latin typeface="Calibri"/>
              </a:rPr>
              <a:t>Е. М. Жигайл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3"/>
          <p:cNvSpPr/>
          <p:nvPr/>
        </p:nvSpPr>
        <p:spPr>
          <a:xfrm>
            <a:off x="1989000" y="19512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туация 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297000" y="771480"/>
            <a:ext cx="62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я общ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пециально проектируемая педагогом или возникающая спонтанно форма общения, направленная на упражнение детей в использовании освоенных речевых категорий (Ельцова О.М., Горбаческая Н.Н., Терехова А.Н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х организации чаще всего педагогу нужно «идти от детей», то есть находить эти ситуации в детской деятельности и использовать их для развития реч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404640" y="2587680"/>
            <a:ext cx="62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 общения помогут решить любую из задач речевого развития, которые ставит ФГ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но можно разделить ситуации общения на два ви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щие спонтанно в процессе дет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щие в зависимости от поставленной речевой задачи: лексические, вербально оценочные, описательны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260280" y="123840"/>
            <a:ext cx="61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ами ситуации общения на развитие коммуникативных умений может быть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260280" y="700200"/>
            <a:ext cx="6337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то не так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жнять детей в умении соотносить форму приветствия с ситуацией ее использования: каждое приветствие уместно в той или иной ситуации: утром не скажешь «добрый вечер»; нельзя сказать «привет» тому, кто старше по возрасту или мало знак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лыб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жнять в использовании при приветствии средств невербального общения: посмотреть человеку в глаза и улыбнуться, чтобы он понял: ему рады, приветствуют именно его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копожати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жнять детей в использовании форм жестового приветств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ижний колонтитул 1"/>
          <p:cNvSpPr/>
          <p:nvPr/>
        </p:nvSpPr>
        <p:spPr>
          <a:xfrm>
            <a:off x="2343240" y="4767120"/>
            <a:ext cx="217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189000" y="135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специально планируемых ситуаций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260280" y="700200"/>
            <a:ext cx="633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-ВИКТОР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думай загадку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жнение детей в описании предметов, придумывании загадок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то лучше знает свой город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жнение в восприятии и составлении описательных рассказов о местах и памятниках город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 какой сказки вещи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жнение в развитии объяснительной речи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газин волшебных вещей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жнение в использовании средств языковой выразит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2" descr=""/>
          <p:cNvPicPr/>
          <p:nvPr/>
        </p:nvPicPr>
        <p:blipFill>
          <a:blip r:embed="rId1"/>
          <a:srcRect l="0" t="927" r="0" b="12823"/>
          <a:stretch/>
        </p:blipFill>
        <p:spPr>
          <a:xfrm>
            <a:off x="260280" y="195120"/>
            <a:ext cx="58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404640" y="1058760"/>
            <a:ext cx="60487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ва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не возникает из самой природы ребенка. Она формируется в процессе его взаимодействия с окружающими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научить дошкольника посредством речи решать различные задачи: бытовые, игровые, учебные, трудовые. Это возможно через создание специальных ситуаций об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5"/>
          <p:cNvSpPr/>
          <p:nvPr/>
        </p:nvSpPr>
        <p:spPr>
          <a:xfrm>
            <a:off x="765000" y="149220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Благодарю за внимание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7"/>
          <p:cNvSpPr/>
          <p:nvPr/>
        </p:nvSpPr>
        <p:spPr>
          <a:xfrm>
            <a:off x="189000" y="195120"/>
            <a:ext cx="6480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облема речевого развития детей дошкольного возраста на сегодняшний день очень актуальна, т.к. процент дошкольников с различными речевыми нарушениями остается стабильно высоким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родным языком является одним из важных приобретений ребенка в дошкольном дет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дошкольном образовании речь рассматривается как одна из основ воспитания и обучен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– это инструмент развития высших отделов псих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азвитием речи связано формирование как личности в целом, так и во всех основных психических процес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школьников родному языку должно стать одной из главных задач в подготовке детей к шко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развития связной речи ребёнка в дошкольном возрасте является совершенствование монологическ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е вышеназванные виды речевой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ктуальны при работе над развитием речи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76280" y="627120"/>
            <a:ext cx="6048360" cy="30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формами педагогического взаимодействия в настоящее время стали </a:t>
            </a: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разовательные ситуац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итуации общ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могут быть заранее спланированы педагогом или возникать спонт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разовательная ситуац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занятия позволяет индивидуализировать процесс обучения и применять дифференцированный подход к детям. Особенности данной формы работы рассмотрим дал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620640" y="119160"/>
            <a:ext cx="5400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620640" y="649440"/>
            <a:ext cx="590400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бразовательные ситуации могут быть реально-практическими и игров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 реально-практическим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отнести рассматривание картины, предмета, чтение литературного текста, разучивание стихотворения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 игровым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туацию с дидактической куклой: «Напоим куклу чаем», «Оденем куклу на прогулку» и т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е </a:t>
            </a: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Calibri"/>
              </a:rPr>
              <a:t>игровых и реально-практических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туаций в процессе обучения зависит от возраста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2"/>
          <p:cNvSpPr/>
          <p:nvPr/>
        </p:nvSpPr>
        <p:spPr>
          <a:xfrm>
            <a:off x="549360" y="268200"/>
            <a:ext cx="57592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inherit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младшем и среднем возрасте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т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ситу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ример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грушек, картинок и даже чтение литературных произведений можно организовать с использованием игрового персона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старшем дошкольном возрасте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роль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-практических образовательных ситуац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ример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учатся доброжелательно общаться с собеседником, задают вопросы, выстраивая их в логической последовательности, обобщают полученные сведения в единый рассказ, учатся презентовать составленный тек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ситу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-прежнему включаются в процесс обучения, но теперь они имеют проблемное содержание и включают более сложные игровые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1"/>
          <p:cNvSpPr/>
          <p:nvPr/>
        </p:nvSpPr>
        <p:spPr>
          <a:xfrm>
            <a:off x="2343240" y="4767120"/>
            <a:ext cx="217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115920" y="133200"/>
            <a:ext cx="6697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вестны четыре вида ситуац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ситуации-иллюстраци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дагогом разыгрываются простые сценки из жизни детей. Чаще всего такие ситуации используются в работе с детьми младшего дошкольного возраста. С помощью различных игровых материалов и дидактических пособий педагог демонстрирует детям образцы социально приемлемого поведения, а также активизирует их навыки эффективного общ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ситуации-упражнен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бёнок не только слушает и наблюдает, но и активно действует. Дети тренируются в выполнении отдельных игровых действий и связывании их в сюжет, учатся регулировать взаимоотношения со сверстниками в рамках игрового взаимодействия. Такой вид ИОС используется со средней групп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ситуации-проблем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меняются со старшего возраста. Участие в них способствует усвоению детьми основных направлений социальных отношений, их «отработке» и моделированию стратегии своего поведения в мире людей. Активно участвуя, ребенок находит выход своим чувствам и переживаниям, учится осознавать и принимать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ситуации-оцен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меняются в подготовительной группе. Они предполагают анализ и обоснование принятого решения, его оценку со стороны самих детей.  В этом случае игровая проблема уже решена, но от взрослого требуется помочь ребенку проанализировать и обосновать принятие решения, оценить ег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3"/>
          <p:cNvSpPr/>
          <p:nvPr/>
        </p:nvSpPr>
        <p:spPr>
          <a:xfrm>
            <a:off x="115920" y="123840"/>
            <a:ext cx="6408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откий алгоритм О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1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дение в ситуацию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формирует у детей внутреннюю потребность включения в дея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2. 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изация знаний и умений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организует «открытие» нового знания с опорой на имеющиеся знания и опыт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3. Затруднение в ситуации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помогает дошкольникам проанализировать проблемную ситуацию, выявить причины затруд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4.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крытие» нового знания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помощью педагога выбирают способ преодоления затруднения, определяют порядок действий через различные формы организации детских видов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5. Включение нового знания в систему знаний и умений.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знание или способ действия дети применяют одновременно с освоенными ранее способ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6.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мысление.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помощью педагога фиксируют достижение целей. Для этого педагог или сами дети проговаривают условия, которые позволили достигнуть этой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7"/>
          <p:cNvSpPr/>
          <p:nvPr/>
        </p:nvSpPr>
        <p:spPr>
          <a:xfrm>
            <a:off x="260280" y="157320"/>
            <a:ext cx="655344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ые ситуации, организуемые педагогом (приме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я в транспор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с бабушкой едешь в электричке. Бабушка сошла на платформу, а ты не успел. Что ты будешь делать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я с прир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лежит бумажная бабочка с оторванным крылышком. Вокруг нее изображения «печальных» цветов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етям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казать свои предположения, почему у бабочки такой вид и почему цветы «грустны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и на 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ма», «Свойства материал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сята хотят построить прочный дом, чтобы спрятаться от волка и не знают, из какого материала сделать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зык мимики и жес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уем по миру, но не знаем иностранных языков. Как бы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7T16:34:52Z</dcterms:created>
  <dc:creator>12345</dc:creator>
  <dc:description/>
  <dc:language>en-US</dc:language>
  <cp:lastModifiedBy>User</cp:lastModifiedBy>
  <dcterms:modified xsi:type="dcterms:W3CDTF">2023-02-01T22:53:01Z</dcterms:modified>
  <cp:revision>133</cp:revision>
  <dc:subject/>
  <dc:title>Слайд 1</dc:title>
</cp:coreProperties>
</file>