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9.xml" ContentType="application/vnd.openxmlformats-officedocument.presentationml.comments+xml"/>
  <Override PartName="/ppt/comments/comment8.xml" ContentType="application/vnd.openxmlformats-officedocument.presentationml.comments+xml"/>
  <Override PartName="/ppt/comments/comment7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21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1.xml" ContentType="application/vnd.openxmlformats-officedocument.presentationml.comments+xml"/>
  <Override PartName="/ppt/comments/comment20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Пользователь Windows" initials="ПW" lastIdx="4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0-10-18T21:17:08.197000000" idx="1">
    <p:pos x="5760" y="0"/>
    <p:text/>
  </p:cm>
  <p:cm authorId="0" dt="2020-10-18T21:17:08.338000000" idx="2">
    <p:pos x="5896" y="136"/>
    <p:text/>
  </p:cm>
</p:cmLst>
</file>

<file path=ppt/comments/comment10.xml><?xml version="1.0" encoding="utf-8"?>
<p:cmLst xmlns:p="http://schemas.openxmlformats.org/presentationml/2006/main">
  <p:cm authorId="0" dt="2020-10-18T21:17:08.197000000" idx="19">
    <p:pos x="5760" y="0"/>
    <p:text/>
  </p:cm>
  <p:cm authorId="0" dt="2020-10-18T21:17:08.338000000" idx="20">
    <p:pos x="5896" y="136"/>
    <p:text/>
  </p:cm>
</p:cmLst>
</file>

<file path=ppt/comments/comment11.xml><?xml version="1.0" encoding="utf-8"?>
<p:cmLst xmlns:p="http://schemas.openxmlformats.org/presentationml/2006/main">
  <p:cm authorId="0" dt="2020-10-18T21:17:08.197000000" idx="21">
    <p:pos x="5760" y="0"/>
    <p:text/>
  </p:cm>
  <p:cm authorId="0" dt="2020-10-18T21:17:08.338000000" idx="22">
    <p:pos x="5896" y="136"/>
    <p:text/>
  </p:cm>
</p:cmLst>
</file>

<file path=ppt/comments/comment12.xml><?xml version="1.0" encoding="utf-8"?>
<p:cmLst xmlns:p="http://schemas.openxmlformats.org/presentationml/2006/main">
  <p:cm authorId="0" dt="2020-10-18T21:17:08.197000000" idx="23">
    <p:pos x="5760" y="0"/>
    <p:text/>
  </p:cm>
  <p:cm authorId="0" dt="2020-10-18T21:17:08.338000000" idx="24">
    <p:pos x="5896" y="136"/>
    <p:text/>
  </p:cm>
</p:cmLst>
</file>

<file path=ppt/comments/comment13.xml><?xml version="1.0" encoding="utf-8"?>
<p:cmLst xmlns:p="http://schemas.openxmlformats.org/presentationml/2006/main">
  <p:cm authorId="0" dt="2020-10-18T21:17:08.197000000" idx="25">
    <p:pos x="5760" y="0"/>
    <p:text/>
  </p:cm>
  <p:cm authorId="0" dt="2020-10-18T21:17:08.338000000" idx="26">
    <p:pos x="5896" y="136"/>
    <p:text/>
  </p:cm>
</p:cmLst>
</file>

<file path=ppt/comments/comment14.xml><?xml version="1.0" encoding="utf-8"?>
<p:cmLst xmlns:p="http://schemas.openxmlformats.org/presentationml/2006/main">
  <p:cm authorId="0" dt="2020-10-18T21:17:08.197000000" idx="27">
    <p:pos x="5760" y="0"/>
    <p:text/>
  </p:cm>
  <p:cm authorId="0" dt="2020-10-18T21:17:08.338000000" idx="28">
    <p:pos x="5896" y="136"/>
    <p:text/>
  </p:cm>
</p:cmLst>
</file>

<file path=ppt/comments/comment15.xml><?xml version="1.0" encoding="utf-8"?>
<p:cmLst xmlns:p="http://schemas.openxmlformats.org/presentationml/2006/main">
  <p:cm authorId="0" dt="2020-10-18T21:17:08.197000000" idx="29">
    <p:pos x="5760" y="0"/>
    <p:text/>
  </p:cm>
  <p:cm authorId="0" dt="2020-10-18T21:17:08.338000000" idx="30">
    <p:pos x="5896" y="136"/>
    <p:text/>
  </p:cm>
</p:cmLst>
</file>

<file path=ppt/comments/comment16.xml><?xml version="1.0" encoding="utf-8"?>
<p:cmLst xmlns:p="http://schemas.openxmlformats.org/presentationml/2006/main">
  <p:cm authorId="0" dt="2020-10-18T21:17:08.197000000" idx="31">
    <p:pos x="5760" y="0"/>
    <p:text/>
  </p:cm>
  <p:cm authorId="0" dt="2020-10-18T21:17:08.338000000" idx="32">
    <p:pos x="5896" y="136"/>
    <p:text/>
  </p:cm>
</p:cmLst>
</file>

<file path=ppt/comments/comment17.xml><?xml version="1.0" encoding="utf-8"?>
<p:cmLst xmlns:p="http://schemas.openxmlformats.org/presentationml/2006/main">
  <p:cm authorId="0" dt="2020-10-18T21:17:08.197000000" idx="33">
    <p:pos x="5760" y="0"/>
    <p:text/>
  </p:cm>
  <p:cm authorId="0" dt="2020-10-18T21:17:08.338000000" idx="34">
    <p:pos x="5896" y="136"/>
    <p:text/>
  </p:cm>
</p:cmLst>
</file>

<file path=ppt/comments/comment18.xml><?xml version="1.0" encoding="utf-8"?>
<p:cmLst xmlns:p="http://schemas.openxmlformats.org/presentationml/2006/main">
  <p:cm authorId="0" dt="2020-10-18T21:17:08.197000000" idx="35">
    <p:pos x="5760" y="0"/>
    <p:text/>
  </p:cm>
  <p:cm authorId="0" dt="2020-10-18T21:17:08.338000000" idx="36">
    <p:pos x="5896" y="136"/>
    <p:text/>
  </p:cm>
</p:cmLst>
</file>

<file path=ppt/comments/comment19.xml><?xml version="1.0" encoding="utf-8"?>
<p:cmLst xmlns:p="http://schemas.openxmlformats.org/presentationml/2006/main">
  <p:cm authorId="0" dt="2020-10-18T21:17:08.197000000" idx="37">
    <p:pos x="5760" y="0"/>
    <p:text/>
  </p:cm>
  <p:cm authorId="0" dt="2020-10-18T21:17:08.338000000" idx="38">
    <p:pos x="5896" y="136"/>
    <p:text/>
  </p:cm>
</p:cmLst>
</file>

<file path=ppt/comments/comment2.xml><?xml version="1.0" encoding="utf-8"?>
<p:cmLst xmlns:p="http://schemas.openxmlformats.org/presentationml/2006/main">
  <p:cm authorId="0" dt="2020-10-18T21:17:08.197000000" idx="3">
    <p:pos x="5760" y="0"/>
    <p:text/>
  </p:cm>
  <p:cm authorId="0" dt="2020-10-18T21:17:08.338000000" idx="4">
    <p:pos x="5896" y="136"/>
    <p:text/>
  </p:cm>
</p:cmLst>
</file>

<file path=ppt/comments/comment20.xml><?xml version="1.0" encoding="utf-8"?>
<p:cmLst xmlns:p="http://schemas.openxmlformats.org/presentationml/2006/main">
  <p:cm authorId="0" dt="2020-10-18T21:17:08.197000000" idx="39">
    <p:pos x="5760" y="0"/>
    <p:text/>
  </p:cm>
  <p:cm authorId="0" dt="2020-10-18T21:17:08.338000000" idx="40">
    <p:pos x="5896" y="136"/>
    <p:text/>
  </p:cm>
</p:cmLst>
</file>

<file path=ppt/comments/comment21.xml><?xml version="1.0" encoding="utf-8"?>
<p:cmLst xmlns:p="http://schemas.openxmlformats.org/presentationml/2006/main">
  <p:cm authorId="0" dt="2020-10-18T21:17:08.197000000" idx="41">
    <p:pos x="5760" y="0"/>
    <p:text/>
  </p:cm>
  <p:cm authorId="0" dt="2020-10-18T21:17:08.338000000" idx="42">
    <p:pos x="5896" y="136"/>
    <p:text/>
  </p:cm>
</p:cmLst>
</file>

<file path=ppt/comments/comment3.xml><?xml version="1.0" encoding="utf-8"?>
<p:cmLst xmlns:p="http://schemas.openxmlformats.org/presentationml/2006/main">
  <p:cm authorId="0" dt="2020-10-18T21:17:08.197000000" idx="5">
    <p:pos x="5760" y="0"/>
    <p:text/>
  </p:cm>
  <p:cm authorId="0" dt="2020-10-18T21:17:08.338000000" idx="6">
    <p:pos x="5896" y="136"/>
    <p:text/>
  </p:cm>
</p:cmLst>
</file>

<file path=ppt/comments/comment4.xml><?xml version="1.0" encoding="utf-8"?>
<p:cmLst xmlns:p="http://schemas.openxmlformats.org/presentationml/2006/main">
  <p:cm authorId="0" dt="2020-10-18T21:17:08.197000000" idx="7">
    <p:pos x="5760" y="0"/>
    <p:text/>
  </p:cm>
  <p:cm authorId="0" dt="2020-10-18T21:17:08.338000000" idx="8">
    <p:pos x="5896" y="136"/>
    <p:text/>
  </p:cm>
</p:cmLst>
</file>

<file path=ppt/comments/comment5.xml><?xml version="1.0" encoding="utf-8"?>
<p:cmLst xmlns:p="http://schemas.openxmlformats.org/presentationml/2006/main">
  <p:cm authorId="0" dt="2020-10-18T21:17:08.197000000" idx="9">
    <p:pos x="5760" y="0"/>
    <p:text/>
  </p:cm>
  <p:cm authorId="0" dt="2020-10-18T21:17:08.338000000" idx="10">
    <p:pos x="5896" y="136"/>
    <p:text/>
  </p:cm>
</p:cmLst>
</file>

<file path=ppt/comments/comment6.xml><?xml version="1.0" encoding="utf-8"?>
<p:cmLst xmlns:p="http://schemas.openxmlformats.org/presentationml/2006/main">
  <p:cm authorId="0" dt="2020-10-18T21:17:08.197000000" idx="11">
    <p:pos x="5760" y="0"/>
    <p:text/>
  </p:cm>
  <p:cm authorId="0" dt="2020-10-18T21:17:08.338000000" idx="12">
    <p:pos x="5896" y="136"/>
    <p:text/>
  </p:cm>
</p:cmLst>
</file>

<file path=ppt/comments/comment7.xml><?xml version="1.0" encoding="utf-8"?>
<p:cmLst xmlns:p="http://schemas.openxmlformats.org/presentationml/2006/main">
  <p:cm authorId="0" dt="2020-10-18T21:17:08.197000000" idx="13">
    <p:pos x="5760" y="0"/>
    <p:text/>
  </p:cm>
  <p:cm authorId="0" dt="2020-10-18T21:17:08.338000000" idx="14">
    <p:pos x="5896" y="136"/>
    <p:text/>
  </p:cm>
</p:cmLst>
</file>

<file path=ppt/comments/comment8.xml><?xml version="1.0" encoding="utf-8"?>
<p:cmLst xmlns:p="http://schemas.openxmlformats.org/presentationml/2006/main">
  <p:cm authorId="0" dt="2020-10-18T21:17:08.197000000" idx="15">
    <p:pos x="5760" y="0"/>
    <p:text/>
  </p:cm>
  <p:cm authorId="0" dt="2020-10-18T21:17:08.338000000" idx="16">
    <p:pos x="5896" y="136"/>
    <p:text/>
  </p:cm>
</p:cmLst>
</file>

<file path=ppt/comments/comment9.xml><?xml version="1.0" encoding="utf-8"?>
<p:cmLst xmlns:p="http://schemas.openxmlformats.org/presentationml/2006/main">
  <p:cm authorId="0" dt="2020-10-18T21:17:08.197000000" idx="17">
    <p:pos x="5760" y="0"/>
    <p:text/>
  </p:cm>
  <p:cm authorId="0" dt="2020-10-18T21:17:08.338000000" idx="18">
    <p:pos x="5896" y="13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002-AF2B-40FC-9DEA-953C05AE7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C751-5B71-4154-B86D-D3C91A413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602-AD33-4223-9CD7-4CB89B043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601-B99B-4498-A3A8-DB9F7437A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58D-1070-4696-A0F7-40CF4E1F5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154A-C349-4CDA-8A9E-09C8C3101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A76-D029-435A-9281-D9F5288E7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5F7-8DCB-48F6-8D77-F7BE0333A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3F0C-C32F-4944-A75F-32EED1271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659-AE0A-4A71-8580-1C8363453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CA4-37DB-48AB-8480-344B62745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73FA-E973-45BD-AEE7-CAC7457F8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422-53C5-4854-AC76-E0BB80B68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20F-9A79-4260-8395-BE2C5DACF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77D-0130-4212-A629-131C42C65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B56-E57C-4A9E-9F49-3A60ACB65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996C-453C-4AC6-B115-A531600F3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8A5-659F-4574-A8E3-C7F4B3548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8656-7AF5-46DD-96C9-A0C6FBFC8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A8E-2FC0-4E39-90AA-54EB1E6C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F48-8422-479A-8A1D-20279B092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676B-421F-42FE-8F9D-9D3DE9723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EED-0AE9-4300-882E-929C4A7A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53F-1CC0-4FB6-811E-0D3E63F7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03C-01EE-415D-B240-D113104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750-4C70-4596-91CC-A2FB8708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FD5-B6CA-4177-897A-A843C84D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2CF-2BF0-4A15-AC79-EC2AD8DC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ABF-7AE3-4D8B-BDDA-C66A68E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6AD-6E1D-4FA8-8005-463480BD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675-9B1F-4E78-8E8D-30BC3E91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3FE-788E-4FE2-B27D-292EA27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58D-077F-497C-BF6D-090C18C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8B0-995E-4BA2-975C-11CBC46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932-A864-4231-9AD7-D9EC50AD8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0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2357280" y="857160"/>
            <a:ext cx="5072400" cy="25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, методы, формы работы по ознакомлению дет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ым ми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965840" y="4000680"/>
            <a:ext cx="36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готови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гафонова С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летюк Л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вочкин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286000" y="19969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rcRect l="0" t="0" r="0" b="9238"/>
          <a:stretch/>
        </p:blipFill>
        <p:spPr>
          <a:xfrm>
            <a:off x="1571760" y="500040"/>
            <a:ext cx="6500520" cy="48801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3"/>
          <a:stretch/>
        </p:blipFill>
        <p:spPr>
          <a:xfrm>
            <a:off x="3633840" y="2962440"/>
            <a:ext cx="352440" cy="93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-463680"/>
            <a:ext cx="9396360" cy="7286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786040" y="207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2286000" y="1500120"/>
            <a:ext cx="6143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 flipV="1" rot="10800000">
            <a:off x="755640" y="1060920"/>
            <a:ext cx="8137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средства можно разделить на три груп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2286000" y="1582560"/>
            <a:ext cx="4572000" cy="49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очники, получ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из которых вполне контролируется и управляется взрослым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сточники, поддающиеся частичному управлению со стороны взрослых (художественная литература, изобразительное, музык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 источники, которыми взрослый управлять практически не может («случайная» информация, которую ребенок может получить из общения со сверстниками, старшими детьми, из собственных наблюд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1357200" y="18590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28600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тематические разде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ем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детский сад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 город,се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ая стран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труд взрослых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едметный мир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-4680" y="0"/>
            <a:ext cx="9380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2357280" y="857160"/>
            <a:ext cx="50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ы вос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тоды обучения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ловесные, наглядные и практические метод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786040" y="1109160"/>
            <a:ext cx="48578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оды ознакомления детей с социальной действительностью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методы, повышающие познавательную актив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, повышающие эмоциональную актив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, способствующие установлению связи между разными видами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 коррекции и уточнения представлений детей о соци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9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707256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785880" y="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478240" y="642960"/>
            <a:ext cx="41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8" descr=""/>
          <p:cNvPicPr/>
          <p:nvPr/>
        </p:nvPicPr>
        <p:blipFill>
          <a:blip r:embed="rId2"/>
          <a:stretch/>
        </p:blipFill>
        <p:spPr>
          <a:xfrm>
            <a:off x="1817640" y="1785960"/>
            <a:ext cx="5969160" cy="314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-142920" y="-428760"/>
            <a:ext cx="9501120" cy="7570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785880" y="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2478240" y="642960"/>
            <a:ext cx="41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2286000" y="196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Наблюдение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экскурсии, целевые посещения и прогул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Беседы с детьми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во время которых  не только закрепляет знания, но и формирует у детей положительно – эмоциональное отношение к тому, о чём беседует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Дидактические игры и упражнения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которые помогают не только закрепить полученные ранее знания, но и учат детей общаться друг с другом, выполнять роль ведущего, развивать логическое мышлен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. Трудовая деятельность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Включать в занятия       экспериментир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трелка вправо 12"/>
          <p:cNvSpPr/>
          <p:nvPr/>
        </p:nvSpPr>
        <p:spPr>
          <a:xfrm>
            <a:off x="285840" y="285840"/>
            <a:ext cx="171432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трелка вправо 13"/>
          <p:cNvSpPr/>
          <p:nvPr/>
        </p:nvSpPr>
        <p:spPr>
          <a:xfrm>
            <a:off x="642960" y="1000080"/>
            <a:ext cx="1571760" cy="3571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право 14"/>
          <p:cNvSpPr/>
          <p:nvPr/>
        </p:nvSpPr>
        <p:spPr>
          <a:xfrm>
            <a:off x="1071720" y="2143080"/>
            <a:ext cx="1357200" cy="4287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право 15"/>
          <p:cNvSpPr/>
          <p:nvPr/>
        </p:nvSpPr>
        <p:spPr>
          <a:xfrm>
            <a:off x="1500120" y="3714840"/>
            <a:ext cx="1214640" cy="4284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2286000" y="642960"/>
            <a:ext cx="5429160" cy="448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окружающ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, по сути, самостоятельный предмет обучения. Оно систематически проводится и на специальных занятиях (экскурсии, беседы, чтение и рассказывание педагога, ассматривание картин, показ диафильмов), и в ходе обучающих игр. На этих занятиях предметы и явления общественной жизни стоят в центре внимания; важны именно они, их особ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трелка вниз 9"/>
          <p:cNvSpPr/>
          <p:nvPr/>
        </p:nvSpPr>
        <p:spPr>
          <a:xfrm>
            <a:off x="2071800" y="0"/>
            <a:ext cx="48420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2071800" y="500040"/>
            <a:ext cx="5572080" cy="338580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епенно и последовательно у детей вырабатываются правильные представления о доступных им, близких и конкретных фактах общественной жизни, труда и быта людей. Педагоги  стремятся, чтобы дети учились понимать общественные явления, чтобы у них развивалось уважение к человеку и его труду на благо 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трелка вниз 10"/>
          <p:cNvSpPr/>
          <p:nvPr/>
        </p:nvSpPr>
        <p:spPr>
          <a:xfrm>
            <a:off x="1928880" y="-357120"/>
            <a:ext cx="484200" cy="7858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2000160" y="400068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000240" y="4000680"/>
            <a:ext cx="39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928880" y="428760"/>
            <a:ext cx="6215040" cy="43599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кружающий мир </a:t>
            </a: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это мир, который окружает ребенка: природа, люди, предметы. Данное понятие может рассматриваться в широком смысле и узком. В широком смысле окружающим миром можно считать всю планету, на которой мы живем. В узком смысле — это то конкретное окружение, в котором родился, растет и развивается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право 12"/>
          <p:cNvSpPr/>
          <p:nvPr/>
        </p:nvSpPr>
        <p:spPr>
          <a:xfrm>
            <a:off x="785880" y="642960"/>
            <a:ext cx="1263600" cy="48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1714680" y="928800"/>
            <a:ext cx="62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ребенок знакомится с социальным миром с помощью разнообразных средств,  методов. Именно они становятся источниками познания ми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http://1.bp.blogspot.com/-EKEoaF7qXWk/Uw3vlO-az0I/AAAAAAAAEN0/h0og5daQS8k/s1600/421f6ba929749ea838622d74a7779cf3+(2).png"/>
          <p:cNvPicPr/>
          <p:nvPr/>
        </p:nvPicPr>
        <p:blipFill>
          <a:blip r:embed="rId2"/>
          <a:stretch/>
        </p:blipFill>
        <p:spPr>
          <a:xfrm>
            <a:off x="2000160" y="3286080"/>
            <a:ext cx="542952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-655560"/>
            <a:ext cx="9429840" cy="7513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"/>
          <p:cNvSpPr/>
          <p:nvPr/>
        </p:nvSpPr>
        <p:spPr>
          <a:xfrm flipH="1">
            <a:off x="2214720" y="428760"/>
            <a:ext cx="71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1714680" y="92880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1.bp.blogspot.com/-EKEoaF7qXWk/Uw3vlO-az0I/AAAAAAAAEN0/h0og5daQS8k/s1600/421f6ba929749ea838622d74a7779cf3+(2).png"/>
          <p:cNvPicPr/>
          <p:nvPr/>
        </p:nvPicPr>
        <p:blipFill>
          <a:blip r:embed="rId2"/>
          <a:stretch/>
        </p:blipFill>
        <p:spPr>
          <a:xfrm>
            <a:off x="2000160" y="3286080"/>
            <a:ext cx="5429520" cy="32148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9" descr=""/>
          <p:cNvPicPr/>
          <p:nvPr/>
        </p:nvPicPr>
        <p:blipFill>
          <a:blip r:embed="rId3"/>
          <a:stretch/>
        </p:blipFill>
        <p:spPr>
          <a:xfrm>
            <a:off x="719280" y="828720"/>
            <a:ext cx="769284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2916360" y="500040"/>
            <a:ext cx="5298840" cy="594324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Природный мир </a:t>
            </a:r>
            <a:r>
              <a:rPr b="0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живая и неживая природа, которая является частью ок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Социальный мир </a:t>
            </a:r>
            <a:r>
              <a:rPr b="0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люди, общество людей. Этот мир люди создают сами, структурируют его. В нем люди социализируются, действуют, преобразуют его в соответствии со своими потребност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право 17"/>
          <p:cNvSpPr/>
          <p:nvPr/>
        </p:nvSpPr>
        <p:spPr>
          <a:xfrm>
            <a:off x="1500120" y="928800"/>
            <a:ext cx="1621080" cy="48420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286000" y="85716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357280" y="428760"/>
            <a:ext cx="6215400" cy="4117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Социальная действительность</a:t>
            </a:r>
            <a:r>
              <a:rPr b="0" lang="en-US" sz="24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 — конкретные события, факты, взаимоотношения, которые характеризуют текущий временной период функционирования человеческого обществ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функция, которая возлагается на это средство, — показать детям социальный мир «изнутри» и помочь ребенку накопить социальный опыт, понять свое место в этом мире как члена людского сообщества, участника событий, преобраз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500960" y="35719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357720" y="314316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право 12"/>
          <p:cNvSpPr/>
          <p:nvPr/>
        </p:nvSpPr>
        <p:spPr>
          <a:xfrm>
            <a:off x="1214280" y="500040"/>
            <a:ext cx="1478160" cy="4842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5724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7000920" cy="4214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8"/>
          <p:cNvSpPr/>
          <p:nvPr/>
        </p:nvSpPr>
        <p:spPr>
          <a:xfrm flipH="1">
            <a:off x="999360" y="2967120"/>
            <a:ext cx="716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5-конечная звезда 9"/>
          <p:cNvSpPr/>
          <p:nvPr/>
        </p:nvSpPr>
        <p:spPr>
          <a:xfrm>
            <a:off x="714240" y="642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8" h="45719">
                <a:moveTo>
                  <a:pt x="0" y="17463"/>
                </a:moveTo>
                <a:lnTo>
                  <a:pt x="27287" y="17463"/>
                </a:lnTo>
                <a:lnTo>
                  <a:pt x="35719" y="0"/>
                </a:lnTo>
                <a:lnTo>
                  <a:pt x="44151" y="17463"/>
                </a:lnTo>
                <a:lnTo>
                  <a:pt x="71438" y="17463"/>
                </a:lnTo>
                <a:lnTo>
                  <a:pt x="49362" y="28256"/>
                </a:lnTo>
                <a:lnTo>
                  <a:pt x="57795" y="45719"/>
                </a:lnTo>
                <a:lnTo>
                  <a:pt x="35719" y="34926"/>
                </a:lnTo>
                <a:lnTo>
                  <a:pt x="13643" y="45719"/>
                </a:lnTo>
                <a:lnTo>
                  <a:pt x="22076" y="28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низ 10"/>
          <p:cNvSpPr/>
          <p:nvPr/>
        </p:nvSpPr>
        <p:spPr>
          <a:xfrm>
            <a:off x="785880" y="500040"/>
            <a:ext cx="484200" cy="9288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9" descr=""/>
          <p:cNvPicPr/>
          <p:nvPr/>
        </p:nvPicPr>
        <p:blipFill>
          <a:blip r:embed="rId2"/>
          <a:stretch/>
        </p:blipFill>
        <p:spPr>
          <a:xfrm>
            <a:off x="1773360" y="871560"/>
            <a:ext cx="6511680" cy="576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357200" y="1571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8" descr=""/>
          <p:cNvPicPr/>
          <p:nvPr/>
        </p:nvPicPr>
        <p:blipFill>
          <a:blip r:embed="rId2"/>
          <a:stretch/>
        </p:blipFill>
        <p:spPr>
          <a:xfrm>
            <a:off x="2103480" y="1127160"/>
            <a:ext cx="5778360" cy="462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071800" y="0"/>
            <a:ext cx="642924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собое место в предметном мире занимает для ребенка </a:t>
            </a:r>
            <a:r>
              <a:rPr b="1" i="1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игрушка. </a:t>
            </a: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на является для него средством ознакомления с социальным миром. Через игрушку ребенок познает разнообразие жизни в ее свойствах и качествах, игрушка отражает уровень технического и социального развития общества, даже его ведущие моральные ценности и идеологические устано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media.vorotila.ru/ru/items/t1@8c0c6d62-d86b-457e-88d3-613bd4d33dd4/Syuzhetnorolevye-igry-dlya-detey.jpg"/>
          <p:cNvPicPr/>
          <p:nvPr/>
        </p:nvPicPr>
        <p:blipFill>
          <a:blip r:embed="rId2"/>
          <a:stretch/>
        </p:blipFill>
        <p:spPr>
          <a:xfrm>
            <a:off x="4280040" y="4492800"/>
            <a:ext cx="3584520" cy="208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286000" y="571680"/>
            <a:ext cx="6215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8" descr=""/>
          <p:cNvPicPr/>
          <p:nvPr/>
        </p:nvPicPr>
        <p:blipFill>
          <a:blip r:embed="rId2"/>
          <a:stretch/>
        </p:blipFill>
        <p:spPr>
          <a:xfrm>
            <a:off x="1071720" y="571680"/>
            <a:ext cx="714348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6:00:28Z</dcterms:created>
  <dc:creator>Пользователь Windows</dc:creator>
  <dc:description/>
  <dc:language>en-US</dc:language>
  <cp:lastModifiedBy>Ивочкина Елизавета Николаевна</cp:lastModifiedBy>
  <dcterms:modified xsi:type="dcterms:W3CDTF">2022-01-25T13:36:34Z</dcterms:modified>
  <cp:revision>59</cp:revision>
  <dc:subject/>
  <dc:title>Слайд 1</dc:title>
</cp:coreProperties>
</file>