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9.xml" ContentType="application/vnd.openxmlformats-officedocument.presentationml.comments+xml"/>
  <Override PartName="/ppt/comments/comment8.xml" ContentType="application/vnd.openxmlformats-officedocument.presentationml.comments+xml"/>
  <Override PartName="/ppt/comments/comment7.xml" ContentType="application/vnd.openxmlformats-officedocument.presentationml.comments+xml"/>
  <Override PartName="/ppt/comments/comment13.xml" ContentType="application/vnd.openxmlformats-officedocument.presentationml.comments+xml"/>
  <Override PartName="/ppt/comments/comment6.xml" ContentType="application/vnd.openxmlformats-officedocument.presentationml.comments+xml"/>
  <Override PartName="/ppt/comments/comment12.xml" ContentType="application/vnd.openxmlformats-officedocument.presentationml.comments+xml"/>
  <Override PartName="/ppt/comments/comment5.xml" ContentType="application/vnd.openxmlformats-officedocument.presentationml.comments+xml"/>
  <Override PartName="/ppt/comments/comment11.xml" ContentType="application/vnd.openxmlformats-officedocument.presentationml.comments+xml"/>
  <Override PartName="/ppt/comments/comment2.xml" ContentType="application/vnd.openxmlformats-officedocument.presentationml.comments+xml"/>
  <Override PartName="/ppt/comments/comment21.xml" ContentType="application/vnd.openxmlformats-officedocument.presentationml.comments+xml"/>
  <Override PartName="/ppt/comments/comment19.xml" ContentType="application/vnd.openxmlformats-officedocument.presentationml.comments+xml"/>
  <Override PartName="/ppt/comments/comment1.xml" ContentType="application/vnd.openxmlformats-officedocument.presentationml.comments+xml"/>
  <Override PartName="/ppt/comments/comment20.xml" ContentType="application/vnd.openxmlformats-officedocument.presentationml.comments+xml"/>
  <Override PartName="/ppt/comments/comment18.xml" ContentType="application/vnd.openxmlformats-officedocument.presentationml.comments+xml"/>
  <Override PartName="/ppt/comments/comment17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3.xml" ContentType="application/vnd.openxmlformats-officedocument.presentationml.comments+xml"/>
  <Override PartName="/ppt/comments/comment10.xml" ContentType="application/vnd.openxmlformats-officedocument.presentationml.comments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Пользователь Windows" initials="ПW" lastIdx="4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20-10-18T21:17:08.197000000" idx="1">
    <p:pos x="5760" y="0"/>
    <p:text/>
  </p:cm>
  <p:cm authorId="0" dt="2020-10-18T21:17:08.338000000" idx="2">
    <p:pos x="5896" y="136"/>
    <p:text/>
  </p:cm>
</p:cmLst>
</file>

<file path=ppt/comments/comment10.xml><?xml version="1.0" encoding="utf-8"?>
<p:cmLst xmlns:p="http://schemas.openxmlformats.org/presentationml/2006/main">
  <p:cm authorId="0" dt="2020-10-18T21:17:08.197000000" idx="19">
    <p:pos x="5760" y="0"/>
    <p:text/>
  </p:cm>
  <p:cm authorId="0" dt="2020-10-18T21:17:08.338000000" idx="20">
    <p:pos x="5896" y="136"/>
    <p:text/>
  </p:cm>
</p:cmLst>
</file>

<file path=ppt/comments/comment11.xml><?xml version="1.0" encoding="utf-8"?>
<p:cmLst xmlns:p="http://schemas.openxmlformats.org/presentationml/2006/main">
  <p:cm authorId="0" dt="2020-10-18T21:17:08.197000000" idx="21">
    <p:pos x="5760" y="0"/>
    <p:text/>
  </p:cm>
  <p:cm authorId="0" dt="2020-10-18T21:17:08.338000000" idx="22">
    <p:pos x="5896" y="136"/>
    <p:text/>
  </p:cm>
</p:cmLst>
</file>

<file path=ppt/comments/comment12.xml><?xml version="1.0" encoding="utf-8"?>
<p:cmLst xmlns:p="http://schemas.openxmlformats.org/presentationml/2006/main">
  <p:cm authorId="0" dt="2020-10-18T21:17:08.197000000" idx="23">
    <p:pos x="5760" y="0"/>
    <p:text/>
  </p:cm>
  <p:cm authorId="0" dt="2020-10-18T21:17:08.338000000" idx="24">
    <p:pos x="5896" y="136"/>
    <p:text/>
  </p:cm>
</p:cmLst>
</file>

<file path=ppt/comments/comment13.xml><?xml version="1.0" encoding="utf-8"?>
<p:cmLst xmlns:p="http://schemas.openxmlformats.org/presentationml/2006/main">
  <p:cm authorId="0" dt="2020-10-18T21:17:08.197000000" idx="25">
    <p:pos x="5760" y="0"/>
    <p:text/>
  </p:cm>
  <p:cm authorId="0" dt="2020-10-18T21:17:08.338000000" idx="26">
    <p:pos x="5896" y="136"/>
    <p:text/>
  </p:cm>
</p:cmLst>
</file>

<file path=ppt/comments/comment14.xml><?xml version="1.0" encoding="utf-8"?>
<p:cmLst xmlns:p="http://schemas.openxmlformats.org/presentationml/2006/main">
  <p:cm authorId="0" dt="2020-10-18T21:17:08.197000000" idx="27">
    <p:pos x="5760" y="0"/>
    <p:text/>
  </p:cm>
  <p:cm authorId="0" dt="2020-10-18T21:17:08.338000000" idx="28">
    <p:pos x="5896" y="136"/>
    <p:text/>
  </p:cm>
</p:cmLst>
</file>

<file path=ppt/comments/comment15.xml><?xml version="1.0" encoding="utf-8"?>
<p:cmLst xmlns:p="http://schemas.openxmlformats.org/presentationml/2006/main">
  <p:cm authorId="0" dt="2020-10-18T21:17:08.197000000" idx="29">
    <p:pos x="5760" y="0"/>
    <p:text/>
  </p:cm>
  <p:cm authorId="0" dt="2020-10-18T21:17:08.338000000" idx="30">
    <p:pos x="5896" y="136"/>
    <p:text/>
  </p:cm>
</p:cmLst>
</file>

<file path=ppt/comments/comment16.xml><?xml version="1.0" encoding="utf-8"?>
<p:cmLst xmlns:p="http://schemas.openxmlformats.org/presentationml/2006/main">
  <p:cm authorId="0" dt="2020-10-18T21:17:08.197000000" idx="31">
    <p:pos x="5760" y="0"/>
    <p:text/>
  </p:cm>
  <p:cm authorId="0" dt="2020-10-18T21:17:08.338000000" idx="32">
    <p:pos x="5896" y="136"/>
    <p:text/>
  </p:cm>
</p:cmLst>
</file>

<file path=ppt/comments/comment17.xml><?xml version="1.0" encoding="utf-8"?>
<p:cmLst xmlns:p="http://schemas.openxmlformats.org/presentationml/2006/main">
  <p:cm authorId="0" dt="2020-10-18T21:17:08.197000000" idx="33">
    <p:pos x="5760" y="0"/>
    <p:text/>
  </p:cm>
  <p:cm authorId="0" dt="2020-10-18T21:17:08.338000000" idx="34">
    <p:pos x="5896" y="136"/>
    <p:text/>
  </p:cm>
</p:cmLst>
</file>

<file path=ppt/comments/comment18.xml><?xml version="1.0" encoding="utf-8"?>
<p:cmLst xmlns:p="http://schemas.openxmlformats.org/presentationml/2006/main">
  <p:cm authorId="0" dt="2020-10-18T21:17:08.197000000" idx="35">
    <p:pos x="5760" y="0"/>
    <p:text/>
  </p:cm>
  <p:cm authorId="0" dt="2020-10-18T21:17:08.338000000" idx="36">
    <p:pos x="5896" y="136"/>
    <p:text/>
  </p:cm>
</p:cmLst>
</file>

<file path=ppt/comments/comment19.xml><?xml version="1.0" encoding="utf-8"?>
<p:cmLst xmlns:p="http://schemas.openxmlformats.org/presentationml/2006/main">
  <p:cm authorId="0" dt="2020-10-18T21:17:08.197000000" idx="37">
    <p:pos x="5760" y="0"/>
    <p:text/>
  </p:cm>
  <p:cm authorId="0" dt="2020-10-18T21:17:08.338000000" idx="38">
    <p:pos x="5896" y="136"/>
    <p:text/>
  </p:cm>
</p:cmLst>
</file>

<file path=ppt/comments/comment2.xml><?xml version="1.0" encoding="utf-8"?>
<p:cmLst xmlns:p="http://schemas.openxmlformats.org/presentationml/2006/main">
  <p:cm authorId="0" dt="2020-10-18T21:17:08.197000000" idx="3">
    <p:pos x="5760" y="0"/>
    <p:text/>
  </p:cm>
  <p:cm authorId="0" dt="2020-10-18T21:17:08.338000000" idx="4">
    <p:pos x="5896" y="136"/>
    <p:text/>
  </p:cm>
</p:cmLst>
</file>

<file path=ppt/comments/comment20.xml><?xml version="1.0" encoding="utf-8"?>
<p:cmLst xmlns:p="http://schemas.openxmlformats.org/presentationml/2006/main">
  <p:cm authorId="0" dt="2020-10-18T21:17:08.197000000" idx="39">
    <p:pos x="5760" y="0"/>
    <p:text/>
  </p:cm>
  <p:cm authorId="0" dt="2020-10-18T21:17:08.338000000" idx="40">
    <p:pos x="5896" y="136"/>
    <p:text/>
  </p:cm>
</p:cmLst>
</file>

<file path=ppt/comments/comment21.xml><?xml version="1.0" encoding="utf-8"?>
<p:cmLst xmlns:p="http://schemas.openxmlformats.org/presentationml/2006/main">
  <p:cm authorId="0" dt="2020-10-18T21:17:08.197000000" idx="41">
    <p:pos x="5760" y="0"/>
    <p:text/>
  </p:cm>
  <p:cm authorId="0" dt="2020-10-18T21:17:08.338000000" idx="42">
    <p:pos x="5896" y="136"/>
    <p:text/>
  </p:cm>
</p:cmLst>
</file>

<file path=ppt/comments/comment3.xml><?xml version="1.0" encoding="utf-8"?>
<p:cmLst xmlns:p="http://schemas.openxmlformats.org/presentationml/2006/main">
  <p:cm authorId="0" dt="2020-10-18T21:17:08.197000000" idx="5">
    <p:pos x="5760" y="0"/>
    <p:text/>
  </p:cm>
  <p:cm authorId="0" dt="2020-10-18T21:17:08.338000000" idx="6">
    <p:pos x="5896" y="136"/>
    <p:text/>
  </p:cm>
</p:cmLst>
</file>

<file path=ppt/comments/comment4.xml><?xml version="1.0" encoding="utf-8"?>
<p:cmLst xmlns:p="http://schemas.openxmlformats.org/presentationml/2006/main">
  <p:cm authorId="0" dt="2020-10-18T21:17:08.197000000" idx="7">
    <p:pos x="5760" y="0"/>
    <p:text/>
  </p:cm>
  <p:cm authorId="0" dt="2020-10-18T21:17:08.338000000" idx="8">
    <p:pos x="5896" y="136"/>
    <p:text/>
  </p:cm>
</p:cmLst>
</file>

<file path=ppt/comments/comment5.xml><?xml version="1.0" encoding="utf-8"?>
<p:cmLst xmlns:p="http://schemas.openxmlformats.org/presentationml/2006/main">
  <p:cm authorId="0" dt="2020-10-18T21:17:08.197000000" idx="9">
    <p:pos x="5760" y="0"/>
    <p:text/>
  </p:cm>
  <p:cm authorId="0" dt="2020-10-18T21:17:08.338000000" idx="10">
    <p:pos x="5896" y="136"/>
    <p:text/>
  </p:cm>
</p:cmLst>
</file>

<file path=ppt/comments/comment6.xml><?xml version="1.0" encoding="utf-8"?>
<p:cmLst xmlns:p="http://schemas.openxmlformats.org/presentationml/2006/main">
  <p:cm authorId="0" dt="2020-10-18T21:17:08.197000000" idx="11">
    <p:pos x="5760" y="0"/>
    <p:text/>
  </p:cm>
  <p:cm authorId="0" dt="2020-10-18T21:17:08.338000000" idx="12">
    <p:pos x="5896" y="136"/>
    <p:text/>
  </p:cm>
</p:cmLst>
</file>

<file path=ppt/comments/comment7.xml><?xml version="1.0" encoding="utf-8"?>
<p:cmLst xmlns:p="http://schemas.openxmlformats.org/presentationml/2006/main">
  <p:cm authorId="0" dt="2020-10-18T21:17:08.197000000" idx="13">
    <p:pos x="5760" y="0"/>
    <p:text/>
  </p:cm>
  <p:cm authorId="0" dt="2020-10-18T21:17:08.338000000" idx="14">
    <p:pos x="5896" y="136"/>
    <p:text/>
  </p:cm>
</p:cmLst>
</file>

<file path=ppt/comments/comment8.xml><?xml version="1.0" encoding="utf-8"?>
<p:cmLst xmlns:p="http://schemas.openxmlformats.org/presentationml/2006/main">
  <p:cm authorId="0" dt="2020-10-18T21:17:08.197000000" idx="15">
    <p:pos x="5760" y="0"/>
    <p:text/>
  </p:cm>
  <p:cm authorId="0" dt="2020-10-18T21:17:08.338000000" idx="16">
    <p:pos x="5896" y="136"/>
    <p:text/>
  </p:cm>
</p:cmLst>
</file>

<file path=ppt/comments/comment9.xml><?xml version="1.0" encoding="utf-8"?>
<p:cmLst xmlns:p="http://schemas.openxmlformats.org/presentationml/2006/main">
  <p:cm authorId="0" dt="2020-10-18T21:17:08.197000000" idx="17">
    <p:pos x="5760" y="0"/>
    <p:text/>
  </p:cm>
  <p:cm authorId="0" dt="2020-10-18T21:17:08.338000000" idx="18">
    <p:pos x="5896" y="136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5A82-5E08-4385-81BD-DA869BD920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127D-FA42-45EB-8D56-E7DBB5B771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0166-8EFE-47EC-95B0-522CEE9CD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7947-B1C4-4CC1-859E-1C1FDDCF1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21E1-7CDE-49C1-A994-C64611085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25ED-BBD6-4992-8EAD-A3D886255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DFB2-5D83-40AD-8CDD-942643FF1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2075-ADCF-49AD-AD11-AEBDAC84C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5946-C2C1-4A08-98A1-7DFE85C56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61D9-3BC0-4C44-8CFB-8EED3B159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7BEB-B352-4091-BF2A-68B9C0670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6104-5AAD-4359-8425-90463526F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0D2A-81F7-42A1-9510-7575E64141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80B8-BFBF-4610-A684-C254848C9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8927-B1F6-42B4-B380-85BF3612A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B6A2-0B63-4D13-8E01-689E0ED61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A129-3179-436C-8EC7-BD89449CE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C238-0B19-4C37-AED7-3E8B65271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9233-2826-4DDC-87C3-9366B9771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C27E-22DF-44EE-AB9E-B96C17458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7B5A-D3F1-4F3E-B5AD-209104C69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1509-B1DC-469C-A4C5-E18193AF6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15C0-3C0D-45C0-A759-66C710CB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5EE0-52F2-4926-9688-AA638E32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0189-FEEB-48ED-9234-032C5807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028E-2AFE-4031-A733-F42A19F1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D1E-EB63-4484-8D3B-39238147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6AF0-B86C-4EDF-9396-C81A8127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A245-A319-4564-B75B-A8C7876F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EC2-049E-48C4-8C78-F7C57426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272-9C69-4ADE-8107-1A0582CE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A2E1-E632-42E5-A449-247FB727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8770-17FB-4C56-967F-E38920C4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2F3-2ED5-4806-A99E-A70420CD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3715-79D8-4FE5-8F75-932B9FBEF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0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6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8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20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21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6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8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9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2357280" y="857160"/>
            <a:ext cx="5072400" cy="2531880"/>
          </a:xfrm>
          <a:prstGeom prst="rect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, методы, формы работы по ознакомлению дете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оциальным мир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4965840" y="4000680"/>
            <a:ext cx="363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дготовил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гафонова С.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елетюк Л.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вочкина Е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7"/>
          <p:cNvSpPr/>
          <p:nvPr/>
        </p:nvSpPr>
        <p:spPr>
          <a:xfrm>
            <a:off x="2286000" y="199692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2"/>
          <a:srcRect l="0" t="0" r="0" b="9238"/>
          <a:stretch/>
        </p:blipFill>
        <p:spPr>
          <a:xfrm>
            <a:off x="1571760" y="500040"/>
            <a:ext cx="6500520" cy="488016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12" descr=""/>
          <p:cNvPicPr/>
          <p:nvPr/>
        </p:nvPicPr>
        <p:blipFill>
          <a:blip r:embed="rId3"/>
          <a:stretch/>
        </p:blipFill>
        <p:spPr>
          <a:xfrm>
            <a:off x="3633840" y="2962440"/>
            <a:ext cx="352440" cy="933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0" y="-463680"/>
            <a:ext cx="9396360" cy="72867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2786040" y="2071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2286000" y="1500120"/>
            <a:ext cx="6143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1"/>
          <p:cNvSpPr/>
          <p:nvPr/>
        </p:nvSpPr>
        <p:spPr>
          <a:xfrm flipV="1" rot="10800000">
            <a:off x="755640" y="1060920"/>
            <a:ext cx="8137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средства можно разделить на три групп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2286000" y="1582560"/>
            <a:ext cx="4572000" cy="4972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групп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сточники, получ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и из которых вполне контролируется и управляется взрослым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групп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источники, поддающиеся частичному управлению со стороны взрослых (художественная литература, изобразительное, музыка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я групп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 источники, которыми взрослый управлять практически не может («случайная» информация, которую ребенок может получить из общения со сверстниками, старшими детьми, из собственных наблюден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8"/>
          <p:cNvSpPr/>
          <p:nvPr/>
        </p:nvSpPr>
        <p:spPr>
          <a:xfrm>
            <a:off x="1357200" y="185904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10"/>
          <p:cNvSpPr/>
          <p:nvPr/>
        </p:nvSpPr>
        <p:spPr>
          <a:xfrm>
            <a:off x="2286000" y="114300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тематические раздел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семь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детский сад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родной  город,сел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родная стран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труд взрослых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едметный мир</a:t>
            </a: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-4680" y="0"/>
            <a:ext cx="93805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2357280" y="857160"/>
            <a:ext cx="5072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: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тоды воспит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методы обучения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словесные, наглядные и практические методы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2786040" y="1109160"/>
            <a:ext cx="485784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Методы ознакомления детей с социальной действительностью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Calibri"/>
              </a:rPr>
              <a:t>методы, повышающие познавательную актив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методы, повышающие эмоциональную актив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методы, способствующие установлению связи между разными видами дея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методы коррекции и уточнения представлений детей о социальном ми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9" descr=""/>
          <p:cNvPicPr/>
          <p:nvPr/>
        </p:nvPicPr>
        <p:blipFill>
          <a:blip r:embed="rId2"/>
          <a:stretch/>
        </p:blipFill>
        <p:spPr>
          <a:xfrm>
            <a:off x="1214280" y="1357200"/>
            <a:ext cx="7072560" cy="3286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785880" y="0"/>
            <a:ext cx="50720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9"/>
          <p:cNvSpPr/>
          <p:nvPr/>
        </p:nvSpPr>
        <p:spPr>
          <a:xfrm>
            <a:off x="2478240" y="642960"/>
            <a:ext cx="41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Рисунок 8" descr=""/>
          <p:cNvPicPr/>
          <p:nvPr/>
        </p:nvPicPr>
        <p:blipFill>
          <a:blip r:embed="rId2"/>
          <a:stretch/>
        </p:blipFill>
        <p:spPr>
          <a:xfrm>
            <a:off x="1817640" y="1785960"/>
            <a:ext cx="5969160" cy="3143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-142920" y="-428760"/>
            <a:ext cx="9501120" cy="75708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1"/>
          <p:cNvSpPr/>
          <p:nvPr/>
        </p:nvSpPr>
        <p:spPr>
          <a:xfrm>
            <a:off x="785880" y="0"/>
            <a:ext cx="50720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9"/>
          <p:cNvSpPr/>
          <p:nvPr/>
        </p:nvSpPr>
        <p:spPr>
          <a:xfrm>
            <a:off x="2478240" y="642960"/>
            <a:ext cx="41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10"/>
          <p:cNvSpPr/>
          <p:nvPr/>
        </p:nvSpPr>
        <p:spPr>
          <a:xfrm>
            <a:off x="2286000" y="19692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111111"/>
                </a:solidFill>
                <a:uFillTx/>
                <a:latin typeface="Arial"/>
                <a:ea typeface="Times New Roman"/>
              </a:rPr>
              <a:t>Наблюдение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Times New Roman"/>
              </a:rPr>
              <a:t> </a:t>
            </a:r>
            <a:r>
              <a:rPr b="0" i="1" lang="en-US" sz="1800" spc="-1" strike="noStrike">
                <a:solidFill>
                  <a:srgbClr val="111111"/>
                </a:solidFill>
                <a:latin typeface="Arial"/>
                <a:ea typeface="Times New Roman"/>
              </a:rPr>
              <a:t>(экскурсии, целевые посещения и прогулк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11111"/>
                </a:solidFill>
                <a:uFillTx/>
                <a:latin typeface="Arial"/>
                <a:ea typeface="Times New Roman"/>
              </a:rPr>
              <a:t>Беседы с детьми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Times New Roman"/>
              </a:rPr>
              <a:t>(во время которых  не только закрепляет знания, но и формирует у детей положительно – эмоциональное отношение к тому, о чём беседует 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111111"/>
                </a:solidFill>
                <a:uFillTx/>
                <a:latin typeface="Arial"/>
                <a:ea typeface="Times New Roman"/>
              </a:rPr>
              <a:t>Дидактические игры и упражнения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Times New Roman"/>
              </a:rPr>
              <a:t>(которые помогают не только закрепить полученные ранее знания, но и учат детей общаться друг с другом, выполнять роль ведущего, развивать логическое мышление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Times New Roman"/>
              </a:rPr>
              <a:t>. Трудовая деятельность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Times New Roman"/>
              </a:rPr>
              <a:t>Включать в занятия       экспериментирова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Стрелка вправо 12"/>
          <p:cNvSpPr/>
          <p:nvPr/>
        </p:nvSpPr>
        <p:spPr>
          <a:xfrm>
            <a:off x="285840" y="285840"/>
            <a:ext cx="171432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Стрелка вправо 13"/>
          <p:cNvSpPr/>
          <p:nvPr/>
        </p:nvSpPr>
        <p:spPr>
          <a:xfrm>
            <a:off x="642960" y="1000080"/>
            <a:ext cx="1571760" cy="35712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Стрелка вправо 14"/>
          <p:cNvSpPr/>
          <p:nvPr/>
        </p:nvSpPr>
        <p:spPr>
          <a:xfrm>
            <a:off x="1071720" y="2143080"/>
            <a:ext cx="1357200" cy="4287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Стрелка вправо 15"/>
          <p:cNvSpPr/>
          <p:nvPr/>
        </p:nvSpPr>
        <p:spPr>
          <a:xfrm>
            <a:off x="1500120" y="3714840"/>
            <a:ext cx="1214640" cy="4284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2286000" y="642960"/>
            <a:ext cx="5429160" cy="4483080"/>
          </a:xfrm>
          <a:prstGeom prst="rect">
            <a:avLst/>
          </a:prstGeom>
          <a:solidFill>
            <a:srgbClr val="00b0f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тском саду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с окружающ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, по сути, самостоятельный предмет обучения. Оно систематически проводится и на специальных занятиях (экскурсии, беседы, чтение и рассказывание педагога, ассматривание картин, показ диафильмов), и в ходе обучающих игр. На этих занятиях предметы и явления общественной жизни стоят в центре внимания; важны именно они, их особен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Стрелка вниз 9"/>
          <p:cNvSpPr/>
          <p:nvPr/>
        </p:nvSpPr>
        <p:spPr>
          <a:xfrm>
            <a:off x="2071800" y="0"/>
            <a:ext cx="484200" cy="57168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2071800" y="500040"/>
            <a:ext cx="5572080" cy="3385800"/>
          </a:xfrm>
          <a:prstGeom prst="rect">
            <a:avLst/>
          </a:prstGeom>
          <a:solidFill>
            <a:srgbClr val="ffff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епенно и последовательно у детей вырабатываются правильные представления о доступных им, близких и конкретных фактах общественной жизни, труда и быта людей. Педагоги  стремятся, чтобы дети учились понимать общественные явления, чтобы у них развивалось уважение к человеку и его труду на благо общест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Стрелка вниз 10"/>
          <p:cNvSpPr/>
          <p:nvPr/>
        </p:nvSpPr>
        <p:spPr>
          <a:xfrm>
            <a:off x="1928880" y="-357120"/>
            <a:ext cx="484200" cy="785880"/>
          </a:xfrm>
          <a:prstGeom prst="downArrow">
            <a:avLst>
              <a:gd name="adj1" fmla="val 50000"/>
              <a:gd name="adj2" fmla="val 50051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2000160" y="400068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3000240" y="4000680"/>
            <a:ext cx="3929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1928880" y="428760"/>
            <a:ext cx="6215040" cy="43599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2723"/>
                </a:solidFill>
                <a:latin typeface="Times New Roman"/>
                <a:ea typeface="Times New Roman"/>
              </a:rPr>
              <a:t>Окружающий мир </a:t>
            </a:r>
            <a:r>
              <a:rPr b="0" lang="en-US" sz="2800" spc="-1" strike="noStrike">
                <a:solidFill>
                  <a:srgbClr val="2a2723"/>
                </a:solidFill>
                <a:latin typeface="Times New Roman"/>
                <a:ea typeface="Times New Roman"/>
              </a:rPr>
              <a:t>— это мир, который окружает ребенка: природа, люди, предметы. Данное понятие может рассматриваться в широком смысле и узком. В широком смысле окружающим миром можно считать всю планету, на которой мы живем. В узком смысле — это то конкретное окружение, в котором родился, растет и развивается ребен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трелка вправо 12"/>
          <p:cNvSpPr/>
          <p:nvPr/>
        </p:nvSpPr>
        <p:spPr>
          <a:xfrm>
            <a:off x="785880" y="642960"/>
            <a:ext cx="1263600" cy="48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189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7"/>
          <p:cNvSpPr/>
          <p:nvPr/>
        </p:nvSpPr>
        <p:spPr>
          <a:xfrm>
            <a:off x="2286000" y="227484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8"/>
          <p:cNvSpPr/>
          <p:nvPr/>
        </p:nvSpPr>
        <p:spPr>
          <a:xfrm>
            <a:off x="1714680" y="928800"/>
            <a:ext cx="6215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ребенок знакомится с социальным миром с помощью разнообразных средств,  методов. Именно они становятся источниками познания мир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http://1.bp.blogspot.com/-EKEoaF7qXWk/Uw3vlO-az0I/AAAAAAAAEN0/h0og5daQS8k/s1600/421f6ba929749ea838622d74a7779cf3+(2).png"/>
          <p:cNvPicPr/>
          <p:nvPr/>
        </p:nvPicPr>
        <p:blipFill>
          <a:blip r:embed="rId2"/>
          <a:stretch/>
        </p:blipFill>
        <p:spPr>
          <a:xfrm>
            <a:off x="2000160" y="3286080"/>
            <a:ext cx="5429520" cy="32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0" y="-655560"/>
            <a:ext cx="9429840" cy="75135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7"/>
          <p:cNvSpPr/>
          <p:nvPr/>
        </p:nvSpPr>
        <p:spPr>
          <a:xfrm flipH="1">
            <a:off x="2214720" y="428760"/>
            <a:ext cx="712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оугольник 8"/>
          <p:cNvSpPr/>
          <p:nvPr/>
        </p:nvSpPr>
        <p:spPr>
          <a:xfrm>
            <a:off x="1714680" y="928800"/>
            <a:ext cx="621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http://1.bp.blogspot.com/-EKEoaF7qXWk/Uw3vlO-az0I/AAAAAAAAEN0/h0og5daQS8k/s1600/421f6ba929749ea838622d74a7779cf3+(2).png"/>
          <p:cNvPicPr/>
          <p:nvPr/>
        </p:nvPicPr>
        <p:blipFill>
          <a:blip r:embed="rId2"/>
          <a:stretch/>
        </p:blipFill>
        <p:spPr>
          <a:xfrm>
            <a:off x="2000160" y="3286080"/>
            <a:ext cx="5429520" cy="321480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9" descr=""/>
          <p:cNvPicPr/>
          <p:nvPr/>
        </p:nvPicPr>
        <p:blipFill>
          <a:blip r:embed="rId3"/>
          <a:stretch/>
        </p:blipFill>
        <p:spPr>
          <a:xfrm>
            <a:off x="719280" y="828720"/>
            <a:ext cx="7692840" cy="117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2916360" y="500040"/>
            <a:ext cx="5298840" cy="5943240"/>
          </a:xfrm>
          <a:prstGeom prst="rect">
            <a:avLst/>
          </a:prstGeom>
          <a:solidFill>
            <a:srgbClr val="ffff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2723"/>
                </a:solidFill>
                <a:latin typeface="Times New Roman"/>
                <a:ea typeface="Times New Roman"/>
              </a:rPr>
              <a:t>Природный мир </a:t>
            </a:r>
            <a:r>
              <a:rPr b="0" lang="en-US" sz="3200" spc="-1" strike="noStrike">
                <a:solidFill>
                  <a:srgbClr val="2a2723"/>
                </a:solidFill>
                <a:latin typeface="Times New Roman"/>
                <a:ea typeface="Times New Roman"/>
              </a:rPr>
              <a:t>— живая и неживая природа, которая является частью окружающего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2723"/>
                </a:solidFill>
                <a:latin typeface="Times New Roman"/>
                <a:ea typeface="Times New Roman"/>
              </a:rPr>
              <a:t>Социальный мир </a:t>
            </a:r>
            <a:r>
              <a:rPr b="0" lang="en-US" sz="3200" spc="-1" strike="noStrike">
                <a:solidFill>
                  <a:srgbClr val="2a2723"/>
                </a:solidFill>
                <a:latin typeface="Times New Roman"/>
                <a:ea typeface="Times New Roman"/>
              </a:rPr>
              <a:t>— люди, общество людей. Этот мир люди создают сами, структурируют его. В нем люди социализируются, действуют, преобразуют его в соответствии со своими потребност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трелка вправо 17"/>
          <p:cNvSpPr/>
          <p:nvPr/>
        </p:nvSpPr>
        <p:spPr>
          <a:xfrm>
            <a:off x="1500120" y="928800"/>
            <a:ext cx="1621080" cy="484200"/>
          </a:xfrm>
          <a:prstGeom prst="rightArrow">
            <a:avLst>
              <a:gd name="adj1" fmla="val 50000"/>
              <a:gd name="adj2" fmla="val 500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2286000" y="857160"/>
            <a:ext cx="50720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2357280" y="428760"/>
            <a:ext cx="6215400" cy="4117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2723"/>
                </a:solidFill>
                <a:latin typeface="Times New Roman"/>
                <a:ea typeface="Times New Roman"/>
              </a:rPr>
              <a:t>Социальная действительность</a:t>
            </a:r>
            <a:r>
              <a:rPr b="0" lang="en-US" sz="2400" spc="-1" strike="noStrike">
                <a:solidFill>
                  <a:srgbClr val="2a2723"/>
                </a:solidFill>
                <a:latin typeface="Times New Roman"/>
                <a:ea typeface="Times New Roman"/>
              </a:rPr>
              <a:t> — конкретные события, факты, взаимоотношения, которые характеризуют текущий временной период функционирования человеческого общества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функция, которая возлагается на это средство, — показать детям социальный мир «изнутри» и помочь ребенку накопить социальный опыт, понять свое место в этом мире как члена людского сообщества, участника событий, преобразова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236232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7500960" y="35719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3357720" y="3143160"/>
            <a:ext cx="1839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Стрелка вправо 12"/>
          <p:cNvSpPr/>
          <p:nvPr/>
        </p:nvSpPr>
        <p:spPr>
          <a:xfrm>
            <a:off x="1214280" y="500040"/>
            <a:ext cx="1478160" cy="4842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82" name="TextBox 6"/>
          <p:cNvSpPr/>
          <p:nvPr/>
        </p:nvSpPr>
        <p:spPr>
          <a:xfrm>
            <a:off x="185724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357200" y="500040"/>
            <a:ext cx="7000920" cy="42148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8"/>
          <p:cNvSpPr/>
          <p:nvPr/>
        </p:nvSpPr>
        <p:spPr>
          <a:xfrm flipH="1">
            <a:off x="999360" y="2967120"/>
            <a:ext cx="716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5-конечная звезда 9"/>
          <p:cNvSpPr/>
          <p:nvPr/>
        </p:nvSpPr>
        <p:spPr>
          <a:xfrm>
            <a:off x="714240" y="642960"/>
            <a:ext cx="71640" cy="46080"/>
          </a:xfrm>
          <a:custGeom>
            <a:avLst/>
            <a:gdLst>
              <a:gd name="textAreaLeft" fmla="*/ 21960 w 71640"/>
              <a:gd name="textAreaRight" fmla="*/ 49680 w 71640"/>
              <a:gd name="textAreaTop" fmla="*/ 17640 h 46080"/>
              <a:gd name="textAreaBottom" fmla="*/ 35280 h 46080"/>
            </a:gdLst>
            <a:ahLst/>
            <a:rect l="textAreaLeft" t="textAreaTop" r="textAreaRight" b="textAreaBottom"/>
            <a:pathLst>
              <a:path w="71438" h="45719">
                <a:moveTo>
                  <a:pt x="0" y="17463"/>
                </a:moveTo>
                <a:lnTo>
                  <a:pt x="27287" y="17463"/>
                </a:lnTo>
                <a:lnTo>
                  <a:pt x="35719" y="0"/>
                </a:lnTo>
                <a:lnTo>
                  <a:pt x="44151" y="17463"/>
                </a:lnTo>
                <a:lnTo>
                  <a:pt x="71438" y="17463"/>
                </a:lnTo>
                <a:lnTo>
                  <a:pt x="49362" y="28256"/>
                </a:lnTo>
                <a:lnTo>
                  <a:pt x="57795" y="45719"/>
                </a:lnTo>
                <a:lnTo>
                  <a:pt x="35719" y="34926"/>
                </a:lnTo>
                <a:lnTo>
                  <a:pt x="13643" y="45719"/>
                </a:lnTo>
                <a:lnTo>
                  <a:pt x="22076" y="2825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трелка вниз 10"/>
          <p:cNvSpPr/>
          <p:nvPr/>
        </p:nvSpPr>
        <p:spPr>
          <a:xfrm>
            <a:off x="785880" y="500040"/>
            <a:ext cx="484200" cy="928800"/>
          </a:xfrm>
          <a:prstGeom prst="downArrow">
            <a:avLst>
              <a:gd name="adj1" fmla="val 50000"/>
              <a:gd name="adj2" fmla="val 5005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-6429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Прямоугольник 9" descr=""/>
          <p:cNvPicPr/>
          <p:nvPr/>
        </p:nvPicPr>
        <p:blipFill>
          <a:blip r:embed="rId2"/>
          <a:stretch/>
        </p:blipFill>
        <p:spPr>
          <a:xfrm>
            <a:off x="1773360" y="871560"/>
            <a:ext cx="6511680" cy="5767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1357200" y="157176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Прямоугольник 8" descr=""/>
          <p:cNvPicPr/>
          <p:nvPr/>
        </p:nvPicPr>
        <p:blipFill>
          <a:blip r:embed="rId2"/>
          <a:stretch/>
        </p:blipFill>
        <p:spPr>
          <a:xfrm>
            <a:off x="2103480" y="1127160"/>
            <a:ext cx="5778360" cy="4627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8"/>
          <p:cNvSpPr/>
          <p:nvPr/>
        </p:nvSpPr>
        <p:spPr>
          <a:xfrm>
            <a:off x="2071800" y="0"/>
            <a:ext cx="6429240" cy="435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2723"/>
                </a:solidFill>
                <a:latin typeface="Times New Roman"/>
                <a:ea typeface="Times New Roman"/>
              </a:rPr>
              <a:t>Особое место в предметном мире занимает для ребенка </a:t>
            </a:r>
            <a:r>
              <a:rPr b="1" i="1" lang="en-US" sz="2800" spc="-1" strike="noStrike">
                <a:solidFill>
                  <a:srgbClr val="2a2723"/>
                </a:solidFill>
                <a:latin typeface="Times New Roman"/>
                <a:ea typeface="Times New Roman"/>
              </a:rPr>
              <a:t>игрушка. </a:t>
            </a:r>
            <a:r>
              <a:rPr b="0" lang="en-US" sz="2800" spc="-1" strike="noStrike">
                <a:solidFill>
                  <a:srgbClr val="2a2723"/>
                </a:solidFill>
                <a:latin typeface="Times New Roman"/>
                <a:ea typeface="Times New Roman"/>
              </a:rPr>
              <a:t>Она является для него средством ознакомления с социальным миром. Через игрушку ребенок познает разнообразие жизни в ее свойствах и качествах, игрушка отражает уровень технического и социального развития общества, даже его ведущие моральные ценности и идеологические установ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http://media.vorotila.ru/ru/items/t1@8c0c6d62-d86b-457e-88d3-613bd4d33dd4/Syuzhetnorolevye-igry-dlya-detey.jpg"/>
          <p:cNvPicPr/>
          <p:nvPr/>
        </p:nvPicPr>
        <p:blipFill>
          <a:blip r:embed="rId2"/>
          <a:stretch/>
        </p:blipFill>
        <p:spPr>
          <a:xfrm>
            <a:off x="4280040" y="4492800"/>
            <a:ext cx="3584520" cy="2084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1785960" y="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2357280" y="857160"/>
            <a:ext cx="5072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2286000" y="571680"/>
            <a:ext cx="6215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8" descr=""/>
          <p:cNvPicPr/>
          <p:nvPr/>
        </p:nvPicPr>
        <p:blipFill>
          <a:blip r:embed="rId2"/>
          <a:stretch/>
        </p:blipFill>
        <p:spPr>
          <a:xfrm>
            <a:off x="1071720" y="571680"/>
            <a:ext cx="7143480" cy="500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8T16:00:28Z</dcterms:created>
  <dc:creator>Пользователь Windows</dc:creator>
  <dc:description/>
  <dc:language>en-US</dc:language>
  <cp:lastModifiedBy>Ивочкина Елизавета Николаевна</cp:lastModifiedBy>
  <dcterms:modified xsi:type="dcterms:W3CDTF">2022-01-25T13:36:34Z</dcterms:modified>
  <cp:revision>59</cp:revision>
  <dc:subject/>
  <dc:title>Слайд 1</dc:title>
</cp:coreProperties>
</file>