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28.jpeg" ContentType="image/jpeg"/>
  <Override PartName="/ppt/media/image7.jpeg" ContentType="image/jpeg"/>
  <Override PartName="/ppt/media/image12.jpeg" ContentType="image/jpeg"/>
  <Override PartName="/ppt/media/image34.png" ContentType="image/png"/>
  <Override PartName="/ppt/media/image6.jpeg" ContentType="image/jpeg"/>
  <Override PartName="/ppt/media/image33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22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D7796-2D61-4236-A1F5-D6C41F3EC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E327F-B284-462F-B1B9-257DF7D9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3B095-ED08-4531-818B-B8EF984A2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8C9DA-478E-4F3E-90F2-CD3B80058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368E4-DBE8-48D8-8D9C-09F38048C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54220-C5F1-4133-8B8D-B18A378B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BCA9E3-E988-4F4D-A969-F679F9CA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7AAF5-025E-49A7-BEEA-7662FAA7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9B8FA-3593-4150-9251-00EF7308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77291-7550-4669-8894-D80833D9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C7340-D014-46C1-934E-A4FF45CB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BE374-5359-4FE0-87B1-27220C9E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9D977-5C82-4FC4-933B-D31C96FA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3BF7B5-6895-45FE-91AC-9DB044BE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2DBF9-91F5-4A22-9619-5E21C4BA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37F11-D4D8-4FCE-8851-BE3927242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C4A28-57F2-4998-A907-B29F5C955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023FE-0824-439B-AD5F-32C3A633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E9077-9F50-41EA-A7E1-7C173CA1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64542-E64A-45E6-8F8C-B04ED14D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FAE56-9E92-481C-9C02-949B3829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ACC5C-11A4-45C4-9B07-641CD609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BE96A-B9A1-485A-97CB-A9B9F17D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B6FD9-9C72-48B0-BD14-DE646BCB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5A76-9E1E-49F6-AE5E-3B06A62055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E97C-91E5-4416-A68B-9AE838C0EA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57600" y="5257800"/>
            <a:ext cx="5105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457200"/>
            <a:ext cx="8458200" cy="19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 Black"/>
              </a:rPr>
              <a:t>Урок</a:t>
            </a:r>
            <a:br>
              <a:rPr sz="6000"/>
            </a:br>
            <a:r>
              <a:rPr b="0" lang="ru-RU" sz="6000" spc="-1" strike="noStrike">
                <a:solidFill>
                  <a:srgbClr val="ff0000"/>
                </a:solidFill>
                <a:latin typeface="Arial Black"/>
              </a:rPr>
              <a:t>обучения грамоте</a:t>
            </a:r>
            <a:endParaRPr b="0" lang="en-US" sz="6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048120" y="2666880"/>
            <a:ext cx="296064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286000" y="838080"/>
            <a:ext cx="4251240" cy="558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Из каких произведений эти герои?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Majestic"/>
              </a:rPr>
              <a:t>Гришенька.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257800" y="304920"/>
            <a:ext cx="3600360" cy="47624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rcRect l="1663" t="8883" r="5001" b="35556"/>
          <a:stretch/>
        </p:blipFill>
        <p:spPr>
          <a:xfrm>
            <a:off x="228600" y="3124080"/>
            <a:ext cx="614520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274680"/>
            <a:ext cx="82296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66ff"/>
                </a:solidFill>
                <a:latin typeface="Majestic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304920"/>
            <a:ext cx="4038480" cy="58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отята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Утята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SzPct val="1542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Свинки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SzPct val="15424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Медведь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219320" y="304920"/>
            <a:ext cx="6667560" cy="49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 Black"/>
              </a:rPr>
              <a:t>Угадай название произведения</a:t>
            </a:r>
            <a:endParaRPr b="0" lang="en-US" sz="5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913"/>
              </a:spcBef>
              <a:spcAft>
                <a:spcPts val="11"/>
              </a:spcAft>
              <a:buSzPct val="15433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«П.Р.В..     .Х.Т.»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9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 Black"/>
              </a:rPr>
              <a:t>Виталий Бианки «Первая охота»</a:t>
            </a:r>
            <a:endParaRPr b="0" lang="en-US" sz="5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rcRect l="14180" t="3148" r="11407" b="10230"/>
          <a:stretch/>
        </p:blipFill>
        <p:spPr>
          <a:xfrm>
            <a:off x="1981080" y="1752480"/>
            <a:ext cx="5329440" cy="488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«ВМ.СТ.  Т.СН., . ВР.ЗЬ  СК.ЧН.»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0" t="0" r="-2183" b="0"/>
          <a:stretch/>
        </p:blipFill>
        <p:spPr>
          <a:xfrm>
            <a:off x="2362320" y="0"/>
            <a:ext cx="4647960" cy="6821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124080" y="609480"/>
            <a:ext cx="27432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DejaVu Sans"/>
              </a:rPr>
              <a:t>К.Д. Ушинский</a:t>
            </a:r>
            <a:r>
              <a:rPr b="1" lang="ru-RU" sz="1800" spc="-1" strike="noStrike">
                <a:solidFill>
                  <a:srgbClr val="ffffff"/>
                </a:solidFill>
                <a:latin typeface="Arial Black"/>
                <a:ea typeface="DejaVu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57600" y="5257800"/>
            <a:ext cx="5105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262080"/>
            <a:ext cx="777240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0" cy="645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66ff"/>
                </a:solidFill>
                <a:latin typeface="Majestic"/>
              </a:rPr>
              <a:t>Сегодня на уроке мы:</a:t>
            </a:r>
            <a:endParaRPr b="0" lang="en-US" sz="6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комимся с …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дем учиться …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2209680"/>
            <a:ext cx="8001000" cy="685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творчеством  Самуила Яковлевича Маршака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3886200"/>
            <a:ext cx="8001000" cy="685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выразительно читать его стихотворения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66ff"/>
                </a:solidFill>
                <a:latin typeface="Majestic"/>
              </a:rPr>
              <a:t>Задачи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990720"/>
            <a:ext cx="82296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Будем изучать стихотворение «Угомон» и «Дважды два»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Отвечать на вопросы полными предложениями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332000" y="6165720"/>
            <a:ext cx="1008000" cy="28764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057400" y="228600"/>
            <a:ext cx="476892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66ff"/>
                </a:solidFill>
                <a:latin typeface="Majestic"/>
              </a:rPr>
              <a:t>Памятник С.Я.Маршаку </a:t>
            </a:r>
            <a:br>
              <a:rPr sz="5400"/>
            </a:br>
            <a:r>
              <a:rPr b="0" lang="ru-RU" sz="5400" spc="-1" strike="noStrike">
                <a:solidFill>
                  <a:srgbClr val="3366ff"/>
                </a:solidFill>
                <a:latin typeface="Majestic"/>
              </a:rPr>
              <a:t>в г.Воронеже.</a:t>
            </a:r>
            <a:endParaRPr b="0" lang="en-US" sz="5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7920000" cy="46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 Black"/>
              </a:rPr>
              <a:t>Викторина 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ctr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 Black"/>
              </a:rPr>
              <a:t>по 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ctr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 Black"/>
              </a:rPr>
              <a:t>произведениям 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ctr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 Black"/>
              </a:rPr>
              <a:t>С.Я.Маршака.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 rot="20400000">
            <a:off x="6022440" y="4157280"/>
            <a:ext cx="2800440" cy="2017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 rot="20100000">
            <a:off x="762120" y="306000"/>
            <a:ext cx="1701720" cy="2357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 rot="1320000">
            <a:off x="6705360" y="533520"/>
            <a:ext cx="1571400" cy="2357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 rot="20640000">
            <a:off x="607680" y="3657600"/>
            <a:ext cx="1785960" cy="26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 Black"/>
              </a:rPr>
              <a:t>Викторина 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ctr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 Black"/>
              </a:rPr>
              <a:t>по 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ctr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 Black"/>
              </a:rPr>
              <a:t>произведениям 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ctr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 Black"/>
              </a:rPr>
              <a:t>С.Я.Маршака.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 rot="20400000">
            <a:off x="6022440" y="4157280"/>
            <a:ext cx="2800440" cy="2017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 rot="20100000">
            <a:off x="762120" y="306000"/>
            <a:ext cx="1701720" cy="2357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 rot="1320000">
            <a:off x="6705360" y="533520"/>
            <a:ext cx="1571400" cy="2357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 rot="20640000">
            <a:off x="607680" y="3657600"/>
            <a:ext cx="1785960" cy="26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928800" y="71424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 Black"/>
                <a:ea typeface="DejaVu Sans"/>
              </a:rPr>
              <a:t>Угадай произведение по иллюстрации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990720" y="1371600"/>
            <a:ext cx="695628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rcRect l="-17" t="0" r="0" b="18254"/>
          <a:stretch/>
        </p:blipFill>
        <p:spPr>
          <a:xfrm>
            <a:off x="2286000" y="380880"/>
            <a:ext cx="4651200" cy="6142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90920" y="5638680"/>
            <a:ext cx="41148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590920" y="380880"/>
            <a:ext cx="427176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rcRect l="0" t="0" r="0" b="18976"/>
          <a:stretch/>
        </p:blipFill>
        <p:spPr>
          <a:xfrm>
            <a:off x="2057400" y="838080"/>
            <a:ext cx="533412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438280" y="304920"/>
            <a:ext cx="4496040" cy="59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057400" y="533520"/>
            <a:ext cx="5334120" cy="562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590920" y="228600"/>
            <a:ext cx="41497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85920" y="38088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DejaVu Sans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DejaVu Sans"/>
              </a:rPr>
              <a:t>Доскажи словечко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838080"/>
            <a:ext cx="2857680" cy="9198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 Black"/>
                <a:ea typeface="DejaVu Sans"/>
              </a:rPr>
              <a:t>Выдали даме на станции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 Black"/>
                <a:ea typeface="DejaVu Sans"/>
              </a:rPr>
              <a:t>Четыре зеленых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9" name=""/>
          <p:cNvSpPr/>
          <p:nvPr/>
        </p:nvSpPr>
        <p:spPr>
          <a:xfrm>
            <a:off x="3352680" y="106668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 Black"/>
                <a:ea typeface="DejaVu Sans"/>
              </a:rPr>
              <a:t>квитанции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0" name=""/>
          <p:cNvSpPr/>
          <p:nvPr/>
        </p:nvSpPr>
        <p:spPr>
          <a:xfrm>
            <a:off x="380880" y="1981080"/>
            <a:ext cx="2643480" cy="9198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 Black"/>
                <a:ea typeface="DejaVu Sans"/>
              </a:rPr>
              <a:t>Вместо шапки на ходу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 Black"/>
                <a:ea typeface="DejaVu Sans"/>
              </a:rPr>
              <a:t>Он надел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21337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 Black"/>
                <a:ea typeface="DejaVu Sans"/>
              </a:rPr>
              <a:t>сковороду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3276720"/>
            <a:ext cx="2357280" cy="9198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 Black"/>
                <a:ea typeface="DejaVu Sans"/>
              </a:rPr>
              <a:t>Где обедал воробей?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 Black"/>
                <a:ea typeface="DejaVu Sans"/>
              </a:rPr>
              <a:t>В зоопарке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3" name=""/>
          <p:cNvSpPr/>
          <p:nvPr/>
        </p:nvSpPr>
        <p:spPr>
          <a:xfrm>
            <a:off x="3200400" y="33526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 Black"/>
                <a:ea typeface="DejaVu Sans"/>
              </a:rPr>
              <a:t>у зверей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4" name=""/>
          <p:cNvSpPr/>
          <p:nvPr/>
        </p:nvSpPr>
        <p:spPr>
          <a:xfrm>
            <a:off x="571680" y="53578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4419720"/>
            <a:ext cx="2928960" cy="13194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Arial Black"/>
                <a:ea typeface="DejaVu Sans"/>
              </a:rPr>
              <a:t>Глупый маленький мышонок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Arial Black"/>
                <a:ea typeface="DejaVu Sans"/>
              </a:rPr>
              <a:t>Отвечает ей спросонок: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Arial Black"/>
                <a:ea typeface="DejaVu Sans"/>
              </a:rPr>
              <a:t>-Нет, твой голос нехорош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Arial Black"/>
                <a:ea typeface="DejaVu Sans"/>
              </a:rPr>
              <a:t>Слишком громко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6" name=""/>
          <p:cNvSpPr/>
          <p:nvPr/>
        </p:nvSpPr>
        <p:spPr>
          <a:xfrm>
            <a:off x="3286080" y="528624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 Black"/>
                <a:ea typeface="DejaVu Sans"/>
              </a:rPr>
              <a:t>ты поешь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62120" y="139680"/>
            <a:ext cx="701028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Читай сначала по слогам, а затем слитно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+ЧИ+ЛОСЬ = СЛУЧИЛОСЬ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+ЖУР+НЫЙ = ДЕЖУРНЫЙ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85800" y="167040"/>
            <a:ext cx="8458200" cy="34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Читай целыми словами.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М – ШУМЕЛ – РАСШУМЕЛСЯ 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К – КРИЧАЛИ – ЗАКРИЧАЛИ 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К – КРИКНУЛ – ВЫКРИКНУЛ 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ЧИТ – МОЛЧИТЕ -  ЗАМОЛЧИТЕ  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914400" y="801720"/>
            <a:ext cx="8229600" cy="20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Читай внимательно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Л – ПОДНЯЛ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ОЛЬШЕ – ПОДОЛЬШЕ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57200" y="914400"/>
            <a:ext cx="8029440" cy="24382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6553080" y="990720"/>
            <a:ext cx="1600200" cy="609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3" name=""/>
          <p:cNvSpPr/>
          <p:nvPr/>
        </p:nvSpPr>
        <p:spPr>
          <a:xfrm>
            <a:off x="5867280" y="2286000"/>
            <a:ext cx="1524240" cy="609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4" name=""/>
          <p:cNvSpPr/>
          <p:nvPr/>
        </p:nvSpPr>
        <p:spPr>
          <a:xfrm>
            <a:off x="5029200" y="2971800"/>
            <a:ext cx="914400" cy="4572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8128080" cy="6095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800600" y="3505320"/>
            <a:ext cx="3124080" cy="2438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8686800" y="-2859120"/>
            <a:ext cx="1141560" cy="74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11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нынче» - сегодня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111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бушует» - проявляет себя буйно, с необычной силой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111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бас» - мужской низкий голос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600200" y="304920"/>
            <a:ext cx="6095880" cy="60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гомон М. Разг. —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Успокоение от шума, возни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rcRect l="16077" t="6653" r="3686" b="19579"/>
          <a:stretch/>
        </p:blipFill>
        <p:spPr>
          <a:xfrm>
            <a:off x="533520" y="533520"/>
            <a:ext cx="8229600" cy="55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432640" cy="63244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14400" y="5943600"/>
            <a:ext cx="7696080" cy="685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274680"/>
            <a:ext cx="82296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Из каких произведение строки? Кто автор?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990720" y="762120"/>
            <a:ext cx="633096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981080" y="228600"/>
            <a:ext cx="494676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8632800" cy="1371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rcRect l="7995" t="6660" r="9001" b="22669"/>
          <a:stretch/>
        </p:blipFill>
        <p:spPr>
          <a:xfrm>
            <a:off x="1600200" y="2514600"/>
            <a:ext cx="632448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1</cp:lastModifiedBy>
  <dcterms:modified xsi:type="dcterms:W3CDTF">2018-01-22T12:39:42Z</dcterms:modified>
  <cp:revision>1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