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7B3E-1B93-417A-8B0C-69306682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CDD3-98B4-4680-8828-A3C8F26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8CEB-764E-45F2-8224-64060F8C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09D3-E28C-47DD-A1CC-C178FB6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073E-E12B-4DF4-95FE-B0954EB9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C72CB-917A-4E76-B3F4-2E0809FE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437DA-44C7-424E-9BD0-D5F9EC3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BE758-4597-47EC-B2B5-3575B74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484E-64D9-48AB-A10F-4F9F508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F9E0-BED2-4D4C-AA95-788D726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69736-B1F2-47EA-BEE4-432D857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3CCF-3F3D-4116-8A1E-CFC92E26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274B-2A28-4F4C-BAAE-8798DBE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BBA6-67E8-4DD7-9DB7-73CAE980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21E33-9028-40EC-94DA-6F7200F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848A-7C26-4817-8156-6FA9A00F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725A-DC75-4994-B686-521FDD24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6047-E777-41F0-9AE4-667E442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80BD-5949-4EF6-A5E2-50F499C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1E7F-AFBE-4E68-AC7E-4BAE31CF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C1A6-042B-45EA-A072-90502F5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E34A-413C-44CC-BA6A-F2A40B8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D686-BAE2-48DA-A595-DE7DC81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6FE4-A8CF-4284-83EC-C23753C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9EF-5232-4E0A-8D0C-1F9EA407D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8FF-98E6-4CEB-8F7E-09615F77D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57200"/>
            <a:ext cx="8458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Урок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обучения грамоте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9606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425124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 каких произведений эти герои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Гришенька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600360" cy="4762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1663" t="8883" r="5001" b="35556"/>
          <a:stretch/>
        </p:blipFill>
        <p:spPr>
          <a:xfrm>
            <a:off x="228600" y="3124080"/>
            <a:ext cx="6145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тят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винк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6675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Угадай название произведения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«П.Р.В..     .Х.Т.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Виталий Бианки «Первая охота»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180" t="3148" r="11407" b="10230"/>
          <a:stretch/>
        </p:blipFill>
        <p:spPr>
          <a:xfrm>
            <a:off x="1981080" y="1752480"/>
            <a:ext cx="5329440" cy="488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«ВМ.СТ.  Т.СН., . ВР.ЗЬ  СК.ЧН.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-2183" b="0"/>
          <a:stretch/>
        </p:blipFill>
        <p:spPr>
          <a:xfrm>
            <a:off x="2362320" y="0"/>
            <a:ext cx="4647960" cy="682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609480"/>
            <a:ext cx="27432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DejaVu Sans"/>
              </a:rPr>
              <a:t>К.Д. Ушинский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62080"/>
            <a:ext cx="77724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Сегодня на уроке мы: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мся с …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учиться …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209680"/>
            <a:ext cx="80010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ворчеством  Самуила Яковлевича Маршак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886200"/>
            <a:ext cx="80010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ыразительно читать его стихотвор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Задач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Будем изучать стихотворение «Угомон» и «Дважды два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твечать на вопросы полными предложениями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2000" y="6165720"/>
            <a:ext cx="1008000" cy="2876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7689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Памятник С.Я.Маршаку </a:t>
            </a:r>
            <a:br>
              <a:rPr sz="5400"/>
            </a:b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в г.Воронеже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92000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о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роизведениям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С.Я.Маршака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0400000">
            <a:off x="6022440" y="4157280"/>
            <a:ext cx="2800440" cy="201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 rot="20100000">
            <a:off x="762120" y="306000"/>
            <a:ext cx="1701720" cy="235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 rot="1320000">
            <a:off x="6705360" y="533520"/>
            <a:ext cx="157140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 rot="20640000">
            <a:off x="607680" y="3657600"/>
            <a:ext cx="17859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о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роизведениям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С.Я.Маршака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20400000">
            <a:off x="6022440" y="4157280"/>
            <a:ext cx="2800440" cy="201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20100000">
            <a:off x="762120" y="306000"/>
            <a:ext cx="170172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 rot="1320000">
            <a:off x="6705360" y="533520"/>
            <a:ext cx="1571400" cy="235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rot="20640000">
            <a:off x="607680" y="3657600"/>
            <a:ext cx="17859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142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  <a:ea typeface="DejaVu Sans"/>
              </a:rPr>
              <a:t>Угадай произведение по иллюстрац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6956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-17" t="0" r="0" b="18254"/>
          <a:stretch/>
        </p:blipFill>
        <p:spPr>
          <a:xfrm>
            <a:off x="2286000" y="380880"/>
            <a:ext cx="4651200" cy="6142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5638680"/>
            <a:ext cx="4114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271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0" t="0" r="0" b="18976"/>
          <a:stretch/>
        </p:blipFill>
        <p:spPr>
          <a:xfrm>
            <a:off x="2057400" y="838080"/>
            <a:ext cx="5334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49604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7400" y="533520"/>
            <a:ext cx="5334120" cy="56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149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85920" y="3808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Доскажи словечко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080"/>
            <a:ext cx="28576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ыдали даме на станц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Четыре зелены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1066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квитанц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981080"/>
            <a:ext cx="26434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место шапки на ходу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Он наде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сковород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276720"/>
            <a:ext cx="23572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Где обедал воробей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 зоопарк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3526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у звере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5357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419720"/>
            <a:ext cx="2928960" cy="13194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Глупый маленький мышонок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Отвечает ей спросонок: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-Нет, твой голос нехорош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Слишком громко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3286080" y="5286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ты поеш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139680"/>
            <a:ext cx="7010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сначала по слогам, а затем слитно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+ЧИ+ЛОСЬ = СЛУЧИЛОС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+ЖУР+НЫЙ = ДЕЖУРНЫ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67040"/>
            <a:ext cx="84582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целыми словами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 – ШУМЕЛ – РАСШУМЕЛСЯ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– КРИЧАЛИ – ЗАКРИЧАЛИ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– КРИКНУЛ – ВЫКРИКНУЛ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ЧИТ – МОЛЧИТЕ -  ЗАМОЛЧИТЕ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801720"/>
            <a:ext cx="82296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внимательно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Л – ПОДНЯ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ЛЬШЕ – ПОДОЛЬШ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029440" cy="2438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553080" y="990720"/>
            <a:ext cx="160020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286000"/>
            <a:ext cx="152424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971800"/>
            <a:ext cx="9144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00600" y="3505320"/>
            <a:ext cx="3124080" cy="243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686800" y="-2859120"/>
            <a:ext cx="114156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ынче» - сегодн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ушует» - проявляет себя буйно, с необычной силой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ас» - мужской низкий голос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609588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мон М. Разг. —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спокоение от шума, возн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6077" t="6653" r="3686" b="19579"/>
          <a:stretch/>
        </p:blipFill>
        <p:spPr>
          <a:xfrm>
            <a:off x="533520" y="5335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943600"/>
            <a:ext cx="76960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 каких произведение строки? Кто автор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63309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49467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328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7995" t="6660" r="9001" b="22669"/>
          <a:stretch/>
        </p:blipFill>
        <p:spPr>
          <a:xfrm>
            <a:off x="1600200" y="2514600"/>
            <a:ext cx="6324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18-01-22T12:39:42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