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png" ContentType="image/png"/>
  <Override PartName="/ppt/media/image38.jpeg" ContentType="image/jpe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11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47CA-6769-4A42-901E-913F1000324C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C7A6-E316-41DF-97E8-8C42F5C97A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8DD5A-B842-4846-9865-B59BE869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5508B-E818-431E-AF9F-F760283F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7BF45-8182-4837-A9AA-1BFBE8FF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011E2-9608-4D15-94DB-0ED2A9AB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41FB3-7DDF-47BB-AD62-B581CF43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0511F-076C-4A59-81CE-8CE03E83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A82CF-E015-428B-80E1-719D14A2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99551-6C83-4D91-A7BA-E45BBF86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915FA-1A62-4900-9887-219E6EC9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022D1-460C-4DEE-935A-0F060097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EDA0C-E33D-4225-883A-8410F73F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EDC4E-C52A-431B-AF6D-111292EC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484C-44BD-488F-A495-5BBC83E8B5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7320" y="2781360"/>
            <a:ext cx="89866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Calibri"/>
                <a:ea typeface="DejaVu Sans"/>
              </a:rPr>
              <a:t>Желе – вкусное и полезное лакомство!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4798800"/>
            <a:ext cx="3059280" cy="9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Безносов Иван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МАДОУ детский сад «Малышка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64000" y="189000"/>
            <a:ext cx="3513240" cy="23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4360" y="27468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ий процесс приготовления желе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7" name=""/>
          <p:cNvSpPr/>
          <p:nvPr/>
        </p:nvSpPr>
        <p:spPr>
          <a:xfrm>
            <a:off x="1071720" y="1000080"/>
            <a:ext cx="78627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907920"/>
            <a:ext cx="1571760" cy="428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и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9" name=""/>
          <p:cNvSpPr/>
          <p:nvPr/>
        </p:nvSpPr>
        <p:spPr>
          <a:xfrm>
            <a:off x="1214280" y="1643040"/>
            <a:ext cx="1571760" cy="428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очить 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907920"/>
            <a:ext cx="2144520" cy="428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ы или ягоды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1484280"/>
            <a:ext cx="2643480" cy="274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брать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2" name=""/>
          <p:cNvSpPr/>
          <p:nvPr/>
        </p:nvSpPr>
        <p:spPr>
          <a:xfrm>
            <a:off x="5724360" y="907920"/>
            <a:ext cx="1571760" cy="428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3" name=""/>
          <p:cNvSpPr/>
          <p:nvPr/>
        </p:nvSpPr>
        <p:spPr>
          <a:xfrm>
            <a:off x="7524720" y="907920"/>
            <a:ext cx="1428840" cy="428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ный песок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4" name=""/>
          <p:cNvSpPr/>
          <p:nvPr/>
        </p:nvSpPr>
        <p:spPr>
          <a:xfrm>
            <a:off x="2000160" y="1336680"/>
            <a:ext cx="1800" cy="306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2060640"/>
            <a:ext cx="1800" cy="1368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6" name=""/>
          <p:cNvSpPr/>
          <p:nvPr/>
        </p:nvSpPr>
        <p:spPr>
          <a:xfrm>
            <a:off x="6510240" y="1336680"/>
            <a:ext cx="6480" cy="10126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7" name=""/>
          <p:cNvSpPr/>
          <p:nvPr/>
        </p:nvSpPr>
        <p:spPr>
          <a:xfrm>
            <a:off x="8238960" y="1336680"/>
            <a:ext cx="5040" cy="2092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5048280"/>
            <a:ext cx="2411280" cy="1809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443640" y="5159520"/>
            <a:ext cx="2700360" cy="1698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132000" y="1844640"/>
            <a:ext cx="2643480" cy="274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ыть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2205000"/>
            <a:ext cx="2643480" cy="273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ить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2" name=""/>
          <p:cNvSpPr/>
          <p:nvPr/>
        </p:nvSpPr>
        <p:spPr>
          <a:xfrm>
            <a:off x="3132000" y="2565360"/>
            <a:ext cx="2643480" cy="273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ь 5…8 мин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2924280"/>
            <a:ext cx="2643480" cy="274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ить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4" name=""/>
          <p:cNvSpPr/>
          <p:nvPr/>
        </p:nvSpPr>
        <p:spPr>
          <a:xfrm>
            <a:off x="3132000" y="3284640"/>
            <a:ext cx="2643480" cy="274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и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5" name=""/>
          <p:cNvSpPr/>
          <p:nvPr/>
        </p:nvSpPr>
        <p:spPr>
          <a:xfrm>
            <a:off x="3132000" y="3645000"/>
            <a:ext cx="2643480" cy="274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сти до кипени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4005360"/>
            <a:ext cx="2643480" cy="272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сти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365720"/>
            <a:ext cx="2643480" cy="272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и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4724280"/>
            <a:ext cx="3240360" cy="217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ть в порционные формы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5084640"/>
            <a:ext cx="3240360" cy="505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ладить пр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…8̊ С в течении 1,5…2ч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5732640"/>
            <a:ext cx="3240360" cy="433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ложить в креманку или в вазочку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1" name=""/>
          <p:cNvSpPr/>
          <p:nvPr/>
        </p:nvSpPr>
        <p:spPr>
          <a:xfrm>
            <a:off x="4452840" y="1336680"/>
            <a:ext cx="1800" cy="14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2" name=""/>
          <p:cNvSpPr/>
          <p:nvPr/>
        </p:nvSpPr>
        <p:spPr>
          <a:xfrm>
            <a:off x="4452840" y="1758960"/>
            <a:ext cx="1800" cy="85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3" name=""/>
          <p:cNvSpPr/>
          <p:nvPr/>
        </p:nvSpPr>
        <p:spPr>
          <a:xfrm>
            <a:off x="4452840" y="2119320"/>
            <a:ext cx="1800" cy="85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4" name=""/>
          <p:cNvSpPr/>
          <p:nvPr/>
        </p:nvSpPr>
        <p:spPr>
          <a:xfrm>
            <a:off x="4452840" y="2478240"/>
            <a:ext cx="1800" cy="87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5" name=""/>
          <p:cNvSpPr/>
          <p:nvPr/>
        </p:nvSpPr>
        <p:spPr>
          <a:xfrm>
            <a:off x="4452840" y="2838600"/>
            <a:ext cx="1800" cy="85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6" name=""/>
          <p:cNvSpPr/>
          <p:nvPr/>
        </p:nvSpPr>
        <p:spPr>
          <a:xfrm>
            <a:off x="4452840" y="3198960"/>
            <a:ext cx="1800" cy="85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7" name=""/>
          <p:cNvSpPr/>
          <p:nvPr/>
        </p:nvSpPr>
        <p:spPr>
          <a:xfrm>
            <a:off x="4452840" y="3559320"/>
            <a:ext cx="1800" cy="85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8" name=""/>
          <p:cNvSpPr/>
          <p:nvPr/>
        </p:nvSpPr>
        <p:spPr>
          <a:xfrm>
            <a:off x="4452840" y="3919680"/>
            <a:ext cx="1800" cy="85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9" name=""/>
          <p:cNvSpPr/>
          <p:nvPr/>
        </p:nvSpPr>
        <p:spPr>
          <a:xfrm>
            <a:off x="4452840" y="4278240"/>
            <a:ext cx="1800" cy="87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0" name=""/>
          <p:cNvSpPr/>
          <p:nvPr/>
        </p:nvSpPr>
        <p:spPr>
          <a:xfrm>
            <a:off x="4751280" y="5732640"/>
            <a:ext cx="1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1" name=""/>
          <p:cNvSpPr/>
          <p:nvPr/>
        </p:nvSpPr>
        <p:spPr>
          <a:xfrm>
            <a:off x="4751280" y="5732640"/>
            <a:ext cx="1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2" name=""/>
          <p:cNvSpPr/>
          <p:nvPr/>
        </p:nvSpPr>
        <p:spPr>
          <a:xfrm>
            <a:off x="4751280" y="5732640"/>
            <a:ext cx="1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3" name=""/>
          <p:cNvSpPr/>
          <p:nvPr/>
        </p:nvSpPr>
        <p:spPr>
          <a:xfrm>
            <a:off x="4427640" y="4653000"/>
            <a:ext cx="144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4" name=""/>
          <p:cNvSpPr/>
          <p:nvPr/>
        </p:nvSpPr>
        <p:spPr>
          <a:xfrm>
            <a:off x="4751280" y="5084640"/>
            <a:ext cx="18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4941720"/>
            <a:ext cx="1440" cy="142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5589720"/>
            <a:ext cx="1440" cy="142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79640" y="3423960"/>
            <a:ext cx="1152360" cy="6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8" name=""/>
          <p:cNvSpPr/>
          <p:nvPr/>
        </p:nvSpPr>
        <p:spPr>
          <a:xfrm>
            <a:off x="5775480" y="2341440"/>
            <a:ext cx="741240" cy="79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9" name=""/>
          <p:cNvSpPr/>
          <p:nvPr/>
        </p:nvSpPr>
        <p:spPr>
          <a:xfrm>
            <a:off x="5775480" y="3422520"/>
            <a:ext cx="246852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-252360" y="765000"/>
            <a:ext cx="73198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DejaVu Sans"/>
              </a:rPr>
              <a:t>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DejaVu Sans"/>
              </a:rPr>
              <a:t>Готовим 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DejaVu Sans"/>
              </a:rPr>
              <a:t>«натуральное» желе из апельсинов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1844640"/>
            <a:ext cx="396072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  <a:ea typeface="DejaVu Sans"/>
              </a:rPr>
              <a:t>Ингредиенты: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  <a:ea typeface="DejaVu Sans"/>
              </a:rPr>
              <a:t>Желатин  — 20 грамм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  <a:ea typeface="DejaVu Sans"/>
              </a:rPr>
              <a:t>Сахар  — 200 грамм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  <a:ea typeface="DejaVu Sans"/>
              </a:rPr>
              <a:t>Апельсины  — 3 штук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3929040" cy="3214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572000" y="3357720"/>
            <a:ext cx="421488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572000" y="-11880"/>
            <a:ext cx="4572000" cy="66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6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1. Кипяченой холодной водой (200 мл) заливаем желатин и оставляем на время, которое написано на упаковке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2. Возьмем какую-нибудь посуду и выжмем туда сок из апельсинов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3. Теперь берем апельсиновые корки и крупно их нарезаем. Положим апельсиновые корки в кастрюлю и зальем водой (один литр). Доводим до кипения и минут десять проварим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4. Затем процедим и охладим примерно до температуры сорок-пятьдесят градусов. Теперь добавляем сахар и набухший желатин. Доводим до кипения (не кипятим)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5. Вливаем сюда выжатый апельсиновый сок. Убираем кастрюлю с огня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6. Теперь разливаем по креманкам или по формочкам. Часов на пять-шесть убираем в холодильник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268360" y="3357720"/>
            <a:ext cx="2232360" cy="1787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0" y="2190600"/>
            <a:ext cx="2268360" cy="1816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2268360" y="923760"/>
            <a:ext cx="2303640" cy="1843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340000" cy="1871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1835280" y="5145120"/>
            <a:ext cx="228096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195640" y="189000"/>
            <a:ext cx="4733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DejaVu Sans"/>
              </a:rPr>
              <a:t>Выводы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DejaVu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8" name=""/>
          <p:cNvSpPr/>
          <p:nvPr/>
        </p:nvSpPr>
        <p:spPr>
          <a:xfrm>
            <a:off x="1403280" y="907920"/>
            <a:ext cx="7329600" cy="43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2e39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917"/>
                </a:solidFill>
                <a:latin typeface="Times New Roman"/>
                <a:ea typeface="Times New Roman"/>
              </a:rPr>
              <a:t>Польза желе зависит от того, из чего оно сделано, какие фрукты брали для его приготовления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2e39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917"/>
                </a:solidFill>
                <a:latin typeface="Times New Roman"/>
                <a:ea typeface="Times New Roman"/>
              </a:rPr>
              <a:t>Желатин, пектин и агар-агар обладают разными свойствами, но, самое главное, что они все полезны для детского здоровья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2e39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917"/>
                </a:solidFill>
                <a:latin typeface="Times New Roman"/>
                <a:ea typeface="Times New Roman"/>
              </a:rPr>
              <a:t>Чем меньше сахара в желе, тем лучше!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2e39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917"/>
                </a:solidFill>
                <a:latin typeface="Times New Roman"/>
                <a:ea typeface="Times New Roman"/>
              </a:rPr>
              <a:t>Лучше не покупать желе в магазине, потому что оно содержит много искусственных добавок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2e39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917"/>
                </a:solidFill>
                <a:latin typeface="Times New Roman"/>
                <a:ea typeface="Times New Roman"/>
              </a:rPr>
              <a:t>Кислые фрукты и ягоды подходят для приготовления натурального желе. Его можно хранить очень долго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2e39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917"/>
                </a:solidFill>
                <a:latin typeface="Times New Roman"/>
                <a:ea typeface="Times New Roman"/>
              </a:rPr>
              <a:t>Для приготовления домашнего желе используются только полезные продукты. Все самое лучшее, вкусное и полезное готовится своими руками!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835280" y="334800"/>
            <a:ext cx="6991200" cy="2322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564000" y="2924280"/>
            <a:ext cx="3744720" cy="29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43080" y="928800"/>
            <a:ext cx="46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DejaVu Sans"/>
              </a:rPr>
              <a:t>Цель исследования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DejaVu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484280"/>
            <a:ext cx="624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  <a:ea typeface="DejaVu Sans"/>
              </a:rPr>
              <a:t>Узнать о полезных свойствах желе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2357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DejaVu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70480" y="2724120"/>
            <a:ext cx="3309840" cy="31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00720" y="907920"/>
            <a:ext cx="3044880" cy="2035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141960" y="4508640"/>
            <a:ext cx="3002040" cy="2104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1143000"/>
            <a:ext cx="732924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4f622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  <a:ea typeface="Arial"/>
              </a:rPr>
              <a:t>собрать  сведения о желе;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2" marL="1143000" indent="-22860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4f622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  <a:ea typeface="Calibri"/>
              </a:rPr>
              <a:t>Узнать о полезных свойствах желе;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2" marL="1143000" indent="-22860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4f622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  <a:ea typeface="Arial"/>
              </a:rPr>
              <a:t>научиться готовить полезное желе  дома;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2" marL="1143000" indent="-22860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4f622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  <a:ea typeface="Arial"/>
              </a:rPr>
              <a:t>проанализировать полученные результаты и сделать выводы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"/>
          <p:cNvSpPr/>
          <p:nvPr/>
        </p:nvSpPr>
        <p:spPr>
          <a:xfrm>
            <a:off x="1547640" y="142920"/>
            <a:ext cx="67104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DejaVu Sans"/>
              </a:rPr>
              <a:t>Задачи исследования: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3571920"/>
            <a:ext cx="423576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4321"/>
                </a:solidFill>
                <a:latin typeface="Arial"/>
                <a:ea typeface="DejaVu Sans"/>
              </a:rPr>
              <a:t>Объект исследования: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DejaVu Sans"/>
              </a:rPr>
              <a:t> </a:t>
            </a:r>
            <a:r>
              <a:rPr b="1" lang="ru-RU" sz="2400" spc="-1" strike="noStrike">
                <a:solidFill>
                  <a:srgbClr val="666633"/>
                </a:solidFill>
                <a:latin typeface="Arial"/>
                <a:ea typeface="DejaVu Sans"/>
              </a:rPr>
              <a:t>желе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DejaVu Sans"/>
              </a:rPr>
              <a:t>Предмет</a:t>
            </a:r>
            <a:r>
              <a:rPr b="1" lang="ru-RU" sz="2400" spc="-1" strike="noStrike">
                <a:solidFill>
                  <a:srgbClr val="666633"/>
                </a:solidFill>
                <a:latin typeface="Arial"/>
                <a:ea typeface="DejaVu Sans"/>
              </a:rPr>
              <a:t>- полезные свойства желе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31240" y="928800"/>
            <a:ext cx="20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DejaVu Sans"/>
              </a:rPr>
              <a:t>Проблема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484280"/>
            <a:ext cx="596124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f6228"/>
                </a:solidFill>
                <a:latin typeface="Calibri"/>
                <a:ea typeface="DejaVu Sans"/>
              </a:rPr>
              <a:t>Я очень люблю сладости. Шоколад, конфеты, печенье… Как же это все вкусно! Но мне говорят, что сладкое вредно для моего здоровья. 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6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3933720"/>
            <a:ext cx="4537080" cy="25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DejaVu San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DejaVu Sans"/>
              </a:rPr>
              <a:t>Гипотеза: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  <a:ea typeface="DejaVu Sans"/>
              </a:rPr>
              <a:t>Желе полезнее для детского здоровья, чем различные сладости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78520" y="3713040"/>
            <a:ext cx="360180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357800" cy="3000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4429080" cy="3000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3071880"/>
            <a:ext cx="4643280" cy="3786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643280" y="3071880"/>
            <a:ext cx="428652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20960" y="476280"/>
            <a:ext cx="34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DejaVu Sans"/>
              </a:rPr>
              <a:t>Изучая литературу 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DejaVu Sans"/>
              </a:rPr>
              <a:t>интернет я узнал: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"/>
          <p:cNvSpPr/>
          <p:nvPr/>
        </p:nvSpPr>
        <p:spPr>
          <a:xfrm>
            <a:off x="135000" y="1130400"/>
            <a:ext cx="303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DejaVu Sans"/>
              </a:rPr>
              <a:t>Желе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 — </a:t>
            </a:r>
            <a:r>
              <a:rPr b="1" lang="ru-RU" sz="2200" spc="-1" strike="noStrike">
                <a:solidFill>
                  <a:srgbClr val="4f6228"/>
                </a:solidFill>
                <a:latin typeface="Calibri"/>
                <a:ea typeface="DejaVu Sans"/>
              </a:rPr>
              <a:t>это десертное блюдо из фруктовых или ягодных соков и сахара, которое готовят с помощью специальных веществ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68360" y="4149720"/>
            <a:ext cx="1711440" cy="1839960"/>
            <a:chOff x="468360" y="4149720"/>
            <a:chExt cx="1711440" cy="1839960"/>
          </a:xfrm>
        </p:grpSpPr>
        <p:grpSp>
          <p:nvGrpSpPr>
            <p:cNvPr id="81" name=""/>
            <p:cNvGrpSpPr/>
            <p:nvPr/>
          </p:nvGrpSpPr>
          <p:grpSpPr>
            <a:xfrm>
              <a:off x="468360" y="4335480"/>
              <a:ext cx="1711440" cy="1654200"/>
              <a:chOff x="468360" y="4335480"/>
              <a:chExt cx="1711440" cy="1654200"/>
            </a:xfrm>
          </p:grpSpPr>
          <p:pic>
            <p:nvPicPr>
              <p:cNvPr id="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4335480"/>
                <a:ext cx="1711440" cy="161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09800" y="5451480"/>
                <a:ext cx="1170000" cy="53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" name=""/>
            <p:cNvSpPr/>
            <p:nvPr/>
          </p:nvSpPr>
          <p:spPr>
            <a:xfrm>
              <a:off x="582480" y="4149720"/>
              <a:ext cx="15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  <a:ea typeface="DejaVu Sans"/>
                </a:rPr>
                <a:t>Желатин</a:t>
              </a:r>
              <a:endParaRPr b="0" lang="en-US" sz="2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419640" y="4365720"/>
            <a:ext cx="2521080" cy="2419560"/>
            <a:chOff x="3419640" y="4365720"/>
            <a:chExt cx="2521080" cy="2419560"/>
          </a:xfrm>
        </p:grpSpPr>
        <p:grpSp>
          <p:nvGrpSpPr>
            <p:cNvPr id="86" name=""/>
            <p:cNvGrpSpPr/>
            <p:nvPr/>
          </p:nvGrpSpPr>
          <p:grpSpPr>
            <a:xfrm>
              <a:off x="3419640" y="4640400"/>
              <a:ext cx="2521080" cy="2144880"/>
              <a:chOff x="3419640" y="4640400"/>
              <a:chExt cx="2521080" cy="2144880"/>
            </a:xfrm>
          </p:grpSpPr>
          <p:pic>
            <p:nvPicPr>
              <p:cNvPr id="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419640" y="4640400"/>
                <a:ext cx="1865160" cy="158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5"/>
              <a:stretch/>
            </p:blipFill>
            <p:spPr>
              <a:xfrm rot="1860000">
                <a:off x="4405680" y="5045760"/>
                <a:ext cx="1227960" cy="1532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9" name=""/>
            <p:cNvSpPr/>
            <p:nvPr/>
          </p:nvSpPr>
          <p:spPr>
            <a:xfrm>
              <a:off x="3554280" y="4365720"/>
              <a:ext cx="162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  <a:ea typeface="DejaVu Sans"/>
                </a:rPr>
                <a:t>Агар-агар</a:t>
              </a:r>
              <a:endParaRPr b="0" lang="en-US" sz="2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580000" y="4437000"/>
            <a:ext cx="2441520" cy="1951200"/>
            <a:chOff x="5580000" y="4437000"/>
            <a:chExt cx="2441520" cy="1951200"/>
          </a:xfrm>
        </p:grpSpPr>
        <p:grpSp>
          <p:nvGrpSpPr>
            <p:cNvPr id="91" name=""/>
            <p:cNvGrpSpPr/>
            <p:nvPr/>
          </p:nvGrpSpPr>
          <p:grpSpPr>
            <a:xfrm>
              <a:off x="5580000" y="4664160"/>
              <a:ext cx="2441520" cy="1724040"/>
              <a:chOff x="5580000" y="4664160"/>
              <a:chExt cx="2441520" cy="1724040"/>
            </a:xfrm>
          </p:grpSpPr>
          <p:pic>
            <p:nvPicPr>
              <p:cNvPr id="9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80000" y="4664160"/>
                <a:ext cx="1787760" cy="172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767640" y="5313240"/>
                <a:ext cx="1253880" cy="107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4" name=""/>
            <p:cNvSpPr/>
            <p:nvPr/>
          </p:nvSpPr>
          <p:spPr>
            <a:xfrm>
              <a:off x="5715000" y="4437000"/>
              <a:ext cx="16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  <a:ea typeface="DejaVu Sans"/>
                </a:rPr>
                <a:t>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Calibri"/>
                  <a:ea typeface="DejaVu Sans"/>
                </a:rPr>
                <a:t>Пектин</a:t>
              </a:r>
              <a:endParaRPr b="0" lang="en-US" sz="2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5950080"/>
            <a:ext cx="316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917"/>
                </a:solidFill>
                <a:latin typeface="Calibri"/>
                <a:ea typeface="DejaVu Sans"/>
              </a:rPr>
              <a:t>Продукт из костей, шкур и других частей животных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"/>
          <p:cNvSpPr/>
          <p:nvPr/>
        </p:nvSpPr>
        <p:spPr>
          <a:xfrm>
            <a:off x="3492360" y="6156360"/>
            <a:ext cx="193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917"/>
                </a:solidFill>
                <a:latin typeface="Calibri"/>
                <a:ea typeface="DejaVu Sans"/>
              </a:rPr>
              <a:t>Продукт из водорослей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646128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917"/>
                </a:solidFill>
                <a:latin typeface="Calibri"/>
                <a:ea typeface="DejaVu Sans"/>
              </a:rPr>
              <a:t>Продукт из фруктов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386064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DejaVu Sans"/>
              </a:rPr>
              <a:t>Такие вещества бывают </a:t>
            </a:r>
            <a:r>
              <a:rPr b="1" lang="ru-RU" sz="2400" spc="-1" strike="noStrike">
                <a:solidFill>
                  <a:srgbClr val="4f6228"/>
                </a:solidFill>
                <a:latin typeface="Calibri"/>
                <a:ea typeface="DejaVu Sans"/>
              </a:rPr>
              <a:t>трех видов: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9" name=""/>
          <p:cNvSpPr/>
          <p:nvPr/>
        </p:nvSpPr>
        <p:spPr>
          <a:xfrm>
            <a:off x="3203640" y="1628640"/>
            <a:ext cx="56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Желе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— это блестящая, прозрачная, студнеобразная масса, легко разрезаемая и сохраняющая форму (в твердом состоянии)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2852640"/>
            <a:ext cx="56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Готовят желе разного цвета, вкуса, аромата, используют для украшения или глазирования поверхност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63640" y="765000"/>
            <a:ext cx="47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DejaVu Sans"/>
              </a:rPr>
              <a:t>История появления желе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9480" y="2494080"/>
            <a:ext cx="3456000" cy="2224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9640" y="479736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"/>
                <a:ea typeface="DejaVu Sans"/>
              </a:rPr>
              <a:t>молочного цвета, похожий на клей. Делали его из рыбьих воздушных пузырей.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1628640"/>
            <a:ext cx="35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"/>
                <a:ea typeface="DejaVu Sans"/>
              </a:rPr>
              <a:t>В старинных рукописях упоминается продукт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"/>
          <p:cNvSpPr/>
          <p:nvPr/>
        </p:nvSpPr>
        <p:spPr>
          <a:xfrm>
            <a:off x="5724360" y="1700280"/>
            <a:ext cx="152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"/>
                <a:ea typeface="DejaVu Sans"/>
              </a:rPr>
              <a:t>В XIX веке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151600" y="2352600"/>
            <a:ext cx="2869920" cy="2086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11640" y="45086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"/>
                <a:ea typeface="DejaVu Sans"/>
              </a:rPr>
              <a:t>Американский инженер Питер Купер разработал получение желатина из отходов мясного производства, но так и не понял как использовать этот порошо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"/>
          <p:cNvSpPr/>
          <p:nvPr/>
        </p:nvSpPr>
        <p:spPr>
          <a:xfrm>
            <a:off x="3898080" y="324648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Arial"/>
                <a:ea typeface="DejaVu Sans"/>
              </a:rPr>
              <a:t>В XIX веке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4356000" y="3141720"/>
            <a:ext cx="1496160" cy="1621800"/>
            <a:chOff x="4356000" y="3141720"/>
            <a:chExt cx="1496160" cy="162180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4889880" y="3141720"/>
              <a:ext cx="648000" cy="85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 rot="19740000">
              <a:off x="4536000" y="3939480"/>
              <a:ext cx="1269000" cy="53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4356000" y="3404160"/>
              <a:ext cx="881640" cy="107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211640" y="5157720"/>
            <a:ext cx="1512720" cy="1041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4500720" y="1700280"/>
            <a:ext cx="1069920" cy="907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122480" y="752400"/>
            <a:ext cx="64101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  <a:ea typeface="DejaVu Sans"/>
              </a:rPr>
              <a:t>В чем же польза и вред желе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197000"/>
            <a:ext cx="36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3917"/>
                </a:solidFill>
                <a:latin typeface="Calibri"/>
                <a:ea typeface="DejaVu Sans"/>
              </a:rPr>
              <a:t>Польза желе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3" name=""/>
          <p:cNvSpPr/>
          <p:nvPr/>
        </p:nvSpPr>
        <p:spPr>
          <a:xfrm>
            <a:off x="5435640" y="1413000"/>
            <a:ext cx="270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e3917"/>
                </a:solidFill>
                <a:latin typeface="Calibri"/>
                <a:ea typeface="DejaVu Sans"/>
              </a:rPr>
              <a:t>Вред желе: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"/>
          <p:cNvSpPr/>
          <p:nvPr/>
        </p:nvSpPr>
        <p:spPr>
          <a:xfrm>
            <a:off x="5487840" y="2060640"/>
            <a:ext cx="3656160" cy="37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  <a:ea typeface="DejaVu Sans"/>
              </a:rPr>
              <a:t>Желе содержит сахар, поэтому, если есть его много, будет вредным при лишнем  весе и болезнях зубов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  <a:ea typeface="DejaVu Sans"/>
              </a:rPr>
              <a:t>Желе, купленное в магазине, содержит вредные для здоровья красители и ароматизаторы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"/>
          <p:cNvSpPr/>
          <p:nvPr/>
        </p:nvSpPr>
        <p:spPr>
          <a:xfrm>
            <a:off x="-34920" y="1784520"/>
            <a:ext cx="431964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Calibri"/>
                <a:ea typeface="DejaVu Sans"/>
              </a:rPr>
              <a:t>В желе много витаминов и минералов!</a:t>
            </a:r>
            <a:r>
              <a:rPr b="0" lang="ru-RU" sz="2000" spc="-1" strike="noStrike">
                <a:solidFill>
                  <a:srgbClr val="4f6228"/>
                </a:solidFill>
                <a:latin typeface="Calibri"/>
                <a:ea typeface="DejaVu Sans"/>
              </a:rPr>
              <a:t> </a:t>
            </a:r>
            <a:r>
              <a:rPr b="1" lang="ru-RU" sz="2000" spc="-1" strike="noStrike">
                <a:solidFill>
                  <a:srgbClr val="4f6228"/>
                </a:solidFill>
                <a:latin typeface="Calibri"/>
                <a:ea typeface="DejaVu Sans"/>
              </a:rPr>
              <a:t>Оно способствует повышению умственной деятельности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DejaVu Sans"/>
              </a:rPr>
              <a:t>Желе из желатина </a:t>
            </a:r>
            <a:r>
              <a:rPr b="1" lang="ru-RU" sz="2000" spc="-1" strike="noStrike">
                <a:solidFill>
                  <a:srgbClr val="4f6228"/>
                </a:solidFill>
                <a:latin typeface="Calibri"/>
                <a:ea typeface="DejaVu Sans"/>
              </a:rPr>
              <a:t>полезно для мозга, нервной системы и мышц.  Укрепляет кости и зубы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DejaVu Sans"/>
              </a:rPr>
              <a:t>Желе из агар-агара </a:t>
            </a:r>
            <a:r>
              <a:rPr b="1" lang="ru-RU" sz="2000" spc="-1" strike="noStrike">
                <a:solidFill>
                  <a:srgbClr val="4f6228"/>
                </a:solidFill>
                <a:latin typeface="Calibri"/>
                <a:ea typeface="DejaVu Sans"/>
              </a:rPr>
              <a:t>и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DejaVu Sans"/>
              </a:rPr>
              <a:t> пектина </a:t>
            </a:r>
            <a:r>
              <a:rPr b="1" lang="ru-RU" sz="2000" spc="-1" strike="noStrike">
                <a:solidFill>
                  <a:srgbClr val="4f6228"/>
                </a:solidFill>
                <a:latin typeface="Calibri"/>
                <a:ea typeface="DejaVu Sans"/>
              </a:rPr>
              <a:t>может избавить организм от вредных веществ! Нормализует работу печени и почек. Богато полезными элементами. Улучшает работу кишечника.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  <a:ea typeface="DejaVu San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096920" cy="17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42920" y="550800"/>
            <a:ext cx="76359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DejaVu Sans"/>
              </a:rPr>
              <a:t>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DejaVu Sans"/>
              </a:rPr>
              <a:t>Проверяем желе из магазин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"/>
                <a:ea typeface="DejaVu Sans"/>
              </a:rPr>
              <a:t>Растворил несколько ложек желе в стакане горячей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"/>
                <a:ea typeface="DejaVu Sans"/>
              </a:rPr>
              <a:t>воды и положили в жидкость яйцо. Наблюдал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1" name=""/>
          <p:cNvSpPr/>
          <p:nvPr/>
        </p:nvSpPr>
        <p:spPr>
          <a:xfrm>
            <a:off x="403200" y="5261040"/>
            <a:ext cx="824544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"/>
                <a:ea typeface="DejaVu Sans"/>
              </a:rPr>
              <a:t>Результат:  яйцо окрасилось в ядовито-розовый цвет, значит в этом желе много красителя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DejaVu Sans"/>
              </a:rPr>
              <a:t>Вывод: желе лучше не покупать в магазине, а готовить дома, из натуральных продуктов!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5080" y="2567160"/>
            <a:ext cx="3468600" cy="2760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rot="420000">
            <a:off x="5074200" y="1987200"/>
            <a:ext cx="29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alibri"/>
                <a:ea typeface="DejaVu Sans"/>
              </a:rPr>
              <a:t>Через 4 часа яйцо достал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72000" y="2494080"/>
            <a:ext cx="1001880" cy="1022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071720" y="2000160"/>
            <a:ext cx="30715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4T16:21:33Z</dcterms:created>
  <dc:creator>Алексей</dc:creator>
  <dc:description/>
  <dc:language>en-US</dc:language>
  <cp:lastModifiedBy>Ирина</cp:lastModifiedBy>
  <dcterms:modified xsi:type="dcterms:W3CDTF">2021-02-23T11:21:21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