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772-E2DD-40D2-9E5E-CD637F3F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1F20-319E-4BB4-BE8C-B447D354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2FA-E7AD-47FF-B659-44573B08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98B-02AC-489A-9EA8-FAA30F70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A916-E774-4F80-9154-C7B13DB1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CB3C-2A51-48CC-9842-E31E7A19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36D9-9795-41EA-8167-44EEB894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4E36-3C7D-41E6-81A7-F556BA94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4746-F1F7-489D-BED1-CD359700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6265-CB77-495E-8724-A85B0092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6118-847D-4DC0-9A1B-F814EF39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533-7F57-4C85-8828-35E50C33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1217-8ADD-43E2-9ACC-67B1BEAA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3EC5-32FF-4413-9D50-1C8414F5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5C27-7A9C-41E6-B737-E3FD6993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B54F-5459-4FF7-BF99-D96C7930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54A5-1A7C-454B-9B04-15B515EB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CD574-7FE9-4BC2-AC99-15757C6C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7CED0-C7FA-46B7-9A61-F7F27534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07889-91DF-41EC-9780-BDBADBDC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C7E53-9EC5-49B5-84A6-11D88476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647F1-3FCC-44EF-94F2-F96EE982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8D67-9403-4727-A4E5-072EB85C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AE5D5-84FA-42B1-88EF-921CBCB0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D9E09-DD7F-46F9-AEDF-EA49E7F7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2F487-D442-4BB8-901F-D28A28CC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0D9E1-A114-4A0D-93D2-CBACD3CB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5B4DC-B96A-4474-8684-62E9346C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33AD8-9636-4DBA-ACB3-20F981C3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E2B51-A46B-4EB6-B87B-8CA28059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6FDF0-11D2-4A24-B3F6-9A820A2C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20284-A27C-49F5-BDA3-3F33D645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086C4-C08C-4AE5-A4CC-3E00A418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2FE1-9B1B-49E5-BBD7-45344B79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51477-4122-4AC9-9E11-99C664C6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8F04B-CD9B-4F12-AF45-08883099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82AA1-A274-4B32-8F51-9ADF9F83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EE6B9-FE25-4BED-B9E8-4C7492D2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EB209-DC75-49E6-883D-F8BF9FBC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5C0D5-5AAA-4E07-898B-CCD3D1D9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D8618-FC09-4074-B8CB-D0557E24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18A39-D6E6-4D84-AA43-F43941D4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50B01-36DC-498C-A608-1B37B2E5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F626-BB66-4075-A53E-EC90E072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CFF-4C25-49BC-8C19-45037A07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2F3E-8615-486B-855C-E8FDAA22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362-9004-4B09-86EC-8ACF5299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1ED-5084-4152-ACE6-146B89C7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0A9D-C4D2-49C5-8C14-3F5C1F9612E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3193-2500-4022-A1B4-2B55604B227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BD82-0470-46D7-AA28-AB7FDFF903E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6C3C-D2A8-44C4-B107-4973FCE2930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23" descr="зима3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4" descr=""/>
          <p:cNvPicPr/>
          <p:nvPr/>
        </p:nvPicPr>
        <p:blipFill>
          <a:blip r:embed="rId2"/>
          <a:stretch/>
        </p:blipFill>
        <p:spPr>
          <a:xfrm>
            <a:off x="622440" y="865080"/>
            <a:ext cx="73990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"Составь шифр".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Определите, слитно или раздельно пишется НЕ со следующими именами существительными. Если слитно, ставьте букву С. Если раздельно – букву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ждая (не) удача прибавляет ум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Не) силой борются, а умени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осеннее ( не) настье семь погод на двор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Не) работа сушит, а забо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Не) видимкою луна освещает снег летуч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Не ) друг, а вра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елом тебе, старый (не) вежа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3"/>
          <p:cNvSpPr/>
          <p:nvPr/>
        </p:nvSpPr>
        <p:spPr>
          <a:xfrm>
            <a:off x="611280" y="1484280"/>
            <a:ext cx="7848360" cy="52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неудача прибавляет у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илой борются, а ум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еннее ненастье семь погод на дв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бота сушит, а з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идимкою луна освещает снег летуч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руг, а вр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ом тебе, старый невеж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срср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ите итоги урок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Мне удалось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Мне понравилось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Я могу похвалить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себя за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Мне было трудно</a:t>
            </a: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2" descr="C:\Users\Танечка\AppData\Local\Microsoft\Windows\Temporary Internet Files\Content.IE5\BBE36DU3\MC900440428[1].wmf"/>
          <p:cNvPicPr/>
          <p:nvPr/>
        </p:nvPicPr>
        <p:blipFill>
          <a:blip r:embed="rId1"/>
          <a:stretch/>
        </p:blipFill>
        <p:spPr>
          <a:xfrm>
            <a:off x="4716360" y="2708280"/>
            <a:ext cx="44276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9" descr="CABINSNW"/>
          <p:cNvPicPr/>
          <p:nvPr/>
        </p:nvPicPr>
        <p:blipFill>
          <a:blip r:embed="rId1"/>
          <a:stretch/>
        </p:blipFill>
        <p:spPr>
          <a:xfrm>
            <a:off x="0" y="-160200"/>
            <a:ext cx="9144000" cy="70182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4"/>
          <p:cNvSpPr/>
          <p:nvPr/>
        </p:nvSpPr>
        <p:spPr>
          <a:xfrm>
            <a:off x="2627280" y="549360"/>
            <a:ext cx="3525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 РАБОТУ  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урока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ение и обобщени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ного об имени существительном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Рисунок 5" descr=""/>
          <p:cNvPicPr/>
          <p:nvPr/>
        </p:nvPicPr>
        <p:blipFill>
          <a:blip r:embed="rId1"/>
          <a:stretch/>
        </p:blipFill>
        <p:spPr>
          <a:xfrm>
            <a:off x="5796000" y="2801880"/>
            <a:ext cx="295272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 урок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1) систематизировать знания об имени существительном как части реч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2) продолжить развивать навыки правильного написания имен существительных, развитие орфографической зоркост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3) воспитывать познавательную активность, любовь к русскому язык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борочный диктан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орогой друг! Прости, не знаю твоего имени. Задумывался ли ты над вопросом: почему у отличников на все хватает времени? И по ботанике заняться изучением семени пшеницы, и в конно-спортивной секции покачаться в стремени. То ли они из другого племени? Говорят, что все дело в каком-то особом духовном пламен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я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 (розовая птичка) – выписать разносклоняемые существительные и указать их падеж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3 группы (желтая и оранжевая птички)–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сать разносклоняемые существительн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орогой друг! Прости, не знаю твоего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имени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 Задумывался ли ты над вопросом: почему у отличников на все хватает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времени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? И по ботанике заняться изучением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семени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пшеницы, и в конно-спортивной секции покачаться в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стремени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 То ли они из другого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племени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? Говорят, что все дело в каком-то особом духовном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пламени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равь ошибки!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9280" y="907920"/>
            <a:ext cx="814716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-то рано поутр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ругом сели мы в метр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ехали в метр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ьм смотреть о кенгуре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сидим мы с ним в кин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пальта и без кашне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ернее – я и ты без кашна и без паль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 группа (розовая птичка) – выписывает словосочетания с несклоняемыми существительными, исправив ошибк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, 3 группы (желтая и оранжевая птички)– выписывают несклоняемые существительные, исправляя ошибк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755640" y="1989000"/>
            <a:ext cx="734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-то рано поут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ругом сели мы в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ро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ехали в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ьм смотреть о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енгуру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сидим мы с ним в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то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без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шне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ернее – я и ты без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шне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без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то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ществительные с суффиксами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ек,- ик; -чик, -щик.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886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Фонар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щ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ик, перебеж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ч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ик, горош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ирпич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диванч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анцовщ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разведч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резч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ореш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нос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мяч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кусоч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сыноч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дружоч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сварщ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грузч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7T15:04:41Z</dcterms:created>
  <dc:creator>Анна</dc:creator>
  <dc:description/>
  <dc:language>en-US</dc:language>
  <cp:lastModifiedBy>smagd</cp:lastModifiedBy>
  <dcterms:modified xsi:type="dcterms:W3CDTF">2023-02-08T19:50:23Z</dcterms:modified>
  <cp:revision>54</cp:revision>
  <dc:subject/>
  <dc:title>Слайд 1</dc:title>
</cp:coreProperties>
</file>