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CAA-ACEE-4D94-ACBE-90BF4FF1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5A7-DAEB-4BCF-9DB0-CDFEAC56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340-082D-41C0-A45C-DB401162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0BF-9119-443F-92F5-5CE349B2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BAEC-FB23-449F-A6FC-FA134EF2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3D81-9E58-40A9-B206-2679A2B3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6718-DE7B-4A33-8125-9EC68679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2386-F66E-4A44-A135-14C3BF2E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F771-3AFC-41E1-A3C4-FC2060B5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56F3-920A-42D0-9A7B-C5BC495B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4193-3603-4FE1-9D14-C3AB08D3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120-5048-47D1-BCBE-6EEA2C06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A341-8C0C-435D-9631-D73D04E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54EC-E359-4B1F-B0B8-6E07945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0A0C-AC8D-4106-BADF-28FABEF5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40C6-15C4-499E-BBB7-5289B0E9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EE29-F3B1-4018-959E-C5BB4E2F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FF7B-1A9B-47E5-AB4C-6C211114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97CC-C739-4546-9DDF-C2B97A1A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C80C-9039-46CE-88CD-F33EA148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2787-8B14-4CDE-AEA2-0CEC9BA4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B1C6-A0C3-4C66-A387-D68EB3AB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DA7-250D-43CC-BF89-A80ECD10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6865-6708-499C-9B16-D4A39EA0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5E4C-5E20-47D9-9E38-5E7B8758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EE96-AB04-4E35-A288-9C8B446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C758-3256-40E2-BC1D-1283EE99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4B53-3370-454C-A970-97650C70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051B-55EE-4EF6-BD7E-D466B7AF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C13B-4B7E-4F70-B26C-5766B9F4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7DF4-01A4-4D6A-875E-356C5D7D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9CA3C-0ED2-41B3-B448-0990440C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5CF8F-9688-4A69-BD97-0A96F983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C48-F086-41E0-A5C5-6602543D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9B628-6118-46F4-B1EC-FF426E04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D797-1C43-4725-B2EB-958FA41E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D1FC-350F-45DD-B94A-21A213AA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305E-EECC-4F39-9092-0E53879F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EC9EA-00B0-4886-A342-0A7219D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054D7-7BC8-4D69-8079-A0E0B243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3FCD-56E1-479F-BFAD-CF6E650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0849A-2AD8-43B8-B305-464D7765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3BB1-E7A3-4817-95B3-BD80BB5E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387-9D4E-49E2-9B3E-C6C96060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013-981C-4FCE-99BB-2534B1F9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1BC-30A5-4A6D-978F-AF052E0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534-BD7F-425A-B50D-0601A8F1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EEE-AAA8-4587-AC11-2190FAAE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0A1B-2711-455B-AAB9-9D1F460F8F4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EACD-FAF1-49D0-8E26-E0F0E6E8109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C122-AFFC-48C6-8297-0DE4F691980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3010-9CE2-4129-8D6C-A52C613B50E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23" descr="зима3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4" descr=""/>
          <p:cNvPicPr/>
          <p:nvPr/>
        </p:nvPicPr>
        <p:blipFill>
          <a:blip r:embed="rId2"/>
          <a:stretch/>
        </p:blipFill>
        <p:spPr>
          <a:xfrm>
            <a:off x="622440" y="865080"/>
            <a:ext cx="73990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"Составь шифр".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ите, слитно или раздельно пишется НЕ со следующими именами существительными. Если слитно, ставьте букву С. Если раздельно – букву 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ждая (не) удача прибавляет у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е) силой борются, а ум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осеннее ( не) настье семь погод на двор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е) работа сушит, а забо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е) видимкою луна освещает снег летуч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е ) друг, а вра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елом тебе, старый (не) вежа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3"/>
          <p:cNvSpPr/>
          <p:nvPr/>
        </p:nvSpPr>
        <p:spPr>
          <a:xfrm>
            <a:off x="611280" y="1484280"/>
            <a:ext cx="784836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неудача прибавляет 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илой борются, а ум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еннее ненастье семь погод на дв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бота сушит, а з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идимкою луна освещает снег лету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руг, а вр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ом тебе, старый невеж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срср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те итоги урок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Мне удалось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Я могу похвалить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себя за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Мне было трудно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C:\Users\Танечка\AppData\Local\Microsoft\Windows\Temporary Internet Files\Content.IE5\BBE36DU3\MC900440428[1].wmf"/>
          <p:cNvPicPr/>
          <p:nvPr/>
        </p:nvPicPr>
        <p:blipFill>
          <a:blip r:embed="rId1"/>
          <a:stretch/>
        </p:blipFill>
        <p:spPr>
          <a:xfrm>
            <a:off x="4716360" y="2708280"/>
            <a:ext cx="44276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9" descr="CABINSNW"/>
          <p:cNvPicPr/>
          <p:nvPr/>
        </p:nvPicPr>
        <p:blipFill>
          <a:blip r:embed="rId1"/>
          <a:stretch/>
        </p:blipFill>
        <p:spPr>
          <a:xfrm>
            <a:off x="0" y="-16020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2627280" y="549360"/>
            <a:ext cx="3525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 РАБОТУ  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урок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и обобщени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ного об имени существительно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5" descr=""/>
          <p:cNvPicPr/>
          <p:nvPr/>
        </p:nvPicPr>
        <p:blipFill>
          <a:blip r:embed="rId1"/>
          <a:stretch/>
        </p:blipFill>
        <p:spPr>
          <a:xfrm>
            <a:off x="5796000" y="2801880"/>
            <a:ext cx="29527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 урок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1) систематизировать знания об имени существительном как части реч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) продолжить развивать навыки правильного написания имен существительных, развитие орфографической зорк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3) воспитывать познавательную активность, любовь к русскому язы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орочный диктан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орогой друг! Прости, не знаю твоего имени. Задумывался ли ты над вопросом: почему у отличников на все хватает времени? И по ботанике заняться изучением семени пшеницы, и в конно-спортивной секции покачаться в стремени. То ли они из другого племени? Говорят, что все дело в каком-то особом духовном пламен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(розовая птичка) – выписать разносклоняемые существительные и указать их падеж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3 группы (желтая и оранжевая птички)–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ать разносклоняемые суще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орогой друг! Прости, не знаю твоего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и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 Задумывался ли ты над вопросом: почему у отличников на все хватает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вре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? И по ботанике заняться изучением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се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пшеницы, и в конно-спортивной секции покачаться в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стре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 То ли они из другого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пле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? Говорят, что все дело в каком-то особом духовном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пламени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равь ошибки!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9280" y="907920"/>
            <a:ext cx="8147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 рано поутр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ом сели мы в мет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ехали в мет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м смотреть о кенгуре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идим мы с ним в ки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альта и без кашне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ернее – я и ты без кашна и без паль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 группа (розовая птичка) – выписывает словосочетания с несклоняемыми существительными, исправив ошиб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, 3 группы (желтая и оранжевая птички)– выписывают несклоняемые существительные, исправляя ошиб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755640" y="1989000"/>
            <a:ext cx="73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 рано поут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ом сели мы в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р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ехали в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м смотреть о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енгуру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идим мы с ним в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т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ез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шн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ернее – я и ты без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шн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ез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т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ительные с суффиксам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ек,- ик; -чик, -щик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Фонар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щ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к, перебеж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ч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к, горош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ирпи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диван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анцовщ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развед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рез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реш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нос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мя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кусо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сыно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дружо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сварщ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, грузч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5:04:41Z</dcterms:created>
  <dc:creator>Анна</dc:creator>
  <dc:description/>
  <dc:language>en-US</dc:language>
  <cp:lastModifiedBy>smagd</cp:lastModifiedBy>
  <dcterms:modified xsi:type="dcterms:W3CDTF">2023-02-08T19:50:23Z</dcterms:modified>
  <cp:revision>54</cp:revision>
  <dc:subject/>
  <dc:title>Слайд 1</dc:title>
</cp:coreProperties>
</file>