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48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146-993E-4C2E-8396-11C25230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BDC-F18E-42F0-BA3B-CE3AE476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AD5A2F-5E6A-4282-AF3F-CFFDA68A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8208E0-6C62-4C49-9276-92AC718C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507AC4-0134-4A46-BE4C-A37875ED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361806-ED14-4771-94B3-92C05E64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FC042B-157A-4521-8921-6D2CA645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719A28-DD0C-4BC1-9A76-8D37E325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DD9F99-95DA-42FB-BC7E-0E52F7F3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42463E-495B-48C5-9B62-EC620CBF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BC6A88-4B14-4457-943C-4AE5A2E6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B826-8A33-4CE3-AF6E-423B10F2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3CC-D365-48D6-99F5-1D9614FF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FDE2C-3D04-4201-9D73-E5D2299C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2A629-3D5A-431B-B297-BA2E60D2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E2D85-0A9D-4036-B1B1-5D8A7D32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F9665-92F3-4EBA-B697-DDFDCCF1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C7507-B48F-4498-B1E8-3619F57F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B838D-272A-456C-8AB0-22FD2228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3149C-A224-47D8-8EFD-617356EE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F8A-B1A6-400F-8D56-2A3629AC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8C45B-5372-4BDC-9322-D0E68983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19E3E-9421-48C2-B847-0D80F071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8042D-E051-433C-8308-E89FAB46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7B41C-9890-4D73-B0B2-CFDB2A79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7C7E2-C448-4FA2-ACB7-67B4725D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311C8-BEA8-47B2-93A1-6E0555A2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095F-1FEB-4066-A75E-5FE3C383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7E23E-DD99-482B-B9BA-D8DA18B0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B9A99-F374-4353-B6A9-A6BD94DF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D31A1-BC48-49C2-AA64-ED195A83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48D-8014-4964-9100-6FC552E6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CC03C-FDF0-4788-A73D-3D1E272B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F3158-EDB9-432A-BC6E-5ABD4987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CA835-8A21-4386-8D5B-7B3A82AD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84AF6-7D06-47E8-9CE9-33059EA7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CEB71-131A-49DB-8E2E-0432C1F9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59191-783F-4371-AF05-F7697DD1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1D891-9B98-4B0E-BB1B-7305A2C7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0AFC6-77A1-48BE-84E9-5DBD69DD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895598-65FD-4DF2-9CDF-A110D827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9247D-E4EA-49FB-99BB-6ADBBF48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8E2-DA75-4C1F-BD50-D9391C0C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414DC9-4D5F-4FB2-B584-ED9EBE41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A02CBC-6098-4F45-9D4A-25483C41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E00A3-EB40-4968-912F-39642A4B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8CF51F-C323-4C64-B65A-D62089A8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5D873-BEA0-4DF5-90AC-1913A922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BC006A-3E22-440A-9C20-3F63FDB2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08F81-78F0-41E8-A54F-408B38AB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9D9FA-0C11-4DB3-B093-C1C7A72B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017BD-1275-4033-983D-30A50978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0DE7D-77F8-4E54-A702-0940C657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D90-7A67-4A91-B20C-09213B98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EE89B-7082-4C79-8324-2A88D629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65A68-4553-4413-A9D3-39FFF2A0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9871D-3406-4A11-AF46-8BD6E8C2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7498C-EEF2-404D-8D73-74FB6CA7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7C619-5BC3-402A-BF1A-B4E1C5A2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7ECB6-34F1-4B4D-97A2-C09A81D6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BD83A-6A5D-4A63-B2EB-47AAA5AA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4FE66-A436-47BA-B7A5-B9DBCA83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D8D4A-A1D6-4ADE-9F02-C67B67CB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E2D7B-9E6B-4BDF-A6E1-E1DB8207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D1D-30D0-4D3A-B7A9-C9BE16E1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16F54-C8C3-41A5-B1C0-D750E804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4DCC1-08ED-44FF-803F-0817257C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DDA40-7FB8-485B-9135-FFAD43EC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47C80-C321-4696-BD23-1448C64C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7FF11-159C-42E5-9708-B07D3A34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01318-F112-494A-B7A5-03DCE9B6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33141-16F2-4EE5-91A3-86C1881C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3496F-EA77-4DE6-96A0-DDDC821D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76556-995D-4B73-AF2D-4C934DA4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591E6-71EC-436C-BD22-8BEADC51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2CC-AF56-4E71-9739-DC717AE3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DB7A9-5C5A-4B51-B409-779C78DE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A6B6C-5179-4711-9F54-1B4F7B92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C86A0-57F7-46FE-844E-DFBFA861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5B2DA-635B-4D13-A617-8B8C345D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AAB61-58C8-4125-ABD6-F6DB1F2D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D5672-A825-485C-96B1-4BF1C2FB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1785F-BC3C-4452-86BA-EA7B0DC0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DCFB5-38DC-485F-A02F-63D8E7E4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BBC2B-BECC-455E-A500-25608AC7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96348-B88C-48A4-80B9-7ACFDD24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83A-3930-4269-B907-C57731F8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496CD-1A94-419E-B722-E104008E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E625E-D351-42C8-B1B5-CC1D15F2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A52C5-AA26-43E4-9DD5-A0C05CDB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7BDAF-F63C-4F20-B24C-F9744F45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5BAB0-025B-4618-A5C6-0CFCDC67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4BA577-FE0C-4BBD-80D3-9BBA4F07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EA5C83-09B9-48C3-8849-61902963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24250C-CD5A-43A6-A752-15041462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02A72C-B4E2-41E9-9366-60CF87CE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D2CF19-205B-49BE-8061-A39513C3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76D-A8A1-47A9-AAAA-2EF4EC30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D24B11-CD18-427C-99BE-9F8378C7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B28C20-60A9-4E08-B2EE-5B3D7842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E102D2-F3BA-4432-A0B8-DCAE4EE6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315726-10F2-4518-8569-371395E6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8775EE-4F60-415A-A5DC-681BD26C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60DCF7-1DBD-4480-8120-47AC3FCD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E13A1B-2AEC-4175-82B5-9235F8B1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342DD9-5F70-4246-8DEB-129BC4A5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6D7E5B-2526-4766-9F03-B35118A9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5B0BE7-ADD5-4F79-8E58-2F9C38DD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518E-21E4-4440-A1AE-7C155E56158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7ACE-4B96-443A-87C0-DDB72E92D5E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CAB9-B3A8-4182-88B8-A3A32BA5158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2689-C518-4FDB-A0DD-27101DCE12A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25D9-E197-4F0F-8AAF-542F2B27B58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0980-0CA1-485D-B89E-F3AAC731210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95E1-2EC7-4DA2-B624-F119962676F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4A98-7AC6-406C-8B79-F3687B0F545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9454-405F-4A4A-8FAD-12244268455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gif"/><Relationship Id="rId1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extBox 3" descr=""/>
          <p:cNvPicPr/>
          <p:nvPr/>
        </p:nvPicPr>
        <p:blipFill>
          <a:blip r:embed="rId1"/>
          <a:stretch/>
        </p:blipFill>
        <p:spPr>
          <a:xfrm>
            <a:off x="1639800" y="2535120"/>
            <a:ext cx="622476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1"/>
          <p:cNvSpPr/>
          <p:nvPr/>
        </p:nvSpPr>
        <p:spPr>
          <a:xfrm>
            <a:off x="500040" y="2000160"/>
            <a:ext cx="7715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рны ли следующие суждения о государств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. Государство определяет правила, по которым протекает политическая жизнь общ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. Государство осуществляет контроль и регулирование только политической сферы жизни об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Верно только 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Верно только 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Верны оба сужд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Оба суждения невер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Прямоугольник 2"/>
          <p:cNvSpPr/>
          <p:nvPr/>
        </p:nvSpPr>
        <p:spPr>
          <a:xfrm>
            <a:off x="571500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TextBox 3" descr=""/>
          <p:cNvPicPr/>
          <p:nvPr/>
        </p:nvPicPr>
        <p:blipFill>
          <a:blip r:embed="rId1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1"/>
          <p:cNvSpPr/>
          <p:nvPr/>
        </p:nvSpPr>
        <p:spPr>
          <a:xfrm>
            <a:off x="857160" y="1714680"/>
            <a:ext cx="7358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приведенном списке указаны черты сходства государственной и политической власти и черты отличия государственной власти от политическ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специальными лицами – чиновник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оряжается силами, возможностями, ресурсами, которыми располагают лю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ространяется на все общ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средством упорядочения общественны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Прямоугольник 2"/>
          <p:cNvSpPr/>
          <p:nvPr/>
        </p:nvSpPr>
        <p:spPr>
          <a:xfrm>
            <a:off x="571500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241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6" name="TextBox 3" descr=""/>
          <p:cNvPicPr/>
          <p:nvPr/>
        </p:nvPicPr>
        <p:blipFill>
          <a:blip r:embed="rId1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1"/>
          <p:cNvSpPr/>
          <p:nvPr/>
        </p:nvSpPr>
        <p:spPr>
          <a:xfrm>
            <a:off x="3286080" y="2000160"/>
            <a:ext cx="5143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 признакам государства относи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Общая культу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Налоговые сбо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Демократические выбо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Наличие политической оппози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Прямоугольник 2"/>
          <p:cNvSpPr/>
          <p:nvPr/>
        </p:nvSpPr>
        <p:spPr>
          <a:xfrm>
            <a:off x="571500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9" name="Picture 6" descr="C:\Documents and Settings\Пользователь\Рабочий стол\рисунки полит\67372696_67371990_0cb2c0928637_4.png"/>
          <p:cNvPicPr/>
          <p:nvPr/>
        </p:nvPicPr>
        <p:blipFill>
          <a:blip r:embed="rId1"/>
          <a:stretch/>
        </p:blipFill>
        <p:spPr>
          <a:xfrm>
            <a:off x="142920" y="2643120"/>
            <a:ext cx="2655720" cy="3929040"/>
          </a:xfrm>
          <a:prstGeom prst="rect">
            <a:avLst/>
          </a:prstGeom>
          <a:ln w="0">
            <a:noFill/>
          </a:ln>
        </p:spPr>
      </p:pic>
      <p:pic>
        <p:nvPicPr>
          <p:cNvPr id="520" name="TextBox 4" descr=""/>
          <p:cNvPicPr/>
          <p:nvPr/>
        </p:nvPicPr>
        <p:blipFill>
          <a:blip r:embed="rId2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TextBox 1" descr=""/>
          <p:cNvPicPr/>
          <p:nvPr/>
        </p:nvPicPr>
        <p:blipFill>
          <a:blip r:embed="rId1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  <p:sp>
        <p:nvSpPr>
          <p:cNvPr id="522" name="TextBox 2"/>
          <p:cNvSpPr/>
          <p:nvPr/>
        </p:nvSpPr>
        <p:spPr>
          <a:xfrm>
            <a:off x="3929040" y="21430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 органам исполнительной власти в РФ относи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Администрация кр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Федеральное собр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Нотари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Законодательное собрание об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Прямоугольник 4"/>
          <p:cNvSpPr/>
          <p:nvPr/>
        </p:nvSpPr>
        <p:spPr>
          <a:xfrm>
            <a:off x="571500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4" name="Picture 2" descr="C:\Documents and Settings\Пользователь\Рабочий стол\рисунки полит\67372692_67371990_0cb2c0928637_3.png"/>
          <p:cNvPicPr/>
          <p:nvPr/>
        </p:nvPicPr>
        <p:blipFill>
          <a:blip r:embed="rId2"/>
          <a:stretch/>
        </p:blipFill>
        <p:spPr>
          <a:xfrm>
            <a:off x="0" y="1785960"/>
            <a:ext cx="29876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"/>
          <p:cNvSpPr/>
          <p:nvPr/>
        </p:nvSpPr>
        <p:spPr>
          <a:xfrm>
            <a:off x="3500280" y="1659600"/>
            <a:ext cx="478656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характеристике человека как гражданина указывают на его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семейное полож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професси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партий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права и обязан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Прямоугольник 2"/>
          <p:cNvSpPr/>
          <p:nvPr/>
        </p:nvSpPr>
        <p:spPr>
          <a:xfrm>
            <a:off x="671508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2" descr="C:\Documents and Settings\Пользователь\Рабочий стол\рисунки полит\67372692_67371990_0cb2c0928637_3.png"/>
          <p:cNvPicPr/>
          <p:nvPr/>
        </p:nvPicPr>
        <p:blipFill>
          <a:blip r:embed="rId1"/>
          <a:stretch/>
        </p:blipFill>
        <p:spPr>
          <a:xfrm>
            <a:off x="0" y="1785960"/>
            <a:ext cx="2987640" cy="4929120"/>
          </a:xfrm>
          <a:prstGeom prst="rect">
            <a:avLst/>
          </a:prstGeom>
          <a:ln w="0">
            <a:noFill/>
          </a:ln>
        </p:spPr>
      </p:pic>
      <p:pic>
        <p:nvPicPr>
          <p:cNvPr id="528" name="TextBox 4" descr=""/>
          <p:cNvPicPr/>
          <p:nvPr/>
        </p:nvPicPr>
        <p:blipFill>
          <a:blip r:embed="rId2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"/>
          <p:cNvSpPr/>
          <p:nvPr/>
        </p:nvSpPr>
        <p:spPr>
          <a:xfrm>
            <a:off x="2500200" y="1877400"/>
            <a:ext cx="6357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тличает государство от других политических организаций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работка программ развития обще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ление интересов отдельных груп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движение политических лидеров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сключительное право принимать правовые норм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Picture 2" descr="C:\Documents and Settings\Пользователь\Рабочий стол\рисунки полит\67372692_67371990_0cb2c0928637_3.png"/>
          <p:cNvPicPr/>
          <p:nvPr/>
        </p:nvPicPr>
        <p:blipFill>
          <a:blip r:embed="rId1"/>
          <a:stretch/>
        </p:blipFill>
        <p:spPr>
          <a:xfrm>
            <a:off x="0" y="1785960"/>
            <a:ext cx="2987640" cy="4929120"/>
          </a:xfrm>
          <a:prstGeom prst="rect">
            <a:avLst/>
          </a:prstGeom>
          <a:ln w="0">
            <a:noFill/>
          </a:ln>
        </p:spPr>
      </p:pic>
      <p:pic>
        <p:nvPicPr>
          <p:cNvPr id="531" name="TextBox 3" descr=""/>
          <p:cNvPicPr/>
          <p:nvPr/>
        </p:nvPicPr>
        <p:blipFill>
          <a:blip r:embed="rId2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  <p:sp>
        <p:nvSpPr>
          <p:cNvPr id="532" name="Прямоугольник 4"/>
          <p:cNvSpPr/>
          <p:nvPr/>
        </p:nvSpPr>
        <p:spPr>
          <a:xfrm>
            <a:off x="7572240" y="5929200"/>
            <a:ext cx="1357560" cy="7146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Прямоугольник 1"/>
          <p:cNvSpPr/>
          <p:nvPr/>
        </p:nvSpPr>
        <p:spPr>
          <a:xfrm>
            <a:off x="2500200" y="1785960"/>
            <a:ext cx="5929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 числу признаков любого государства, независимо от его исторических типов и форм, относя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уважение законо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наличие парламента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едеративное устройст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наличие публичной власт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Прямоугольник 2"/>
          <p:cNvSpPr/>
          <p:nvPr/>
        </p:nvSpPr>
        <p:spPr>
          <a:xfrm>
            <a:off x="571500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5" name="Picture 2" descr="C:\Documents and Settings\Пользователь\Рабочий стол\рисунки полит\67372692_67371990_0cb2c0928637_3.png"/>
          <p:cNvPicPr/>
          <p:nvPr/>
        </p:nvPicPr>
        <p:blipFill>
          <a:blip r:embed="rId1"/>
          <a:stretch/>
        </p:blipFill>
        <p:spPr>
          <a:xfrm>
            <a:off x="0" y="1928880"/>
            <a:ext cx="2987640" cy="4929120"/>
          </a:xfrm>
          <a:prstGeom prst="rect">
            <a:avLst/>
          </a:prstGeom>
          <a:ln w="0">
            <a:noFill/>
          </a:ln>
        </p:spPr>
      </p:pic>
      <p:pic>
        <p:nvPicPr>
          <p:cNvPr id="536" name="TextBox 4" descr=""/>
          <p:cNvPicPr/>
          <p:nvPr/>
        </p:nvPicPr>
        <p:blipFill>
          <a:blip r:embed="rId2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Прямоугольник 1"/>
          <p:cNvSpPr/>
          <p:nvPr/>
        </p:nvSpPr>
        <p:spPr>
          <a:xfrm>
            <a:off x="2286000" y="612720"/>
            <a:ext cx="614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эрия города К. ежегодно выделяет из муниципального жилищного фонда около 10 тыс. квартир для уволившихся из армии офицеров и их семей. Какую функцию государства иллюстрирует этот пример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правовую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культурно-воспитательную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политическую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социальную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Прямоугольник 2"/>
          <p:cNvSpPr/>
          <p:nvPr/>
        </p:nvSpPr>
        <p:spPr>
          <a:xfrm>
            <a:off x="571500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6" descr="C:\Documents and Settings\Пользователь\Рабочий стол\рисунки полит\67372696_67371990_0cb2c0928637_4.png"/>
          <p:cNvPicPr/>
          <p:nvPr/>
        </p:nvPicPr>
        <p:blipFill>
          <a:blip r:embed="rId1"/>
          <a:stretch/>
        </p:blipFill>
        <p:spPr>
          <a:xfrm>
            <a:off x="-324000" y="1413000"/>
            <a:ext cx="2656080" cy="3929040"/>
          </a:xfrm>
          <a:prstGeom prst="rect">
            <a:avLst/>
          </a:prstGeom>
          <a:ln w="0">
            <a:noFill/>
          </a:ln>
        </p:spPr>
      </p:pic>
      <p:pic>
        <p:nvPicPr>
          <p:cNvPr id="540" name="TextBox 4" descr=""/>
          <p:cNvPicPr/>
          <p:nvPr/>
        </p:nvPicPr>
        <p:blipFill>
          <a:blip r:embed="rId2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Прямоугольник 1"/>
          <p:cNvSpPr/>
          <p:nvPr/>
        </p:nvSpPr>
        <p:spPr>
          <a:xfrm>
            <a:off x="2786040" y="857160"/>
            <a:ext cx="5857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знаком суверенитета государства явля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доминирование на международной арене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право на вмешательство во внутренние дела других государст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независимость государственной власти от других властей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право на отчуждение земель соседей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Прямоугольник 2"/>
          <p:cNvSpPr/>
          <p:nvPr/>
        </p:nvSpPr>
        <p:spPr>
          <a:xfrm>
            <a:off x="571500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3" name="Picture 6" descr="C:\Documents and Settings\Пользователь\Рабочий стол\рисунки полит\67372696_67371990_0cb2c0928637_4.png"/>
          <p:cNvPicPr/>
          <p:nvPr/>
        </p:nvPicPr>
        <p:blipFill>
          <a:blip r:embed="rId1"/>
          <a:stretch/>
        </p:blipFill>
        <p:spPr>
          <a:xfrm>
            <a:off x="142920" y="2643120"/>
            <a:ext cx="2655720" cy="3929040"/>
          </a:xfrm>
          <a:prstGeom prst="rect">
            <a:avLst/>
          </a:prstGeom>
          <a:ln w="0">
            <a:noFill/>
          </a:ln>
        </p:spPr>
      </p:pic>
      <p:pic>
        <p:nvPicPr>
          <p:cNvPr id="544" name="TextBox 4" descr=""/>
          <p:cNvPicPr/>
          <p:nvPr/>
        </p:nvPicPr>
        <p:blipFill>
          <a:blip r:embed="rId2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TextBox 2" descr=""/>
          <p:cNvPicPr/>
          <p:nvPr/>
        </p:nvPicPr>
        <p:blipFill>
          <a:blip r:embed="rId1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  <p:sp>
        <p:nvSpPr>
          <p:cNvPr id="546" name="Прямоугольник 5"/>
          <p:cNvSpPr/>
          <p:nvPr/>
        </p:nvSpPr>
        <p:spPr>
          <a:xfrm>
            <a:off x="3429000" y="2714760"/>
            <a:ext cx="49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§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актикум стр.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7" name="Picture 3" descr="C:\Documents and Settings\Новый пользователь\Рабочий стол\риснов\0b54c9c1204b.png"/>
          <p:cNvPicPr/>
          <p:nvPr/>
        </p:nvPicPr>
        <p:blipFill>
          <a:blip r:embed="rId2"/>
          <a:stretch/>
        </p:blipFill>
        <p:spPr>
          <a:xfrm>
            <a:off x="357120" y="1571760"/>
            <a:ext cx="28306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Прямоугольник 4"/>
          <p:cNvGrpSpPr/>
          <p:nvPr/>
        </p:nvGrpSpPr>
        <p:grpSpPr>
          <a:xfrm>
            <a:off x="189000" y="2620800"/>
            <a:ext cx="2762280" cy="2109960"/>
            <a:chOff x="189000" y="2620800"/>
            <a:chExt cx="2762280" cy="2109960"/>
          </a:xfrm>
        </p:grpSpPr>
        <p:pic>
          <p:nvPicPr>
            <p:cNvPr id="39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89000" y="2620800"/>
              <a:ext cx="276228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14200" y="2643120"/>
              <a:ext cx="271476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Прямоугольник 6"/>
          <p:cNvGrpSpPr/>
          <p:nvPr/>
        </p:nvGrpSpPr>
        <p:grpSpPr>
          <a:xfrm>
            <a:off x="6119640" y="2548080"/>
            <a:ext cx="2829240" cy="2116080"/>
            <a:chOff x="6119640" y="2548080"/>
            <a:chExt cx="2829240" cy="2116080"/>
          </a:xfrm>
        </p:grpSpPr>
        <p:pic>
          <p:nvPicPr>
            <p:cNvPr id="399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6119640" y="2548080"/>
              <a:ext cx="282924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143760" y="2571840"/>
              <a:ext cx="278604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1" name="TextBox 7"/>
          <p:cNvSpPr/>
          <p:nvPr/>
        </p:nvSpPr>
        <p:spPr>
          <a:xfrm>
            <a:off x="2357280" y="128592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йдите в тексте учебника с.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два определения государства в широком и узком смысл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357120" y="2786040"/>
            <a:ext cx="250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это стра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6286680" y="300024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окупность государственных орган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TextBox 11" descr=""/>
          <p:cNvPicPr/>
          <p:nvPr/>
        </p:nvPicPr>
        <p:blipFill>
          <a:blip r:embed="rId3"/>
          <a:stretch/>
        </p:blipFill>
        <p:spPr>
          <a:xfrm>
            <a:off x="536400" y="-6480"/>
            <a:ext cx="8210880" cy="1152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8" descr="C:\Documents and Settings\Пользователь\Рабочий стол\рисунки полит\414676.jpg"/>
          <p:cNvPicPr/>
          <p:nvPr/>
        </p:nvPicPr>
        <p:blipFill>
          <a:blip r:embed="rId4"/>
          <a:stretch/>
        </p:blipFill>
        <p:spPr>
          <a:xfrm>
            <a:off x="3000240" y="2571840"/>
            <a:ext cx="3024360" cy="3024000"/>
          </a:xfrm>
          <a:prstGeom prst="rect">
            <a:avLst/>
          </a:prstGeom>
          <a:ln w="0">
            <a:noFill/>
          </a:ln>
        </p:spPr>
      </p:pic>
      <p:grpSp>
        <p:nvGrpSpPr>
          <p:cNvPr id="406" name="Прямоугольник 4"/>
          <p:cNvGrpSpPr/>
          <p:nvPr/>
        </p:nvGrpSpPr>
        <p:grpSpPr>
          <a:xfrm>
            <a:off x="689040" y="5619600"/>
            <a:ext cx="8047080" cy="1116000"/>
            <a:chOff x="689040" y="5619600"/>
            <a:chExt cx="8047080" cy="1116000"/>
          </a:xfrm>
        </p:grpSpPr>
        <p:pic>
          <p:nvPicPr>
            <p:cNvPr id="407" name="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689040" y="5619600"/>
              <a:ext cx="80470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14240" y="5643720"/>
              <a:ext cx="800100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b0ccb0"/>
                  </a:solidFill>
                  <a:latin typeface="Times New Roman"/>
                </a:rPr>
                <a:t>государство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 – организация политической власти, осуществляющая управление обществом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extBox 7" descr=""/>
          <p:cNvPicPr/>
          <p:nvPr/>
        </p:nvPicPr>
        <p:blipFill>
          <a:blip r:embed="rId1"/>
          <a:stretch/>
        </p:blipFill>
        <p:spPr>
          <a:xfrm>
            <a:off x="560520" y="-146160"/>
            <a:ext cx="8162640" cy="1474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C:\Documents and Settings\Пользователь\Рабочий стол\рисунки полит\1182077816_6.jpg"/>
          <p:cNvPicPr/>
          <p:nvPr/>
        </p:nvPicPr>
        <p:blipFill>
          <a:blip r:embed="rId2"/>
          <a:srcRect l="10999" t="10700" r="9502" b="8516"/>
          <a:stretch/>
        </p:blipFill>
        <p:spPr>
          <a:xfrm>
            <a:off x="0" y="2571840"/>
            <a:ext cx="2928960" cy="4286160"/>
          </a:xfrm>
          <a:prstGeom prst="rect">
            <a:avLst/>
          </a:prstGeom>
          <a:ln w="0">
            <a:noFill/>
          </a:ln>
        </p:spPr>
      </p:pic>
      <p:grpSp>
        <p:nvGrpSpPr>
          <p:cNvPr id="411" name="Прямоугольник 4"/>
          <p:cNvGrpSpPr/>
          <p:nvPr/>
        </p:nvGrpSpPr>
        <p:grpSpPr>
          <a:xfrm>
            <a:off x="2835360" y="2401920"/>
            <a:ext cx="6113520" cy="901800"/>
            <a:chOff x="2835360" y="2401920"/>
            <a:chExt cx="6113520" cy="901800"/>
          </a:xfrm>
        </p:grpSpPr>
        <p:pic>
          <p:nvPicPr>
            <p:cNvPr id="412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35360" y="2401920"/>
              <a:ext cx="61135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857680" y="2428920"/>
              <a:ext cx="60721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Прямоугольник 4"/>
          <p:cNvGrpSpPr/>
          <p:nvPr/>
        </p:nvGrpSpPr>
        <p:grpSpPr>
          <a:xfrm>
            <a:off x="2835360" y="3402000"/>
            <a:ext cx="6113520" cy="1047600"/>
            <a:chOff x="2835360" y="3402000"/>
            <a:chExt cx="6113520" cy="1047600"/>
          </a:xfrm>
        </p:grpSpPr>
        <p:pic>
          <p:nvPicPr>
            <p:cNvPr id="415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2835360" y="3402000"/>
              <a:ext cx="611352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2857680" y="3429000"/>
              <a:ext cx="60721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Прямоугольник 4"/>
          <p:cNvGrpSpPr/>
          <p:nvPr/>
        </p:nvGrpSpPr>
        <p:grpSpPr>
          <a:xfrm>
            <a:off x="2835360" y="4548240"/>
            <a:ext cx="6113520" cy="901800"/>
            <a:chOff x="2835360" y="4548240"/>
            <a:chExt cx="6113520" cy="901800"/>
          </a:xfrm>
        </p:grpSpPr>
        <p:pic>
          <p:nvPicPr>
            <p:cNvPr id="418" name="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2835360" y="4548240"/>
              <a:ext cx="61135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857680" y="4572000"/>
              <a:ext cx="60721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0" name="Прямоугольник 4"/>
          <p:cNvGrpSpPr/>
          <p:nvPr/>
        </p:nvGrpSpPr>
        <p:grpSpPr>
          <a:xfrm>
            <a:off x="2835360" y="5546880"/>
            <a:ext cx="6113520" cy="1116000"/>
            <a:chOff x="2835360" y="5546880"/>
            <a:chExt cx="6113520" cy="1116000"/>
          </a:xfrm>
        </p:grpSpPr>
        <p:pic>
          <p:nvPicPr>
            <p:cNvPr id="421" name="Прямоугольник 4" descr=""/>
            <p:cNvPicPr/>
            <p:nvPr/>
          </p:nvPicPr>
          <p:blipFill>
            <a:blip r:embed="rId6"/>
            <a:stretch/>
          </p:blipFill>
          <p:spPr>
            <a:xfrm>
              <a:off x="2835360" y="5546880"/>
              <a:ext cx="61135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857680" y="5572080"/>
              <a:ext cx="60721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3" name="TextBox 15"/>
          <p:cNvSpPr/>
          <p:nvPr/>
        </p:nvSpPr>
        <p:spPr>
          <a:xfrm>
            <a:off x="2928960" y="242892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религиозная теор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 государственная власть от Бо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Box 16"/>
          <p:cNvSpPr/>
          <p:nvPr/>
        </p:nvSpPr>
        <p:spPr>
          <a:xfrm>
            <a:off x="2857680" y="3429000"/>
            <a:ext cx="59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договорная теор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род добровольно передает часть своих прав государству, чтобы оно защитило оставшиеся пра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Box 17"/>
          <p:cNvSpPr/>
          <p:nvPr/>
        </p:nvSpPr>
        <p:spPr>
          <a:xfrm>
            <a:off x="2928960" y="4572000"/>
            <a:ext cx="5929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теория завоеван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сударство – результат завоевания для подчинения побежден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Box 18"/>
          <p:cNvSpPr/>
          <p:nvPr/>
        </p:nvSpPr>
        <p:spPr>
          <a:xfrm>
            <a:off x="2857680" y="5572080"/>
            <a:ext cx="59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классовая теор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сударство результат классовой борьбы, возникло для защиты немногочисленного класса господствующи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extBox 12" descr=""/>
          <p:cNvPicPr/>
          <p:nvPr/>
        </p:nvPicPr>
        <p:blipFill>
          <a:blip r:embed="rId1"/>
          <a:stretch/>
        </p:blipFill>
        <p:spPr>
          <a:xfrm>
            <a:off x="701640" y="-219240"/>
            <a:ext cx="7881840" cy="1146240"/>
          </a:xfrm>
          <a:prstGeom prst="rect">
            <a:avLst/>
          </a:prstGeom>
          <a:ln w="0">
            <a:noFill/>
          </a:ln>
        </p:spPr>
      </p:pic>
      <p:grpSp>
        <p:nvGrpSpPr>
          <p:cNvPr id="428" name="Прямоугольник 4"/>
          <p:cNvGrpSpPr/>
          <p:nvPr/>
        </p:nvGrpSpPr>
        <p:grpSpPr>
          <a:xfrm>
            <a:off x="334800" y="901800"/>
            <a:ext cx="7113600" cy="903240"/>
            <a:chOff x="334800" y="901800"/>
            <a:chExt cx="7113600" cy="903240"/>
          </a:xfrm>
        </p:grpSpPr>
        <p:pic>
          <p:nvPicPr>
            <p:cNvPr id="42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34800" y="901800"/>
              <a:ext cx="71136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357120" y="928800"/>
              <a:ext cx="70725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Прямоугольник 4"/>
          <p:cNvGrpSpPr/>
          <p:nvPr/>
        </p:nvGrpSpPr>
        <p:grpSpPr>
          <a:xfrm>
            <a:off x="334800" y="1974960"/>
            <a:ext cx="7113600" cy="901440"/>
            <a:chOff x="334800" y="1974960"/>
            <a:chExt cx="7113600" cy="901440"/>
          </a:xfrm>
        </p:grpSpPr>
        <p:pic>
          <p:nvPicPr>
            <p:cNvPr id="432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34800" y="1974960"/>
              <a:ext cx="71136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357120" y="2000160"/>
              <a:ext cx="70725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Прямоугольник 4"/>
          <p:cNvGrpSpPr/>
          <p:nvPr/>
        </p:nvGrpSpPr>
        <p:grpSpPr>
          <a:xfrm>
            <a:off x="334800" y="3048120"/>
            <a:ext cx="7113600" cy="901440"/>
            <a:chOff x="334800" y="3048120"/>
            <a:chExt cx="7113600" cy="901440"/>
          </a:xfrm>
        </p:grpSpPr>
        <p:pic>
          <p:nvPicPr>
            <p:cNvPr id="435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334800" y="3048120"/>
              <a:ext cx="71136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57120" y="3071880"/>
              <a:ext cx="70725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Прямоугольник 4"/>
          <p:cNvGrpSpPr/>
          <p:nvPr/>
        </p:nvGrpSpPr>
        <p:grpSpPr>
          <a:xfrm>
            <a:off x="334800" y="4048200"/>
            <a:ext cx="7113600" cy="968400"/>
            <a:chOff x="334800" y="4048200"/>
            <a:chExt cx="7113600" cy="968400"/>
          </a:xfrm>
        </p:grpSpPr>
        <p:pic>
          <p:nvPicPr>
            <p:cNvPr id="438" name="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334800" y="4048200"/>
              <a:ext cx="71136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57120" y="4071960"/>
              <a:ext cx="70725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" name="Прямоугольник 4"/>
          <p:cNvGrpSpPr/>
          <p:nvPr/>
        </p:nvGrpSpPr>
        <p:grpSpPr>
          <a:xfrm>
            <a:off x="334800" y="5048280"/>
            <a:ext cx="7113600" cy="1041480"/>
            <a:chOff x="334800" y="5048280"/>
            <a:chExt cx="7113600" cy="1041480"/>
          </a:xfrm>
        </p:grpSpPr>
        <p:pic>
          <p:nvPicPr>
            <p:cNvPr id="441" name="Прямоугольник 4" descr=""/>
            <p:cNvPicPr/>
            <p:nvPr/>
          </p:nvPicPr>
          <p:blipFill>
            <a:blip r:embed="rId6"/>
            <a:stretch/>
          </p:blipFill>
          <p:spPr>
            <a:xfrm>
              <a:off x="334800" y="5048280"/>
              <a:ext cx="71136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357120" y="5072040"/>
              <a:ext cx="70725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Picture 6" descr="C:\Documents and Settings\Пользователь\Рабочий стол\рисунки полит\j0156775.gif"/>
          <p:cNvPicPr/>
          <p:nvPr/>
        </p:nvPicPr>
        <p:blipFill>
          <a:blip r:embed="rId7"/>
          <a:stretch/>
        </p:blipFill>
        <p:spPr>
          <a:xfrm>
            <a:off x="7572240" y="928800"/>
            <a:ext cx="1071720" cy="9698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3"/>
          <p:cNvSpPr/>
          <p:nvPr/>
        </p:nvSpPr>
        <p:spPr>
          <a:xfrm>
            <a:off x="357120" y="200016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создание законов </a:t>
            </a:r>
            <a:r>
              <a:rPr b="0" lang="ru-RU" sz="2400" spc="-1" strike="noStrike">
                <a:solidFill>
                  <a:srgbClr val="b0ccb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лько государство обладает исключительным правом издавать законы</a:t>
            </a:r>
            <a:r>
              <a:rPr b="0" lang="ru-RU" sz="2400" spc="-1" strike="noStrike">
                <a:solidFill>
                  <a:srgbClr val="b0ccb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Box 14"/>
          <p:cNvSpPr/>
          <p:nvPr/>
        </p:nvSpPr>
        <p:spPr>
          <a:xfrm>
            <a:off x="1285920" y="602784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пользуя текст учебника с. 14, соотнесите рисунки и признаки государ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Picture 7" descr="C:\Documents and Settings\Пользователь\Рабочий стол\рисунки полит\u12686790.jpg"/>
          <p:cNvPicPr/>
          <p:nvPr/>
        </p:nvPicPr>
        <p:blipFill>
          <a:blip r:embed="rId8"/>
          <a:stretch/>
        </p:blipFill>
        <p:spPr>
          <a:xfrm>
            <a:off x="7786800" y="4000680"/>
            <a:ext cx="799920" cy="1000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8" descr="C:\Documents and Settings\Пользователь\Рабочий стол\рисунки полит\69528818_22.png"/>
          <p:cNvPicPr/>
          <p:nvPr/>
        </p:nvPicPr>
        <p:blipFill>
          <a:blip r:embed="rId9"/>
          <a:stretch/>
        </p:blipFill>
        <p:spPr>
          <a:xfrm>
            <a:off x="7715160" y="3000240"/>
            <a:ext cx="893880" cy="10004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C:\Documents and Settings\Пользователь\Рабочий стол\рисунки полит\Копия 76921aa8319f.png"/>
          <p:cNvPicPr/>
          <p:nvPr/>
        </p:nvPicPr>
        <p:blipFill>
          <a:blip r:embed="rId10"/>
          <a:stretch/>
        </p:blipFill>
        <p:spPr>
          <a:xfrm>
            <a:off x="7572240" y="1928880"/>
            <a:ext cx="1154160" cy="10065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0" descr="C:\Documents and Settings\Пользователь\Рабочий стол\рисунки полит\645.gif"/>
          <p:cNvPicPr/>
          <p:nvPr/>
        </p:nvPicPr>
        <p:blipFill>
          <a:blip r:embed="rId11"/>
          <a:stretch/>
        </p:blipFill>
        <p:spPr>
          <a:xfrm>
            <a:off x="7715160" y="5000760"/>
            <a:ext cx="951120" cy="1023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18"/>
          <p:cNvSpPr/>
          <p:nvPr/>
        </p:nvSpPr>
        <p:spPr>
          <a:xfrm>
            <a:off x="428760" y="928800"/>
            <a:ext cx="7000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единство территории </a:t>
            </a:r>
            <a:r>
              <a:rPr b="0" lang="ru-RU" sz="2400" spc="-1" strike="noStrike">
                <a:solidFill>
                  <a:srgbClr val="b0ccb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осударство распространяет свою власть на население, живущее в пределах определенной территор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Box 19"/>
          <p:cNvSpPr/>
          <p:nvPr/>
        </p:nvSpPr>
        <p:spPr>
          <a:xfrm>
            <a:off x="357120" y="3000240"/>
            <a:ext cx="700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публичная власть </a:t>
            </a:r>
            <a:r>
              <a:rPr b="0" lang="ru-RU" sz="2400" spc="-1" strike="noStrike">
                <a:solidFill>
                  <a:srgbClr val="b0ccb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пециальный аппарат, включающий и органы принуждения. Ее </a:t>
            </a:r>
            <a:r>
              <a:rPr b="1" lang="ru-RU" sz="1600" spc="-1" strike="noStrike">
                <a:solidFill>
                  <a:srgbClr val="b0ccb0"/>
                </a:solidFill>
                <a:latin typeface="Times New Roman"/>
              </a:rPr>
              <a:t>особенность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– распространяется на все население стра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Box 20"/>
          <p:cNvSpPr/>
          <p:nvPr/>
        </p:nvSpPr>
        <p:spPr>
          <a:xfrm>
            <a:off x="357120" y="4000680"/>
            <a:ext cx="700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суверенитет.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нутренний суверенитет – верховенство государственной власти. Внешний суверенитет – независимость от других государст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Box 21"/>
          <p:cNvSpPr/>
          <p:nvPr/>
        </p:nvSpPr>
        <p:spPr>
          <a:xfrm>
            <a:off x="357120" y="5072040"/>
            <a:ext cx="700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налоговые сборы </a:t>
            </a:r>
            <a:r>
              <a:rPr b="0" lang="ru-RU" sz="1600" spc="-1" strike="noStrike">
                <a:solidFill>
                  <a:srgbClr val="b0ccb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бязательные сборы в пользу государства (на содержание госаппарата, армии, развитие образования, здравоохранения и т.п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TextBox 12" descr=""/>
          <p:cNvPicPr/>
          <p:nvPr/>
        </p:nvPicPr>
        <p:blipFill>
          <a:blip r:embed="rId1"/>
          <a:stretch/>
        </p:blipFill>
        <p:spPr>
          <a:xfrm>
            <a:off x="781200" y="-219240"/>
            <a:ext cx="7729560" cy="1146240"/>
          </a:xfrm>
          <a:prstGeom prst="rect">
            <a:avLst/>
          </a:prstGeom>
          <a:ln w="0">
            <a:noFill/>
          </a:ln>
        </p:spPr>
      </p:pic>
      <p:grpSp>
        <p:nvGrpSpPr>
          <p:cNvPr id="455" name="Скругленный прямоугольник 4"/>
          <p:cNvGrpSpPr/>
          <p:nvPr/>
        </p:nvGrpSpPr>
        <p:grpSpPr>
          <a:xfrm>
            <a:off x="334800" y="1047600"/>
            <a:ext cx="3614760" cy="757440"/>
            <a:chOff x="334800" y="1047600"/>
            <a:chExt cx="3614760" cy="757440"/>
          </a:xfrm>
        </p:grpSpPr>
        <p:pic>
          <p:nvPicPr>
            <p:cNvPr id="456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34800" y="1047600"/>
              <a:ext cx="361476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92040" y="1106640"/>
              <a:ext cx="3502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" name="Скругленный прямоугольник 4"/>
          <p:cNvGrpSpPr/>
          <p:nvPr/>
        </p:nvGrpSpPr>
        <p:grpSpPr>
          <a:xfrm>
            <a:off x="4761000" y="1047600"/>
            <a:ext cx="3614760" cy="757440"/>
            <a:chOff x="4761000" y="1047600"/>
            <a:chExt cx="3614760" cy="757440"/>
          </a:xfrm>
        </p:grpSpPr>
        <p:pic>
          <p:nvPicPr>
            <p:cNvPr id="459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4761000" y="1047600"/>
              <a:ext cx="361476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821120" y="1106640"/>
              <a:ext cx="3502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1" name="TextBox 7"/>
          <p:cNvSpPr/>
          <p:nvPr/>
        </p:nvSpPr>
        <p:spPr>
          <a:xfrm>
            <a:off x="714240" y="10717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нутрен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5143680" y="10717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неш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357120" y="18572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зовите основные сферы обще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4" name="Скругленный прямоугольник 4"/>
          <p:cNvGrpSpPr/>
          <p:nvPr/>
        </p:nvGrpSpPr>
        <p:grpSpPr>
          <a:xfrm>
            <a:off x="334800" y="2548080"/>
            <a:ext cx="3829320" cy="901440"/>
            <a:chOff x="334800" y="2548080"/>
            <a:chExt cx="3829320" cy="901440"/>
          </a:xfrm>
        </p:grpSpPr>
        <p:pic>
          <p:nvPicPr>
            <p:cNvPr id="465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334800" y="2548080"/>
              <a:ext cx="382932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398520" y="2612880"/>
              <a:ext cx="37036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7" name="Скругленный прямоугольник 4"/>
          <p:cNvGrpSpPr/>
          <p:nvPr/>
        </p:nvGrpSpPr>
        <p:grpSpPr>
          <a:xfrm>
            <a:off x="334800" y="3621240"/>
            <a:ext cx="3756240" cy="969840"/>
            <a:chOff x="334800" y="3621240"/>
            <a:chExt cx="3756240" cy="969840"/>
          </a:xfrm>
        </p:grpSpPr>
        <p:pic>
          <p:nvPicPr>
            <p:cNvPr id="468" name="Скругленный 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334800" y="3621240"/>
              <a:ext cx="37562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403200" y="3689280"/>
              <a:ext cx="36226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0" name="Скругленный прямоугольник 4"/>
          <p:cNvGrpSpPr/>
          <p:nvPr/>
        </p:nvGrpSpPr>
        <p:grpSpPr>
          <a:xfrm>
            <a:off x="334800" y="4761000"/>
            <a:ext cx="3756240" cy="901440"/>
            <a:chOff x="334800" y="4761000"/>
            <a:chExt cx="3756240" cy="901440"/>
          </a:xfrm>
        </p:grpSpPr>
        <p:pic>
          <p:nvPicPr>
            <p:cNvPr id="471" name="Скругленный прямоугольник 4" descr=""/>
            <p:cNvPicPr/>
            <p:nvPr/>
          </p:nvPicPr>
          <p:blipFill>
            <a:blip r:embed="rId6"/>
            <a:stretch/>
          </p:blipFill>
          <p:spPr>
            <a:xfrm>
              <a:off x="334800" y="4761000"/>
              <a:ext cx="375624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398520" y="4827600"/>
              <a:ext cx="36320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3" name="Скругленный прямоугольник 4"/>
          <p:cNvGrpSpPr/>
          <p:nvPr/>
        </p:nvGrpSpPr>
        <p:grpSpPr>
          <a:xfrm>
            <a:off x="334800" y="5761080"/>
            <a:ext cx="3683160" cy="755640"/>
            <a:chOff x="334800" y="5761080"/>
            <a:chExt cx="3683160" cy="755640"/>
          </a:xfrm>
        </p:grpSpPr>
        <p:pic>
          <p:nvPicPr>
            <p:cNvPr id="474" name="Скругленный прямоугольник 4" descr=""/>
            <p:cNvPicPr/>
            <p:nvPr/>
          </p:nvPicPr>
          <p:blipFill>
            <a:blip r:embed="rId7"/>
            <a:stretch/>
          </p:blipFill>
          <p:spPr>
            <a:xfrm>
              <a:off x="334800" y="5761080"/>
              <a:ext cx="36831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92040" y="5821200"/>
              <a:ext cx="35733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6" name="Скругленный прямоугольник 4"/>
          <p:cNvGrpSpPr/>
          <p:nvPr/>
        </p:nvGrpSpPr>
        <p:grpSpPr>
          <a:xfrm>
            <a:off x="4973760" y="2548080"/>
            <a:ext cx="3616200" cy="901440"/>
            <a:chOff x="4973760" y="2548080"/>
            <a:chExt cx="3616200" cy="901440"/>
          </a:xfrm>
        </p:grpSpPr>
        <p:pic>
          <p:nvPicPr>
            <p:cNvPr id="477" name="Скругленный прямоугольник 4" descr=""/>
            <p:cNvPicPr/>
            <p:nvPr/>
          </p:nvPicPr>
          <p:blipFill>
            <a:blip r:embed="rId8"/>
            <a:stretch/>
          </p:blipFill>
          <p:spPr>
            <a:xfrm>
              <a:off x="4973760" y="2548080"/>
              <a:ext cx="36162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5041800" y="2612880"/>
              <a:ext cx="34894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9" name="Скругленный прямоугольник 4"/>
          <p:cNvGrpSpPr/>
          <p:nvPr/>
        </p:nvGrpSpPr>
        <p:grpSpPr>
          <a:xfrm>
            <a:off x="5048280" y="3833640"/>
            <a:ext cx="3614760" cy="897120"/>
            <a:chOff x="5048280" y="3833640"/>
            <a:chExt cx="3614760" cy="897120"/>
          </a:xfrm>
        </p:grpSpPr>
        <p:pic>
          <p:nvPicPr>
            <p:cNvPr id="480" name="Скругленный прямоугольник 4" descr=""/>
            <p:cNvPicPr/>
            <p:nvPr/>
          </p:nvPicPr>
          <p:blipFill>
            <a:blip r:embed="rId9"/>
            <a:stretch/>
          </p:blipFill>
          <p:spPr>
            <a:xfrm>
              <a:off x="5048280" y="3833640"/>
              <a:ext cx="361476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5113440" y="3898800"/>
              <a:ext cx="34891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2" name="Скругленный прямоугольник 4"/>
          <p:cNvGrpSpPr/>
          <p:nvPr/>
        </p:nvGrpSpPr>
        <p:grpSpPr>
          <a:xfrm>
            <a:off x="5048280" y="5121360"/>
            <a:ext cx="3614760" cy="895320"/>
            <a:chOff x="5048280" y="5121360"/>
            <a:chExt cx="3614760" cy="895320"/>
          </a:xfrm>
        </p:grpSpPr>
        <p:pic>
          <p:nvPicPr>
            <p:cNvPr id="483" name="Скругленный прямоугольник 4" descr=""/>
            <p:cNvPicPr/>
            <p:nvPr/>
          </p:nvPicPr>
          <p:blipFill>
            <a:blip r:embed="rId10"/>
            <a:stretch/>
          </p:blipFill>
          <p:spPr>
            <a:xfrm>
              <a:off x="5048280" y="5121360"/>
              <a:ext cx="36147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5113440" y="5184720"/>
              <a:ext cx="34891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TextBox 18"/>
          <p:cNvSpPr/>
          <p:nvPr/>
        </p:nvSpPr>
        <p:spPr>
          <a:xfrm>
            <a:off x="428760" y="2571840"/>
            <a:ext cx="36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ccb0"/>
                </a:solidFill>
                <a:latin typeface="Times New Roman"/>
              </a:rPr>
              <a:t>экономическая: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егулирование, координация экономических процесс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Box 20"/>
          <p:cNvSpPr/>
          <p:nvPr/>
        </p:nvSpPr>
        <p:spPr>
          <a:xfrm>
            <a:off x="428760" y="3643200"/>
            <a:ext cx="36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ccb0"/>
                </a:solidFill>
                <a:latin typeface="Times New Roman"/>
              </a:rPr>
              <a:t>социальная: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беспечение достойного уровня жизни, поддержка незащищенных слоев насел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Box 21"/>
          <p:cNvSpPr/>
          <p:nvPr/>
        </p:nvSpPr>
        <p:spPr>
          <a:xfrm>
            <a:off x="428760" y="4714920"/>
            <a:ext cx="36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ccb0"/>
                </a:solidFill>
                <a:latin typeface="Times New Roman"/>
              </a:rPr>
              <a:t>политико-правовая: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беспечение правопорядка, принятие правовых норм, управл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Box 23"/>
          <p:cNvSpPr/>
          <p:nvPr/>
        </p:nvSpPr>
        <p:spPr>
          <a:xfrm>
            <a:off x="5143680" y="264312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заимовыгодное сотрудниче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Box 22"/>
          <p:cNvSpPr/>
          <p:nvPr/>
        </p:nvSpPr>
        <p:spPr>
          <a:xfrm>
            <a:off x="428760" y="57862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ccb0"/>
                </a:solidFill>
                <a:latin typeface="Times New Roman"/>
              </a:rPr>
              <a:t>идеологическая: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оспитание гражданственн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Box 24"/>
          <p:cNvSpPr/>
          <p:nvPr/>
        </p:nvSpPr>
        <p:spPr>
          <a:xfrm>
            <a:off x="5214960" y="407196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орона стра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Box 25"/>
          <p:cNvSpPr/>
          <p:nvPr/>
        </p:nvSpPr>
        <p:spPr>
          <a:xfrm>
            <a:off x="5286240" y="5214960"/>
            <a:ext cx="31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шение глобальных проблем современ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Скругленный прямоугольник 5"/>
          <p:cNvGrpSpPr/>
          <p:nvPr/>
        </p:nvGrpSpPr>
        <p:grpSpPr>
          <a:xfrm>
            <a:off x="1047600" y="1047600"/>
            <a:ext cx="7401240" cy="684360"/>
            <a:chOff x="1047600" y="1047600"/>
            <a:chExt cx="7401240" cy="684360"/>
          </a:xfrm>
        </p:grpSpPr>
        <p:pic>
          <p:nvPicPr>
            <p:cNvPr id="493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047600" y="1047600"/>
              <a:ext cx="7401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103400" y="1103400"/>
              <a:ext cx="729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авовая связь человека с государство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95" name="TextBox 9" descr=""/>
          <p:cNvPicPr/>
          <p:nvPr/>
        </p:nvPicPr>
        <p:blipFill>
          <a:blip r:embed="rId2"/>
          <a:stretch/>
        </p:blipFill>
        <p:spPr>
          <a:xfrm>
            <a:off x="133200" y="-19080"/>
            <a:ext cx="8802720" cy="939960"/>
          </a:xfrm>
          <a:prstGeom prst="rect">
            <a:avLst/>
          </a:prstGeom>
          <a:ln w="0">
            <a:noFill/>
          </a:ln>
        </p:spPr>
      </p:pic>
      <p:grpSp>
        <p:nvGrpSpPr>
          <p:cNvPr id="496" name="Скругленный прямоугольник 5"/>
          <p:cNvGrpSpPr/>
          <p:nvPr/>
        </p:nvGrpSpPr>
        <p:grpSpPr>
          <a:xfrm>
            <a:off x="1047600" y="1835280"/>
            <a:ext cx="7401240" cy="895320"/>
            <a:chOff x="1047600" y="1835280"/>
            <a:chExt cx="7401240" cy="895320"/>
          </a:xfrm>
        </p:grpSpPr>
        <p:pic>
          <p:nvPicPr>
            <p:cNvPr id="497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047600" y="1835280"/>
              <a:ext cx="74012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112760" y="1898640"/>
              <a:ext cx="72756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аво пользоваться установленными законом правами и нести обязанност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99" name="Схема 11" descr=""/>
          <p:cNvPicPr/>
          <p:nvPr/>
        </p:nvPicPr>
        <p:blipFill>
          <a:blip r:embed="rId4"/>
          <a:stretch/>
        </p:blipFill>
        <p:spPr>
          <a:xfrm>
            <a:off x="835200" y="2706840"/>
            <a:ext cx="7832520" cy="3584520"/>
          </a:xfrm>
          <a:prstGeom prst="rect">
            <a:avLst/>
          </a:prstGeom>
          <a:ln w="0">
            <a:noFill/>
          </a:ln>
        </p:spPr>
      </p:pic>
      <p:sp>
        <p:nvSpPr>
          <p:cNvPr id="500" name="TextBox 12"/>
          <p:cNvSpPr/>
          <p:nvPr/>
        </p:nvSpPr>
        <p:spPr>
          <a:xfrm>
            <a:off x="642960" y="55008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икто не может быть произвольно лишен своего граждан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TextBox 2" descr=""/>
          <p:cNvPicPr/>
          <p:nvPr/>
        </p:nvPicPr>
        <p:blipFill>
          <a:blip r:embed="rId1"/>
          <a:stretch/>
        </p:blipFill>
        <p:spPr>
          <a:xfrm>
            <a:off x="633240" y="-36360"/>
            <a:ext cx="8132760" cy="1017360"/>
          </a:xfrm>
          <a:prstGeom prst="rect">
            <a:avLst/>
          </a:prstGeom>
          <a:ln w="0">
            <a:noFill/>
          </a:ln>
        </p:spPr>
      </p:pic>
      <p:sp>
        <p:nvSpPr>
          <p:cNvPr id="502" name="TextBox 6"/>
          <p:cNvSpPr/>
          <p:nvPr/>
        </p:nvSpPr>
        <p:spPr>
          <a:xfrm>
            <a:off x="1643040" y="128592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ccb0"/>
                </a:solidFill>
                <a:latin typeface="Times New Roman"/>
              </a:rPr>
              <a:t>Используй алгорит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3" name="Схема 7" descr=""/>
          <p:cNvPicPr/>
          <p:nvPr/>
        </p:nvPicPr>
        <p:blipFill>
          <a:blip r:embed="rId2"/>
          <a:stretch/>
        </p:blipFill>
        <p:spPr>
          <a:xfrm>
            <a:off x="835200" y="2309760"/>
            <a:ext cx="76993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mbria"/>
              </a:rPr>
              <a:t>«Когда государство управляется согласно с разумом, постыдны бедность и нужда; когда государство не управляется согласно с разумом, то постыдны богатства и почести» 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Конфуций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mbria"/>
              </a:rPr>
              <a:t>«Во всех государствах справедливостью считается одно и то же, а именно то,что пригодно существующей власти» 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Платон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TextBox 2" descr=""/>
          <p:cNvPicPr/>
          <p:nvPr/>
        </p:nvPicPr>
        <p:blipFill>
          <a:blip r:embed="rId1"/>
          <a:stretch/>
        </p:blipFill>
        <p:spPr>
          <a:xfrm>
            <a:off x="633240" y="-36360"/>
            <a:ext cx="8089920" cy="1017360"/>
          </a:xfrm>
          <a:prstGeom prst="rect">
            <a:avLst/>
          </a:prstGeom>
          <a:ln w="0">
            <a:noFill/>
          </a:ln>
        </p:spPr>
      </p:pic>
      <p:sp>
        <p:nvSpPr>
          <p:cNvPr id="507" name="Прямоугольник 6"/>
          <p:cNvSpPr/>
          <p:nvPr/>
        </p:nvSpPr>
        <p:spPr>
          <a:xfrm>
            <a:off x="2428920" y="1000080"/>
            <a:ext cx="628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юбое государство характеризу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3000240" y="2143080"/>
            <a:ext cx="572940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озможностью осуществлять принужд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ногопартийность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заимной ответственностью государства и лич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Разделением власт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9" name="Picture 6" descr="C:\Documents and Settings\Пользователь\Рабочий стол\рисунки полит\67372696_67371990_0cb2c0928637_4.png"/>
          <p:cNvPicPr/>
          <p:nvPr/>
        </p:nvPicPr>
        <p:blipFill>
          <a:blip r:embed="rId2"/>
          <a:stretch/>
        </p:blipFill>
        <p:spPr>
          <a:xfrm>
            <a:off x="214200" y="2286000"/>
            <a:ext cx="2656080" cy="392904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5"/>
          <p:cNvSpPr/>
          <p:nvPr/>
        </p:nvSpPr>
        <p:spPr>
          <a:xfrm>
            <a:off x="7286760" y="5857920"/>
            <a:ext cx="1357200" cy="714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15-10-27T16:13:23Z</dcterms:modified>
  <cp:revision>105</cp:revision>
  <dc:subject/>
  <dc:title>конкурс</dc:title>
</cp:coreProperties>
</file>