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48E0-FCAA-4B21-AA92-A09552676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6CFE-AD3D-4527-9FDA-A018078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E159-B02F-4E33-9730-824F9BD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64F4-8451-4522-B340-146255A99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21D9D-AD62-4DCB-B8CC-8B40FF58D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A3E0A-F8A8-4942-991E-1897F95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E5ABE-A6F5-455C-83C9-6AD80F38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D6766-4DED-4BC2-AED5-AF019858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CED5-9183-4CFD-91EB-A30F296A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256C-7129-410F-9C9E-7A3BE152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2648-175E-4E29-B164-0B27ACA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302D-F11A-4E41-A522-75F48CB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A10A0-AE48-4281-9041-BCE6A19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53E85-E926-406E-815D-A491D98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421A8-9C48-4497-99FE-33C24343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3EE5C-9FD5-41EC-8A93-505ED97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1B466-35C9-4C95-868A-1FE254ED7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237F-A43E-4519-B8B4-A13E6E04D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E1D3-7E45-4AEA-9137-BCC9D9C2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A3D7-F4AF-4FA7-A731-A31043E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1D3-EDFD-4764-8F53-393F89A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14D-53DB-4E97-99D9-328194C5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EAE1-7FAE-49F5-B494-0AFBB90D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EBF-8505-4EFC-8EF6-E0AE6792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9FB-8942-4AC5-974A-BE7CABA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366-C048-42A8-8BA1-5C917A2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586D-D2E2-4823-823B-0C1392D6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119-75CA-4210-9CBE-E2922721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24E5-07C1-4803-B01D-0A25136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3EF9-1D4C-4920-8E0E-266B56800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AFA4-94EE-4640-AF02-96FD6A2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6840-D1DC-4C88-A7E9-5AC5878F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FA98-C96F-4188-B3C9-E117005D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0F30-4E34-4AF5-8533-0015FCF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AF17-25A7-457B-8887-39B02E3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8D53-EE63-4F77-BB41-3362236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EA5BD4-8025-4B72-9B2E-AEADFC069AD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C959FD-8E7A-492B-8F82-5F705890976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F03C8A-B502-4D42-9CA0-61B190B7DA3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692360" y="836640"/>
            <a:ext cx="5543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3279600" y="4653000"/>
            <a:ext cx="48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воспитатели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Рубанова Татьяна Андреевн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Тимофеева Екатерина Александровна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76720" y="2708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042920" y="942840"/>
            <a:ext cx="66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Художественное творчество в подготовительной группе «Колокольчик»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оздание листовок «Автокресло – детям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276720" y="5877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БДОУ ДС № 56 «Улыбка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"/>
          <p:cNvPicPr/>
          <p:nvPr/>
        </p:nvPicPr>
        <p:blipFill>
          <a:blip r:embed="rId1"/>
          <a:srcRect l="0" t="0" r="0" b="17451"/>
          <a:stretch/>
        </p:blipFill>
        <p:spPr>
          <a:xfrm>
            <a:off x="74520" y="2379600"/>
            <a:ext cx="2816280" cy="41356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2"/>
          <a:srcRect l="11490" t="12203" r="0" b="13249"/>
          <a:stretch/>
        </p:blipFill>
        <p:spPr>
          <a:xfrm>
            <a:off x="5989680" y="2379600"/>
            <a:ext cx="2751120" cy="4118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" descr=""/>
          <p:cNvPicPr/>
          <p:nvPr/>
        </p:nvPicPr>
        <p:blipFill>
          <a:blip r:embed="rId3"/>
          <a:srcRect l="-1857" t="-12874" r="1870" b="12882"/>
          <a:stretch/>
        </p:blipFill>
        <p:spPr>
          <a:xfrm>
            <a:off x="3102120" y="2077920"/>
            <a:ext cx="2654280" cy="4719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-55440" y="1125360"/>
            <a:ext cx="88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ошкольники создали листовки с картинками и слоганами, направленные на пропаганду использования детских удерживающих устройств в автомобил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hello_html_m3bcffbe2.png"/>
          <p:cNvPicPr/>
          <p:nvPr/>
        </p:nvPicPr>
        <p:blipFill>
          <a:blip r:embed="rId2"/>
          <a:stretch/>
        </p:blipFill>
        <p:spPr>
          <a:xfrm>
            <a:off x="857160" y="3429000"/>
            <a:ext cx="2264040" cy="29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3"/>
          <a:stretch/>
        </p:blipFill>
        <p:spPr>
          <a:xfrm>
            <a:off x="5094360" y="1413000"/>
            <a:ext cx="3065400" cy="4249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4"/>
          <a:stretch/>
        </p:blipFill>
        <p:spPr>
          <a:xfrm>
            <a:off x="857160" y="3435480"/>
            <a:ext cx="39355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"/>
          <p:cNvPicPr/>
          <p:nvPr/>
        </p:nvPicPr>
        <p:blipFill>
          <a:blip r:embed="rId5"/>
          <a:stretch/>
        </p:blipFill>
        <p:spPr>
          <a:xfrm>
            <a:off x="1225440" y="782640"/>
            <a:ext cx="37911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hello_html_m3bcffbe2.png"/>
          <p:cNvPicPr/>
          <p:nvPr/>
        </p:nvPicPr>
        <p:blipFill>
          <a:blip r:embed="rId2"/>
          <a:stretch/>
        </p:blipFill>
        <p:spPr>
          <a:xfrm>
            <a:off x="857160" y="3429000"/>
            <a:ext cx="2264040" cy="29052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3"/>
          <a:stretch/>
        </p:blipFill>
        <p:spPr>
          <a:xfrm>
            <a:off x="755640" y="717480"/>
            <a:ext cx="7478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rcRect l="0" t="13251" r="0" b="14303"/>
          <a:stretch/>
        </p:blipFill>
        <p:spPr>
          <a:xfrm>
            <a:off x="177840" y="2655720"/>
            <a:ext cx="2744640" cy="35355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2"/>
          <a:srcRect l="0" t="22705" r="0" b="16403"/>
          <a:stretch/>
        </p:blipFill>
        <p:spPr>
          <a:xfrm>
            <a:off x="6014880" y="2624040"/>
            <a:ext cx="2992680" cy="3241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3"/>
          <a:srcRect l="0" t="13252" r="0" b="23752"/>
          <a:stretch/>
        </p:blipFill>
        <p:spPr>
          <a:xfrm>
            <a:off x="3008160" y="3497400"/>
            <a:ext cx="2921040" cy="3271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581040" y="119700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Вручение листовок родителя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«Чтобы избежать беды-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 автокреслом ты вед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507960"/>
            <a:ext cx="86454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92400" y="642960"/>
            <a:ext cx="716436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регите себя и своих детей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2"/>
          <a:srcRect l="4325" t="14304" r="0" b="0"/>
          <a:stretch/>
        </p:blipFill>
        <p:spPr>
          <a:xfrm>
            <a:off x="1116000" y="1450800"/>
            <a:ext cx="68119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1</cp:lastModifiedBy>
  <dcterms:modified xsi:type="dcterms:W3CDTF">2023-02-09T10:40:57Z</dcterms:modified>
  <cp:revision>74</cp:revision>
  <dc:subject/>
  <dc:title>Слайд 1</dc:title>
</cp:coreProperties>
</file>