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5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8A2DA-58B6-47B9-8755-5E969950DE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F073C-831B-4691-A500-2C5A8DB2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4E77C-B3FD-4F20-AC1C-628CE8D4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AE1FB-95D0-49C7-A2DE-1EC402BA58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70DDC-5569-40BD-9986-2065284ADC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27E21-B1A2-4594-AA72-8A1D6159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32434-CEA6-4C1F-87FD-7297BA56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56C12-6A2B-4562-B304-27047E9B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4FAC4-EF9C-4047-890F-2C4FCE0F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5D500-17B2-4CB4-949A-C2C0DC77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EC87B-FC85-46FD-92E7-F67AF71F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4AEB8-7F4A-48A1-8160-0AA54F02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5A74B-9351-471F-9644-56AFEB4B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96075-610A-446B-93A6-660DB415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FD38B-0FB9-4048-8F43-341A3A2D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FB5E3-EFAF-43F1-8BCB-BD816EBE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DF5F0-A68F-41F6-9453-AFEA189B8A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AAAA-0D0F-44AD-ABAB-A890D001BD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E02A-F763-4F49-959B-2692E7DE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BEAF-82D3-4658-BA58-35626338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F6B6-658E-451E-80E2-8BB520CF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B728-DBDF-4CF7-9573-555CD514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C71AF-93A4-4A2C-9D9D-7A683F2C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D009-5223-4A27-8041-C73EB40C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FD85-6787-4461-9283-9E85CD7E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E73D-51D5-4CDF-9364-BAB35BCE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9F99-F82F-4587-B38F-7C15525B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DB9A-E399-49BE-B27B-3451E220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7CAC-676F-45B6-B466-5984100D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A342-581A-4958-80FC-01BC95B0A2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DCC0-B105-400C-8DE5-CBF37482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9AF2D-5D70-4F0A-A08A-3C7D98C9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F34A2-9373-4D5B-894B-CE6B3A45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D5DA0-EE49-4F74-A022-0F7B00E7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9FF17-27AA-45C3-9E69-8A94255F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C7F8-6065-455D-BF93-D173BC50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9DBF8C-9CF9-4F00-98E0-E9333E43D09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2E3766-1D13-4B42-801B-32DE97FC1725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A21F66-F951-40E2-B0F3-B1829633DF97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1692360" y="836640"/>
            <a:ext cx="5543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en-US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Прямоугольник 1"/>
          <p:cNvSpPr/>
          <p:nvPr/>
        </p:nvSpPr>
        <p:spPr>
          <a:xfrm>
            <a:off x="3279600" y="4653000"/>
            <a:ext cx="488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воспитатели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Рубанова Татьяна Андреевна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Тимофеева Екатерина Александровна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3276720" y="2708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1042920" y="942840"/>
            <a:ext cx="66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Художественное творчество в подготовительной группе «Колокольчик»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оздание листовок «Автокресло – детям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276720" y="587700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МБДОУ ДС № 56 «Улыбка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1" descr=""/>
          <p:cNvPicPr/>
          <p:nvPr/>
        </p:nvPicPr>
        <p:blipFill>
          <a:blip r:embed="rId1"/>
          <a:srcRect l="0" t="0" r="0" b="17451"/>
          <a:stretch/>
        </p:blipFill>
        <p:spPr>
          <a:xfrm>
            <a:off x="74520" y="2379600"/>
            <a:ext cx="2816280" cy="41356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" descr=""/>
          <p:cNvPicPr/>
          <p:nvPr/>
        </p:nvPicPr>
        <p:blipFill>
          <a:blip r:embed="rId2"/>
          <a:srcRect l="11490" t="12203" r="0" b="13249"/>
          <a:stretch/>
        </p:blipFill>
        <p:spPr>
          <a:xfrm>
            <a:off x="5989680" y="2379600"/>
            <a:ext cx="2751120" cy="41180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3" descr=""/>
          <p:cNvPicPr/>
          <p:nvPr/>
        </p:nvPicPr>
        <p:blipFill>
          <a:blip r:embed="rId3"/>
          <a:srcRect l="-1857" t="-12874" r="1870" b="12882"/>
          <a:stretch/>
        </p:blipFill>
        <p:spPr>
          <a:xfrm>
            <a:off x="3102120" y="2077920"/>
            <a:ext cx="2654280" cy="47196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-55440" y="1125360"/>
            <a:ext cx="88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Дошкольники создали листовки с картинками и слоганами, направленные на пропаганду использования детских удерживающих устройств в автомобил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4" descr="hello_html_m3bcffbe2.png"/>
          <p:cNvPicPr/>
          <p:nvPr/>
        </p:nvPicPr>
        <p:blipFill>
          <a:blip r:embed="rId2"/>
          <a:stretch/>
        </p:blipFill>
        <p:spPr>
          <a:xfrm>
            <a:off x="857160" y="3429000"/>
            <a:ext cx="2264040" cy="29052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" descr=""/>
          <p:cNvPicPr/>
          <p:nvPr/>
        </p:nvPicPr>
        <p:blipFill>
          <a:blip r:embed="rId3"/>
          <a:stretch/>
        </p:blipFill>
        <p:spPr>
          <a:xfrm>
            <a:off x="5094360" y="1413000"/>
            <a:ext cx="3065400" cy="42494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"/>
          <p:cNvPicPr/>
          <p:nvPr/>
        </p:nvPicPr>
        <p:blipFill>
          <a:blip r:embed="rId4"/>
          <a:stretch/>
        </p:blipFill>
        <p:spPr>
          <a:xfrm>
            <a:off x="857160" y="3435480"/>
            <a:ext cx="3935520" cy="28526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"/>
          <p:cNvPicPr/>
          <p:nvPr/>
        </p:nvPicPr>
        <p:blipFill>
          <a:blip r:embed="rId5"/>
          <a:stretch/>
        </p:blipFill>
        <p:spPr>
          <a:xfrm>
            <a:off x="1225440" y="782640"/>
            <a:ext cx="3791160" cy="275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4" descr="hello_html_m3bcffbe2.png"/>
          <p:cNvPicPr/>
          <p:nvPr/>
        </p:nvPicPr>
        <p:blipFill>
          <a:blip r:embed="rId2"/>
          <a:stretch/>
        </p:blipFill>
        <p:spPr>
          <a:xfrm>
            <a:off x="857160" y="3429000"/>
            <a:ext cx="2264040" cy="29052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2" descr=""/>
          <p:cNvPicPr/>
          <p:nvPr/>
        </p:nvPicPr>
        <p:blipFill>
          <a:blip r:embed="rId3"/>
          <a:stretch/>
        </p:blipFill>
        <p:spPr>
          <a:xfrm>
            <a:off x="755640" y="717480"/>
            <a:ext cx="747864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"/>
          <p:cNvPicPr/>
          <p:nvPr/>
        </p:nvPicPr>
        <p:blipFill>
          <a:blip r:embed="rId1"/>
          <a:srcRect l="0" t="13251" r="0" b="14303"/>
          <a:stretch/>
        </p:blipFill>
        <p:spPr>
          <a:xfrm>
            <a:off x="177840" y="2655720"/>
            <a:ext cx="2744640" cy="35355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2" descr=""/>
          <p:cNvPicPr/>
          <p:nvPr/>
        </p:nvPicPr>
        <p:blipFill>
          <a:blip r:embed="rId2"/>
          <a:srcRect l="0" t="22705" r="0" b="16403"/>
          <a:stretch/>
        </p:blipFill>
        <p:spPr>
          <a:xfrm>
            <a:off x="6014880" y="2624040"/>
            <a:ext cx="2992680" cy="32418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3" descr=""/>
          <p:cNvPicPr/>
          <p:nvPr/>
        </p:nvPicPr>
        <p:blipFill>
          <a:blip r:embed="rId3"/>
          <a:srcRect l="0" t="13252" r="0" b="23752"/>
          <a:stretch/>
        </p:blipFill>
        <p:spPr>
          <a:xfrm>
            <a:off x="3008160" y="3497400"/>
            <a:ext cx="2921040" cy="32716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5"/>
          <p:cNvSpPr/>
          <p:nvPr/>
        </p:nvSpPr>
        <p:spPr>
          <a:xfrm>
            <a:off x="581040" y="1197000"/>
            <a:ext cx="77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Вручение листовок родителя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«Чтобы избежать беды-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с автокреслом ты веди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24000" y="507960"/>
            <a:ext cx="86454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319640" y="3144960"/>
            <a:ext cx="374328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743280" y="2998800"/>
            <a:ext cx="4064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192400" y="642960"/>
            <a:ext cx="7164360" cy="42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ерегите себя и своих детей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Рисунок 2" descr=""/>
          <p:cNvPicPr/>
          <p:nvPr/>
        </p:nvPicPr>
        <p:blipFill>
          <a:blip r:embed="rId2"/>
          <a:srcRect l="4325" t="14304" r="0" b="0"/>
          <a:stretch/>
        </p:blipFill>
        <p:spPr>
          <a:xfrm>
            <a:off x="1116000" y="1450800"/>
            <a:ext cx="6811920" cy="457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пользователь1</cp:lastModifiedBy>
  <dcterms:modified xsi:type="dcterms:W3CDTF">2023-02-09T10:40:57Z</dcterms:modified>
  <cp:revision>74</cp:revision>
  <dc:subject/>
  <dc:title>Слайд 1</dc:title>
</cp:coreProperties>
</file>