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17D-BC79-4618-9AD9-F303FC17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B9C-C88C-417A-8453-435185ED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4ED-4E2D-44A6-AAAF-2A123275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08B-B511-487B-8D7A-969DFA15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76B00-1FC5-445A-BFA4-24FAE010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AA633-2B91-41AE-B39A-F9318B20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E7054-4F82-41FE-8862-3547D848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934CA-2081-408A-BC6F-8DEF2E93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E6C51-3372-4954-A924-ACFAAC84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3C653-DD12-4913-B765-0C8A24BB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13AD-32AA-4DDA-82E8-85F9A56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E64-97C6-42E0-BD1F-A4C2ED9B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664D5-A42B-4209-870C-353E4D6B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19F68-A2CD-47A8-9E7D-24F7E8D4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BADF3-D54D-4CCC-91C6-5F4EDC1E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D4EDC-BE28-4648-9BAA-C63A3DA6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9EE11-833F-4C67-B610-C26375CC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972-D3A8-48AC-AB68-8857FE6D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B9A-1CBD-43FD-BD34-418D8083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80E-6E52-4D5E-A223-DC1B22D4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51E-C1CF-4AFC-83C2-13EB89C8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8C8-7475-4E33-94C6-12E77BA7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913-AD16-4139-9690-D7050BFA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1A9-A5EA-4A16-8855-97767178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4C88-203E-4561-8DC9-4B0E33DAFA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E6C6-8921-48D0-9C12-703BCB2BE6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39168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cc"/>
                </a:solidFill>
                <a:latin typeface="Arial"/>
              </a:rPr>
              <a:t>МАСТЕР-КЛАСС</a:t>
            </a:r>
            <a:br>
              <a:rPr sz="6000"/>
            </a:br>
            <a:r>
              <a:rPr b="0" lang="ru-RU" sz="6000" spc="-1" strike="noStrike">
                <a:solidFill>
                  <a:srgbClr val="33cccc"/>
                </a:solidFill>
                <a:latin typeface="Arial"/>
              </a:rPr>
              <a:t>в технике «ГРАТТАЖ»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Ложкой снег мешая, ночь плывёт большая…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Северное сияние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спитатель :Засова С.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pens-books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35880" cy="43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3e3ff"/>
                </a:solidFill>
                <a:latin typeface="Arial"/>
              </a:rPr>
              <a:t>Мо-лод-цы!!!!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у «граттаж» называют «цап-царапки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ттаж (ф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ttage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французског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tte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– способ выполнения рисунка путём процарапывания пером или острым инструментом бумаги или картона, залитых тушью (гуашью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Работы учащихся в технике «граттаж</a:t>
            </a:r>
            <a:r>
              <a:rPr b="0" lang="ru-RU" sz="4000" spc="-1" strike="noStrike">
                <a:solidFill>
                  <a:srgbClr val="3399ff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Picture 9" descr="pens-books"/>
          <p:cNvPicPr/>
          <p:nvPr/>
        </p:nvPicPr>
        <p:blipFill>
          <a:blip r:embed="rId1"/>
          <a:stretch/>
        </p:blipFill>
        <p:spPr>
          <a:xfrm>
            <a:off x="179280" y="2133720"/>
            <a:ext cx="4969080" cy="28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pens-books"/>
          <p:cNvPicPr/>
          <p:nvPr/>
        </p:nvPicPr>
        <p:blipFill>
          <a:blip r:embed="rId2"/>
          <a:stretch/>
        </p:blipFill>
        <p:spPr>
          <a:xfrm>
            <a:off x="5472000" y="2133720"/>
            <a:ext cx="3672000" cy="280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652640" y="5700600"/>
            <a:ext cx="40338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5700600"/>
            <a:ext cx="40338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7" descr="pens-books"/>
          <p:cNvPicPr/>
          <p:nvPr/>
        </p:nvPicPr>
        <p:blipFill>
          <a:blip r:embed="rId1"/>
          <a:stretch/>
        </p:blipFill>
        <p:spPr>
          <a:xfrm>
            <a:off x="250920" y="260280"/>
            <a:ext cx="4170240" cy="446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ens-books"/>
          <p:cNvPicPr/>
          <p:nvPr/>
        </p:nvPicPr>
        <p:blipFill>
          <a:blip r:embed="rId2"/>
          <a:stretch/>
        </p:blipFill>
        <p:spPr>
          <a:xfrm>
            <a:off x="4932360" y="260280"/>
            <a:ext cx="4211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омя детей с темой «Север» нельзя обойти стороной такое красивое и удивительное природное явление – северное сияние, характерное для северных регионов России, таких как Чукотка, Якутия, Ямал, Коми, Карелия, Мурманская и Архангельская области. Детей можно удивить и подарить незабываемые впечатления от рукотворного сюрприза, но для этого необходимо заранее сделать заготовку ф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Перед вами лежит вот такой лист. А теперь приготовьтесь творить  чудо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7" descr="Мастер-класс Граттаж: МК Ложкой снег мешая.... Бумага, Диски ватные, Материал бросовый, Свечи Отдых. Фото 4"/>
          <p:cNvPicPr/>
          <p:nvPr/>
        </p:nvPicPr>
        <p:blipFill>
          <a:blip r:embed="rId1"/>
          <a:stretch/>
        </p:blipFill>
        <p:spPr>
          <a:xfrm>
            <a:off x="1835280" y="3860640"/>
            <a:ext cx="5761080" cy="299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 помощью пластмассовой вилки или деревянной палочки вам надо процарапать верхний слой, чтобы получить северное сия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Picture 7" descr="pens-books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У вас получится такой фон для вашей прекрасной рабо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i?id=161442566-12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озьмите листочек с изображением медведей, вырежьте изображения и наклейте на нижнюю часть листа. Используя ватные диски,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здайте снежные заносы. А теперь карандашом чёрного цвета прорисуйте носы,глаза и когти у медве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42:42Z</dcterms:created>
  <dc:creator>Оксана</dc:creator>
  <dc:description/>
  <dc:language>en-US</dc:language>
  <cp:lastModifiedBy>Пользователь</cp:lastModifiedBy>
  <dcterms:modified xsi:type="dcterms:W3CDTF">2023-02-09T08:59:20Z</dcterms:modified>
  <cp:revision>25</cp:revision>
  <dc:subject/>
  <dc:title>МАСТЕР-КЛАСС</dc:title>
</cp:coreProperties>
</file>