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386-50A1-4D27-8D44-FE69A560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09B-B8AF-4A2B-90BD-A1061959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89F-FD1D-402C-997F-CA673DA2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39D-FFBC-41DF-881F-248BA8C6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DBB92-AF6B-4791-B232-57EC8923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1B2CF-35A9-4760-B7B7-51EAA176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F8B9F-D64C-47C0-95C6-2F9B727D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436D1-5A4F-43B6-A1FE-A1FFFA13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DD1AC-73EF-4091-BB1A-2AAB64E8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EC6F5-6A41-4733-97EA-F98715A8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5807C-01AD-4B04-8C3C-BF33E3B6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9A9-DE28-4299-A11B-6DD5FBD7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10B6A-FAF2-4498-91A4-56DE96FD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D7875-73F5-452D-BA25-AEB553B4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EDA44-D92D-47D6-8CAD-CC871581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328AE-38A9-4FBC-8D7A-DB81C655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9CD3B-BC02-490E-97E4-34470B44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55E-49E2-40D4-A4C3-E193AACF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BED-B5D3-4988-AFC3-EDAF959C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B49-97B2-486B-BF73-E6450F52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864-1403-4215-B386-47692203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B47-BE4A-4749-A3EA-F3D1EF8E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C0E-B164-422F-BA82-FED59099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F2B-A62A-4453-9188-7D7A9B80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6D41-50B8-41AF-AD10-2F012332333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CE29-8578-4A7C-8B4E-17818829F37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39168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cc"/>
                </a:solidFill>
                <a:latin typeface="Arial"/>
              </a:rPr>
              <a:t>МАСТЕР-КЛАСС</a:t>
            </a:r>
            <a:br>
              <a:rPr sz="6000"/>
            </a:br>
            <a:r>
              <a:rPr b="0" lang="ru-RU" sz="6000" spc="-1" strike="noStrike">
                <a:solidFill>
                  <a:srgbClr val="33cccc"/>
                </a:solidFill>
                <a:latin typeface="Arial"/>
              </a:rPr>
              <a:t>в технике «ГРАТТАЖ»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Ложкой снег мешая, ночь плывёт большая…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Северное сияние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спитатель :Засова С.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pens-books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35880" cy="43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e3e3ff"/>
                </a:solidFill>
                <a:latin typeface="Arial"/>
              </a:rPr>
              <a:t>Мо-лод-цы!!!!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79640" y="1699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ct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у «граттаж» называют «цап-царапки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ct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ттаж (фр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ttage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французског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tter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 – способ выполнения рисунка путём процарапывания пером или острым инструментом бумаги или картона, залитых тушью (гуашью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Работы учащихся в технике «граттаж</a:t>
            </a:r>
            <a:r>
              <a:rPr b="0" lang="ru-RU" sz="4000" spc="-1" strike="noStrike">
                <a:solidFill>
                  <a:srgbClr val="3399ff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Picture 9" descr="pens-books"/>
          <p:cNvPicPr/>
          <p:nvPr/>
        </p:nvPicPr>
        <p:blipFill>
          <a:blip r:embed="rId1"/>
          <a:stretch/>
        </p:blipFill>
        <p:spPr>
          <a:xfrm>
            <a:off x="179280" y="2133720"/>
            <a:ext cx="4969080" cy="280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pens-books"/>
          <p:cNvPicPr/>
          <p:nvPr/>
        </p:nvPicPr>
        <p:blipFill>
          <a:blip r:embed="rId2"/>
          <a:stretch/>
        </p:blipFill>
        <p:spPr>
          <a:xfrm>
            <a:off x="5472000" y="2133720"/>
            <a:ext cx="3672000" cy="280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652640" y="5700600"/>
            <a:ext cx="4033800" cy="3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5700600"/>
            <a:ext cx="4033800" cy="3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Picture 7" descr="pens-books"/>
          <p:cNvPicPr/>
          <p:nvPr/>
        </p:nvPicPr>
        <p:blipFill>
          <a:blip r:embed="rId1"/>
          <a:stretch/>
        </p:blipFill>
        <p:spPr>
          <a:xfrm>
            <a:off x="250920" y="260280"/>
            <a:ext cx="4170240" cy="446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pens-books"/>
          <p:cNvPicPr/>
          <p:nvPr/>
        </p:nvPicPr>
        <p:blipFill>
          <a:blip r:embed="rId2"/>
          <a:stretch/>
        </p:blipFill>
        <p:spPr>
          <a:xfrm>
            <a:off x="4932360" y="260280"/>
            <a:ext cx="42116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комя детей с темой «Север» нельзя обойти стороной такое красивое и удивительное природное явление – северное сияние, характерное для северных регионов России, таких как Чукотка, Якутия, Ямал, Коми, Карелия, Мурманская и Архангельская области. Детей можно удивить и подарить незабываемые впечатления от рукотворного сюрприза, но для этого необходимо заранее сделать заготовку ф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Перед вами лежит вот такой лист. А теперь приготовьтесь творить  чудо…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7" descr="Мастер-класс Граттаж: МК Ложкой снег мешая.... Бумага, Диски ватные, Материал бросовый, Свечи Отдых. Фото 4"/>
          <p:cNvPicPr/>
          <p:nvPr/>
        </p:nvPicPr>
        <p:blipFill>
          <a:blip r:embed="rId1"/>
          <a:stretch/>
        </p:blipFill>
        <p:spPr>
          <a:xfrm>
            <a:off x="1835280" y="3860640"/>
            <a:ext cx="5761080" cy="299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25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 помощью пластмассовой вилки или деревянной палочки вам надо процарапать верхний слой, чтобы получить северное сия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0" name="Picture 7" descr="pens-books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У вас получится такой фон для вашей прекрасной рабо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i?id=161442566-12"/>
          <p:cNvPicPr/>
          <p:nvPr/>
        </p:nvPicPr>
        <p:blipFill>
          <a:blip r:embed="rId1"/>
          <a:stretch/>
        </p:blipFill>
        <p:spPr>
          <a:xfrm>
            <a:off x="468360" y="1557360"/>
            <a:ext cx="813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Возьмите листочек с изображением медведей, вырежьте изображения и наклейте на нижнюю часть листа. Используя ватные диски,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здайте снежные заносы. А теперь карандашом чёрного цвета прорисуйте носы,глаза и когти у медве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42:42Z</dcterms:created>
  <dc:creator>Оксана</dc:creator>
  <dc:description/>
  <dc:language>en-US</dc:language>
  <cp:lastModifiedBy>Пользователь</cp:lastModifiedBy>
  <dcterms:modified xsi:type="dcterms:W3CDTF">2023-02-09T08:59:20Z</dcterms:modified>
  <cp:revision>25</cp:revision>
  <dc:subject/>
  <dc:title>МАСТЕР-КЛАСС</dc:title>
</cp:coreProperties>
</file>