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A72-6B06-488B-BBF6-CF4B10D5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70A-64EC-4861-BF26-E08B1957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FDD-FF1E-4108-9DC1-A59B8017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51E-2A3E-424D-9DE1-A32E2A47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C453-6736-427B-BAFE-6D0C19AB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1D5A-A1D5-49FA-B4F4-C06D84A2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8D5C-28BE-4685-8D88-BBD38BA3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8D50-0C88-4097-B6E5-9DDDB712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1556-3E5E-49E5-B531-ADE6B38A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D8F0-C8A3-4003-BA57-635C56A1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A6F3-39BF-4A73-8FCC-1ABC250E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884-253A-44C1-9FE0-62793133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EFFA-C72B-4E2B-81A6-42C3EEB5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D9FA-47C6-4147-9818-ADE8ABB7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BB85-F200-46FE-87A0-6FB84446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8E33-991F-40CF-AD03-4041B6BC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B1CA-6D7C-4904-8218-E4B99EAF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263-19A3-4F1A-A850-E7F70296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6B8-52C8-4EC6-B333-FC402CE1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D8B-A0D2-43C1-9B23-B4BF0565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7B9-30FB-4907-B7F3-19771A5A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AB2-FFC4-4151-8E7B-9A765CE0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EE1-AE45-4593-9867-205BDB77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9C2-2EB8-4F02-807B-A0BDAA91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B8BA-0F14-4EC6-A70A-0C3892F562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8878-4F0F-4124-B162-51D4198360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408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1945 - 202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75 лет Великой Побе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812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836640"/>
            <a:ext cx="3851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400"/>
            </a:br>
            <a:r>
              <a:rPr b="1" i="1" lang="en-US" sz="2400" spc="-1" strike="noStrike">
                <a:solidFill>
                  <a:srgbClr val="ff3300"/>
                </a:solidFill>
                <a:latin typeface="Mongolian Baiti"/>
              </a:rPr>
              <a:t>Государственный военно-исторический 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Mongolian Baiti"/>
              </a:rPr>
              <a:t>музей – заповедник 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Mongolian Baiti"/>
              </a:rPr>
              <a:t>«Прохоровское поле»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333360"/>
            <a:ext cx="417672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189000"/>
            <a:ext cx="363528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Под Прохоровкой летом в сорок третьем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Поистине был самый ад войны.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Броня гудела и дышала смертью,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Дышала с той и этой стороны.</a:t>
            </a:r>
            <a:br>
              <a:rPr sz="1500"/>
            </a:b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Сталь, накаляясь, в пламя превращалась,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В разящий порох превращалась кровь.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Как молнии, здесь сталкивалась ярость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Взаимоисключающих миров.</a:t>
            </a:r>
            <a:br>
              <a:rPr sz="1500"/>
            </a:b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Во все столетья так еще не бились -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Вросли в простор две огненных стены!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Но здесь, в аду, светила справедливость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Лишь только с этой, с нашей стороны.</a:t>
            </a:r>
            <a:br>
              <a:rPr sz="1500"/>
            </a:b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Как при затменье, меркло солнце в небе.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Метались танки, траками пыля...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Как соль на раны, принимала пепел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Измученная русская земл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16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На территории музея-заповедника расположены </a:t>
            </a:r>
            <a:br>
              <a:rPr sz="2600"/>
            </a:b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170000"/>
            <a:ext cx="8675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Наблюдательный пункт командующего 5-й гвардейской танковой армией генерала П.А. Ротмистров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Воинское захоронение солдат и офицеров в хуторе Сторожевое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Памятник советским танкистам на высоте 252,2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Памятный знак на месте подвига Героя Советского Союза старшего лейтенанта П.И. </a:t>
            </a: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Шпетного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Колокол единения  народов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Культурно-исторический центр Третьего ратного поля России «Прохоровское поле»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Скульптурная композиция "Танковый десант"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Музей боевой славы Третьего ратного поля Росс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Памятник Победы - Звонница на </a:t>
            </a: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Прохоровском</a:t>
            </a: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 пол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Выставка бронетанковой техники и вооружения Красной Армии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Храм святых </a:t>
            </a: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Первоверховных</a:t>
            </a: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 апостолов Петра и Павла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Танкодром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Выставочная площадка Танкодрома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Библиотека Н.И. Рыжкова на Прохоровском пол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0"/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3000"/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43664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рская битва, кровопролитное танковое сражение под Прохоровкой 12 июля 1943 года, является поворотным моментом в ходе Великой Отечественной вой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боях на Курской дуге участвовали около двух миллионов человек, шесть тысяч танков, четыре тысячи самолетов. Курск носит звание "Город воинской славы" и награжден орденом Отечественной войны I степ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26520" cy="5689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92000" y="4076280"/>
            <a:ext cx="7127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Герой Советского Союза, участник сражения Григорий Пэнэж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«В памяти остались тяжёлые картины. Стоял такой грохот, что перепонки давило, кровь текла из ушей. Сплошной рев моторов, лязганье металла, грохот, взрывы снарядов, дикий скрежет разрываемого железа. От выстрелов в упор сворачивало башни, скручивало орудия, лопалась броня, взрывались танк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ы помним и храним память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241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54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76720" y="4653000"/>
            <a:ext cx="2808000" cy="154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227640" y="400536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24000" y="4076640"/>
            <a:ext cx="2663640" cy="1773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77407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4T16:38:01Z</dcterms:created>
  <dc:creator>днс</dc:creator>
  <dc:description/>
  <dc:language>en-US</dc:language>
  <cp:lastModifiedBy>днс</cp:lastModifiedBy>
  <dcterms:modified xsi:type="dcterms:W3CDTF">2020-05-16T08:06:37Z</dcterms:modified>
  <cp:revision>19</cp:revision>
  <dc:subject/>
  <dc:title>Слайд 1</dc:title>
</cp:coreProperties>
</file>