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DFA-75D7-41C3-B0AE-55B01083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A3E-FCD2-45BF-8713-D6837747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2A3-91E4-40A0-8773-5977063F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3D8-C3CF-477C-AD2B-8236C256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2809-D103-4E27-827A-6AB1F26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FBA1-A0AC-4471-BF50-46115306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EE0F-A088-4673-8BCE-C04749BD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1E72-A1BD-4F0D-85C6-5C40045D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2227-2438-43D2-A5DE-07B95F95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4BD2-E77E-457E-84FF-0499D457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BB3A-29F9-4C5F-977D-77CD077E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348-8BCA-42C1-9C81-EE05A832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F2BF-F677-422A-A392-C8EAC82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2BC4-57A9-4ABB-B3BB-3F6AAA9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B543-F407-46F1-A159-41A8D81D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F26D-862D-47E2-811B-5D49DC1B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5C27-94D1-4ED5-87FD-070DB797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653-DF7A-4BFC-B39E-794A4D6C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B51-76BA-45E6-8D93-425082BA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FD0-57A3-4845-8F2B-BE50787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9E1-4375-404A-AB6A-BF7215D8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6AF-4192-47FA-A205-9D8CE570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9E4-651D-4BD8-BD81-8A25567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1B3-04BA-4EBF-9884-C8E9E5E4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2D62-B066-48EC-979E-1B3EA3A34A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CBAC-F1BF-4A26-B349-9545904137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408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1945 - 202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75 лет Великой Побе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812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836640"/>
            <a:ext cx="3851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400"/>
            </a:br>
            <a:r>
              <a:rPr b="1" i="1" lang="en-US" sz="2400" spc="-1" strike="noStrike">
                <a:solidFill>
                  <a:srgbClr val="ff3300"/>
                </a:solidFill>
                <a:latin typeface="Mongolian Baiti"/>
              </a:rPr>
              <a:t>Государственный военно-исторический 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Mongolian Baiti"/>
              </a:rPr>
              <a:t>музей – заповедник 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Mongolian Baiti"/>
              </a:rPr>
              <a:t>«Прохоровское поле»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333360"/>
            <a:ext cx="41767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189000"/>
            <a:ext cx="363528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Под Прохоровкой летом в сорок третьем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Поистине был самый ад войны.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Броня гудела и дышала смертью,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Дышала с той и этой стороны.</a:t>
            </a:r>
            <a:br>
              <a:rPr sz="1500"/>
            </a:b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Сталь, накаляясь, в пламя превращалась,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В разящий порох превращалась кровь.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Как молнии, здесь сталкивалась ярость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Взаимоисключающих миров.</a:t>
            </a:r>
            <a:br>
              <a:rPr sz="1500"/>
            </a:b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Во все столетья так еще не бились -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Вросли в простор две огненных стены!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Но здесь, в аду, светила справедливость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Лишь только с этой, с нашей стороны.</a:t>
            </a:r>
            <a:br>
              <a:rPr sz="1500"/>
            </a:b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Как при затменье, меркло солнце в небе.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Метались танки, траками пыля...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Как соль на раны, принимала пепел</a:t>
            </a:r>
            <a:br>
              <a:rPr sz="1500"/>
            </a:b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Измученная русская земл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16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На территории музея-заповедника расположены </a:t>
            </a:r>
            <a:br>
              <a:rPr sz="2600"/>
            </a:b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170000"/>
            <a:ext cx="867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Наблюдательный пункт командующего 5-й гвардейской танковой армией генерала П.А. Ротмистров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Воинское захоронение солдат и офицеров в хуторе Сторожевое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амятник советским танкистам на высоте 252,2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амятный знак на месте подвига Героя Советского Союза старшего лейтенанта П.И. 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Шпетного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Колокол единения  народов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Культурно-исторический центр Третьего ратного поля России «Прохоровское поле»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Скульптурная композиция "Танковый десант"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Музей боевой славы Третьего ратного поля Росс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амятник Победы - Звонница на 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рохоровском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 пол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Выставка бронетанковой техники и вооружения Красной Армии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Храм святых 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Первоверховных</a:t>
            </a: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 апостолов Петра и Павла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cc66"/>
                </a:solidFill>
                <a:uFillTx/>
                <a:latin typeface="Tahoma"/>
              </a:rPr>
              <a:t>Танкодром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Выставочная площадка Танкодрома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Библиотека Н.И. Рыжкова на Прохоровском пол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0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3000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рская битва, кровопролитное танковое сражение под Прохоровкой 12 июля 1943 года, является поворотным моментом в ходе Великой Отечественной вой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боях на Курской дуге участвовали около двух миллионов человек, шесть тысяч танков, четыре тысячи самолетов. Курск носит звание "Город воинской славы" и награжден орденом Отечественной войны I степ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6520" cy="5689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92000" y="4076280"/>
            <a:ext cx="7127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Герой Советского Союза, участник сражения Григорий Пэнэж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«В памяти остались тяжёлые картины. Стоял такой грохот, что перепонки давило, кровь текла из ушей. Сплошной рев моторов, лязганье металла, грохот, взрывы снарядов, дикий скрежет разрываемого железа. От выстрелов в упор сворачивало башни, скручивало орудия, лопалась броня, взрывались тан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ы помним и храним память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241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54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76720" y="4653000"/>
            <a:ext cx="2808000" cy="154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27640" y="400536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24000" y="4076640"/>
            <a:ext cx="2663640" cy="1773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77407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4T16:38:01Z</dcterms:created>
  <dc:creator>днс</dc:creator>
  <dc:description/>
  <dc:language>en-US</dc:language>
  <cp:lastModifiedBy>днс</cp:lastModifiedBy>
  <dcterms:modified xsi:type="dcterms:W3CDTF">2020-05-16T08:06:37Z</dcterms:modified>
  <cp:revision>19</cp:revision>
  <dc:subject/>
  <dc:title>Слайд 1</dc:title>
</cp:coreProperties>
</file>