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311-77CB-466D-BE7A-839011F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152-C928-4165-8D93-7680F1B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984-86D7-4E5D-9146-A7DC65AE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FD9-420E-482C-9B00-8AADC246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7BD-B734-49A8-9813-BA669759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30A-68A0-4BA2-AE04-D637E24F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FF0-A6C4-4408-8C90-22A6B2AF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9C93-66E6-41FD-827A-BEFC5E4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506D-0C2C-4F23-A48C-2856663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3DB2-D7E9-4C50-99EE-FC1FA58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F496-7AB5-449E-AD28-4F55BCA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843-EA00-46B3-8C5B-FAA6923B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43E1-23D6-423A-A90B-2D79FB1A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E5C4-971F-4DE4-A1C5-216479D7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4BE1-9503-4089-BB08-EA7B406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0919-2B48-4FDC-8173-EF73E6AD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015-9E3B-4097-ABD8-A5A585BE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31A-6BDD-4522-A28F-46887907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410-A6E3-494E-A849-180E5A38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00E-3B5E-486A-9B7F-799A351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69E-A0A2-499D-87C6-5E2525A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F43-9306-4649-A770-BDA66A1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82F-0574-497B-8951-83463E8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018-176A-48E3-B671-701AA94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ACD-0E13-4432-9B38-B1B0E818F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d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75520" y="4698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72400" y="232560"/>
                  <a:ext cx="8096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72240" y="137304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27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916040" y="16308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d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BE6F-7E8F-45DC-8EFD-C29F33737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85716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БДОУ ЦРР- детский сад №5 «Солнышк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ль семьи в развитии                     познавательной актив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бенка дошкольного возраст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втор: Тютюнникова Л.А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F:\P5201296.JPG"/>
          <p:cNvPicPr/>
          <p:nvPr/>
        </p:nvPicPr>
        <p:blipFill>
          <a:blip r:embed="rId1"/>
          <a:stretch/>
        </p:blipFill>
        <p:spPr>
          <a:xfrm>
            <a:off x="41400" y="2738520"/>
            <a:ext cx="31114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Центры «Маленькие академики», «Талантливые пальчи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Содержимое 4" descr="IMG_1880.JPG"/>
          <p:cNvPicPr/>
          <p:nvPr/>
        </p:nvPicPr>
        <p:blipFill>
          <a:blip r:embed="rId1"/>
          <a:stretch/>
        </p:blipFill>
        <p:spPr>
          <a:xfrm>
            <a:off x="500040" y="2143080"/>
            <a:ext cx="3772080" cy="35434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5" descr="IMG_1878.JPG"/>
          <p:cNvPicPr/>
          <p:nvPr/>
        </p:nvPicPr>
        <p:blipFill>
          <a:blip r:embed="rId2"/>
          <a:stretch/>
        </p:blipFill>
        <p:spPr>
          <a:xfrm>
            <a:off x="4610160" y="2143080"/>
            <a:ext cx="3771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шение проблемных ситу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C:\Users\1111\Desktop\IMG_1887.JPG"/>
          <p:cNvPicPr/>
          <p:nvPr/>
        </p:nvPicPr>
        <p:blipFill>
          <a:blip r:embed="rId1"/>
          <a:stretch/>
        </p:blipFill>
        <p:spPr>
          <a:xfrm>
            <a:off x="1285920" y="1714680"/>
            <a:ext cx="714384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ша коллек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Содержимое 4" descr="P3280444.JPG"/>
          <p:cNvPicPr/>
          <p:nvPr/>
        </p:nvPicPr>
        <p:blipFill>
          <a:blip r:embed="rId1"/>
          <a:stretch/>
        </p:blipFill>
        <p:spPr>
          <a:xfrm>
            <a:off x="714240" y="2143080"/>
            <a:ext cx="3772080" cy="3643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Users\1111\Desktop\P5141259.JPG"/>
          <p:cNvPicPr/>
          <p:nvPr/>
        </p:nvPicPr>
        <p:blipFill>
          <a:blip r:embed="rId2"/>
          <a:stretch/>
        </p:blipFill>
        <p:spPr>
          <a:xfrm>
            <a:off x="4572000" y="2143080"/>
            <a:ext cx="4129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31672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формление фото-выставок: «Мир, в котором я живу»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7" descr="SAM_4924"/>
          <p:cNvPicPr/>
          <p:nvPr/>
        </p:nvPicPr>
        <p:blipFill>
          <a:blip r:embed="rId1"/>
          <a:stretch/>
        </p:blipFill>
        <p:spPr>
          <a:xfrm>
            <a:off x="395280" y="549360"/>
            <a:ext cx="216684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M_4750"/>
          <p:cNvPicPr/>
          <p:nvPr/>
        </p:nvPicPr>
        <p:blipFill>
          <a:blip r:embed="rId2"/>
          <a:stretch/>
        </p:blipFill>
        <p:spPr>
          <a:xfrm>
            <a:off x="6048360" y="18900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SDC13342"/>
          <p:cNvPicPr/>
          <p:nvPr/>
        </p:nvPicPr>
        <p:blipFill>
          <a:blip r:embed="rId3"/>
          <a:stretch/>
        </p:blipFill>
        <p:spPr>
          <a:xfrm>
            <a:off x="468360" y="3716280"/>
            <a:ext cx="3487680" cy="2616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SAM_4898"/>
          <p:cNvPicPr/>
          <p:nvPr/>
        </p:nvPicPr>
        <p:blipFill>
          <a:blip r:embed="rId4"/>
          <a:stretch/>
        </p:blipFill>
        <p:spPr>
          <a:xfrm>
            <a:off x="4643280" y="3792600"/>
            <a:ext cx="42498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ллективное дел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7" descr="C:\Users\1111\Desktop\SAM_5186.JPG"/>
          <p:cNvPicPr/>
          <p:nvPr/>
        </p:nvPicPr>
        <p:blipFill>
          <a:blip r:embed="rId1"/>
          <a:stretch/>
        </p:blipFill>
        <p:spPr>
          <a:xfrm>
            <a:off x="714240" y="1071720"/>
            <a:ext cx="3500640" cy="2625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Users\1111\Desktop\SAM_5203.JPG"/>
          <p:cNvPicPr/>
          <p:nvPr/>
        </p:nvPicPr>
        <p:blipFill>
          <a:blip r:embed="rId2"/>
          <a:stretch/>
        </p:blipFill>
        <p:spPr>
          <a:xfrm>
            <a:off x="4929120" y="1071720"/>
            <a:ext cx="3435480" cy="2576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Users\1111\Desktop\SAM_5184.JPG"/>
          <p:cNvPicPr/>
          <p:nvPr/>
        </p:nvPicPr>
        <p:blipFill>
          <a:blip r:embed="rId3"/>
          <a:stretch/>
        </p:blipFill>
        <p:spPr>
          <a:xfrm>
            <a:off x="714240" y="385776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1111\Desktop\SAM_4915.JPG"/>
          <p:cNvPicPr/>
          <p:nvPr/>
        </p:nvPicPr>
        <p:blipFill>
          <a:blip r:embed="rId4"/>
          <a:stretch/>
        </p:blipFill>
        <p:spPr>
          <a:xfrm>
            <a:off x="4857840" y="3857760"/>
            <a:ext cx="34941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Пройти вместе – это нача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Остаться вместе – это развит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Работать вместе – это успе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920" y="44290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5040" y="50720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357200" y="3718080"/>
          <a:ext cx="413064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718080"/>
                    <a:ext cx="413064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d33b7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cd33b7"/>
                </a:solidFill>
                <a:latin typeface="Comic Sans MS"/>
              </a:rPr>
              <a:t>На протяжении всей сознательной жизни человека семья  служит первой ступенью,  от которой зависит, перейдёт ли потенциальная возможность в реальную действительность. Вместе с тем, требуется тесное взаимодействие семьи и ДОУ, их действия должны быть согласованы, требования к воспитанникам един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Новиз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cd33b7"/>
                </a:solidFill>
                <a:latin typeface="Comic Sans MS"/>
              </a:rPr>
              <a:t>Опираясь на современные требования ФГОС дошкольного образования, дошкольное образовательное учреждение вовлекает родителей в процесс всестороннего  активного развития детей через сотрудничество. Родители знают своих детей с рождения, сотрудники ДОУ видят и наблюдают детей в группе. Родители подсказывают особенности своих детей, а педагоги им как развивать и воспитыв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2800" spc="-1" strike="noStrike">
                <a:solidFill>
                  <a:srgbClr val="cd33b7"/>
                </a:solidFill>
                <a:latin typeface="Comic Sans MS"/>
              </a:rPr>
              <a:t>Развитие познавательной активности через сотрудничество с родителя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Развитие восприятия, внимания, памяти, воображения, логического мышления у дошкольник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Развитие способности к решению творческих пробл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Поиск контакта с родителями и деть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Обеспечение координации совместных усилий семьи и ДОУ по развитию познавательной активности дошкольни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Организация коллектива родителей, развитие его воспитательного потенциал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ой эта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84360" y="836640"/>
            <a:ext cx="377208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cd33b7"/>
                </a:solidFill>
                <a:latin typeface="Comic Sans MS"/>
              </a:rPr>
              <a:t>Круглые столы:</a:t>
            </a:r>
            <a:r>
              <a:rPr b="0" lang="ru-RU" sz="1800" spc="-1" strike="noStrike">
                <a:solidFill>
                  <a:srgbClr val="cd33b7"/>
                </a:solidFill>
                <a:latin typeface="Comic Sans MS"/>
              </a:rPr>
              <a:t> «Ознакомление с окружающим миром – первая ступень умственного воспитания дошкольников», «Развитие памяти у детей», «Развитие любознательности у дошкольников», «Роль дидактической игры в умственном развитии дете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AM_1734"/>
          <p:cNvPicPr/>
          <p:nvPr/>
        </p:nvPicPr>
        <p:blipFill>
          <a:blip r:embed="rId1"/>
          <a:stretch/>
        </p:blipFill>
        <p:spPr>
          <a:xfrm>
            <a:off x="6227640" y="98100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SAM_4746"/>
          <p:cNvPicPr/>
          <p:nvPr/>
        </p:nvPicPr>
        <p:blipFill>
          <a:blip r:embed="rId2"/>
          <a:stretch/>
        </p:blipFill>
        <p:spPr>
          <a:xfrm>
            <a:off x="6215040" y="3220920"/>
            <a:ext cx="2428920" cy="298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SAM_4742"/>
          <p:cNvPicPr/>
          <p:nvPr/>
        </p:nvPicPr>
        <p:blipFill>
          <a:blip r:embed="rId3"/>
          <a:stretch/>
        </p:blipFill>
        <p:spPr>
          <a:xfrm>
            <a:off x="250920" y="3141720"/>
            <a:ext cx="2448000" cy="245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SAM_1736"/>
          <p:cNvPicPr/>
          <p:nvPr/>
        </p:nvPicPr>
        <p:blipFill>
          <a:blip r:embed="rId4"/>
          <a:stretch/>
        </p:blipFill>
        <p:spPr>
          <a:xfrm>
            <a:off x="250920" y="907920"/>
            <a:ext cx="2608200" cy="19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Documents and Settings\Олег\Рабочий стол\image.jpg"/>
          <p:cNvPicPr/>
          <p:nvPr/>
        </p:nvPicPr>
        <p:blipFill>
          <a:blip r:embed="rId5"/>
          <a:stretch/>
        </p:blipFill>
        <p:spPr>
          <a:xfrm>
            <a:off x="2859120" y="429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дагогическая поддерж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1.Родительский всеобуч: «Вечер вопросов и ответов»</a:t>
            </a:r>
            <a:br>
              <a:rPr sz="3200"/>
            </a:b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2.Индивидуаль-ный маршрут.</a:t>
            </a:r>
            <a:br>
              <a:rPr sz="3200"/>
            </a:b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3.Консультации для родителей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C:\Users\1111\Desktop\DSC_8891.jpg"/>
          <p:cNvPicPr/>
          <p:nvPr/>
        </p:nvPicPr>
        <p:blipFill>
          <a:blip r:embed="rId1"/>
          <a:stretch/>
        </p:blipFill>
        <p:spPr>
          <a:xfrm>
            <a:off x="4929120" y="1714680"/>
            <a:ext cx="3067200" cy="2047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C:\Documents and Settings\Олег\Рабочий стол\Рисунок3.jpg"/>
          <p:cNvPicPr/>
          <p:nvPr/>
        </p:nvPicPr>
        <p:blipFill>
          <a:blip r:embed="rId2"/>
          <a:stretch/>
        </p:blipFill>
        <p:spPr>
          <a:xfrm>
            <a:off x="4643280" y="3786120"/>
            <a:ext cx="3929400" cy="2836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жиссёрские игр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1" descr="C:\Users\1111\Desktop\SAM_5215.JPG"/>
          <p:cNvPicPr/>
          <p:nvPr/>
        </p:nvPicPr>
        <p:blipFill>
          <a:blip r:embed="rId1"/>
          <a:stretch/>
        </p:blipFill>
        <p:spPr>
          <a:xfrm>
            <a:off x="4643280" y="16430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9" descr="DSC_8840.jpg"/>
          <p:cNvPicPr/>
          <p:nvPr/>
        </p:nvPicPr>
        <p:blipFill>
          <a:blip r:embed="rId2"/>
          <a:stretch/>
        </p:blipFill>
        <p:spPr>
          <a:xfrm>
            <a:off x="1536840" y="3714840"/>
            <a:ext cx="2606400" cy="2409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1111\Desktop\SAM_5210.JPG"/>
          <p:cNvPicPr/>
          <p:nvPr/>
        </p:nvPicPr>
        <p:blipFill>
          <a:blip r:embed="rId3"/>
          <a:stretch/>
        </p:blipFill>
        <p:spPr>
          <a:xfrm>
            <a:off x="4643280" y="378612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1111\Desktop\DSC_8862.jpg"/>
          <p:cNvPicPr/>
          <p:nvPr/>
        </p:nvPicPr>
        <p:blipFill>
          <a:blip r:embed="rId4"/>
          <a:stretch/>
        </p:blipFill>
        <p:spPr>
          <a:xfrm>
            <a:off x="1643040" y="1714680"/>
            <a:ext cx="24289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d33b7"/>
                </a:solidFill>
                <a:latin typeface="Comic Sans MS"/>
              </a:rPr>
              <a:t>Педагогическое образование родителей.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7" descr="C:\Users\1111\Desktop\SAM_5192.JPG"/>
          <p:cNvPicPr/>
          <p:nvPr/>
        </p:nvPicPr>
        <p:blipFill>
          <a:blip r:embed="rId1"/>
          <a:stretch/>
        </p:blipFill>
        <p:spPr>
          <a:xfrm>
            <a:off x="1071720" y="171468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1111\Desktop\SAM_5191.JPG"/>
          <p:cNvPicPr/>
          <p:nvPr/>
        </p:nvPicPr>
        <p:blipFill>
          <a:blip r:embed="rId2"/>
          <a:stretch/>
        </p:blipFill>
        <p:spPr>
          <a:xfrm>
            <a:off x="857160" y="400068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Users\1111\Desktop\SAM_5194.JPG"/>
          <p:cNvPicPr/>
          <p:nvPr/>
        </p:nvPicPr>
        <p:blipFill>
          <a:blip r:embed="rId3"/>
          <a:stretch/>
        </p:blipFill>
        <p:spPr>
          <a:xfrm>
            <a:off x="5072040" y="3929040"/>
            <a:ext cx="3494160" cy="2624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Users\1111\Desktop\SDC11102.JPG"/>
          <p:cNvPicPr/>
          <p:nvPr/>
        </p:nvPicPr>
        <p:blipFill>
          <a:blip r:embed="rId4"/>
          <a:stretch/>
        </p:blipFill>
        <p:spPr>
          <a:xfrm>
            <a:off x="5000760" y="1714680"/>
            <a:ext cx="3357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кскур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Содержимое 4" descr="SDC13318.JPG"/>
          <p:cNvPicPr/>
          <p:nvPr/>
        </p:nvPicPr>
        <p:blipFill>
          <a:blip r:embed="rId1"/>
          <a:stretch/>
        </p:blipFill>
        <p:spPr>
          <a:xfrm>
            <a:off x="571680" y="2286000"/>
            <a:ext cx="3771720" cy="318600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5" descr="SDC13339.JPG"/>
          <p:cNvPicPr/>
          <p:nvPr/>
        </p:nvPicPr>
        <p:blipFill>
          <a:blip r:embed="rId2"/>
          <a:stretch/>
        </p:blipFill>
        <p:spPr>
          <a:xfrm>
            <a:off x="4572000" y="2286000"/>
            <a:ext cx="3772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1</dc:creator>
  <dc:description/>
  <dc:language>en-US</dc:language>
  <cp:lastModifiedBy>User</cp:lastModifiedBy>
  <dcterms:modified xsi:type="dcterms:W3CDTF">2023-02-09T10:41:31Z</dcterms:modified>
  <cp:revision>80</cp:revision>
  <dc:subject/>
  <dc:title>PowerPoint Presentation</dc:title>
</cp:coreProperties>
</file>