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6.jpeg" ContentType="image/jpeg"/>
  <Override PartName="/ppt/media/image24.png" ContentType="image/png"/>
  <Override PartName="/ppt/media/image11.jpeg" ContentType="image/jpeg"/>
  <Override PartName="/ppt/media/image23.jpeg" ContentType="image/jpeg"/>
  <Override PartName="/ppt/media/image12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28.jpeg" ContentType="image/jpeg"/>
  <Override PartName="/ppt/media/image7.jpeg" ContentType="image/jpeg"/>
  <Override PartName="/ppt/media/image34.jpeg" ContentType="image/jpeg"/>
  <Override PartName="/ppt/media/image8.png" ContentType="image/png"/>
  <Override PartName="/ppt/media/image33.png" ContentType="image/png"/>
  <Override PartName="/ppt/media/image13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5.png" ContentType="image/png"/>
  <Override PartName="/ppt/media/image35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png" ContentType="image/png"/>
  <Override PartName="/ppt/media/image16.jpeg" ContentType="image/jpe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0.jpeg" ContentType="image/jpeg"/>
  <Override PartName="/ppt/media/image19.png" ContentType="image/png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0A5C8-1E48-4E36-8215-9AC2EF559921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1CC05-DBC4-46DA-8945-E1FD7CB8CF47}" type="slidenum">
              <a:rPr b="0" i="1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D1E46-A734-4FE2-923C-B1D38EF0DD9F}" type="slidenum">
              <a:rPr b="0" i="1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476C4-6081-4D2C-BF74-CE47B0D59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D2E42-ECCE-4A71-8760-8086BD5C9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845F3-57FC-4160-A3D1-19CC65D20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13CF5-3D93-4B5D-BD8C-394386F46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895D3-3558-49FC-9668-1306F0C9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2A509-86C4-4700-9A86-143223E10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7859B-C71C-4EA5-9CF9-2E270BAC2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9D200-BBD7-4B99-BDF1-2F87CDEED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85F80-27BA-46B5-9C0B-3515343CA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757C5-E7FA-4DEC-B233-E71EF552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57135-A80E-4DB4-8E76-3EB72C45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93826-1160-4048-873F-C06CE63E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372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B08E8-7F71-4211-BA87-C79DC5CB27DB}" type="slidenum">
              <a:rPr b="0" i="1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3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image" Target="../media/image23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-585720" y="1262160"/>
            <a:ext cx="7540560" cy="2219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894200" y="5357880"/>
            <a:ext cx="42498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МУЗЫКАЛЬНЫЙ РУКОВОДИТЕЛЬ: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0000"/>
              </a:lnSpc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Гаврилова Елена Вениаминовна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395280" y="3645000"/>
            <a:ext cx="4176720" cy="2727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044720" y="260280"/>
            <a:ext cx="55162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DejaVu Sans"/>
              </a:rPr>
              <a:t>МБДОУ «Смольковский детский сад» 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9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DejaVu Sans"/>
              </a:rPr>
              <a:t>Городецкого района Нижегородской области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2" name=""/>
          <p:cNvSpPr/>
          <p:nvPr/>
        </p:nvSpPr>
        <p:spPr>
          <a:xfrm>
            <a:off x="3697200" y="6407280"/>
            <a:ext cx="105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DejaVu Sans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DejaVu Sans"/>
              </a:rPr>
              <a:t>2013 г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5072040" y="2571840"/>
            <a:ext cx="3857760" cy="257184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430960" y="2414520"/>
            <a:ext cx="3335040" cy="11574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000080" y="3786120"/>
            <a:ext cx="785988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7560" indent="-411120">
              <a:lnSpc>
                <a:spcPct val="7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70000"/>
              </a:lnSpc>
              <a:spcBef>
                <a:spcPts val="711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говаривание текста в ритме песни, негромко, шепотом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70000"/>
              </a:lnSpc>
              <a:spcBef>
                <a:spcPts val="711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еззвучная артикуляция при мысленном пении с опорой на внешнее звучание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70000"/>
              </a:lnSpc>
              <a:spcBef>
                <a:spcPts val="711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ение «эхом»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7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642960" y="285840"/>
            <a:ext cx="528624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>
            <a:lum contrast="30000"/>
          </a:blip>
          <a:srcRect l="0" t="54615" r="50727" b="0"/>
          <a:stretch/>
        </p:blipFill>
        <p:spPr>
          <a:xfrm>
            <a:off x="900000" y="5429160"/>
            <a:ext cx="4103640" cy="1285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>
            <a:lum contrast="30000"/>
          </a:blip>
          <a:srcRect l="51297" t="0" r="0" b="54107"/>
          <a:stretch/>
        </p:blipFill>
        <p:spPr>
          <a:xfrm>
            <a:off x="3348000" y="357120"/>
            <a:ext cx="5040360" cy="14288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244440" y="255600"/>
            <a:ext cx="3552840" cy="11714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7560" indent="-411120">
              <a:lnSpc>
                <a:spcPct val="8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80000"/>
              </a:lnSpc>
              <a:spcBef>
                <a:spcPts val="513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ение на звук «у»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80000"/>
              </a:lnSpc>
              <a:spcBef>
                <a:spcPts val="513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ение </a:t>
            </a:r>
            <a:r>
              <a:rPr b="0" i="1" lang="en-US" sz="2000" spc="-1" strike="noStrike">
                <a:solidFill>
                  <a:srgbClr val="ffffff"/>
                </a:solidFill>
                <a:latin typeface="Book Antiqua"/>
              </a:rPr>
              <a:t>a capella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80000"/>
              </a:lnSpc>
              <a:spcBef>
                <a:spcPts val="513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певание сложных фрагментов со словами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80000"/>
              </a:lnSpc>
              <a:spcBef>
                <a:spcPts val="513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оделирование высоты звука рукой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80000"/>
              </a:lnSpc>
              <a:spcBef>
                <a:spcPts val="513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етод мысленного пения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80000"/>
              </a:lnSpc>
              <a:spcBef>
                <a:spcPts val="513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спользование детских музыкальных инструментов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80000"/>
              </a:lnSpc>
              <a:spcBef>
                <a:spcPts val="513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ение с прохлопыванием или ритмичное проговаривание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80000"/>
              </a:lnSpc>
              <a:spcBef>
                <a:spcPts val="513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гра «Узнай песню по ритму»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80000"/>
              </a:lnSpc>
              <a:spcBef>
                <a:spcPts val="513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ение с ритмическим аккомпанементом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80000"/>
              </a:lnSpc>
              <a:spcBef>
                <a:spcPts val="513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ение на слог «лю»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80000"/>
              </a:lnSpc>
              <a:spcBef>
                <a:spcPts val="513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ение по фразам вслух и про себя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4" name="" descr=""/>
          <p:cNvPicPr/>
          <p:nvPr/>
        </p:nvPicPr>
        <p:blipFill>
          <a:blip r:embed="rId5">
            <a:lum contrast="30000"/>
          </a:blip>
          <a:srcRect l="0" t="7915" r="51279" b="53191"/>
          <a:stretch/>
        </p:blipFill>
        <p:spPr>
          <a:xfrm>
            <a:off x="6429240" y="2060640"/>
            <a:ext cx="2714760" cy="12254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>
            <a:lum contrast="30000"/>
          </a:blip>
          <a:srcRect l="51675" t="57690" r="0" b="10459"/>
          <a:stretch/>
        </p:blipFill>
        <p:spPr>
          <a:xfrm>
            <a:off x="5643720" y="4500720"/>
            <a:ext cx="3168360" cy="15174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322360" y="255600"/>
            <a:ext cx="4340520" cy="11523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28760" y="1285920"/>
            <a:ext cx="793116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7560" indent="-411120">
              <a:lnSpc>
                <a:spcPct val="80000"/>
              </a:lnSpc>
              <a:spcBef>
                <a:spcPts val="539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80000"/>
              </a:lnSpc>
              <a:spcBef>
                <a:spcPts val="539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80000"/>
              </a:lnSpc>
              <a:spcBef>
                <a:spcPts val="539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Пение по подгруппам, рядам  </a:t>
            </a:r>
            <a:endParaRPr b="0" lang="en-US" sz="21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80000"/>
              </a:lnSpc>
              <a:spcBef>
                <a:spcPts val="539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Игра «Чей ряд знает лучше слова?»</a:t>
            </a:r>
            <a:endParaRPr b="0" lang="en-US" sz="21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80000"/>
              </a:lnSpc>
              <a:spcBef>
                <a:spcPts val="539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Дирижирование детским хором</a:t>
            </a:r>
            <a:endParaRPr b="0" lang="en-US" sz="21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80000"/>
              </a:lnSpc>
              <a:spcBef>
                <a:spcPts val="539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Игра «Волшебная палочка»</a:t>
            </a:r>
            <a:endParaRPr b="0" lang="en-US" sz="21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80000"/>
              </a:lnSpc>
              <a:spcBef>
                <a:spcPts val="539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Игра «Выступление по телевизору»</a:t>
            </a:r>
            <a:endParaRPr b="0" lang="en-US" sz="21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80000"/>
              </a:lnSpc>
              <a:spcBef>
                <a:spcPts val="539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Инсценирование песен</a:t>
            </a:r>
            <a:endParaRPr b="0" lang="en-US" sz="21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80000"/>
              </a:lnSpc>
              <a:spcBef>
                <a:spcPts val="539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Пение от лица разных персонажей</a:t>
            </a:r>
            <a:endParaRPr b="0" lang="en-US" sz="21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80000"/>
              </a:lnSpc>
              <a:spcBef>
                <a:spcPts val="539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Соревнование «Мальчики и девочки»</a:t>
            </a:r>
            <a:endParaRPr b="0" lang="en-US" sz="21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80000"/>
              </a:lnSpc>
              <a:spcBef>
                <a:spcPts val="539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Метод сравнительного анализа</a:t>
            </a:r>
            <a:endParaRPr b="0" lang="en-US" sz="21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80000"/>
              </a:lnSpc>
              <a:spcBef>
                <a:spcPts val="539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Исполнение для персонажа</a:t>
            </a:r>
            <a:endParaRPr b="0" lang="en-US" sz="21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80000"/>
              </a:lnSpc>
              <a:spcBef>
                <a:spcPts val="539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80000"/>
              </a:lnSpc>
              <a:spcBef>
                <a:spcPts val="539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643720" y="1714680"/>
            <a:ext cx="3357360" cy="26668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356000" y="1450800"/>
            <a:ext cx="433080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7560" indent="-411120">
              <a:lnSpc>
                <a:spcPct val="90000"/>
              </a:lnSpc>
              <a:spcBef>
                <a:spcPts val="612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ждой песне – сценическое воплощение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90000"/>
              </a:lnSpc>
              <a:spcBef>
                <a:spcPts val="612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узыкальное исполнение:   - солисты;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9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проигрыши на детских          музыкальных      инструментах;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9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пение под фонограмму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90000"/>
              </a:lnSpc>
              <a:spcBef>
                <a:spcPts val="612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ценическое оформление: костюмы, аксессуары, декорации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14200" y="1428840"/>
            <a:ext cx="4143600" cy="36432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20840" y="133200"/>
            <a:ext cx="8242200" cy="12621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7560" indent="-41112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ммуникация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знание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тение художественной литературы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изическая культура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доровье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Художественное творчество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циализация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руд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езопасность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357880" y="3286080"/>
            <a:ext cx="3612960" cy="30718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346640" y="1673280"/>
            <a:ext cx="4402080" cy="44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7560" indent="-411120">
              <a:lnSpc>
                <a:spcPct val="90000"/>
              </a:lnSpc>
              <a:spcBef>
                <a:spcPts val="462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нятия: традиционные, комплексные, доминантные, интегрированные, тематические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90000"/>
              </a:lnSpc>
              <a:spcBef>
                <a:spcPts val="462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звлечения для групп детского сада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90000"/>
              </a:lnSpc>
              <a:spcBef>
                <a:spcPts val="462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церты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90000"/>
              </a:lnSpc>
              <a:spcBef>
                <a:spcPts val="462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ступление детей на праздничных утренниках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90000"/>
              </a:lnSpc>
              <a:spcBef>
                <a:spcPts val="462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курсы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ВНы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90000"/>
              </a:lnSpc>
              <a:spcBef>
                <a:spcPts val="462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частие в районных мероприятиях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90000"/>
              </a:lnSpc>
              <a:spcBef>
                <a:spcPts val="462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кальный кружок «Веселые нотки»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90000"/>
              </a:lnSpc>
              <a:spcBef>
                <a:spcPts val="462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ходе режимных моментов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90000"/>
              </a:lnSpc>
              <a:spcBef>
                <a:spcPts val="462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вместная деятельность детей с воспитателем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90000"/>
              </a:lnSpc>
              <a:spcBef>
                <a:spcPts val="462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амостоятельная деятельность детей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57120" y="1785960"/>
            <a:ext cx="400068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427640" y="1600200"/>
            <a:ext cx="4259160" cy="47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7560" indent="-411120">
              <a:lnSpc>
                <a:spcPct val="70000"/>
              </a:lnSpc>
              <a:spcBef>
                <a:spcPts val="561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Музыкальный всеобуч для молодых воспитателей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70000"/>
              </a:lnSpc>
              <a:spcBef>
                <a:spcPts val="561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Консультации 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70000"/>
              </a:lnSpc>
              <a:spcBef>
                <a:spcPts val="561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Файловая папка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70000"/>
              </a:lnSpc>
              <a:spcBef>
                <a:spcPts val="561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Практикум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70000"/>
              </a:lnSpc>
              <a:spcBef>
                <a:spcPts val="561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«Круглый стол»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70000"/>
              </a:lnSpc>
              <a:spcBef>
                <a:spcPts val="561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Групповая консультация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70000"/>
              </a:lnSpc>
              <a:spcBef>
                <a:spcPts val="561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Индивидуальная консультация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70000"/>
              </a:lnSpc>
              <a:spcBef>
                <a:spcPts val="561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Печатная информация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70000"/>
              </a:lnSpc>
              <a:spcBef>
                <a:spcPts val="561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Репетиция праздничного утренника, развлечения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70000"/>
              </a:lnSpc>
              <a:spcBef>
                <a:spcPts val="561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Выступления в сельском ДК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70000"/>
              </a:lnSpc>
              <a:spcBef>
                <a:spcPts val="561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Совместные поездки в театры, на концерты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285840" y="1785960"/>
            <a:ext cx="4071960" cy="33577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395280" y="260280"/>
            <a:ext cx="8353440" cy="1728720"/>
          </a:xfrm>
          <a:prstGeom prst="rect">
            <a:avLst/>
          </a:prstGeom>
        </p:spPr>
        <p:txBody>
          <a:bodyPr wrap="none" lIns="90000" rIns="90000" tIns="46800" bIns="46800" anchor="ctr">
            <a:prstTxWarp prst="textDeflateBottom">
              <a:avLst>
                <a:gd name="adj" fmla="val 31491"/>
              </a:avLst>
            </a:prstTxWarp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ln w="0">
                  <a:noFill/>
                </a:ln>
                <a:solidFill>
                  <a:srgbClr val="000000"/>
                </a:solidFill>
                <a:latin typeface="DejaVu Sans"/>
              </a:rPr>
              <a:t>СПАСИБО ЗА ВНИМАНИЕ!</a:t>
            </a:r>
            <a:endParaRPr b="0" i="1" lang="en-US" sz="2800" spc="-1" strike="noStrike">
              <a:ln w="0">
                <a:noFill/>
              </a:ln>
              <a:solidFill>
                <a:srgbClr val="000000"/>
              </a:solidFill>
              <a:latin typeface="DejaVu Sans"/>
              <a:ea typeface="DejaVu Sans"/>
            </a:endParaRPr>
          </a:p>
        </p:txBody>
      </p:sp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11040" y="36360"/>
            <a:ext cx="8710560" cy="1584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57200" y="1692360"/>
            <a:ext cx="8229600" cy="45241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916360" y="333360"/>
            <a:ext cx="592452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7560" indent="-41112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ЦЕЛЬ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РАЗВИТИЕ ВОКАЛЬНЫХ  НАВЫКОВ  У ДЕТЕЙ СТАРШЕГО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ОШКОЛЬНОГО ВОЗРАСТА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ЗАДАЧИ: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ВОСПИТАНИЕ У ДЕТЕЙ ЛЮБВИ И ИНТЕРЕСА К ПЕВЧЕСКОЙ ДЕЯТЕЛЬНОСТИ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ЗВИТИЕ ЭМОЦИОНАЛЬНОЙ ОТЗЫВЧИВОСТИ У ДЕТЕЙ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ОРМИРОВАНИЕ ПЕВЧЕСКИХ НАВЫКОВ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ЗВИТИЕ ИСПОЛНИТЕЛЬСКОГО МАСТЕРСТВА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СШИРЕНИЕ МУЗЫКАЛЬНОГО КРУГОЗОРА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28760" y="1143000"/>
            <a:ext cx="2286000" cy="49291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50720" y="48096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140360" y="1773360"/>
            <a:ext cx="5003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7560" indent="-411120">
              <a:lnSpc>
                <a:spcPct val="90000"/>
              </a:lnSpc>
              <a:spcBef>
                <a:spcPts val="561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ПРАВИЛЬНОЕ ЗВУКООБРАЗОВАНИЕ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90000"/>
              </a:lnSpc>
              <a:spcBef>
                <a:spcPts val="561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ПРАВИЛЬНОЕ ДЫХАНИЕ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90000"/>
              </a:lnSpc>
              <a:spcBef>
                <a:spcPts val="561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ХОРОШАЯ ДИКЦИЯ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90000"/>
              </a:lnSpc>
              <a:spcBef>
                <a:spcPts val="561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ЧИСТОТА ИНТОНАЦИИ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90000"/>
              </a:lnSpc>
              <a:spcBef>
                <a:spcPts val="561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СТРОЙНОЕ, СОГЛАСОВАННОЕ ПЕНИЕ - АНСАМБЛЬ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90000"/>
              </a:lnSpc>
              <a:spcBef>
                <a:spcPts val="561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ЭМОЦИОНАЛЬНО - ВЫРАЗИТЕЛЬНОЕ ИСПОЛНЕНИЕ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14200" y="1714680"/>
            <a:ext cx="3857760" cy="30002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0720" y="281160"/>
            <a:ext cx="8242560" cy="1206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067280" y="1700280"/>
            <a:ext cx="5076720" cy="51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7560" indent="-411120">
              <a:lnSpc>
                <a:spcPct val="80000"/>
              </a:lnSpc>
              <a:spcBef>
                <a:spcPts val="513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ЧИТЫВАТЬ ДИАПАЗОН РЕБЕНКА ПРИ ПОДБОРЕ ПЕВЧЕСКОГО РЕПЕРТУАРА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80000"/>
              </a:lnSpc>
              <a:spcBef>
                <a:spcPts val="513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ОБИВАТЬСЯ НОРМАЛЬНОГО, ЕСТЕСТВЕННОГО ТОНА В РАЗГОВОРЕ С ДЕТЬМИ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80000"/>
              </a:lnSpc>
              <a:spcBef>
                <a:spcPts val="513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ЕРЕЧЬ ГОЛОС РЕБЕНКА ОТ НЕНУЖНОГО НАПРЯЖЕНИЯ(НЕ ПЕТЬ ДОЛГО, НЕ ПОВТОРЯТЬ БЕСЦЕЛЬНО ПЕСНЮ)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80000"/>
              </a:lnSpc>
              <a:spcBef>
                <a:spcPts val="513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ЛЕДИТЬ, ЧТОБЫ ДЕТИ НЕ КРИЧАЛИ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80000"/>
              </a:lnSpc>
              <a:spcBef>
                <a:spcPts val="513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 ПЕТЬ НА УЛИЦЕ ПРИ ТЕМПЕРАТУРЕ ВОЗДУХА НИЖЕ +18С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357120" y="1714680"/>
            <a:ext cx="3714840" cy="34765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780000" y="1600200"/>
            <a:ext cx="490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7560" indent="-41112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ИДЕТЬ (СТОЯТЬ) РОВНО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 СУТУЛИТЬСЯ, ГОЛОВУ ДЕРЖАТЬ ПРЯМО , БЕЗ НАПРЯЖЕНИЯ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ЕТЬ ЕСТЕСТВЕННЫМ ГОЛОСОМ, ИЗБЕГАЯ РЕЗКОГО ЗВУЧАНИЯ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ОТ ОТКРЫВАТЬ ВЕРТИКАЛЬНО, НЕ РАСТЯГИВАТЬ В ШИРИНУ, ВО ИЗБЕЖАНИЯ КРИКЛИВОГО ЗВУКА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ИЖНЯЯ ЧЕЛЮСТЬ СВОБОДНА, ГУБЫ ПОДВИЖНЫ, УПРУГИ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95280" y="476280"/>
            <a:ext cx="3300480" cy="61326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0720" y="212760"/>
            <a:ext cx="8242560" cy="1214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924360" y="1728720"/>
            <a:ext cx="521964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7560" indent="-41112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кально-двигательная гимнастика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пражнения на развитие дыхания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кально-хоровые упражнения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ртикуляционная гимнастика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икционная разминка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чевые и ритмические игры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сни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узыкальные пальчиковые игры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узыкальные игры с пением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611280" y="1413000"/>
            <a:ext cx="2449440" cy="20095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142920" y="3500280"/>
            <a:ext cx="3714840" cy="30718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219640" y="2205000"/>
            <a:ext cx="360036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7560" indent="-41112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ЗУЧИВАНИЕ ПЕСНИ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КРЕПЛЕНИЕ ТЕКСТА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БОТА НАД КАЧЕСТВОМ ИСПОЛНЕНИЯ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КРЕПЛЕНИЕ ПЕСНИ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НЦЕРТНОЕ ИСПОЛНЕНИЕ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714240" y="1214280"/>
            <a:ext cx="3857760" cy="47865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00040" y="4000680"/>
            <a:ext cx="8229600" cy="25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7560" indent="-411120">
              <a:lnSpc>
                <a:spcPct val="90000"/>
              </a:lnSpc>
              <a:spcBef>
                <a:spcPts val="612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дагог поет 1 куплет песни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a capella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ети слушают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90000"/>
              </a:lnSpc>
              <a:spcBef>
                <a:spcPts val="612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поминание песни во время релаксации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90000"/>
              </a:lnSpc>
              <a:spcBef>
                <a:spcPts val="612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сня с движениями – педагог поет, дети повторяют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9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2571840" y="1143000"/>
            <a:ext cx="4071960" cy="27860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2T10:26:40Z</dcterms:created>
  <dc:creator>Гаврилова Е.В.</dc:creator>
  <dc:description/>
  <dc:language>en-US</dc:language>
  <cp:lastModifiedBy>Павел</cp:lastModifiedBy>
  <dcterms:modified xsi:type="dcterms:W3CDTF">2014-11-21T19:35:02Z</dcterms:modified>
  <cp:revision>50</cp:revision>
  <dc:subject/>
  <dc:title>Приобщение старших дошкольников к певческой деятельнос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