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8.jpeg" ContentType="image/jpeg"/>
  <Override PartName="/ppt/media/image7.jpeg" ContentType="image/jpeg"/>
  <Override PartName="/ppt/media/image34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5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AA7C-A22B-4089-A0BC-19F88E704023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5565-7B19-4079-96EA-C150244D9D3C}" type="slidenum">
              <a:rPr b="0" i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3F84-6DAF-44C8-ABA2-E26D1529E953}" type="slidenum">
              <a:rPr b="0" i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D9BC8-A66D-4897-8F30-CE93AF27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2BA90-4BE1-4591-9A8B-933B2524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03863-1C36-4AAC-B2B9-0D39BAC8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C77FF-DF48-4058-8583-0FDE4F02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4510E-C65A-40D6-88E0-1A158569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AC7CA-D9CA-4E44-91C6-4BD7EB52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6AE2B-17D3-4614-A7F8-C7F5B881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811E3-D637-4012-AB3D-E85E3174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79985-41BA-4227-8DFE-48182BBF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E64C2-0535-4981-AE23-3D407177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6061C-BE08-420E-AB4E-7913E302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96500-9FA7-4228-8259-97E31BDF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5516-3C58-4640-8496-95CCA8CE069C}" type="slidenum">
              <a:rPr b="0" i="1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3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-585720" y="1262160"/>
            <a:ext cx="7540560" cy="2219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894200" y="5357880"/>
            <a:ext cx="4249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МУЗЫКАЛЬНЫЙ РУКОВОДИТЕЛЬ: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Гаврилова Елена Вениаминовн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95280" y="3645000"/>
            <a:ext cx="4176720" cy="2727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44720" y="260280"/>
            <a:ext cx="55162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МБДОУ «Смольковский детский сад» 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Городецкого района Нижегородской област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"/>
          <p:cNvSpPr/>
          <p:nvPr/>
        </p:nvSpPr>
        <p:spPr>
          <a:xfrm>
            <a:off x="3697200" y="6407280"/>
            <a:ext cx="105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2013 г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072040" y="2571840"/>
            <a:ext cx="3857760" cy="25718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430960" y="2414520"/>
            <a:ext cx="3335040" cy="1157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000080" y="3786120"/>
            <a:ext cx="78598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7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70000"/>
              </a:lnSpc>
              <a:spcBef>
                <a:spcPts val="71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говаривание текста в ритме песни, негромко, шепотом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70000"/>
              </a:lnSpc>
              <a:spcBef>
                <a:spcPts val="71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ззвучная артикуляция при мысленном пении с опорой на внешнее звучание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70000"/>
              </a:lnSpc>
              <a:spcBef>
                <a:spcPts val="71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ние «эхом»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7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42960" y="285840"/>
            <a:ext cx="528624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>
            <a:lum contrast="30000"/>
          </a:blip>
          <a:srcRect l="0" t="54615" r="50727" b="0"/>
          <a:stretch/>
        </p:blipFill>
        <p:spPr>
          <a:xfrm>
            <a:off x="900000" y="5429160"/>
            <a:ext cx="4103640" cy="128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>
            <a:lum contrast="30000"/>
          </a:blip>
          <a:srcRect l="51297" t="0" r="0" b="54107"/>
          <a:stretch/>
        </p:blipFill>
        <p:spPr>
          <a:xfrm>
            <a:off x="3348000" y="357120"/>
            <a:ext cx="5040360" cy="1428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244440" y="255600"/>
            <a:ext cx="3552840" cy="1171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ние на звук «у»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ние </a:t>
            </a:r>
            <a:r>
              <a:rPr b="0" i="1" lang="en-US" sz="2000" spc="-1" strike="noStrike">
                <a:solidFill>
                  <a:srgbClr val="ffffff"/>
                </a:solidFill>
                <a:latin typeface="Book Antiqua"/>
              </a:rPr>
              <a:t>a capella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певание сложных фрагментов со словам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делирование высоты звука рукой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тод мысленного пения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спользование детских музыкальных инструментов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ние с прохлопыванием или ритмичное проговаривание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гра «Узнай песню по ритму»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ние с ритмическим аккомпанементом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ние на слог «лю»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ние по фразам вслух и про себя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5">
            <a:lum contrast="30000"/>
          </a:blip>
          <a:srcRect l="0" t="7915" r="51279" b="53191"/>
          <a:stretch/>
        </p:blipFill>
        <p:spPr>
          <a:xfrm>
            <a:off x="6429240" y="2060640"/>
            <a:ext cx="2714760" cy="1225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>
            <a:lum contrast="30000"/>
          </a:blip>
          <a:srcRect l="51675" t="57690" r="0" b="10459"/>
          <a:stretch/>
        </p:blipFill>
        <p:spPr>
          <a:xfrm>
            <a:off x="5643720" y="4500720"/>
            <a:ext cx="3168360" cy="1517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322360" y="255600"/>
            <a:ext cx="4340520" cy="1152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28760" y="1285920"/>
            <a:ext cx="79311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80000"/>
              </a:lnSpc>
              <a:spcBef>
                <a:spcPts val="539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39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39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Пение по подгруппам, рядам  </a:t>
            </a: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39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Игра «Чей ряд знает лучше слова?»</a:t>
            </a: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39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Дирижирование детским хором</a:t>
            </a: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39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Игра «Волшебная палочка»</a:t>
            </a: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39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Игра «Выступление по телевизору»</a:t>
            </a: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39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Инсценирование песен</a:t>
            </a: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39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Пение от лица разных персонажей</a:t>
            </a: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39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Соревнование «Мальчики и девочки»</a:t>
            </a: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39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Метод сравнительного анализа</a:t>
            </a: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39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Исполнение для персонажа</a:t>
            </a: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0000"/>
              </a:lnSpc>
              <a:spcBef>
                <a:spcPts val="539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0000"/>
              </a:lnSpc>
              <a:spcBef>
                <a:spcPts val="539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643720" y="1714680"/>
            <a:ext cx="335736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356000" y="1450800"/>
            <a:ext cx="43308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ждой песне – сценическое воплощение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узыкальное исполнение:   - солисты;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игрыши на детских          музыкальных      инструментах;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ение под фонограмму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ценическое оформление: костюмы, аксессуары, декорации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14200" y="1428840"/>
            <a:ext cx="4143600" cy="3643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20840" y="133200"/>
            <a:ext cx="8242200" cy="1262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муникация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нание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ение художественной литературы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изическая культура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оровье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удожественное творчество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циализация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зопасность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357880" y="3286080"/>
            <a:ext cx="3612960" cy="3071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346640" y="1673280"/>
            <a:ext cx="440208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90000"/>
              </a:lnSpc>
              <a:spcBef>
                <a:spcPts val="46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нятия: традиционные, комплексные, доминантные, интегрированные, тематические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46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влечения для групп детского сад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46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церты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46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ступление детей на праздничных утренниках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46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курсы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ВНы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46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астие в районных мероприятиях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46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кальный кружок «Веселые нотки»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46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ходе режимных моментов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46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вместная деятельность детей с воспитателем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46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мостоятельная деятельность детей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57120" y="1785960"/>
            <a:ext cx="400068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427640" y="1600200"/>
            <a:ext cx="425916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Музыкальный всеобуч для молодых воспитателей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онсультации 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Файловая папка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актикум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«Круглый стол»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Групповая консультация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Индивидуальная консультация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ечатная информация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Репетиция праздничного утренника, развлечения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ыступления в сельском ДК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овместные поездки в театры, на концерты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85840" y="1785960"/>
            <a:ext cx="4071960" cy="3357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95280" y="260280"/>
            <a:ext cx="8353440" cy="1728720"/>
          </a:xfrm>
          <a:prstGeom prst="rect">
            <a:avLst/>
          </a:prstGeom>
        </p:spPr>
        <p:txBody>
          <a:bodyPr wrap="none" lIns="90000" rIns="90000" tIns="46800" bIns="46800" anchor="ctr">
            <a:prstTxWarp prst="textDeflateBottom">
              <a:avLst>
                <a:gd name="adj" fmla="val 31491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ln w="0">
                  <a:noFill/>
                </a:ln>
                <a:solidFill>
                  <a:srgbClr val="000000"/>
                </a:solidFill>
                <a:latin typeface="DejaVu Sans"/>
              </a:rPr>
              <a:t>СПАСИБО ЗА ВНИМАНИЕ!</a:t>
            </a:r>
            <a:endParaRPr b="0" i="1" lang="en-US" sz="2800" spc="-1" strike="noStrike">
              <a:ln w="0">
                <a:noFill/>
              </a:ln>
              <a:solidFill>
                <a:srgbClr val="000000"/>
              </a:solidFill>
              <a:latin typeface="DejaVu Sans"/>
              <a:ea typeface="DejaVu Sans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11040" y="36360"/>
            <a:ext cx="8710560" cy="1584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" y="1692360"/>
            <a:ext cx="8229600" cy="4524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916360" y="333360"/>
            <a:ext cx="592452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ЦЕЛЬ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РАЗВИТИЕ ВОКАЛЬНЫХ  НАВЫКОВ  У ДЕТЕЙ СТАРШЕГО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ШКОЛЬНОГО ВОЗРАСТ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ОСПИТАНИЕ У ДЕТЕЙ ЛЮБВИ И ИНТЕРЕСА К ПЕВЧЕСКОЙ ДЕЯТЕЛЬНОСТИ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ВИТИЕ ЭМОЦИОНАЛЬНОЙ ОТЗЫВЧИВОСТИ У ДЕТЕЙ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ОРМИРОВАНИЕ ПЕВЧЕСКИХ НАВЫКОВ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ВИТИЕ ИСПОЛНИТЕЛЬСКОГО МАСТЕРСТВ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ШИРЕНИЕ МУЗЫКАЛЬНОГО КРУГОЗОР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28760" y="1143000"/>
            <a:ext cx="2286000" cy="4929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0720" y="48096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140360" y="1773360"/>
            <a:ext cx="500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9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АВИЛЬНОЕ ЗВУКООБРАЗОВАНИЕ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АВИЛЬНОЕ ДЫХАНИЕ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ХОРОШАЯ ДИКЦИЯ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ЧИСТОТА ИНТОНАЦИИ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ТРОЙНОЕ, СОГЛАСОВАННОЕ ПЕНИЕ - АНСАМБЛЬ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56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ЭМОЦИОНАЛЬНО - ВЫРАЗИТЕЛЬНОЕ ИСПОЛНЕНИЕ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385776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0720" y="281160"/>
            <a:ext cx="8242560" cy="1206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067280" y="1700280"/>
            <a:ext cx="507672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ЫВАТЬ ДИАПАЗОН РЕБЕНКА ПРИ ПОДБОРЕ ПЕВЧЕСКОГО РЕПЕРТУАРА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БИВАТЬСЯ НОРМАЛЬНОГО, ЕСТЕСТВЕННОГО ТОНА В РАЗГОВОРЕ С ДЕТЬМ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РЕЧЬ ГОЛОС РЕБЕНКА ОТ НЕНУЖНОГО НАПРЯЖЕНИЯ(НЕ ПЕТЬ ДОЛГО, НЕ ПОВТОРЯТЬ БЕСЦЕЛЬНО ПЕСНЮ)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ЕДИТЬ, ЧТОБЫ ДЕТИ НЕ КРИЧАЛ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ПЕТЬ НА УЛИЦЕ ПРИ ТЕМПЕРАТУРЕ ВОЗДУХА НИЖЕ +18С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57120" y="1714680"/>
            <a:ext cx="3714840" cy="34765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ДЕТЬ (СТОЯТЬ) РОВНО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СУТУЛИТЬСЯ, ГОЛОВУ ДЕРЖАТЬ ПРЯМО , БЕЗ НАПРЯЖЕНИЯ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ТЬ ЕСТЕСТВЕННЫМ ГОЛОСОМ, ИЗБЕГАЯ РЕЗКОГО ЗВУЧАНИЯ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ОТ ОТКРЫВАТЬ ВЕРТИКАЛЬНО, НЕ РАСТЯГИВАТЬ В ШИРИНУ, ВО ИЗБЕЖАНИЯ КРИКЛИВОГО ЗВУКА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ЖНЯЯ ЧЕЛЮСТЬ СВОБОДНА, ГУБЫ ПОДВИЖНЫ, УПРУГ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95280" y="476280"/>
            <a:ext cx="3300480" cy="61326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0720" y="212760"/>
            <a:ext cx="8242560" cy="1214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24360" y="1728720"/>
            <a:ext cx="52196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кально-двигательная гимнастик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пражнения на развитие дыхания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кально-хоровые упражнения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ртикуляционная гимнастик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кционная разминк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чевые и ритмические игры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сни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узыкальные пальчиковые игры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узыкальные игры с пением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11280" y="1413000"/>
            <a:ext cx="2449440" cy="2009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42920" y="3500280"/>
            <a:ext cx="3714840" cy="3071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219640" y="2205000"/>
            <a:ext cx="360036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УЧИВАНИЕ ПЕСН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КРЕПЛЕНИЕ ТЕКСТА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БОТА НАД КАЧЕСТВОМ ИСПОЛНЕНИЯ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КРЕПЛЕНИЕ ПЕСН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НЦЕРТНОЕ ИСПОЛНЕНИЕ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714240" y="1214280"/>
            <a:ext cx="3857760" cy="4786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00040" y="4000680"/>
            <a:ext cx="8229600" cy="25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дагог поет 1 куплет песни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a capella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ти слушают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поминание песни во время релаксации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сня с движениями – педагог поет, дети повторяют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571840" y="1143000"/>
            <a:ext cx="407196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2T10:26:40Z</dcterms:created>
  <dc:creator>Гаврилова Е.В.</dc:creator>
  <dc:description/>
  <dc:language>en-US</dc:language>
  <cp:lastModifiedBy>Павел</cp:lastModifiedBy>
  <dcterms:modified xsi:type="dcterms:W3CDTF">2014-11-21T19:35:02Z</dcterms:modified>
  <cp:revision>50</cp:revision>
  <dc:subject/>
  <dc:title>Приобщение старших дошкольников к певческой деятель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