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719-419A-4526-BCE3-E28294C66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8971-8D13-4099-87AB-B05BEA3C4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31A-6BBA-47E2-9B5B-255B92CB4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л Рэнсом Роджер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Carl Ransom Rogers) (1902–1987) — американский психолог, один из лидеров гуманистической псих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с первым ввел в научный обиход понятие «клиент». И это была не просто игра слов. За терминологическим изменением лежал коренной пересмотр всей стратегии психотерапии. Ибо пациент — это тот, кто болен и нуждается в помощи, поэтому обращается за ней к профессионалу — психотерапевту. Последний руководит им, направляет его, указывает путь выхода из болезненного состояния. А клиент — это тот, кто нуждается в услуге и полагает, что мог бы сделать это сам, но предпочитает опереться на поддержку психотерапевта. Клиент, несмотря на беспокоящие его проблемы, все же рассматривается как человек, способный их понять. В представлении о клиенте содержалась идея равноправия, отсутствующая в отношениях врача и пац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1A61-4579-4379-B668-FA7FEB36C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F48A-755E-4834-A1FE-7B628AF68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3AC4-2F17-4A24-9BB2-907A33F5E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оведения медицинской сестры может оказывать влияние на течение болезни и состояние больного и тем самым профессиональное общение примыкает к таким факторам профессиональной деятельности, влияющим на пациента, как санитарно-противоэпидемический режим, лечебные и диагностические процедуры. Следовательно, медсестра должна быть компетентна не только в манипуляционной деятельности, но и в профессиональном общ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41D-C96D-439E-AFA8-D5B4CB22E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B88C-C380-479C-8DDC-F19EA5515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ратная связь бывает прямая и косвенная. Медсестра выполняет обе роли: коммуникатора и рецип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90A9-5B67-456C-BD73-DBE462319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овой барьер – вспомнить слэнговые выражения: флюшка, валежник, мышка, сексом заниматься, презервативы, монашка, штани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имеры барьеров, выстраиваемых человеком при нежелании бросить ку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7F5-CBF2-47CA-B847-89ED299F6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– краткость, законченность, понятность. Тест на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Ясность – что, где, когда, сколько, как, поч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местность – место и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оверительность – отношение государства, компетентность, умение признаваться в своих ошибках, конфиденциа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7F1-B335-42BA-A148-25504A295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райней мере, на 2/3 зависит от обоня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фия вкусовых сосочков, потеря их эффективности при передаче вкуса и уменьшения их числ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может ускорить потерю вкусовых сосо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влиянию подвержены сосочки, воспринимающие сладкое и соле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убные протезы могут влиять на вкусовые ощу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ятный вкус во рту может быть вызван заболеванием зуб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увеличение потребления сахара и соли (вкл. потребление растительных припра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снижение аппетита и потеря в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зубные протезы нужно носить, и они должны подход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. ежедневный уход за полостью 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тся: прием пищи в компании, применение специй, клетчатки, жидк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FC3-9363-45CA-9372-6F54A101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225-3C09-4630-8386-C7B7E48E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775-59C8-4304-8259-79942E2D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516-7AF2-4B3B-898C-CC4E453B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83A-73D0-49B1-8460-8767E09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D87-B677-4492-BF2C-75ECED8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E41-498E-4B32-AA70-EFBB782E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28D-1D38-4D9D-A5B6-10BEB041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7560"/>
            <a:ext cx="8226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AD7-AD45-4659-B22F-93808B9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D79-F234-44E5-B351-AB563D9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7BD-9B63-44B4-83A4-D7E4349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F86-1F32-4BF8-9012-38AC58E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3480"/>
            <a:ext cx="28922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C691-E99E-48B2-8B7D-C73EB46C70B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612960"/>
            <a:ext cx="784836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  ПРОФЕССИОНАЛЬНОГО ОБЩЕНИЯ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83400" y="67723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2600" y="0"/>
            <a:ext cx="9124920" cy="535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297080" y="3994200"/>
            <a:ext cx="7488000" cy="2531880"/>
          </a:xfrm>
          <a:prstGeom prst="rect">
            <a:avLst/>
          </a:prstGeom>
          <a:solidFill>
            <a:srgbClr val="2d1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ФЕССИОНАЛЬНОЕ ОБЩЕНИЕ КАК ЗДОРОВЬЕСБЕРЕГАЮЩ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 восприятие вли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8280" y="3070080"/>
            <a:ext cx="4977000" cy="3057840"/>
          </a:xfrm>
          <a:prstGeom prst="rect">
            <a:avLst/>
          </a:prstGeom>
          <a:noFill/>
          <a:ln w="0">
            <a:noFill/>
          </a:ln>
        </p:spPr>
        <p:txBody>
          <a:bodyPr tIns="118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едыдущ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е соз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нтал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8692" t="0" r="0" b="0"/>
          <a:stretch/>
        </p:blipFill>
        <p:spPr>
          <a:xfrm>
            <a:off x="5219640" y="3789360"/>
            <a:ext cx="3673440" cy="269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46836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я, связанные с органами чув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то он как-то не так выглядит..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иада Карла Рожде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2350800"/>
            <a:ext cx="461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условное положительное отношение к клиен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мпат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груэнт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978280" cy="4465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Мотив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341360"/>
            <a:ext cx="8226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выигрыша другого (альтру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выигрыша другого (агресс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различий в выигрышах (равенств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собственного выигрыша (индивидуал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общего выигрыша (мотив коопер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720" y="549000"/>
            <a:ext cx="238464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д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900000" y="549360"/>
            <a:ext cx="5535720" cy="5111640"/>
            <a:chOff x="900000" y="549360"/>
            <a:chExt cx="5535720" cy="5111640"/>
          </a:xfrm>
        </p:grpSpPr>
        <p:grpSp>
          <p:nvGrpSpPr>
            <p:cNvPr id="98" name="Group 5"/>
            <p:cNvGrpSpPr/>
            <p:nvPr/>
          </p:nvGrpSpPr>
          <p:grpSpPr>
            <a:xfrm>
              <a:off x="1349280" y="549360"/>
              <a:ext cx="1239840" cy="3905280"/>
              <a:chOff x="1349280" y="549360"/>
              <a:chExt cx="1239840" cy="3905280"/>
            </a:xfrm>
          </p:grpSpPr>
          <p:sp>
            <p:nvSpPr>
              <p:cNvPr id="99" name="Oval 6"/>
              <p:cNvSpPr/>
              <p:nvPr/>
            </p:nvSpPr>
            <p:spPr>
              <a:xfrm>
                <a:off x="1349280" y="549360"/>
                <a:ext cx="123984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"/>
              <p:cNvSpPr/>
              <p:nvPr/>
            </p:nvSpPr>
            <p:spPr>
              <a:xfrm>
                <a:off x="1349280" y="1855800"/>
                <a:ext cx="123984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"/>
              <p:cNvSpPr/>
              <p:nvPr/>
            </p:nvSpPr>
            <p:spPr>
              <a:xfrm>
                <a:off x="1349280" y="3164760"/>
                <a:ext cx="123984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4106880" y="568800"/>
              <a:ext cx="1240200" cy="3905280"/>
              <a:chOff x="4106880" y="568800"/>
              <a:chExt cx="1240200" cy="3905280"/>
            </a:xfrm>
          </p:grpSpPr>
          <p:sp>
            <p:nvSpPr>
              <p:cNvPr id="103" name="Oval 10"/>
              <p:cNvSpPr/>
              <p:nvPr/>
            </p:nvSpPr>
            <p:spPr>
              <a:xfrm>
                <a:off x="4106880" y="568800"/>
                <a:ext cx="124020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"/>
              <p:cNvSpPr/>
              <p:nvPr/>
            </p:nvSpPr>
            <p:spPr>
              <a:xfrm>
                <a:off x="4106880" y="1875240"/>
                <a:ext cx="124020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2"/>
              <p:cNvSpPr/>
              <p:nvPr/>
            </p:nvSpPr>
            <p:spPr>
              <a:xfrm>
                <a:off x="4106880" y="3184200"/>
                <a:ext cx="124020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13"/>
            <p:cNvSpPr/>
            <p:nvPr/>
          </p:nvSpPr>
          <p:spPr>
            <a:xfrm>
              <a:off x="2569320" y="2559600"/>
              <a:ext cx="154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 flipH="1" flipV="1">
              <a:off x="2593800" y="1192680"/>
              <a:ext cx="1512720" cy="27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900000" y="4743000"/>
              <a:ext cx="5535720" cy="9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ЕРЕСЕКАЮЩИЕ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АНСАК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6227640" y="3500280"/>
            <a:ext cx="2384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хо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227640" y="2133720"/>
            <a:ext cx="23846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хочу, и 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 rot="627000">
            <a:off x="1326960" y="803160"/>
            <a:ext cx="63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 Black"/>
              </a:rPr>
              <a:t>Спасибо дорогим учетилям от ваших учинек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33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609480" y="690480"/>
            <a:ext cx="8282160" cy="5330880"/>
            <a:chOff x="609480" y="690480"/>
            <a:chExt cx="8282160" cy="5330880"/>
          </a:xfrm>
        </p:grpSpPr>
        <p:sp>
          <p:nvSpPr>
            <p:cNvPr id="56" name="Oval 10"/>
            <p:cNvSpPr/>
            <p:nvPr/>
          </p:nvSpPr>
          <p:spPr>
            <a:xfrm>
              <a:off x="609480" y="690480"/>
              <a:ext cx="8282160" cy="533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1107000" y="1838520"/>
              <a:ext cx="3791160" cy="14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едагогическая деятельность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4750560" y="2877840"/>
              <a:ext cx="394920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рофессиональное общени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4068000" y="803880"/>
              <a:ext cx="1209960" cy="520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90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ОБМЕН ИНФОРМ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2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обратной связ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коммуникативных барье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ествование вербального и невербального уровней передачи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479520"/>
            <a:ext cx="822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959200" cy="6051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фоне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189080" y="2706840"/>
            <a:ext cx="2959200" cy="5792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мыслов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789440" y="1557360"/>
            <a:ext cx="3311640" cy="60480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тилис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64000" y="2635200"/>
            <a:ext cx="3165480" cy="10843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логического непонима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3840" y="3643200"/>
            <a:ext cx="3240000" cy="14414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оцио- культурных различ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425840" y="4076640"/>
            <a:ext cx="2808360" cy="5745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отнош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938920" y="5084640"/>
            <a:ext cx="2811240" cy="5749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авторитет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39640" y="5875200"/>
            <a:ext cx="8231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сихологическая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672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итерии эффективности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ербальной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635200"/>
            <a:ext cx="287820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909800" y="3571920"/>
            <a:ext cx="287964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05080" y="4510080"/>
            <a:ext cx="3382920" cy="114948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умест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38560" y="5446800"/>
            <a:ext cx="4718160" cy="11491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доверительн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5219640" y="2205000"/>
            <a:ext cx="367200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154560" y="3138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364000" y="2419200"/>
            <a:ext cx="34578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ксемика: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станции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Интим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0 – 45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45 – 12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оциаль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20 –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ублич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57680" cy="6453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Text Box 3"/>
          <p:cNvSpPr/>
          <p:nvPr/>
        </p:nvSpPr>
        <p:spPr>
          <a:xfrm>
            <a:off x="539640" y="62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404640"/>
            <a:ext cx="360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 на 2/3 зависит от обоняния;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возрастом чувст-вительность сосоч-ков снижается, умень-шается их количест-в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влия-нию подвержены со-сочки, воспринима-ющие сладкое и со-л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и зубные протезы могут влиять на вкусовые ощуще-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40:01Z</dcterms:created>
  <dc:creator>Ирина</dc:creator>
  <dc:description/>
  <dc:language>en-US</dc:language>
  <cp:lastModifiedBy>игорь</cp:lastModifiedBy>
  <dcterms:modified xsi:type="dcterms:W3CDTF">2012-08-12T12:18:57Z</dcterms:modified>
  <cp:revision>81</cp:revision>
  <dc:subject/>
  <dc:title>Специфика профессионального общения медсестры с пациентом</dc:title>
</cp:coreProperties>
</file>