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BACF-87C1-43A5-80B7-F51D09BBA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6BD6-4566-4684-A57E-2679F8595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AAB-75D7-4358-9491-48E974293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л Рэнсом Роджер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Carl Ransom Rogers) (1902–1987) — американский психолог, один из лидеров гуманистической псих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с первым ввел в научный обиход понятие «клиент». И это была не просто игра слов. За терминологическим изменением лежал коренной пересмотр всей стратегии психотерапии. Ибо пациент — это тот, кто болен и нуждается в помощи, поэтому обращается за ней к профессионалу — психотерапевту. Последний руководит им, направляет его, указывает путь выхода из болезненного состояния. А клиент — это тот, кто нуждается в услуге и полагает, что мог бы сделать это сам, но предпочитает опереться на поддержку психотерапевта. Клиент, несмотря на беспокоящие его проблемы, все же рассматривается как человек, способный их понять. В представлении о клиенте содержалась идея равноправия, отсутствующая в отношениях врача и пац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C49-5305-49A0-9FFE-4395B0EFC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F86D-7400-4DAE-94FE-6788C655A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A823-ABD2-4F2F-98F5-A850C5222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оведения медицинской сестры может оказывать влияние на течение болезни и состояние больного и тем самым профессиональное общение примыкает к таким факторам профессиональной деятельности, влияющим на пациента, как санитарно-противоэпидемический режим, лечебные и диагностические процедуры. Следовательно, медсестра должна быть компетентна не только в манипуляционной деятельности, но и в профессиональном общ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B7F2-6913-417D-A922-306F2AC80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A8F-48B9-4EDD-B91A-8CF92278F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ратная связь бывает прямая и косвенная. Медсестра выполняет обе роли: коммуникатора и рецип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70CA-DEF4-4269-8B28-FFC744DD6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овой барьер – вспомнить слэнговые выражения: флюшка, валежник, мышка, сексом заниматься, презервативы, монашка, штани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имеры барьеров, выстраиваемых человеком при нежелании бросить кур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C031-D085-4029-A88A-E388D3FA3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а – краткость, законченность, понятность. Тест на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Ясность – что, где, когда, сколько, как, поч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местность – место и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оверительность – отношение государства, компетентность, умение признаваться в своих ошибках, конфиденциа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2949-88B4-47F8-A8C9-4231B84F6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райней мере, на 2/3 зависит от обоня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фия вкусовых сосочков, потеря их эффективности при передаче вкуса и уменьшения их числ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может ускорить потерю вкусовых сосоч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всего влиянию подвержены сосочки, воспринимающие сладкое и соле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убные протезы могут влиять на вкусовые ощу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иятный вкус во рту может быть вызван заболеванием зуб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увеличение потребления сахара и соли (вкл. потребление растительных припра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снижение аппетита и потеря в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зубные протезы нужно носить, и они должны подход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. ежедневный уход за полостью 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тся: прием пищи в компании, применение специй, клетчатки, жидк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1F6-AB9B-4818-91D5-EE24337C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6576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EEF-F859-41C0-8CD4-509EA06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F58-DD0A-4C51-B897-C3C62EF8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9C2-0955-4F83-AABE-11EA952C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C7E-D87C-4A67-BBD2-520F527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A00-68D2-44A0-8A16-5FD367A9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325-D639-4A81-A1EC-517C4A7F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493-9A0A-46B3-BEA0-396AE8BB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77560"/>
            <a:ext cx="8226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9CF-7324-4332-A5E4-2E36257B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410-56AF-417A-ADAE-8B539D1E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B35-91B2-4FE5-A53A-39988093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FD9-EE2B-48FD-9C61-F7C54D8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243480"/>
            <a:ext cx="213228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880" y="6243480"/>
            <a:ext cx="289224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3BC8-93DE-4C90-B84E-5FC9E3ECE02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612960"/>
            <a:ext cx="784836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ОБЕННОСТИ   ПРОФЕССИОНАЛЬНОГО ОБЩЕНИЯ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883400" y="677232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2600" y="0"/>
            <a:ext cx="9124920" cy="5354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297080" y="3994200"/>
            <a:ext cx="7488000" cy="2531880"/>
          </a:xfrm>
          <a:prstGeom prst="rect">
            <a:avLst/>
          </a:prstGeom>
          <a:solidFill>
            <a:srgbClr val="2d1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ФЕССИОНАЛЬНОЕ ОБЩЕНИЕ КАК ЗДОРОВЬЕСБЕРЕГАЮЩ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33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 восприятие влия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8280" y="3070080"/>
            <a:ext cx="4977000" cy="3057840"/>
          </a:xfrm>
          <a:prstGeom prst="rect">
            <a:avLst/>
          </a:prstGeom>
          <a:noFill/>
          <a:ln w="0">
            <a:noFill/>
          </a:ln>
        </p:spPr>
        <p:txBody>
          <a:bodyPr tIns="118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едыдущий опы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остояние созн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нтали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8692" t="0" r="0" b="0"/>
          <a:stretch/>
        </p:blipFill>
        <p:spPr>
          <a:xfrm>
            <a:off x="5219640" y="3789360"/>
            <a:ext cx="3673440" cy="26938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9" name="Rectangle 5"/>
          <p:cNvSpPr/>
          <p:nvPr/>
        </p:nvSpPr>
        <p:spPr>
          <a:xfrm>
            <a:off x="46836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граничения, связанные с органами чув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На что способен наш мозг!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Читайте текст до конца, не обращая внимание на то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то он как-то не так выглядит..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Из исслднеовиай агнлйксиих унёычх селудет, что сошвнерено вёс-рнаво в ккаом пкоярде сотят бвкуы в совле, смаое гавлоне,что перавя и псоленядя бквуы длжоны соттяь на свиох мсеатх.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Оталсьное мжеот бтыь ернуодй и ты смжоешь эот порчтиать.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Птомоу-что мы чтаием солво цлекиом, а не бквуа за бкву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иада Карла Рожде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2350800"/>
            <a:ext cx="4618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условное положительное отношение к клиент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мпат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груэнт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978280" cy="4465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Мотивы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1341360"/>
            <a:ext cx="8226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выигрыша другого (альтруиз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инимизации выигрыша другого (агресс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инимизации различий в выигрышах (равенств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собственного выигрыша (индивидуализ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общего выигрыша (мотив коопер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00720" y="549000"/>
            <a:ext cx="238464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д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900000" y="549360"/>
            <a:ext cx="5535720" cy="5111640"/>
            <a:chOff x="900000" y="549360"/>
            <a:chExt cx="5535720" cy="5111640"/>
          </a:xfrm>
        </p:grpSpPr>
        <p:grpSp>
          <p:nvGrpSpPr>
            <p:cNvPr id="98" name="Group 5"/>
            <p:cNvGrpSpPr/>
            <p:nvPr/>
          </p:nvGrpSpPr>
          <p:grpSpPr>
            <a:xfrm>
              <a:off x="1349280" y="549360"/>
              <a:ext cx="1239840" cy="3905280"/>
              <a:chOff x="1349280" y="549360"/>
              <a:chExt cx="1239840" cy="3905280"/>
            </a:xfrm>
          </p:grpSpPr>
          <p:sp>
            <p:nvSpPr>
              <p:cNvPr id="99" name="Oval 6"/>
              <p:cNvSpPr/>
              <p:nvPr/>
            </p:nvSpPr>
            <p:spPr>
              <a:xfrm>
                <a:off x="1349280" y="549360"/>
                <a:ext cx="1239840" cy="12895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о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7"/>
              <p:cNvSpPr/>
              <p:nvPr/>
            </p:nvSpPr>
            <p:spPr>
              <a:xfrm>
                <a:off x="1349280" y="1855800"/>
                <a:ext cx="1239840" cy="12895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з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8"/>
              <p:cNvSpPr/>
              <p:nvPr/>
            </p:nvSpPr>
            <p:spPr>
              <a:xfrm>
                <a:off x="1349280" y="3164760"/>
                <a:ext cx="1239840" cy="1289880"/>
              </a:xfrm>
              <a:prstGeom prst="ellipse">
                <a:avLst/>
              </a:prstGeom>
              <a:solidFill>
                <a:srgbClr val="00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е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9"/>
            <p:cNvGrpSpPr/>
            <p:nvPr/>
          </p:nvGrpSpPr>
          <p:grpSpPr>
            <a:xfrm>
              <a:off x="4106880" y="568800"/>
              <a:ext cx="1240200" cy="3905280"/>
              <a:chOff x="4106880" y="568800"/>
              <a:chExt cx="1240200" cy="3905280"/>
            </a:xfrm>
          </p:grpSpPr>
          <p:sp>
            <p:nvSpPr>
              <p:cNvPr id="103" name="Oval 10"/>
              <p:cNvSpPr/>
              <p:nvPr/>
            </p:nvSpPr>
            <p:spPr>
              <a:xfrm>
                <a:off x="4106880" y="568800"/>
                <a:ext cx="1240200" cy="12895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о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1"/>
              <p:cNvSpPr/>
              <p:nvPr/>
            </p:nvSpPr>
            <p:spPr>
              <a:xfrm>
                <a:off x="4106880" y="1875240"/>
                <a:ext cx="1240200" cy="12895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з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2"/>
              <p:cNvSpPr/>
              <p:nvPr/>
            </p:nvSpPr>
            <p:spPr>
              <a:xfrm>
                <a:off x="4106880" y="3184200"/>
                <a:ext cx="1240200" cy="1289880"/>
              </a:xfrm>
              <a:prstGeom prst="ellipse">
                <a:avLst/>
              </a:prstGeom>
              <a:solidFill>
                <a:srgbClr val="00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е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13"/>
            <p:cNvSpPr/>
            <p:nvPr/>
          </p:nvSpPr>
          <p:spPr>
            <a:xfrm>
              <a:off x="2569320" y="2559600"/>
              <a:ext cx="1544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 flipH="1" flipV="1">
              <a:off x="2593800" y="1192680"/>
              <a:ext cx="1512720" cy="27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900000" y="4743000"/>
              <a:ext cx="5535720" cy="9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ПЕРЕСЕКАЮЩИЕ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ТРАНСАКЦ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6227640" y="3500280"/>
            <a:ext cx="2384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хо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227640" y="2133720"/>
            <a:ext cx="23846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 хочу, и н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 rot="627000">
            <a:off x="1326960" y="803160"/>
            <a:ext cx="63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 Black"/>
              </a:rPr>
              <a:t>Спасибо дорогим учетилям от ваших учинек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0000"/>
            </a:gs>
            <a:gs pos="100000">
              <a:srgbClr val="33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установления и развития контактов между людьми, порождаемый потребностями в совместной деятельности и включающий в себ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мен информацией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восприятие и понимание другого человек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выработку единой стратегии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9"/>
          <p:cNvGrpSpPr/>
          <p:nvPr/>
        </p:nvGrpSpPr>
        <p:grpSpPr>
          <a:xfrm>
            <a:off x="609480" y="690480"/>
            <a:ext cx="8282160" cy="5330880"/>
            <a:chOff x="609480" y="690480"/>
            <a:chExt cx="8282160" cy="5330880"/>
          </a:xfrm>
        </p:grpSpPr>
        <p:sp>
          <p:nvSpPr>
            <p:cNvPr id="56" name="Oval 10"/>
            <p:cNvSpPr/>
            <p:nvPr/>
          </p:nvSpPr>
          <p:spPr>
            <a:xfrm>
              <a:off x="609480" y="690480"/>
              <a:ext cx="8282160" cy="533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1107000" y="1838520"/>
              <a:ext cx="3791160" cy="14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педагогическая деятельность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4750560" y="2877840"/>
              <a:ext cx="3949200" cy="21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профессиональное общени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4068000" y="803880"/>
              <a:ext cx="1209960" cy="520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установления и развития контактов между людьми, порождаемый потребностями в совместной деятельности и включающий в себ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мен информацией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восприятие и понимание другого человек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выработку единой стратегии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690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ОБМЕН ИНФОРМ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26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 обратной связ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 коммуникативных барьер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ществование вербального и невербального уровней передачи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479520"/>
            <a:ext cx="822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2959200" cy="60516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фонетиче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189080" y="2706840"/>
            <a:ext cx="2959200" cy="57924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мыслово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789440" y="1557360"/>
            <a:ext cx="3311640" cy="60480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тилистиче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64000" y="2635200"/>
            <a:ext cx="3165480" cy="10843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логического непонима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3840" y="3643200"/>
            <a:ext cx="3240000" cy="144144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оцио- культурных различ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425840" y="4076640"/>
            <a:ext cx="2808360" cy="57456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отношен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938920" y="5084640"/>
            <a:ext cx="2811240" cy="5749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авторитет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39640" y="5875200"/>
            <a:ext cx="8231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сихологическая за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8226720" cy="18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ритерии эффективности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вербальной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635200"/>
            <a:ext cx="2878200" cy="11541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909800" y="3571920"/>
            <a:ext cx="2879640" cy="11541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яс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05080" y="4510080"/>
            <a:ext cx="3382920" cy="114948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умест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38560" y="5446800"/>
            <a:ext cx="4718160" cy="114912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доверительност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5219640" y="2205000"/>
            <a:ext cx="3672000" cy="201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154560" y="31384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364000" y="2419200"/>
            <a:ext cx="34578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учет индивидуальных особенносте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ксемика: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станции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Интимная дистанция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(0 – 45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Личная дистанц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45 – 12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Социальная дистанц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20 – 36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Публичная дистанция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36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4657680" cy="6453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Text Box 3"/>
          <p:cNvSpPr/>
          <p:nvPr/>
        </p:nvSpPr>
        <p:spPr>
          <a:xfrm>
            <a:off x="539640" y="620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4000" y="404640"/>
            <a:ext cx="360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ус на 2/3 зависит от обоняния;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возрастом чувст-вительность сосоч-ков снижается, умень-шается их количест-в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е всего влия-нию подвержены со-сочки, воспринима-ющие сладкое и со-л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ение и зубные протезы могут влиять на вкусовые ощуще-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6:40:01Z</dcterms:created>
  <dc:creator>Ирина</dc:creator>
  <dc:description/>
  <dc:language>en-US</dc:language>
  <cp:lastModifiedBy>игорь</cp:lastModifiedBy>
  <dcterms:modified xsi:type="dcterms:W3CDTF">2012-08-12T12:18:57Z</dcterms:modified>
  <cp:revision>81</cp:revision>
  <dc:subject/>
  <dc:title>Специфика профессионального общения медсестры с пациентом</dc:title>
</cp:coreProperties>
</file>