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486-AF0B-4461-B40E-42E48B17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B6B0-9B7A-494C-87CF-3BC18A1F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32A6-F5D7-4008-ACAF-23106A64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75D5-BBAC-43C7-8FB6-F2126CF7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0273-3A5C-4A72-B9D1-6234BA3D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6C70-0637-48A8-ADDA-353C253C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1B6D-60E2-4FAB-A1A0-30592E89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C2E3-00D0-4895-B392-5C542969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920E-D453-4191-AAFA-1B85BE19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3807-2D20-4758-882F-247C03D3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FC56-6CC9-4346-8EA3-0369C52F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3D7C-4806-42A2-ABE0-F68FEF93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9C7A-3A42-43CC-BCAC-7FA38A35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21FB-B611-4454-9792-669CC61E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FA6E-7808-42D4-B560-4A6C30F4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8979-F6F1-49A3-BAE0-C0E693AD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D74A-2C0D-4C4C-8C98-449C589A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79A-3982-488E-AAF3-568709FC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0F3-81D3-408E-A373-9EC5BD62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026F-F5A1-41CB-82BD-3F920F53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8A7A-41D4-4C87-9682-BE42C406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564-729A-49C8-9048-3818077F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6155-0F26-4D06-81F3-6F5C21E9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EA54-09B8-4B2D-A54A-BABB13E3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E083-763A-4F19-982E-C82A552B7593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4782-79B5-4896-BA14-D5259A23EC2B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4&amp;text=&#1082;&#1072;&#1088;&#1090;&#1080;&#1085;&#1082;&#1072;%20&#1088;&#1077;&#1073;&#1105;&#1085;&#1082;&#1072;%2C%20&#1086;%20&#1095;&#1105;&#1084;%20&#1090;&#1086;%20&#1076;&#1091;&#1084;&#1072;&#1102;&#1097;&#1077;&#1075;&#1086;&amp;noreask=1&amp;img_url=http%3A%2F%2Fimg0.liveinternet.ru%2Fimages%2Fattach%2Fc%2F0%2F48%2F84%2F48084163_indigo1.jpg&amp;pos=435&amp;rpt=simage&amp;lr=21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text=&#1082;&#1072;&#1088;&#1090;&#1080;&#1085;&#1082;&#1072;%20&#1088;&#1077;&#1073;&#1105;&#1085;&#1082;&#1072;%20&#1089;&#1080;&#1076;&#1103;&#1097;&#1077;&#1075;&#1086;%20&#1079;&#1072;%20&#1082;&#1086;&#1084;&#1087;&#1100;&#1102;&#1090;&#1077;&#1088;&#1086;&#1084;&amp;noreask=1&amp;img_url=http%3A%2F%2Fwww.raso.ru%2Fsystem%2Fimglib%2Fdata%2F11765%2F72431%2F11%2Fdetstvo.jpg&amp;pos=78&amp;rpt=simage&amp;lr=21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3&amp;text=&#1082;&#1072;&#1088;&#1090;&#1080;&#1085;&#1082;&#1072;%20&#1088;&#1077;&#1073;&#1105;&#1085;&#1082;&#1072;%2C%20&#1085;&#1072;&#1073;&#1083;&#1102;&#1076;&#1072;&#1102;&#1097;&#1077;&#1075;&#1086;%20&#1074;%20&#1084;&#1080;&#1082;&#1088;&#1086;&#1089;&#1082;&#1086;&#1087;&amp;noreask=1&amp;img_url=http%3A%2F%2Fwww.neopod.ru%2Fimages%2Fproducts%2Fmedium%2F0%2Fbresser_junior_8840100_2.jpg&amp;pos=391&amp;rpt=simage&amp;lr=21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7&amp;text=&#1082;&#1072;&#1088;&#1090;&#1080;&#1085;&#1082;&#1072;%20&#1088;&#1077;&#1073;&#1105;&#1085;&#1082;&#1072;%2C%20&#1085;&#1072;&#1073;&#1083;&#1102;&#1076;&#1072;&#1102;&#1097;&#1077;&#1075;&#1086;%20&#1074;%20&#1084;&#1080;&#1082;&#1088;&#1086;&#1089;&#1082;&#1086;&#1087;&amp;noreask=1&amp;img_url=http%3A%2F%2Fwww.tigrulki.ru%2Fwp-content%2Fuploads%2F2010%2F02%2Fuh.jpg&amp;pos=211&amp;rpt=simage&amp;lr=213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706/28257045.5ec/0_6f5cf_5329c14_XL.png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755640" y="907920"/>
            <a:ext cx="77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Я – исследователь.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500280" y="4005360"/>
            <a:ext cx="50724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асарокова Марина Адильгериевн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БОУ «Гимназия №16-детский сад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1357200" y="64296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Гипотеза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714240" y="1928880"/>
            <a:ext cx="7929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Гипотеза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340be3"/>
                </a:solidFill>
                <a:latin typeface="Cambria"/>
              </a:rPr>
              <a:t>– это предположение, рассуждение, догадка, ещё не доказанная и не подтверждённая опы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0be3"/>
                </a:solidFill>
                <a:latin typeface="Cambria"/>
              </a:rPr>
              <a:t>     </a:t>
            </a:r>
            <a:r>
              <a:rPr b="1" lang="ru-RU" sz="2800" spc="-1" strike="noStrike">
                <a:solidFill>
                  <a:srgbClr val="340be3"/>
                </a:solidFill>
                <a:latin typeface="Cambria"/>
              </a:rPr>
              <a:t>Слово «гипотеза» происходит от древнегреческого </a:t>
            </a:r>
            <a:r>
              <a:rPr b="1" lang="en-US" sz="2800" spc="-1" strike="noStrike" u="sng">
                <a:solidFill>
                  <a:srgbClr val="340be3"/>
                </a:solidFill>
                <a:uFillTx/>
                <a:latin typeface="Cambria"/>
              </a:rPr>
              <a:t>hypothesis</a:t>
            </a:r>
            <a:r>
              <a:rPr b="1" lang="ru-RU" sz="2800" spc="-1" strike="noStrike">
                <a:solidFill>
                  <a:srgbClr val="340be3"/>
                </a:solidFill>
                <a:latin typeface="Cambria"/>
              </a:rPr>
              <a:t> – основание, предположение, суждение, которое выдвигается для объяснения какого-либо я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571760" y="71424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Гипотеза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1143000" y="1428840"/>
            <a:ext cx="7000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ambria"/>
              </a:rPr>
              <a:t>Обычно гипотезы начинаются сло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Предположим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         </a:t>
            </a: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Допустим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        </a:t>
            </a: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Возмож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        </a:t>
            </a: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Что, есл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      </a:t>
            </a: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Тебе для решения проблемы потребуется гипотеза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даже несколько гипотез-предположений по теме тво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ис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На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40be3"/>
                </a:solidFill>
                <a:uFillTx/>
                <a:latin typeface="Cambria"/>
              </a:rPr>
              <a:t>Тема: </a:t>
            </a: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«Что такое хлебное дерев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40be3"/>
                </a:solidFill>
                <a:uFillTx/>
                <a:latin typeface="Cambria"/>
              </a:rPr>
              <a:t>Гипотеза: </a:t>
            </a: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Предположим, оно вырастает из сухаре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40be3"/>
                </a:solidFill>
                <a:uFillTx/>
                <a:latin typeface="Cambria"/>
              </a:rPr>
              <a:t>Тема: </a:t>
            </a: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«Почему самолёт оставляет в небе след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40be3"/>
                </a:solidFill>
                <a:uFillTx/>
                <a:latin typeface="Cambria"/>
              </a:rPr>
              <a:t>Гипотеза: </a:t>
            </a: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Допустим, потому, что он разрезает неб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Возможно, чтобы не заблудиться на обратном пут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0be3"/>
                </a:solidFill>
                <a:latin typeface="Cambria"/>
              </a:rPr>
              <a:t>Что, если это послание инопланетянам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714240" y="714240"/>
            <a:ext cx="785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Организация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857160" y="1571760"/>
            <a:ext cx="7929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0be3"/>
                </a:solidFill>
                <a:latin typeface="Cambria"/>
              </a:rPr>
              <a:t>Для того, чтобы составить план, надо ответить на вопрос: как мы можем узнать, что-то новое о том, что исследуем? Для этого надо определить, какими методами мы можем пользоваться, а затем выстроить их по </a:t>
            </a:r>
            <a:r>
              <a:rPr b="1" lang="ru-RU" sz="2800" spc="-1" strike="noStrike">
                <a:solidFill>
                  <a:srgbClr val="0000cc"/>
                </a:solidFill>
                <a:latin typeface="Cambria"/>
              </a:rPr>
              <a:t>поряд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mbria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Метод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– </a:t>
            </a:r>
            <a:r>
              <a:rPr b="1" lang="ru-RU" sz="2800" spc="-1" strike="noStrike">
                <a:solidFill>
                  <a:srgbClr val="340be3"/>
                </a:solidFill>
                <a:latin typeface="Cambria"/>
              </a:rPr>
              <a:t>способ, приём познания явлений окружающего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1000080" y="71424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Подумать самостоятель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571680" y="1859040"/>
            <a:ext cx="8001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С этого надо начинать любую исследовательскую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Задай себе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-Что я знаю об эт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- Какие суждения я могу высказать по этому повод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- Какие я могу сделать выводы и умозаключения из того, что мне уже известно о предмете моего исследов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im6-tub-ru.yandex.net/i?id=63419854-1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7920" y="2000160"/>
            <a:ext cx="2303280" cy="164628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571680" y="357120"/>
            <a:ext cx="81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Посмотреть книги о том, что исследуеш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571680" y="178596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e3"/>
                </a:solidFill>
                <a:latin typeface="Cambria"/>
              </a:rPr>
              <a:t>Если то, что ты исследуешь, описано в известных тебе книгах, к ним надо обратиться в перв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e3"/>
                </a:solidFill>
                <a:latin typeface="Cambria"/>
              </a:rPr>
              <a:t>очередь. Ведь совсем не надо открывать то, что до тебя уже открыто и записано в книг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e3"/>
                </a:solidFill>
                <a:latin typeface="Cambria"/>
              </a:rPr>
              <a:t>Начать работу нужно с энциклопедий и справоч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e3"/>
                </a:solidFill>
                <a:latin typeface="Cambria"/>
              </a:rPr>
              <a:t>Информация в них выстроена по принципу: «Кратк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e3"/>
                </a:solidFill>
                <a:latin typeface="Cambria"/>
              </a:rPr>
              <a:t>точно, доступно обо всё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e3"/>
                </a:solidFill>
                <a:latin typeface="Cambria"/>
              </a:rPr>
              <a:t>Конечно же, не всегда ты сможешь найти все нужное в домашней библиотеке. Поэтому посети школьную, городскую библиот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214280" y="714240"/>
            <a:ext cx="650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Спросить у других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642960" y="1444680"/>
            <a:ext cx="7500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e3"/>
                </a:solidFill>
                <a:latin typeface="Cambria"/>
              </a:rPr>
              <a:t>Людей, с которыми следует побеседовать о предмете исследования, можно условно поделить на две группы: специалисты и неспециали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e3"/>
                </a:solidFill>
                <a:latin typeface="Cambria"/>
              </a:rPr>
              <a:t>К специалистам отнесём всех, кто профессионально занимается тем, что ты исследу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be3"/>
                </a:solidFill>
                <a:latin typeface="Cambria"/>
              </a:rPr>
              <a:t>Неспециалистами для нас будут все остальные люди, но их тоже                                                                                  надо расспросить.                                                                                                             Вполне возможно,   что кто-то из них                                                        знает важное о том,                                                                                                                                          что ты изучаеш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071720" y="428760"/>
            <a:ext cx="70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Познакомиться с кино- и телефильм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1143000" y="1857240"/>
            <a:ext cx="7286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mbria"/>
              </a:rPr>
              <a:t>Ты, конечно, знаешь, что фильмы бывают научные, научно-популярные, документальные, художественные. Они настоящий клад для исследова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mbria"/>
              </a:rPr>
              <a:t>      </a:t>
            </a:r>
            <a:r>
              <a:rPr b="1" lang="ru-RU" sz="2800" spc="-1" strike="noStrike">
                <a:solidFill>
                  <a:srgbClr val="0000cc"/>
                </a:solidFill>
                <a:latin typeface="Cambria"/>
              </a:rPr>
              <a:t>Не забудь об этом источнике знани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1000080" y="642960"/>
            <a:ext cx="692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Обратиться к компьюте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im7-tub-ru.yandex.net/i?id=197424764-3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71880" y="1428840"/>
            <a:ext cx="3097080" cy="205416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sp>
        <p:nvSpPr>
          <p:cNvPr id="113" name="Прямоугольник 3"/>
          <p:cNvSpPr/>
          <p:nvPr/>
        </p:nvSpPr>
        <p:spPr>
          <a:xfrm>
            <a:off x="1000080" y="3714840"/>
            <a:ext cx="7643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0be3"/>
                </a:solidFill>
                <a:latin typeface="Cambria"/>
              </a:rPr>
              <a:t>Сегодня ни один учёный не  работает без компьютера – верного помощника современного исследователя. Это и Интернет и различная информация на компакт-дис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ttp://im6-tub-ru.yandex.net/i?id=522620891-2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4286160"/>
            <a:ext cx="2735280" cy="180036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sp>
        <p:nvSpPr>
          <p:cNvPr id="115" name="Прямоугольник 1"/>
          <p:cNvSpPr/>
          <p:nvPr/>
        </p:nvSpPr>
        <p:spPr>
          <a:xfrm>
            <a:off x="1857240" y="71424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Понаблюд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928800" y="1571760"/>
            <a:ext cx="7429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0be3"/>
                </a:solidFill>
                <a:latin typeface="Cambria"/>
              </a:rPr>
              <a:t>Интересный и доступный способ добычи новых знаний – наблюдение. Для наблюдений человек создал множество приспособлений: простые лупы, бинокли, подзорные трубы, телескопы, микроскопы, приборы ночного видения. Всё это можно использовать в исследован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1500120" y="71424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Провести эксперим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1071720" y="1643040"/>
            <a:ext cx="757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Эксперимент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340be3"/>
                </a:solidFill>
                <a:latin typeface="Cambria"/>
              </a:rPr>
              <a:t>(от латинского слова </a:t>
            </a:r>
            <a:r>
              <a:rPr b="0" lang="en-US" sz="2400" spc="-1" strike="noStrike">
                <a:solidFill>
                  <a:srgbClr val="340be3"/>
                </a:solidFill>
                <a:latin typeface="Cambria"/>
              </a:rPr>
              <a:t>experimentum) –</a:t>
            </a:r>
            <a:r>
              <a:rPr b="0" lang="ru-RU" sz="2400" spc="-1" strike="noStrike">
                <a:solidFill>
                  <a:srgbClr val="340be3"/>
                </a:solidFill>
                <a:latin typeface="Cambria"/>
              </a:rPr>
              <a:t> проба, опыт. Это самый главный метод познания в большинстве наук. Провести эксперимент – значит выполнить какие-то действия с предметом исследования и определить, что изменилось в ходе экспери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im0-tub-ru.yandex.net/i?id=189995292-3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3680" y="3643200"/>
            <a:ext cx="3152520" cy="210996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84360" y="1052640"/>
            <a:ext cx="7920000" cy="65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mbria"/>
              </a:rPr>
              <a:t>Китайская послов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Cambria"/>
              </a:rPr>
              <a:t>«Скажи мне - и я забу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Cambria"/>
              </a:rPr>
              <a:t>Покажи мне - и я запомн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Cambria"/>
              </a:rPr>
              <a:t>Вовлеки меня - и я научус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857160" y="64296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Результаты выполненных 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785880" y="1285920"/>
            <a:ext cx="7929360" cy="58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mbria"/>
              </a:rPr>
              <a:t>Результаты выполненных  проектов долж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Cambria"/>
              </a:rPr>
              <a:t>быть </a:t>
            </a:r>
            <a:r>
              <a:rPr b="0" lang="ru-RU" sz="2000" spc="-1" strike="noStrike" u="sng">
                <a:solidFill>
                  <a:srgbClr val="340be3"/>
                </a:solidFill>
                <a:uFillTx/>
                <a:latin typeface="Cambria"/>
              </a:rPr>
              <a:t>материальны</a:t>
            </a:r>
            <a:r>
              <a:rPr b="0" lang="ru-RU" sz="2000" spc="-1" strike="noStrike">
                <a:solidFill>
                  <a:srgbClr val="340be3"/>
                </a:solidFill>
                <a:latin typeface="Cambria"/>
              </a:rPr>
              <a:t>,</a:t>
            </a: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340be3"/>
                </a:solidFill>
                <a:latin typeface="Cambria"/>
              </a:rPr>
              <a:t>то есть как-либо оформле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e3"/>
                </a:solidFill>
                <a:latin typeface="Cambria"/>
              </a:rPr>
              <a:t>(компьютерная презентация, видеофильм, альбом, бортжурн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e3"/>
                </a:solidFill>
                <a:latin typeface="Cambria"/>
              </a:rPr>
              <a:t>«путешествий», компьютерная газета, альманах, доклад и т.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mbria"/>
              </a:rPr>
              <a:t>    </a:t>
            </a: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Оформленный    проект    должен    содержать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81296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81296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e3"/>
                </a:solidFill>
                <a:latin typeface="Cambria"/>
                <a:ea typeface="Arial"/>
              </a:rPr>
              <a:t>- Титульный лист (школа, название проекта, автор, класс, руководитель проекта, дата исполнения)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296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e3"/>
                </a:solidFill>
                <a:latin typeface="Cambria"/>
                <a:ea typeface="Arial"/>
              </a:rPr>
              <a:t>                                 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340be3"/>
                </a:solidFill>
                <a:latin typeface="Cambria"/>
                <a:ea typeface="Arial"/>
              </a:rPr>
              <a:t>-Рабочие листы портфолио проектной деятельности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296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296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e3"/>
                </a:solidFill>
                <a:latin typeface="Cambria"/>
                <a:ea typeface="Arial"/>
              </a:rPr>
              <a:t>- Источники информации, в том числе библиография (в соответствии с принятыми стандарт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296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296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0be3"/>
                </a:solidFill>
                <a:latin typeface="Cambria"/>
                <a:ea typeface="Arial"/>
              </a:rPr>
              <a:t>- Приложения (рисунки, фотографии, карты, графики, стенограмма интервью, анке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857160" y="78588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От чего зависит успе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785880" y="1762200"/>
            <a:ext cx="82152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   </a:t>
            </a: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Не ограничивай собственных исследований, дай себе волю понять реальность, которая тебя окруж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   </a:t>
            </a: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Действуя, не бойся совершить ошиб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   </a:t>
            </a: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Будь достаточно смел, чтобы принять 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   </a:t>
            </a: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Приняв решение, действуй уверенно и без сом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   </a:t>
            </a: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Сосредоточься и вложи в исследование всю свою энергию и си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   </a:t>
            </a:r>
            <a:r>
              <a:rPr b="0" lang="ru-RU" sz="2400" spc="-1" strike="noStrike">
                <a:solidFill>
                  <a:srgbClr val="7030a0"/>
                </a:solidFill>
                <a:latin typeface="Cambria"/>
              </a:rPr>
              <a:t>Внимательно анализируй факты и не делай поспешных выводов (они часто бывают неверны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714240" y="642960"/>
            <a:ext cx="8001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mbria"/>
              </a:rPr>
              <a:t>Настоящий исследователь преодолеет любые препятствия на своём пути. Самое главное – ты должен верить, что достигнешь намеченной цели. Стремись к ней, невзирая на трудности. Верь в себя, в то, что ты – настоящий исследова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40be3"/>
                </a:solidFill>
                <a:latin typeface="Cambria"/>
              </a:rPr>
              <a:t>Удачи тебе, юный исследователь!                                                                Новых знаний, новых открыт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Заголовок 1"/>
          <p:cNvSpPr/>
          <p:nvPr/>
        </p:nvSpPr>
        <p:spPr>
          <a:xfrm>
            <a:off x="684360" y="476280"/>
            <a:ext cx="784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 – 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684360" y="1341360"/>
            <a:ext cx="799128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00000"/>
                </a:solidFill>
                <a:uFillTx/>
                <a:latin typeface="Cambria"/>
                <a:hlinkClick r:id="rId1"/>
              </a:rPr>
              <a:t>http://img-fotki.yandex.ru/get/4706/28257045.5ec/0_6f5cf_5329c14_XL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http://img-fotki.yandex.ru/get/5634/136487634.a3b/0_d5b7c_44e066c2_XL.p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еро, чернильница, тетр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http://img-fotki.yandex.ru/get/4706/113882196.8e/0_60321_5cca8fd5_X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http://www.ailona.ru/_ph/97/250733085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е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http://img-fotki.yandex.ru/get/6214/66124276.8d/0_760aa_c67ee5b0_XXL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сви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http://s3.uploads.ru/5o8gm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р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Прямоугольник 1" descr=""/>
          <p:cNvPicPr/>
          <p:nvPr/>
        </p:nvPicPr>
        <p:blipFill>
          <a:blip r:embed="rId1"/>
          <a:stretch/>
        </p:blipFill>
        <p:spPr>
          <a:xfrm>
            <a:off x="554040" y="725400"/>
            <a:ext cx="811368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642960" y="642960"/>
            <a:ext cx="78580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Исследование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340be3"/>
                </a:solidFill>
                <a:latin typeface="Calibri"/>
              </a:rPr>
              <a:t>– это поиск истины, познание неизвестного, поиск неизвестного, один из видов познавательной деятельност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Проект </a:t>
            </a:r>
            <a:r>
              <a:rPr b="1" i="1" lang="ru-RU" sz="4000" spc="-1" strike="noStrike">
                <a:solidFill>
                  <a:srgbClr val="340be3"/>
                </a:solidFill>
                <a:latin typeface="Calibri"/>
              </a:rPr>
              <a:t>– </a:t>
            </a:r>
            <a:r>
              <a:rPr b="1" i="1" lang="ru-RU" sz="3600" spc="-1" strike="noStrike">
                <a:solidFill>
                  <a:srgbClr val="340be3"/>
                </a:solidFill>
                <a:latin typeface="Calibri"/>
              </a:rPr>
              <a:t>это всегда исследование, поиск, изучение неизвестн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857160" y="714240"/>
            <a:ext cx="7715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40be3"/>
                </a:solidFill>
                <a:latin typeface="Calibri"/>
              </a:rPr>
              <a:t>   </a:t>
            </a:r>
            <a:r>
              <a:rPr b="1" i="1" lang="ru-RU" sz="2800" spc="-1" strike="noStrike">
                <a:solidFill>
                  <a:srgbClr val="340be3"/>
                </a:solidFill>
                <a:latin typeface="Calibri"/>
              </a:rPr>
              <a:t>Всем известно, что новые знания можно получать от других в готовом виде, а можно добывать самостоятельно.                                                                                     Для того, чтобы научиться их добывать, надо овладеть техникой исследовательского поиска.                                                                                                               В помощники можешь взять взрослых, старшего брата, сестру, маму, папу, бабушку или дедушку. Они с удовольствием помогут тебе освоить приёмы исследователь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642960" y="50004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ambria"/>
              </a:rPr>
              <a:t>Как выбрать тему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928800" y="1428840"/>
            <a:ext cx="7786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mbria"/>
              </a:rPr>
              <a:t>Начало любого исследования </a:t>
            </a:r>
            <a:r>
              <a:rPr b="1" i="1" lang="ru-RU" sz="3200" spc="-1" strike="noStrike">
                <a:solidFill>
                  <a:srgbClr val="340be3"/>
                </a:solidFill>
                <a:latin typeface="Cambria"/>
              </a:rPr>
              <a:t>– это тема твоей работы. Выбрать тему несложно, если точно знаешь, что тебя интересует в данный мо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40be3"/>
                </a:solidFill>
                <a:latin typeface="Cambria"/>
              </a:rPr>
              <a:t>     </a:t>
            </a:r>
            <a:r>
              <a:rPr b="1" i="1" lang="ru-RU" sz="3200" spc="-1" strike="noStrike">
                <a:solidFill>
                  <a:srgbClr val="340be3"/>
                </a:solidFill>
                <a:latin typeface="Cambria"/>
              </a:rPr>
              <a:t>Если не можешь сразу определить тему, задай себе следующие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714240" y="714240"/>
            <a:ext cx="7786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mbria"/>
              </a:rPr>
              <a:t>1. Что мне интересно больше вс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mbria"/>
              </a:rPr>
              <a:t>2. Чем я хочу заниматься в первую очередь (математикой или поэзией, астрономией или историей, спортом, искусство, музыкой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mbria"/>
              </a:rPr>
              <a:t>3. Чем я чаще всего занимаюсь в свободное вре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mbria"/>
              </a:rPr>
              <a:t>4. По каким учебным предметам я получаю лучшие отмет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mbria"/>
              </a:rPr>
              <a:t>5. Что из изученного в школе хотелось бы узнать более глубок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mbria"/>
              </a:rPr>
              <a:t>6. Есть ли что-то такое, чем я особенно горжу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571680" y="64296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Какими могут быть темы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714240" y="1512720"/>
            <a:ext cx="75726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ambria"/>
              </a:rPr>
              <a:t>Фантастические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 темы о несуществующих, фантастических объектах и явлен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ambria"/>
              </a:rPr>
              <a:t>Экспериментальные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 темы, предполагающие проведение собственных наблюдений, опытов и эксперим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ambria"/>
              </a:rPr>
              <a:t>Теоретические</a:t>
            </a:r>
            <a:r>
              <a:rPr b="1" lang="ru-RU" sz="24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 темы по изучению и обобщению сведений, фактов, материалов, содержащихся в разных книгах, фильмах и других подобных источни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ambria"/>
              </a:rPr>
              <a:t>Например: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Кто зажигает звёзды?»                      «Кто построил пирамиды?»                                   «Почему надуваются мыльные пузыри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500040" y="64296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Цель</a:t>
            </a:r>
            <a:r>
              <a:rPr b="1" lang="ru-RU" sz="4400" spc="-1" strike="noStrike">
                <a:solidFill>
                  <a:srgbClr val="e46c0a"/>
                </a:solidFill>
                <a:latin typeface="Cambri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и задачи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500040" y="1859040"/>
            <a:ext cx="8215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Теперь надо подумать над целью и задачами твоей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Определить цель исследования</a:t>
            </a: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– значит ответить себе и другим на вопрос о том, зачем ты его проводи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Например: </a:t>
            </a: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Узнать, что делает под водой водолаз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                         </a:t>
            </a: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Выяснить, почему репейник колючи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                         </a:t>
            </a:r>
            <a:r>
              <a:rPr b="0" lang="ru-RU" sz="2800" spc="-1" strike="noStrike">
                <a:solidFill>
                  <a:srgbClr val="340be3"/>
                </a:solidFill>
                <a:latin typeface="Cambria"/>
              </a:rPr>
              <a:t>Расследовать, зачем зебре полоск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1428840" y="785880"/>
            <a:ext cx="65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Задачи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285840" y="1785960"/>
            <a:ext cx="84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0be3"/>
                </a:solidFill>
                <a:latin typeface="Cambria"/>
              </a:rPr>
              <a:t>Задачи исследования уточняют цел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0be3"/>
                </a:solidFill>
                <a:latin typeface="Cambria"/>
              </a:rPr>
              <a:t>Цель указывает общее направление движен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0be3"/>
                </a:solidFill>
                <a:latin typeface="Cambria"/>
              </a:rPr>
              <a:t>а </a:t>
            </a:r>
            <a:r>
              <a:rPr b="1" lang="ru-RU" sz="3600" spc="-1" strike="noStrike" u="sng">
                <a:solidFill>
                  <a:srgbClr val="340be3"/>
                </a:solidFill>
                <a:uFillTx/>
                <a:latin typeface="Cambria"/>
              </a:rPr>
              <a:t>задачи описывают основные ша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07:43:00Z</dcterms:created>
  <dc:creator>Елена</dc:creator>
  <dc:description/>
  <dc:language>en-US</dc:language>
  <cp:lastModifiedBy>Марина</cp:lastModifiedBy>
  <dcterms:modified xsi:type="dcterms:W3CDTF">2022-12-04T04:08:45Z</dcterms:modified>
  <cp:revision>8</cp:revision>
  <dc:subject/>
  <dc:title>Слайд 1</dc:title>
</cp:coreProperties>
</file>