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375-5135-4F03-9D92-A014AB94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6B3-DE6A-4FAF-AD54-51A20BB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A1D-A02C-4FA5-954B-0D213006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949-54A7-4293-B5B5-B2D93244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979A-A104-4F17-84EA-1D944619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5809-5B59-4529-8D5C-BFD136D4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7AD0-037D-4172-AC95-9E3FB48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58BB-423C-48F2-BAC8-C5303632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F870-6BA3-4163-A37F-B85CFEE0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663-E470-4BD0-AC51-9E36CA55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B58D-1098-43BB-A2B2-2E181119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8B5-4938-471F-BD4A-7038D15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4A89-91E4-4E08-822C-0C4B721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0589-B61A-4590-9775-973857C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5740-541E-41AF-82BD-AA5C40CB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F1F-7C80-4E16-BE98-B774F086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A49F-6343-4E5B-BE03-9D6CCB35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04B-792F-4D00-9C5E-783FF2A3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38B-4770-4FC3-BDF9-010215B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8E3-50C1-4EB8-AC6F-D879F2A8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CA2-04FA-46BB-A361-C98B7C8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D5C-6A9A-4488-A42B-97831A2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F8-59F6-4D34-A8D1-8C92721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946-7F46-4906-B8A9-1FD36CA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203D-35EB-4A06-B7BE-6217F311D3D2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C35-970E-4760-BEE1-530C8F9F99D8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4&amp;text=&#1082;&#1072;&#1088;&#1090;&#1080;&#1085;&#1082;&#1072;%20&#1088;&#1077;&#1073;&#1105;&#1085;&#1082;&#1072;%2C%20&#1086;%20&#1095;&#1105;&#1084;%20&#1090;&#1086;%20&#1076;&#1091;&#1084;&#1072;&#1102;&#1097;&#1077;&#1075;&#1086;&amp;noreask=1&amp;img_url=http%3A%2F%2Fimg0.liveinternet.ru%2Fimages%2Fattach%2Fc%2F0%2F48%2F84%2F48084163_indigo1.jpg&amp;pos=435&amp;rpt=simage&amp;lr=21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72;%20&#1088;&#1077;&#1073;&#1105;&#1085;&#1082;&#1072;%20&#1089;&#1080;&#1076;&#1103;&#1097;&#1077;&#1075;&#1086;%20&#1079;&#1072;%20&#1082;&#1086;&#1084;&#1087;&#1100;&#1102;&#1090;&#1077;&#1088;&#1086;&#1084;&amp;noreask=1&amp;img_url=http%3A%2F%2Fwww.raso.ru%2Fsystem%2Fimglib%2Fdata%2F11765%2F72431%2F11%2Fdetstvo.jpg&amp;pos=78&amp;rpt=simage&amp;lr=21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3&amp;text=&#1082;&#1072;&#1088;&#1090;&#1080;&#1085;&#1082;&#1072;%20&#1088;&#1077;&#1073;&#1105;&#1085;&#1082;&#1072;%2C%20&#1085;&#1072;&#1073;&#1083;&#1102;&#1076;&#1072;&#1102;&#1097;&#1077;&#1075;&#1086;%20&#1074;%20&#1084;&#1080;&#1082;&#1088;&#1086;&#1089;&#1082;&#1086;&#1087;&amp;noreask=1&amp;img_url=http%3A%2F%2Fwww.neopod.ru%2Fimages%2Fproducts%2Fmedium%2F0%2Fbresser_junior_8840100_2.jpg&amp;pos=391&amp;rpt=simage&amp;lr=21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&amp;text=&#1082;&#1072;&#1088;&#1090;&#1080;&#1085;&#1082;&#1072;%20&#1088;&#1077;&#1073;&#1105;&#1085;&#1082;&#1072;%2C%20&#1085;&#1072;&#1073;&#1083;&#1102;&#1076;&#1072;&#1102;&#1097;&#1077;&#1075;&#1086;%20&#1074;%20&#1084;&#1080;&#1082;&#1088;&#1086;&#1089;&#1082;&#1086;&#1087;&amp;noreask=1&amp;img_url=http%3A%2F%2Fwww.tigrulki.ru%2Fwp-content%2Fuploads%2F2010%2F02%2Fuh.jpg&amp;pos=211&amp;rpt=simage&amp;lr=21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706/28257045.5ec/0_6f5cf_5329c14_XL.png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755640" y="90792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Я – исследователь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00280" y="4005360"/>
            <a:ext cx="50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асарокова Марина Адильгерие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Гимназия №16-детский сад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357200" y="64296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Гипотеза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714240" y="1928880"/>
            <a:ext cx="7929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Гипотеза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– это предположение, рассуждение, догадка, ещё не доказанная и не подтверждённая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Слово «гипотеза» происходит от древнегреческого </a:t>
            </a:r>
            <a:r>
              <a:rPr b="1" lang="en-US" sz="2800" spc="-1" strike="noStrike" u="sng">
                <a:solidFill>
                  <a:srgbClr val="340be3"/>
                </a:solidFill>
                <a:uFillTx/>
                <a:latin typeface="Cambria"/>
              </a:rPr>
              <a:t>hypothesis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 – основание, предположение, суждение, которое выдвигается для объяснения какого-либо 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71760" y="7142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Гипотез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143000" y="1428840"/>
            <a:ext cx="7000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Обычно гипотезы начинаются сло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Предполож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Допуст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Возмож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Что, ес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Тебе для решения проблемы потребуется гипотеза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даже несколько гипотез-предположений по теме тво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Тем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«Что такое хлебное дере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Гипотез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Предположим, оно вырастает из сухар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Тем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«Почему самолёт оставляет в небе след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Гипотез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Допустим, потому, что он разрезает неб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Возможно, чтобы не заблудиться на обратном пут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Что, если это послание инопланетянам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714240" y="714240"/>
            <a:ext cx="78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рганизация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857160" y="157176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Для того, чтобы составить план, надо ответить на вопрос: как мы можем узнать, что-то новое о том, что исследуем? Для этого надо определить, какими методами мы можем пользоваться, а затем выстроить их по 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поряд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Метод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способ, приём познания явлений окружающе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1000080" y="7142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Подум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571680" y="185904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С этого надо начинать любую исследовательск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й себ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-Что я знаю об э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- Какие суждения я могу высказать по этому пово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- Какие я могу сделать выводы и умозаключения из того, что мне уже известно о предмете моего исслед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im6-tub-ru.yandex.net/i?id=63419854-1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2000160"/>
            <a:ext cx="2303280" cy="16462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571680" y="35712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осмотреть книги о том, что исследуе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71680" y="178596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Если то, что ты исследуешь, описано в известных тебе книгах, к ним надо обратиться в пер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очередь. Ведь совсем не надо открывать то, что до тебя уже открыто и записано в кни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Начать работу нужно с энциклопедий и справоч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Информация в них выстроена по принципу: «Крат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точно, доступно обо всё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Конечно же, не всегда ты сможешь найти все нужное в домашней библиотеке. Поэтому посети школьную, городскую библи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214280" y="71424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Спросить у друг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42960" y="1444680"/>
            <a:ext cx="75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Людей, с которыми следует побеседовать о предмете исследования, можно условно поделить на две группы: специалисты и неспеци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К специалистам отнесём всех, кто профессионально занимается тем, что ты исследу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Неспециалистами для нас будут все остальные люди, но их тоже                                                                                  надо расспросить.                                                                                                             Вполне возможно,   что кто-то из них                                                        знает важное о том,                                                                                                                                          что ты изуча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071720" y="42876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ознакомиться с кино- и телефильм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1143000" y="1857240"/>
            <a:ext cx="728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Ты, конечно, знаешь, что фильмы бывают научные, научно-популярные, документальные, художественные. Они настоящий клад для исслед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Не забудь об этом источнике знан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000080" y="6429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братиться к компьют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7-tub-ru.yandex.net/i?id=197424764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1428840"/>
            <a:ext cx="3097080" cy="20541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13" name="Прямоугольник 3"/>
          <p:cNvSpPr/>
          <p:nvPr/>
        </p:nvSpPr>
        <p:spPr>
          <a:xfrm>
            <a:off x="1000080" y="371484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Сегодня ни один учёный не  работает без компьютера – верного помощника современного исследователя. Это и Интернет и различная информация на компакт-дис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im6-tub-ru.yandex.net/i?id=522620891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286160"/>
            <a:ext cx="2735280" cy="18003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15" name="Прямоугольник 1"/>
          <p:cNvSpPr/>
          <p:nvPr/>
        </p:nvSpPr>
        <p:spPr>
          <a:xfrm>
            <a:off x="1857240" y="7142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онаблю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928800" y="1571760"/>
            <a:ext cx="742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Интересный и доступный способ добычи новых знаний – наблюдение. Для наблюдений человек создал множество приспособлений: простые лупы, бинокли, подзорные трубы, телескопы, микроскопы, приборы ночного видения. Всё это можно использовать в исследова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500120" y="7142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Провести экспери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1071720" y="1643040"/>
            <a:ext cx="757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Эксперимен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(от латинского слова </a:t>
            </a:r>
            <a:r>
              <a:rPr b="0" lang="en-US" sz="2400" spc="-1" strike="noStrike">
                <a:solidFill>
                  <a:srgbClr val="340be3"/>
                </a:solidFill>
                <a:latin typeface="Cambria"/>
              </a:rPr>
              <a:t>experimentum) –</a:t>
            </a: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 проба, опыт. Это самый главный метод познания в большинстве наук. Провести эксперимент – значит выполнить какие-то действия с предметом исследования и определить, что изменилось в ходе 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0-tub-ru.yandex.net/i?id=189995292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3643200"/>
            <a:ext cx="3152520" cy="21099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4360" y="1052640"/>
            <a:ext cx="792000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Китайская послов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mbria"/>
              </a:rPr>
              <a:t>«Скажи мне - и я забу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mbria"/>
              </a:rPr>
              <a:t>Покажи мне - и я запом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mbria"/>
              </a:rPr>
              <a:t>Вовлеки меня - и я научус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57160" y="64296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езультаты выполненных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785880" y="1285920"/>
            <a:ext cx="792936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Результаты выполненных  проектов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быть </a:t>
            </a:r>
            <a:r>
              <a:rPr b="0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материальны</a:t>
            </a: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,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то есть как-либо оформл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(компьютерная презентация, видеофильм, альбом, бортжур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«путешествий», компьютерная газета, альманах, доклад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mbria"/>
              </a:rPr>
              <a:t>    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Оформленный    проект    должен    содерж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 Титульный лист (школа, название проекта, автор, класс, руководитель проекта, дата исполнения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Рабочие листы портфолио проектной деятельност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 Источники информации, в том числе библиография (в соответствии с принятыми стандарт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 Приложения (рисунки, фотографии, карты, графики, стенограмма интервью, анке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857160" y="78588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т чего зависит усп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785880" y="1762200"/>
            <a:ext cx="8215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Не ограничивай собственных исследований, дай себе волю понять реальность, которая тебя окру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Действуя, не бойся совершить оши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Будь достаточно смел, чтобы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Приняв решение, действуй уверенно и без сом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Сосредоточься и вложи в исследование всю свою энергию и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Внимательно анализируй факты и не делай поспешных выводов (они часто бывают неверны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714240" y="64296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Настоящий исследователь преодолеет любые препятствия на своём пути. Самое главное – ты должен верить, что достигнешь намеченной цели. Стремись к ней, невзирая на трудности. Верь в себя, в то, что ты – настоящий исследова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Удачи тебе, юный исследователь!                                                                Новых знаний, новых откры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1"/>
          <p:cNvSpPr/>
          <p:nvPr/>
        </p:nvSpPr>
        <p:spPr>
          <a:xfrm>
            <a:off x="684360" y="476280"/>
            <a:ext cx="78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84360" y="1341360"/>
            <a:ext cx="79912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0000"/>
                </a:solidFill>
                <a:uFillTx/>
                <a:latin typeface="Cambria"/>
                <a:hlinkClick r:id="rId1"/>
              </a:rPr>
              <a:t>http://img-fotki.yandex.ru/get/4706/28257045.5ec/0_6f5cf_5329c14_XL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http://img-fotki.yandex.ru/get/5634/136487634.a3b/0_d5b7c_44e066c2_XL.p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еро, чернильница,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http://img-fotki.yandex.ru/get/4706/113882196.8e/0_60321_5cca8fd5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http://www.ailona.ru/_ph/97/250733085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http://img-fotki.yandex.ru/get/6214/66124276.8d/0_760aa_c67ee5b0_XXL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в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http://s3.uploads.ru/5o8gm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725400"/>
            <a:ext cx="811368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642960" y="642960"/>
            <a:ext cx="7858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сследование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340be3"/>
                </a:solidFill>
                <a:latin typeface="Calibri"/>
              </a:rPr>
              <a:t>– это поиск истины, познание неизвестного, поиск неизвестного, один из видов познавательной 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Проект </a:t>
            </a:r>
            <a:r>
              <a:rPr b="1" i="1" lang="ru-RU" sz="4000" spc="-1" strike="noStrike">
                <a:solidFill>
                  <a:srgbClr val="340be3"/>
                </a:solidFill>
                <a:latin typeface="Calibri"/>
              </a:rPr>
              <a:t>– </a:t>
            </a:r>
            <a:r>
              <a:rPr b="1" i="1" lang="ru-RU" sz="3600" spc="-1" strike="noStrike">
                <a:solidFill>
                  <a:srgbClr val="340be3"/>
                </a:solidFill>
                <a:latin typeface="Calibri"/>
              </a:rPr>
              <a:t>это всегда исследование, поиск, изучение неизвестн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857160" y="714240"/>
            <a:ext cx="7715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40be3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340be3"/>
                </a:solidFill>
                <a:latin typeface="Calibri"/>
              </a:rPr>
              <a:t>Всем известно, что новые знания можно получать от других в готовом виде, а можно добывать самостоятельно.                                                                                     Для того, чтобы научиться их добывать, надо овладеть техникой исследовательского поиска.                                                                                                               В помощники можешь взять взрослых, старшего брата, сестру, маму, папу, бабушку или дедушку. Они с удовольствием помогут тебе освоить приёмы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42960" y="5000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mbria"/>
              </a:rPr>
              <a:t>Как выбрать тему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928800" y="1428840"/>
            <a:ext cx="778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mbria"/>
              </a:rPr>
              <a:t>Начало любого исследования </a:t>
            </a: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– это тема твоей работы. Выбрать тему несложно, если точно знаешь, что тебя интересует в да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     </a:t>
            </a: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Если не можешь сразу определить тему, задай себе следующи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14240" y="714240"/>
            <a:ext cx="77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1. Что мне интересно больш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2. Чем я хочу заниматься в первую очередь (математикой или поэзией, астрономией или историей, спортом, искусство, музыкой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3. Чем я чаще всего занимаюсь в свободно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4. По каким учебным предметам я получаю лучшие отм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5. Что из изученного в школе хотелось бы узнать более глубо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6. Есть ли что-то такое, чем я особенно горжу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71680" y="6429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акими могут быть тем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714240" y="1512720"/>
            <a:ext cx="75726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Фантас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емы о несуществующих, фантастических объектах и явл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Экспериментальные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емы, предполагающие проведение собственных наблюдений, опытов и экспери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Теоретические</a:t>
            </a:r>
            <a:r>
              <a:rPr b="1" lang="ru-RU" sz="24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емы по изучению и обобщению сведений, фактов, материалов, содержащихся в разных книгах, фильмах и других подобных источ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Например: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Кто зажигает звёзды?»                      «Кто построил пирамиды?»                                   «Почему надуваются мыльные пузыр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6429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Цель</a:t>
            </a:r>
            <a:r>
              <a:rPr b="1" lang="ru-RU" sz="4400" spc="-1" strike="noStrike">
                <a:solidFill>
                  <a:srgbClr val="e46c0a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и 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00040" y="185904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Теперь надо подумать над целью и задачами твое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Определить цель исследования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– значит ответить себе и другим на вопрос о том, зачем ты его провод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Например: 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Узнать, что делает под водой водолаз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                     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Выяснить, почему репейник колюч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                     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Расследовать, зачем зебре поло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28840" y="78588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85840" y="178596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0be3"/>
                </a:solidFill>
                <a:latin typeface="Cambria"/>
              </a:rPr>
              <a:t>Задачи исследования уточняют це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0be3"/>
                </a:solidFill>
                <a:latin typeface="Cambria"/>
              </a:rPr>
              <a:t>Цель указывает общее направление движе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0be3"/>
                </a:solidFill>
                <a:latin typeface="Cambria"/>
              </a:rPr>
              <a:t>а </a:t>
            </a:r>
            <a:r>
              <a:rPr b="1" lang="ru-RU" sz="3600" spc="-1" strike="noStrike" u="sng">
                <a:solidFill>
                  <a:srgbClr val="340be3"/>
                </a:solidFill>
                <a:uFillTx/>
                <a:latin typeface="Cambria"/>
              </a:rPr>
              <a:t>задачи описывают основные ш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43:00Z</dcterms:created>
  <dc:creator>Елена</dc:creator>
  <dc:description/>
  <dc:language>en-US</dc:language>
  <cp:lastModifiedBy>Марина</cp:lastModifiedBy>
  <dcterms:modified xsi:type="dcterms:W3CDTF">2022-12-04T04:08:45Z</dcterms:modified>
  <cp:revision>8</cp:revision>
  <dc:subject/>
  <dc:title>Слайд 1</dc:title>
</cp:coreProperties>
</file>