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353-46AE-41AA-BED2-49BA4577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17D-C3A4-4FE0-AE7C-31695E6F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796-1C26-48AE-A209-16D16817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DBC-2662-4863-860A-871F30D2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48A-A915-442A-A8A1-D23B2D3A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F9C-5E76-48BD-84EF-2D1515AE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718-D84B-4B59-98CF-0FCE002B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68A-B431-46D7-BAC0-E38189FE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A38-4C91-4665-80B3-3031680C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D94-5620-4624-84E2-1C427E3C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A3F-D90D-42BA-A8B4-878C08DA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312-90FB-4CD5-B209-C7285A75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2486-82DB-4684-816A-83234CF4DA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</a:rPr>
              <a:t>«Формирование элементарных математических представлений у детей дошкольного возраста средствами электронных образовательных ресурсов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860280"/>
            <a:ext cx="53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Times New Roman"/>
              </a:rPr>
              <a:t>САЛЬНИК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Times New Roman"/>
              </a:rPr>
              <a:t>ОКС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Times New Roman"/>
              </a:rPr>
              <a:t>ВЛАДИМИ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39640" y="54936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Час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«Детский сад №233 ОАО «РЖД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хема 3" descr=""/>
          <p:cNvPicPr/>
          <p:nvPr/>
        </p:nvPicPr>
        <p:blipFill>
          <a:blip r:embed="rId1"/>
          <a:stretch/>
        </p:blipFill>
        <p:spPr>
          <a:xfrm>
            <a:off x="341280" y="371520"/>
            <a:ext cx="69501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Times New Roman"/>
              </a:rPr>
              <a:t>Класс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378000" y="755640"/>
            <a:ext cx="6162480" cy="32194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4" descr=""/>
          <p:cNvPicPr/>
          <p:nvPr/>
        </p:nvPicPr>
        <p:blipFill>
          <a:blip r:embed="rId2"/>
          <a:stretch/>
        </p:blipFill>
        <p:spPr>
          <a:xfrm>
            <a:off x="457200" y="3992400"/>
            <a:ext cx="59990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222268"/>
                </a:solidFill>
                <a:latin typeface="Times New Roman"/>
              </a:rPr>
              <a:t>Преимущества и возможности использования ЭОР</a:t>
            </a:r>
            <a:br>
              <a:rPr sz="1400"/>
            </a:br>
            <a:r>
              <a:rPr b="1" lang="ru-RU" sz="1400" spc="-1" strike="noStrike">
                <a:solidFill>
                  <a:srgbClr val="222268"/>
                </a:solidFill>
                <a:latin typeface="Times New Roman"/>
              </a:rPr>
              <a:t>по сравнению с традиционными средствами обуче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</a:rPr>
              <a:t>Использование ЭОР в образовательном процесс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хема 4" descr=""/>
          <p:cNvPicPr/>
          <p:nvPr/>
        </p:nvPicPr>
        <p:blipFill>
          <a:blip r:embed="rId1"/>
          <a:stretch/>
        </p:blipFill>
        <p:spPr>
          <a:xfrm>
            <a:off x="1262160" y="907920"/>
            <a:ext cx="6626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формирования логического мышления  в процессе использования Э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17600" y="1577880"/>
            <a:ext cx="3700440" cy="36306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684360" y="119700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Начало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Диаграмма 5" descr=""/>
          <p:cNvPicPr/>
          <p:nvPr/>
        </p:nvPicPr>
        <p:blipFill>
          <a:blip r:embed="rId2"/>
          <a:stretch/>
        </p:blipFill>
        <p:spPr>
          <a:xfrm>
            <a:off x="4233960" y="1722600"/>
            <a:ext cx="3917880" cy="3501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4859280" y="126828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</a:rPr>
              <a:t>Конец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539640" y="836640"/>
            <a:ext cx="806472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кетирование педагогов НДОУ № 233 ОАО «РЖД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работано 12 анке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выки работы по 5-ти бальной шкале: 4-5б. -2 чел.; 3б. -8 че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чаще используете: 9чел.-самообразование; 6 чел- Н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ми средствами ИКТ пользуетесь: 11чел.-текстовый редактор, 6 чел.- составление электронных таблиц, 7 чел- электрон. презентации, 11 чел.- интер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колько времени (таблица различных услови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жности: составление таблиц, недостаточность опыта, работа со специализированными программ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мощь: прохождение курсов или обучение на базе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ОР это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привлекает? Быстрый поиск информации, обмен опытом, наглядность, компактность, доступ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ие задачи решаете? Самообразование, познавательные, развиваю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Дальнейших успехов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Оксана</cp:lastModifiedBy>
  <dcterms:modified xsi:type="dcterms:W3CDTF">2023-02-10T13:01:50Z</dcterms:modified>
  <cp:revision>17</cp:revision>
  <dc:subject/>
  <dc:title>Слайд 1</dc:title>
</cp:coreProperties>
</file>