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17D-A874-4ACC-8570-95FAD5F0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1CE-61F4-45F7-B1FE-B1FF0A76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B17-EEDB-454F-85AD-9830394D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A0E-5D98-4AA3-B55D-C95CCED7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ECF-3F85-4C4C-B67E-6FDD547B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ECA-259F-48F6-A5FC-CAED5B67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644-A150-4A3B-A22B-1741AA48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DB9-F138-432D-99F4-2BB7B95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722-9AC5-4202-B222-B24BBB3B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2C2-79A4-48E4-8AD9-1F13C8F0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002-E464-48D4-B89C-A71CAF97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86A-F6BA-4929-AB41-7AF0460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7C4E-8B5F-4312-BB4B-A6B4905EE1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</a:rPr>
              <a:t>«Формирование элементарных математических представлений у детей дошкольного возраста средствами электронных образовательных ресурсов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860280"/>
            <a:ext cx="53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Times New Roman"/>
              </a:rPr>
              <a:t>САЛЬНИК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Times New Roman"/>
              </a:rPr>
              <a:t>ОКС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Times New Roman"/>
              </a:rPr>
              <a:t>ВЛАДИМИ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39640" y="54936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Час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«Детский сад №233 ОАО «РЖД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хема 3" descr=""/>
          <p:cNvPicPr/>
          <p:nvPr/>
        </p:nvPicPr>
        <p:blipFill>
          <a:blip r:embed="rId1"/>
          <a:stretch/>
        </p:blipFill>
        <p:spPr>
          <a:xfrm>
            <a:off x="341280" y="371520"/>
            <a:ext cx="69501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Times New Roman"/>
              </a:rPr>
              <a:t>Класс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378000" y="755640"/>
            <a:ext cx="6162480" cy="32194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4" descr=""/>
          <p:cNvPicPr/>
          <p:nvPr/>
        </p:nvPicPr>
        <p:blipFill>
          <a:blip r:embed="rId2"/>
          <a:stretch/>
        </p:blipFill>
        <p:spPr>
          <a:xfrm>
            <a:off x="457200" y="3992400"/>
            <a:ext cx="59990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222268"/>
                </a:solidFill>
                <a:latin typeface="Times New Roman"/>
              </a:rPr>
              <a:t>Преимущества и возможности использования ЭОР</a:t>
            </a:r>
            <a:br>
              <a:rPr sz="1400"/>
            </a:br>
            <a:r>
              <a:rPr b="1" lang="ru-RU" sz="1400" spc="-1" strike="noStrike">
                <a:solidFill>
                  <a:srgbClr val="222268"/>
                </a:solidFill>
                <a:latin typeface="Times New Roman"/>
              </a:rPr>
              <a:t>по сравнению с традиционными средствами обуче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</a:rPr>
              <a:t>Использование ЭОР в образовательном процесс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хема 4" descr=""/>
          <p:cNvPicPr/>
          <p:nvPr/>
        </p:nvPicPr>
        <p:blipFill>
          <a:blip r:embed="rId1"/>
          <a:stretch/>
        </p:blipFill>
        <p:spPr>
          <a:xfrm>
            <a:off x="1262160" y="907920"/>
            <a:ext cx="6626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формирования логического мышления  в процессе использования Э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17600" y="1577880"/>
            <a:ext cx="3700440" cy="36306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684360" y="119700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Начало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Диаграмма 5" descr=""/>
          <p:cNvPicPr/>
          <p:nvPr/>
        </p:nvPicPr>
        <p:blipFill>
          <a:blip r:embed="rId2"/>
          <a:stretch/>
        </p:blipFill>
        <p:spPr>
          <a:xfrm>
            <a:off x="4233960" y="1722600"/>
            <a:ext cx="3917880" cy="3501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4859280" y="126828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Конец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539640" y="836640"/>
            <a:ext cx="806472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кетирование педагогов НДОУ № 233 ОАО «РЖД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работано 12 анке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выки работы по 5-ти бальной шкале: 4-5б. -2 чел.; 3б. -8 че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чаще используете: 9чел.-самообразование; 6 чел- Н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ми средствами ИКТ пользуетесь: 11чел.-текстовый редактор, 6 чел.- составление электронных таблиц, 7 чел- электрон. презентации, 11 чел.- интер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колько времени (таблица различных услови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жности: составление таблиц, недостаточность опыта, работа со специализированными программ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мощь: прохождение курсов или обучение на базе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ОР это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привлекает? Быстрый поиск информации, обмен опытом, наглядность, компактность, доступ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е задачи решаете? Самообразование, познавательные, развиваю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Дальнейших успехов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Оксана</cp:lastModifiedBy>
  <dcterms:modified xsi:type="dcterms:W3CDTF">2023-02-10T13:01:50Z</dcterms:modified>
  <cp:revision>17</cp:revision>
  <dc:subject/>
  <dc:title>Слайд 1</dc:title>
</cp:coreProperties>
</file>