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9444-06F2-43D7-8871-74B64E16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F960-F13B-4AB7-BF50-601A2CDA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E3FC-5F44-4C65-B798-6527DE03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0865-10F3-49D4-8784-243C375D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3E15-D6F4-4F5B-8ACA-8A4BD5AF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DB26-7317-412C-8A16-FB2AE6D0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8FDF-4CF5-4564-A9FD-5A1BE738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D789-EEED-445F-992A-52F02A68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60AF-EB54-43DA-9F9D-0F7DDE5D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BDBA-4AF7-46B0-8A4D-0413A654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490C-B7D8-421F-BF34-332A71A1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C41E-BE28-4527-BA0F-52042B1B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8551-A8F8-4B4B-9CF4-794602041FF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AB23-C869-475B-8A3D-B982A26D3C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ШАБЛОНЫ\РАМКИ 1\38-9.jpg"/>
          <p:cNvPicPr/>
          <p:nvPr/>
        </p:nvPicPr>
        <p:blipFill>
          <a:blip r:embed="rId1"/>
          <a:stretch/>
        </p:blipFill>
        <p:spPr>
          <a:xfrm>
            <a:off x="0" y="-46080"/>
            <a:ext cx="91598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6" descr="dve-pticy.gif"/>
          <p:cNvPicPr/>
          <p:nvPr/>
        </p:nvPicPr>
        <p:blipFill>
          <a:blip r:embed="rId2"/>
          <a:stretch/>
        </p:blipFill>
        <p:spPr>
          <a:xfrm>
            <a:off x="7359480" y="-142920"/>
            <a:ext cx="1784520" cy="14097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nasekomoe-60.gif"/>
          <p:cNvPicPr/>
          <p:nvPr/>
        </p:nvPicPr>
        <p:blipFill>
          <a:blip r:embed="rId3"/>
          <a:stretch/>
        </p:blipFill>
        <p:spPr>
          <a:xfrm>
            <a:off x="971640" y="3860640"/>
            <a:ext cx="2824200" cy="2428920"/>
          </a:xfrm>
          <a:prstGeom prst="rect">
            <a:avLst/>
          </a:prstGeom>
          <a:ln w="0">
            <a:noFill/>
          </a:ln>
        </p:spPr>
      </p:pic>
      <p:sp>
        <p:nvSpPr>
          <p:cNvPr id="44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4F1F-47FA-49EA-8748-68F75D51D5EA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2"/>
          <p:cNvSpPr/>
          <p:nvPr/>
        </p:nvSpPr>
        <p:spPr>
          <a:xfrm>
            <a:off x="611280" y="1125360"/>
            <a:ext cx="777240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Русская народная сказка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«Маша и Медвед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2C10-47E3-4863-851C-2BC684FED30D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http://arielmultworld.ru/Pictures/Masha/masha.page02.jpg"/>
          <p:cNvPicPr/>
          <p:nvPr/>
        </p:nvPicPr>
        <p:blipFill>
          <a:blip r:embed="rId1"/>
          <a:stretch/>
        </p:blipFill>
        <p:spPr>
          <a:xfrm>
            <a:off x="860400" y="2916360"/>
            <a:ext cx="3225960" cy="38005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48" name="Picture 7" descr="http://arielmultworld.ru/Pictures/Masha/masha.page03.jpg"/>
          <p:cNvPicPr/>
          <p:nvPr/>
        </p:nvPicPr>
        <p:blipFill>
          <a:blip r:embed="rId2"/>
          <a:stretch/>
        </p:blipFill>
        <p:spPr>
          <a:xfrm>
            <a:off x="5292720" y="907920"/>
            <a:ext cx="3225960" cy="38023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49" name="Title 1"/>
          <p:cNvSpPr/>
          <p:nvPr/>
        </p:nvSpPr>
        <p:spPr>
          <a:xfrm>
            <a:off x="304920" y="404640"/>
            <a:ext cx="43383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Жили-были дедушка да бабуш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ыла у них внучка Машеньк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брались раз подружки в лес по грибы да по ягоды. Пришли звать с собой и Машеньку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Дедушка, бабушка, — говорит Машенька, — отпустите меня в лес с подружками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едушка с бабушкой отвечают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Иди, только смотри от подружек не отставай, не то заблудишься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C576-442D-444E-9BCE-DA0E63FD440F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http://arielmultworld.ru/Pictures/Masha/masha.page04.jpg"/>
          <p:cNvPicPr/>
          <p:nvPr/>
        </p:nvPicPr>
        <p:blipFill>
          <a:blip r:embed="rId1"/>
          <a:stretch/>
        </p:blipFill>
        <p:spPr>
          <a:xfrm>
            <a:off x="614520" y="115920"/>
            <a:ext cx="2735280" cy="32241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52" name="Picture 12" descr="http://arielmultworld.ru/Pictures/Masha/masha.page06.jpg"/>
          <p:cNvPicPr/>
          <p:nvPr/>
        </p:nvPicPr>
        <p:blipFill>
          <a:blip r:embed="rId2"/>
          <a:stretch/>
        </p:blipFill>
        <p:spPr>
          <a:xfrm>
            <a:off x="563400" y="3479760"/>
            <a:ext cx="2837160" cy="33433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53" name="Title 1"/>
          <p:cNvSpPr/>
          <p:nvPr/>
        </p:nvSpPr>
        <p:spPr>
          <a:xfrm>
            <a:off x="3924360" y="476280"/>
            <a:ext cx="4833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Ходила, ходила Машенька по лесу — совсем заблудила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шла она в саму глушь, в саму чащу. Видит — стоит избушка. Постучала Машенька в дверь — не отвечают. Толкнула она дверь — дверь и открыла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ошла Машенька в избушку, села у окна на лавоч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ела и дума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Кто же здесь живет? Почему никого не видно?.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 в той избушке жил большущий медведь. Только его тогда дома не было: он по лесу ходи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ернулся вечером медведь, увидел Машеньку, обрадовал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а, — говорит, — теперь не отпущу тебя! Будешь у меня жить. Будешь печку топить, будешь кашу варить, меня кашей корм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тужила Маша, погоревала, да ничего не поделаешь. Стала она жить у медведя в избуш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3197-CD9C-46F1-B104-6D6CB4E86AF4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http://arielmultworld.ru/Pictures/Masha/masha.page07.jpg"/>
          <p:cNvPicPr/>
          <p:nvPr/>
        </p:nvPicPr>
        <p:blipFill>
          <a:blip r:embed="rId1"/>
          <a:stretch/>
        </p:blipFill>
        <p:spPr>
          <a:xfrm>
            <a:off x="5651640" y="1700280"/>
            <a:ext cx="3152520" cy="39607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56" name="Прямоугольник 1"/>
          <p:cNvSpPr/>
          <p:nvPr/>
        </p:nvSpPr>
        <p:spPr>
          <a:xfrm>
            <a:off x="363600" y="104760"/>
            <a:ext cx="500040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тужила Маша, погоревала, да ничего не поделаешь. Стала она жить у медведя в избуш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едведь на целый день уйдет в лес, а Машеньке наказывает никуда без него из избушки не выход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 если уйдешь, — говорит, — все равно поймаю и тогда уж съе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тала Машенька думать, как ей от медведя убежать. Кругом лес, в какую сторону идти — не знает, спросить не у кого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умала она, думала и придум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ходит раз медведь из лесу, а Машенька и говорит ем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едведь, медведь, отпусти меня на денек в деревню: я бабушке да дедушке гостинцев снес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т, — говорит медведь, — ты в лесу заблудишься. Давай гостинцы, я их сам отнес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 Машеньке того и над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пекла она пирожков, достала большой-пребольшой короб и говорит медведю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от, смотри: я в этот короб положу пирожки, а ты отнеси их дедушке да бабушке. Да помни: короб по дороге не открывай, пирожки не вынимай. Я на дубок влезу, за тобой следить буду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Ладно, — отвечает медведь, — давай короб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ашенька говори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ыйди на крылечко, посмотри, не идет ли дождик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Только медведь вышел на крылечко, Машенька сейчас же залезла в короб, а на голову себе блюдо с пирожками постави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1B4B-B937-4656-A535-A2B1FB752130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324000" y="189000"/>
            <a:ext cx="504000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ернулся медведь, видит — короб гот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звалил его на спину и пошел в деревн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дет медведь между елками, бредет медведь между березками, в овражки спускается, на пригорки поднимается. Шел-шел, устал и говорит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Сяду на пене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ъем пирожок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 Машенька из короба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Вижу, вижу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 садись на пене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 ешь пирожок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си бабушк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си дедушке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Ишь какая глазастая, — говорит медведь, — все видит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днял он короб и пошел дальше. Шел-шел, шел-шел, остановился, сел и говорит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Сяду на пене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ъем пирожок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 Машенька из короба опять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Вижу, вижу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 садись на пене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 ешь пирожок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си бабушк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си дедушке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дивился медведь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Вот какая хитрая! Высоко сидит, далеко глядит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стал и пошел скоре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0" descr="http://arielmultworld.ru/Pictures/Masha/masha.page12.jpg"/>
          <p:cNvPicPr/>
          <p:nvPr/>
        </p:nvPicPr>
        <p:blipFill>
          <a:blip r:embed="rId1"/>
          <a:stretch/>
        </p:blipFill>
        <p:spPr>
          <a:xfrm>
            <a:off x="5219640" y="1163520"/>
            <a:ext cx="3726000" cy="43894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44D8-2D1C-4BC0-9D83-F3AAD33FBE0F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1" descr="http://arielmultworld.ru/Pictures/Masha/masha.page13.jpg"/>
          <p:cNvPicPr/>
          <p:nvPr/>
        </p:nvPicPr>
        <p:blipFill>
          <a:blip r:embed="rId1"/>
          <a:stretch/>
        </p:blipFill>
        <p:spPr>
          <a:xfrm>
            <a:off x="539640" y="3429000"/>
            <a:ext cx="2737080" cy="32241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62" name="Picture 23" descr="http://arielmultworld.ru/Pictures/Masha/masha.page14.jpg"/>
          <p:cNvPicPr/>
          <p:nvPr/>
        </p:nvPicPr>
        <p:blipFill>
          <a:blip r:embed="rId2"/>
          <a:stretch/>
        </p:blipFill>
        <p:spPr>
          <a:xfrm>
            <a:off x="3537000" y="3441600"/>
            <a:ext cx="2724120" cy="32115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63" name="Picture 25" descr="http://arielmultworld.ru/Pictures/Masha/masha.page15.jpg"/>
          <p:cNvPicPr/>
          <p:nvPr/>
        </p:nvPicPr>
        <p:blipFill>
          <a:blip r:embed="rId3"/>
          <a:stretch/>
        </p:blipFill>
        <p:spPr>
          <a:xfrm>
            <a:off x="6270480" y="744480"/>
            <a:ext cx="2749680" cy="32400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64" name="Прямоугольник 1"/>
          <p:cNvSpPr/>
          <p:nvPr/>
        </p:nvSpPr>
        <p:spPr>
          <a:xfrm>
            <a:off x="179280" y="336600"/>
            <a:ext cx="6696360" cy="36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шел в деревню, нашел дом, где дедушка с бабушкой жили, и давай изо всех сил стучать в воро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Тук-тук-тук! Отпирайте, открывайте! Я вам от Машеньки гостинцев прине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 собаки почуяли медведя и бросились на него. Со всех дворов бегут, ла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спугался медведь, поставил короб у ворот и пустился в лес без огляд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ышли тут дедушка да бабушка к воротам. Видят — короб сто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Что это в коробе? — говорит бабуш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 дедушка поднял крышку, смотрит — и глазам своим не верит: в коробе Машенька сидит, живехонька и здоровехонь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радовались дедушка да бабушка. Стали Машеньку обнимать, целовать, умницей назы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242E-FABC-4C54-9BA0-670D2940C20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рямоугольник 22" descr=""/>
          <p:cNvPicPr/>
          <p:nvPr/>
        </p:nvPicPr>
        <p:blipFill>
          <a:blip r:embed="rId1"/>
          <a:stretch/>
        </p:blipFill>
        <p:spPr>
          <a:xfrm>
            <a:off x="426960" y="573120"/>
            <a:ext cx="8217000" cy="32860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1" descr="nasekomoe-66.gif"/>
          <p:cNvPicPr/>
          <p:nvPr/>
        </p:nvPicPr>
        <p:blipFill>
          <a:blip r:embed="rId2"/>
          <a:stretch/>
        </p:blipFill>
        <p:spPr>
          <a:xfrm>
            <a:off x="1571760" y="2924280"/>
            <a:ext cx="592920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08:27:00Z</dcterms:created>
  <dc:creator>Школа</dc:creator>
  <dc:description/>
  <dc:language>en-US</dc:language>
  <cp:lastModifiedBy>Пользователь</cp:lastModifiedBy>
  <cp:lastPrinted>2014-01-30T06:53:02Z</cp:lastPrinted>
  <dcterms:modified xsi:type="dcterms:W3CDTF">2023-02-07T09:18:18Z</dcterms:modified>
  <cp:revision>31</cp:revision>
  <dc:subject/>
  <dc:title>Слайд 1</dc:title>
</cp:coreProperties>
</file>