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05C-D76B-46B9-9A16-8B28867E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299-D5B4-436E-AD93-5D98F60C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216-4722-45DE-BCCC-BD650F2C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292-AA2D-4874-A854-38A0F796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55D-FC09-43A6-8500-9FD6047B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35E-4A8D-4E64-ADE6-C06117B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5BB-4B12-4213-A47E-53912A9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D51-406F-42F7-A7C3-6FE3BB09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E89-9B1C-4D50-A991-196B91D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901-9E38-4CE6-8CDB-DCEF1CB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752-5765-49EF-9CFC-F1181E58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63B-EC0A-4705-A7DB-C72713D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C7DD-09A2-4009-A906-1D1D96BCAA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802-A3A3-457D-A8F7-BFC9BDAB2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ШАБЛОНЫ\РАМКИ 1\38-9.jpg"/>
          <p:cNvPicPr/>
          <p:nvPr/>
        </p:nvPicPr>
        <p:blipFill>
          <a:blip r:embed="rId1"/>
          <a:stretch/>
        </p:blipFill>
        <p:spPr>
          <a:xfrm>
            <a:off x="0" y="-46080"/>
            <a:ext cx="9159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dve-pticy.gif"/>
          <p:cNvPicPr/>
          <p:nvPr/>
        </p:nvPicPr>
        <p:blipFill>
          <a:blip r:embed="rId2"/>
          <a:stretch/>
        </p:blipFill>
        <p:spPr>
          <a:xfrm>
            <a:off x="7359480" y="-142920"/>
            <a:ext cx="1784520" cy="1409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nasekomoe-60.gif"/>
          <p:cNvPicPr/>
          <p:nvPr/>
        </p:nvPicPr>
        <p:blipFill>
          <a:blip r:embed="rId3"/>
          <a:stretch/>
        </p:blipFill>
        <p:spPr>
          <a:xfrm>
            <a:off x="971640" y="3860640"/>
            <a:ext cx="282420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A2EA-6A39-4293-98E2-C53D3B70DBB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2"/>
          <p:cNvSpPr/>
          <p:nvPr/>
        </p:nvSpPr>
        <p:spPr>
          <a:xfrm>
            <a:off x="611280" y="1125360"/>
            <a:ext cx="77724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Русская народная сказка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«Маша и Медвед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D57-7BEB-4EAE-AB31-C38F3AB4C28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arielmultworld.ru/Pictures/Masha/masha.page02.jpg"/>
          <p:cNvPicPr/>
          <p:nvPr/>
        </p:nvPicPr>
        <p:blipFill>
          <a:blip r:embed="rId1"/>
          <a:stretch/>
        </p:blipFill>
        <p:spPr>
          <a:xfrm>
            <a:off x="860400" y="2916360"/>
            <a:ext cx="3225960" cy="38005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8" name="Picture 7" descr="http://arielmultworld.ru/Pictures/Masha/masha.page03.jpg"/>
          <p:cNvPicPr/>
          <p:nvPr/>
        </p:nvPicPr>
        <p:blipFill>
          <a:blip r:embed="rId2"/>
          <a:stretch/>
        </p:blipFill>
        <p:spPr>
          <a:xfrm>
            <a:off x="5292720" y="907920"/>
            <a:ext cx="3225960" cy="3802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49" name="Title 1"/>
          <p:cNvSpPr/>
          <p:nvPr/>
        </p:nvSpPr>
        <p:spPr>
          <a:xfrm>
            <a:off x="304920" y="404640"/>
            <a:ext cx="43383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или-были дедушка да баб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ла у них внучка Машень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брались раз подружки в лес по грибы да по ягоды. Пришли звать с собой и Машеньк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Дедушка, бабушка, — говорит Машенька, — отпустите меня в лес с подружкам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душка с бабушкой отвечают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Иди, только смотри от подружек не отставай, не то заблудишьс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ED5-EF38-46E8-B7C3-E20B1559BB9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http://arielmultworld.ru/Pictures/Masha/masha.page04.jpg"/>
          <p:cNvPicPr/>
          <p:nvPr/>
        </p:nvPicPr>
        <p:blipFill>
          <a:blip r:embed="rId1"/>
          <a:stretch/>
        </p:blipFill>
        <p:spPr>
          <a:xfrm>
            <a:off x="614520" y="115920"/>
            <a:ext cx="2735280" cy="32241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52" name="Picture 12" descr="http://arielmultworld.ru/Pictures/Masha/masha.page06.jpg"/>
          <p:cNvPicPr/>
          <p:nvPr/>
        </p:nvPicPr>
        <p:blipFill>
          <a:blip r:embed="rId2"/>
          <a:stretch/>
        </p:blipFill>
        <p:spPr>
          <a:xfrm>
            <a:off x="563400" y="3479760"/>
            <a:ext cx="2837160" cy="3343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53" name="Title 1"/>
          <p:cNvSpPr/>
          <p:nvPr/>
        </p:nvSpPr>
        <p:spPr>
          <a:xfrm>
            <a:off x="3924360" y="476280"/>
            <a:ext cx="4833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одила, ходила Машенька по лесу — совсем заблуд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шла она в саму глушь, в саму чащу. Видит — стоит избушка. Постучала Машенька в дверь — не отвечают. Толкнула она дверь — дверь и откры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шла Машенька в избушку, села у окна на лавоч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ла и дум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Кто же здесь живет? Почему никого не видно?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в той избушке жил большущий медведь. Только его тогда дома не было: он по лесу ход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рнулся вечером медведь, увидел Машеньку, обрадов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а, — говорит, — теперь не отпущу тебя! Будешь у меня жить. Будешь печку топить, будешь кашу варить, меня кашей корм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ужила Маша, погоревала, да ничего не поделаешь. Стала она жить у медведя в избу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95F6-3AC6-43B4-8B70-0C991F4AD63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http://arielmultworld.ru/Pictures/Masha/masha.page07.jpg"/>
          <p:cNvPicPr/>
          <p:nvPr/>
        </p:nvPicPr>
        <p:blipFill>
          <a:blip r:embed="rId1"/>
          <a:stretch/>
        </p:blipFill>
        <p:spPr>
          <a:xfrm>
            <a:off x="5651640" y="1700280"/>
            <a:ext cx="3152520" cy="3960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56" name="Прямоугольник 1"/>
          <p:cNvSpPr/>
          <p:nvPr/>
        </p:nvSpPr>
        <p:spPr>
          <a:xfrm>
            <a:off x="363600" y="104760"/>
            <a:ext cx="50004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ужила Маша, погоревала, да ничего не поделаешь. Стала она жить у медведя в избу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ведь на целый день уйдет в лес, а Машеньке наказывает никуда без него из избушки не выхо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если уйдешь, — говорит, — все равно поймаю и тогда уж съе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ла Машенька думать, как ей от медведя убежать. Кругом лес, в какую сторону идти — не знает, спросить не у ког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умала она, думала и придум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ходит раз медведь из лесу, а Машенька и говорит 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ведь, медведь, отпусти меня на денек в деревню: я бабушке да дедушке гостинцев сн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т, — говорит медведь, — ты в лесу заблудишься. Давай гостинцы, я их сам отн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Машеньке того и над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екла она пирожков, достала большой-пребольшой короб и говорит медвед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т, смотри: я в этот короб положу пирожки, а ты отнеси их дедушке да бабушке. Да помни: короб по дороге не открывай, пирожки не вынимай. Я на дубок влезу, за тобой следить буд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адно, — отвечает медведь, — давай короб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ашенька говор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йди на крылечко, посмотри, не идет ли дожди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олько медведь вышел на крылечко, Машенька сейчас же залезла в короб, а на голову себе блюдо с пирожками постав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638E-A87D-49E6-82D7-2F68AC4B539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324000" y="189000"/>
            <a:ext cx="5040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рнулся медведь, видит — короб го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звалил его на спину и пошел в деревн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дет медведь между елками, бредет медведь между березками, в овражки спускается, на пригорки поднимается. Шел-шел, устал и говорит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Сяду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ем пирожок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Машенька из короба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Вижу, виж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садись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ешь пирож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бабуш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дедушке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Ишь какая глазастая, — говорит медведь, — все види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нял он короб и пошел дальше. Шел-шел, шел-шел, остановился, сел и говорит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Сяду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ем пирожок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Машенька из короба опять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Вижу, виж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садись на пен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ешь пирож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бабуш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и дедушке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ивился медведь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Вот какая хитрая! Высоко сидит, далеко гляди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тал и пошел скор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http://arielmultworld.ru/Pictures/Masha/masha.page12.jpg"/>
          <p:cNvPicPr/>
          <p:nvPr/>
        </p:nvPicPr>
        <p:blipFill>
          <a:blip r:embed="rId1"/>
          <a:stretch/>
        </p:blipFill>
        <p:spPr>
          <a:xfrm>
            <a:off x="5219640" y="1163520"/>
            <a:ext cx="3726000" cy="4389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A82B-3813-4F6D-A03E-D42491FF795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1" descr="http://arielmultworld.ru/Pictures/Masha/masha.page13.jpg"/>
          <p:cNvPicPr/>
          <p:nvPr/>
        </p:nvPicPr>
        <p:blipFill>
          <a:blip r:embed="rId1"/>
          <a:stretch/>
        </p:blipFill>
        <p:spPr>
          <a:xfrm>
            <a:off x="539640" y="3429000"/>
            <a:ext cx="2737080" cy="32241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62" name="Picture 23" descr="http://arielmultworld.ru/Pictures/Masha/masha.page14.jpg"/>
          <p:cNvPicPr/>
          <p:nvPr/>
        </p:nvPicPr>
        <p:blipFill>
          <a:blip r:embed="rId2"/>
          <a:stretch/>
        </p:blipFill>
        <p:spPr>
          <a:xfrm>
            <a:off x="3537000" y="3441600"/>
            <a:ext cx="2724120" cy="32115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63" name="Picture 25" descr="http://arielmultworld.ru/Pictures/Masha/masha.page15.jpg"/>
          <p:cNvPicPr/>
          <p:nvPr/>
        </p:nvPicPr>
        <p:blipFill>
          <a:blip r:embed="rId3"/>
          <a:stretch/>
        </p:blipFill>
        <p:spPr>
          <a:xfrm>
            <a:off x="6270480" y="744480"/>
            <a:ext cx="2749680" cy="3240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4" name="Прямоугольник 1"/>
          <p:cNvSpPr/>
          <p:nvPr/>
        </p:nvSpPr>
        <p:spPr>
          <a:xfrm>
            <a:off x="179280" y="336600"/>
            <a:ext cx="669636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шел в деревню, нашел дом, где дедушка с бабушкой жили, и давай изо всех сил стучать в воро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ук-тук-тук! Отпирайте, открывайте! Я вам от Машеньки гостинцев прин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собаки почуяли медведя и бросились на него. Со всех дворов бегут, л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спугался медведь, поставил короб у ворот и пустился в лес без огля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шли тут дедушка да бабушка к воротам. Видят — короб сто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о это в коробе? — говорит бабуш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дедушка поднял крышку, смотрит — и глазам своим не верит: в коробе Машенька сидит, живехонька и здоровехонь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довались дедушка да бабушка. Стали Машеньку обнимать, целовать, умницей назы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EEB5-FD66-4835-AD07-02375E8BA99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22" descr=""/>
          <p:cNvPicPr/>
          <p:nvPr/>
        </p:nvPicPr>
        <p:blipFill>
          <a:blip r:embed="rId1"/>
          <a:stretch/>
        </p:blipFill>
        <p:spPr>
          <a:xfrm>
            <a:off x="426960" y="573120"/>
            <a:ext cx="821700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nasekomoe-66.gif"/>
          <p:cNvPicPr/>
          <p:nvPr/>
        </p:nvPicPr>
        <p:blipFill>
          <a:blip r:embed="rId2"/>
          <a:stretch/>
        </p:blipFill>
        <p:spPr>
          <a:xfrm>
            <a:off x="1571760" y="2924280"/>
            <a:ext cx="59292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27:00Z</dcterms:created>
  <dc:creator>Школа</dc:creator>
  <dc:description/>
  <dc:language>en-US</dc:language>
  <cp:lastModifiedBy>Пользователь</cp:lastModifiedBy>
  <cp:lastPrinted>2014-01-30T06:53:02Z</cp:lastPrinted>
  <dcterms:modified xsi:type="dcterms:W3CDTF">2023-02-07T09:18:18Z</dcterms:modified>
  <cp:revision>31</cp:revision>
  <dc:subject/>
  <dc:title>Слайд 1</dc:title>
</cp:coreProperties>
</file>