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8942-808E-4EA6-B948-3D6E913A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3BA6-DB69-4942-B4B8-FCD3FB03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209-60BF-4811-82A7-B42E6B66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037-8378-4E1F-891C-649B03A6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686C-56AB-43D0-8AC9-0FD07622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2CDA-CE56-4947-B0AE-EFB272FC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5B38-963F-43E0-90B4-7202180E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956D-81AF-401D-A2AC-E964176A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DF70-62FB-4DC2-BECA-96705DC0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B488-9BB4-4840-97CE-B8071E92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2E00-38C4-4E1F-B355-90CD1DE7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B850-CFF7-4234-8DBF-BCF11EA9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F01B-BED9-4AF5-BE23-FFE1A781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036C-8152-4897-8F9C-24B315DB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F62E-EA00-42E7-9AA9-F2E804F6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A07D-AEBC-4CB0-A307-7D37664E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8357-E083-44A3-A44A-BA9109EC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F354F-6B54-43A3-AFD3-AC23BD5B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B2655-269F-433E-B75E-05A3594C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BDD71-3FC6-4EFB-A812-D55D9BAE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360A6-0274-4580-94AB-D9E4B0B7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5FE32-3CC1-4312-A280-5CBBC1F7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D19E-ACBB-4BE3-9872-FBEF1DDE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C66FF-1348-416E-A2CB-AF534B73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E506C-D858-439D-A4DD-EAB70C18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C14F3-3A09-4EDF-AB08-1CCAB999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B3770-F50D-47F4-8559-14EB8BCB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0408C-C540-4547-8324-78354352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EC434-B5E0-429B-AD94-89F30797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B7571-0423-4B94-9A06-965891D4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570F1-1158-4486-993E-223F0458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1C6CA-A8CC-4B7E-A6AB-238457B8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5ED7C-3080-4566-8B7E-4C95C4CE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309-AF59-4EE0-BD28-837A2D02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7E5AD-B18D-4D92-8ECC-71FDF3C3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0212F-8FAD-4912-84E9-7153653F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7A71A-47D1-4B49-A34F-C9E32295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39E25-6576-4BF3-A309-CFACB948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BCE2E-C85A-42AF-A811-3CB1AA2B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222E5-7158-4557-B9EA-095EAC35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8C9EE-269C-496A-939F-432F7943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EABF1-AE9A-438E-B788-9A1EA083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AC504-51D5-4906-9269-424ED663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AA9A-2DED-4911-873F-CC70FB9D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A98-2AAE-47CF-A3E9-79FA809A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1091-B90A-43B5-AE52-B310B550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41B-C806-4D49-8E48-66A6D094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A90-E31D-40DE-A21F-5D6C825C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F8AE-131B-475D-B516-018FCF907C65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4145-D4FD-4764-8299-1E4C44538C81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B4A7-72AB-44F0-9207-3C699CE74991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A038-523C-4FEA-8D17-CAD30AEF2D06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entury Gothic"/>
              </a:rPr>
              <a:t>ЭНЕРГИЯ МАГНИТНОГО ПОЛЯ. ЭНЕРГИЯ ЭЛЕКТРИЧЕСКОГО ПОЛЯ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629400" y="3733920"/>
            <a:ext cx="2286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Технология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7 класс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Учитель: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Панина О.В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194" name="Picture 5" descr="004734482_1-2887db2d8e4a08501360c5dee79a7284"/>
          <p:cNvPicPr/>
          <p:nvPr/>
        </p:nvPicPr>
        <p:blipFill>
          <a:blip r:embed="rId1"/>
          <a:stretch/>
        </p:blipFill>
        <p:spPr>
          <a:xfrm>
            <a:off x="762120" y="182880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3439080" y="6324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осибирск 202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Вы узнаете, как проявляются свойства магнитного и электрического полей. Вы научитесь: применять в быту и практической деятельности знания свойств магнитных, электрических полей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2640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04560" y="30492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f496f"/>
                </a:solidFill>
                <a:latin typeface="Century Gothic"/>
              </a:rPr>
              <a:t>Некоторые металлы взаимодействуют друг с другом на расстоянии посредством магнитного поля. Электрическое поле создаётся заряженными частицами — электронами и протонами.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0" name="Picture 5" descr="296372d30f08be787144b0a7f9d89c10"/>
          <p:cNvPicPr/>
          <p:nvPr/>
        </p:nvPicPr>
        <p:blipFill>
          <a:blip r:embed="rId1"/>
          <a:stretch/>
        </p:blipFill>
        <p:spPr>
          <a:xfrm>
            <a:off x="1371600" y="2514600"/>
            <a:ext cx="63244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f496f"/>
                </a:solidFill>
                <a:latin typeface="Century Gothic"/>
              </a:rPr>
              <a:t>Для того, чтобы создать электрическое поле, необходимо создать электрический заряд. Натрите какой-нибудь диэлектрик о шерсть или что-нибудь подобное, например, пластиковую ручку о собственные чистые волосы. На ручке создастся заряд, а вокруг — электрическое поле. Заряженная ручка будет притягивать к себе мелкие обрывки бумаги. Если натирать о шерсть предмет большей ширины, например, резиновую ленту, то в темноте можно будет видеть мелкие искры, возникающие вследствие электрических разрядов.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0880" y="38052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Магнитное поле — это особый вид материи, которая не осязается человеком. Посредством магнитного поля можно воздействовать на некоторые другие тела.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Одно из наиболее часто встречающихся в обычной жизни проявлений магнитного поля — взаимодействие двух магнитов: одинаковые полюса отталкиваются, противоположные притягиваются. 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5553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9T10:42:02Z</dcterms:created>
  <dc:creator>Бизон</dc:creator>
  <dc:description/>
  <dc:language>en-US</dc:language>
  <cp:lastModifiedBy>1</cp:lastModifiedBy>
  <dcterms:modified xsi:type="dcterms:W3CDTF">2023-02-10T15:31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