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D3F-5DC8-4C85-9B17-2FF1DE8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6B2-F495-462F-BE7B-D330B07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86E-E778-43A8-B113-82588E8E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EDB-39DD-469F-88C6-ACB79E33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5B1-2035-4C00-B9CC-E1A74F53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792A-9540-4014-866F-0EC8DBE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4F41-36D6-4EFF-B7F1-49D6EDC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685-1D78-496F-BA21-EFEB033E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17DB-269A-48E5-ACD4-A424D25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8450-36E8-4F37-BD3F-8C7FCBEA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A4E2-3EBA-4344-B7A0-8283594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4AD-ADE8-450A-ACC2-C0A1542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0AAC-ECE4-4873-935D-2079C25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923D-D345-4195-9E3C-FC6ACCB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E597-21DA-4947-B2BB-B89E1D4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F9F-9D96-45B3-9DD3-6466DEA7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DEA-0031-4AA9-9A15-1DFFC3C8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8F14-0DE5-44E8-AA74-F80EB41F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8CB3-AD9E-46F6-90F0-058E123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DC4E-858C-4A32-BF3A-94049A6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0A51-FC8C-46E3-B1D3-D74E06DD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672F-E669-4AEE-A413-60909D7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715-0F9C-4DEC-B4A8-CEFC54F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8CFE-64EA-4078-A57C-F655D6D2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A997-D2C1-4749-8642-DF7BD3A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CCD2-2A49-45CA-AC50-0A46682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84AD-8052-4F5F-A9B1-0309325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8918-83B1-4A5C-9072-872746E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CFF4-7084-4731-86D7-C02AEB90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0C44-174B-43B2-A49C-13A3F6C9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A9182-6348-4A2F-B311-257A76F9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3D5B-7938-40FB-BF9A-8A620D15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5995-60D0-47B4-94C7-1860B4E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7EE-04BF-4B41-AE87-4607370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85E8-AA48-4B79-A694-A18B7885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8F50-ACF8-43E3-A28D-AD25814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3338-7BA3-4211-A53A-3AAF505A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4AD7-39E1-4363-AA68-DC4FB4BE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3F32-7B07-4070-B0AC-DFDA02A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5B12-12C1-4AD2-BE90-D8F3D74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8144-4946-4EF7-83F7-A52551F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BE8D-53AB-4A07-8C5D-B49A5468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4ACF-F274-4AA6-BDE3-D165F74A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9D3-3FA5-4380-B2AB-182E0E7A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E0E-DAEA-411B-8C64-A1A43D7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FC0-4B94-457D-93B6-825B5F02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BA3-5A73-4036-840D-2707914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05B-A27E-4EDB-AE08-EC405E4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6A8-6AC5-4814-9E8F-D05495CAE4B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B4D5-4FDA-4E01-80B7-70764A8903C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A474-0D9E-4908-8FBA-01AABE23F64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849-5942-42CE-8FAD-2D5931E50DB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entury Gothic"/>
              </a:rPr>
              <a:t>ЭНЕРГИЯ МАГНИТНОГО ПОЛЯ. ЭНЕРГИЯ ЭЛЕКТРИЧЕСКОГО ПОЛЯ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629400" y="3733920"/>
            <a:ext cx="228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Технологи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7 класс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Учитель: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анина О.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5" descr="004734482_1-2887db2d8e4a08501360c5dee79a7284"/>
          <p:cNvPicPr/>
          <p:nvPr/>
        </p:nvPicPr>
        <p:blipFill>
          <a:blip r:embed="rId1"/>
          <a:stretch/>
        </p:blipFill>
        <p:spPr>
          <a:xfrm>
            <a:off x="7621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439080" y="632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осибирск 202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 узнаете, как проявляются свойства магнитного и электрического полей. Вы научитесь: применять в быту и практической деятельности знания свойств магнитных, электрических пол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264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560" y="3049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Некоторые металлы взаимодействуют друг с другом на расстоянии посредством магнитного поля. Электрическое поле создаётся заряженными частицами — электронами и протонами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296372d30f08be787144b0a7f9d89c10"/>
          <p:cNvPicPr/>
          <p:nvPr/>
        </p:nvPicPr>
        <p:blipFill>
          <a:blip r:embed="rId1"/>
          <a:stretch/>
        </p:blipFill>
        <p:spPr>
          <a:xfrm>
            <a:off x="1371600" y="2514600"/>
            <a:ext cx="63244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Для того, чтобы создать электрическое поле, необходимо создать электрический заряд. Натрите какой-нибудь диэлектрик о шерсть или что-нибудь подобное, например, пластиковую ручку о собственные чистые волосы. На ручке создастся заряд, а вокруг — электрическое поле. Заряженная ручка будет притягивать к себе мелкие обрывки бумаги. Если натирать о шерсть предмет большей ширины, например, резиновую ленту, то в темноте можно будет видеть мелкие искры, возникающие вследствие электрических разрядов.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380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Магнитное поле — это особый вид материи, которая не осязается человеком. Посредством магнитного поля можно воздействовать на некоторые другие тела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Одно из наиболее часто встречающихся в обычной жизни проявлений магнитного поля — взаимодействие двух магнитов: одинаковые полюса отталкиваются, противоположные притягиваются. 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53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10:42:02Z</dcterms:created>
  <dc:creator>Бизон</dc:creator>
  <dc:description/>
  <dc:language>en-US</dc:language>
  <cp:lastModifiedBy>1</cp:lastModifiedBy>
  <dcterms:modified xsi:type="dcterms:W3CDTF">2023-02-10T15:31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