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ED6D-BC7F-4C56-841B-052E3C7C4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B3E4-89B6-4D9E-A030-93541563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ACEB-D2D2-488B-9CCF-FDC8D566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7300-EC4F-45F7-AB01-DC376B388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368B-2642-4352-80FE-18336960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19EC-53CA-428C-AC60-CDE9A093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016F-E035-4529-AB01-F58A97E4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24D7-F555-47E8-A7FF-AF3787FE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A800-2473-4E5E-BB1B-94A72604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6608-577C-4E18-809B-6450620D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506C-E166-4954-9F29-C166AA6E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1237-788F-44A4-AA08-75D76DC7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67EF-B65D-4609-90C1-AE27C01475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E:\movavi\image003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9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26920" y="765000"/>
            <a:ext cx="7561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автономное дошкольное образовательное учреждение – детский сад № 3 г. Зеленоград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по робототехн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1" descr=""/>
          <p:cNvPicPr/>
          <p:nvPr/>
        </p:nvPicPr>
        <p:blipFill>
          <a:blip r:embed="rId2"/>
          <a:srcRect l="0" t="0" r="0" b="16865"/>
          <a:stretch/>
        </p:blipFill>
        <p:spPr>
          <a:xfrm>
            <a:off x="849240" y="2865600"/>
            <a:ext cx="744552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E:\movavi\image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76360" y="877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Краткое опис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826920" y="2239920"/>
          <a:ext cx="7490160" cy="3962520"/>
        </p:xfrm>
        <a:graphic>
          <a:graphicData uri="http://schemas.openxmlformats.org/drawingml/2006/table">
            <a:tbl>
              <a:tblPr/>
              <a:tblGrid>
                <a:gridCol w="7490160"/>
              </a:tblGrid>
              <a:tr h="3964320">
                <a:tc>
                  <a:txBody>
                    <a:bodyPr lIns="114480" rIns="11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нозавры и их исчезновение являются одной из вечных загадок планеты Земля. В наше время о динозаврах пишут ученые; инженеры-робототехники создают копии в натуральную величину, а режиссеры и операторы снимают научные, художественные фильмы и мультфильм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нашем детском саду есть «Парк динозавров». Дети, гуляя по парку, изучая жизнь динозавров: когда жили, чем питались и почему исчезли, решили создать макет 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go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ноПарк» из лего-конструктор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е действующие механические модели динозавров диплодока и велоцираптора сконструировали из лего-конструктора и «оживили» через компьютерную программу LegoWeDo и LegoWeDo 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" name="Рисунок 11" descr="https://res.cloudinary.com/teepublic/image/private/s--e18604vr--/t_Preview/b_rgb:ffffff,c_limit,f_jpg,h_630,q_90,w_630/v1531947328/production/designs/2907507_0.jpg"/>
          <p:cNvPicPr/>
          <p:nvPr/>
        </p:nvPicPr>
        <p:blipFill>
          <a:blip r:embed="rId2"/>
          <a:srcRect l="9367" t="22858" r="9050" b="22699"/>
          <a:stretch/>
        </p:blipFill>
        <p:spPr>
          <a:xfrm>
            <a:off x="797040" y="768240"/>
            <a:ext cx="208260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E:\movavi\image003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2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Calibri"/>
              </a:rPr>
              <a:t>Цель проект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-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55640" y="2443320"/>
            <a:ext cx="7704000" cy="30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дошкольников основных навыков робототехники путем создания макета «LegoДиноПарка» с действующими механическими моделями динозавр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E:\movavi\image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1"/>
          <p:cNvSpPr/>
          <p:nvPr/>
        </p:nvSpPr>
        <p:spPr>
          <a:xfrm>
            <a:off x="719280" y="1414440"/>
            <a:ext cx="77054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познавательного интереса к робототехник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умений и навыков конструирования, развитие исследовательской деятельности: обеспечить освоение детьми основных приемов сборки и программирования технических средст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индивидуальных способностей каждого ребенка, творческой активности, самостоятельности в принятии оптимальных решений, развитие внимания, оперативной памяти, воображения, логического и творческого мышл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питание ответственности, дисциплины, коммуникативных способност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основ безопасности детей: представление о правилах безопасного поведения при работе с электротехнико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питание ценностного отношения к собственному труду, труду других людей и его результата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умения анализировать предмет, выделять его характерные особенности, основные части, устанавливать связь между их назначением и строени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учение зубчатых передач, взаимосвязи зубчатого колеса с другими деталя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труирование и программирование моделей динозавров из лего-конструтора LegoWeDo и LegoWeDo 2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E:\movavi\image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2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Тема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1" descr=""/>
          <p:cNvPicPr/>
          <p:nvPr/>
        </p:nvPicPr>
        <p:blipFill>
          <a:blip r:embed="rId2"/>
          <a:srcRect l="0" t="0" r="1294" b="776"/>
          <a:stretch/>
        </p:blipFill>
        <p:spPr>
          <a:xfrm>
            <a:off x="5610240" y="3797280"/>
            <a:ext cx="2527200" cy="2346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899640" y="1341000"/>
            <a:ext cx="727236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динозавров, их особенностей. Создание макета «LegoДиноПарк» и первых его обитателей-динозавров: диплодока и велоцираптора из лего-конструктора, их программирование п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и компьютер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 LegoWeDo 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goWeDo 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E:\movavi\image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8330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Сфера примен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1"/>
          <p:cNvSpPr/>
          <p:nvPr/>
        </p:nvSpPr>
        <p:spPr>
          <a:xfrm>
            <a:off x="971640" y="1628640"/>
            <a:ext cx="748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кет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Leg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иноПарка» послужит наглядным пособием для дальнейшего изучения разных видов динозавров, игр с ними, а также для знакомства детей младших групп с робототехни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F:\movavi\рабочая папка\Робототехника\2\DSCN8427.JPG"/>
          <p:cNvPicPr/>
          <p:nvPr/>
        </p:nvPicPr>
        <p:blipFill>
          <a:blip r:embed="rId2"/>
          <a:srcRect l="11076" t="2022" r="18567" b="0"/>
          <a:stretch/>
        </p:blipFill>
        <p:spPr>
          <a:xfrm>
            <a:off x="2124000" y="3198960"/>
            <a:ext cx="45356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E:\movavi\image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Методы и прие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1"/>
          <p:cNvSpPr/>
          <p:nvPr/>
        </p:nvSpPr>
        <p:spPr>
          <a:xfrm>
            <a:off x="755640" y="1628640"/>
            <a:ext cx="763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Наглядные методы: наблюдения на экскурсии в «Динопарк», просмотр мультфильмов, научно-документального фильма о жизни динозавро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Словесные методы: обобщающая беседа о внешности динозавров, их среде обитания; пояснения о содержании и последовательности действий при конструировании и программировании, вопросы, оценка собственной работ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Практические методы: разработка плана деятельности (порядок построения модельного вида динозавра из лего-конструкторов, создание компьютерной программы и запуск моделей с помощью компьютерных программ LegoWeDo и LegoWeDo 2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4.Информативно - рецептивный метод: воспитатель даёт информацию, а воспитанники её воспринимают, осмысливают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Исследовательский метод: самостоятельная оценка своей деятельности, обсуждение возникших труднос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E:\movavi\image003.jpg"/>
          <p:cNvPicPr/>
          <p:nvPr/>
        </p:nvPicPr>
        <p:blipFill>
          <a:blip r:embed="rId1"/>
          <a:stretch/>
        </p:blipFill>
        <p:spPr>
          <a:xfrm>
            <a:off x="-30240" y="-15840"/>
            <a:ext cx="9174240" cy="68738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9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1"/>
          <p:cNvSpPr/>
          <p:nvPr/>
        </p:nvSpPr>
        <p:spPr>
          <a:xfrm>
            <a:off x="934920" y="1738440"/>
            <a:ext cx="7274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шая проблему создания макета 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Lego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иноПарка» из лего-конструкторов, мы рассмотрели разные виды динозавров в мультфильмах и познавательно-научных фильм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ы освоили конструирование и возможности программирования моделей динозавров, использование в ней зубчатой переда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результате нами был создан проект макета 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Lego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иноПарка» с действующими моделями динозавров из лего-конструкторов LegoWeDo и LegoWeDo 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24T21:23:31Z</dcterms:created>
  <dc:creator>админ</dc:creator>
  <dc:description/>
  <dc:language>en-US</dc:language>
  <cp:lastModifiedBy>Пользователь Windows</cp:lastModifiedBy>
  <dcterms:modified xsi:type="dcterms:W3CDTF">2023-02-10T19:08:42Z</dcterms:modified>
  <cp:revision>19</cp:revision>
  <dc:subject/>
  <dc:title>Презентация PowerPoint</dc:title>
</cp:coreProperties>
</file>