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55E-9A6A-4441-89FF-A3935DCA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013-7F25-4A23-9510-CB260DEA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AB9-C072-40C2-BBF9-1529C1CF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75A-E3A9-443D-A17C-BB3AE775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6FF-77FD-4476-9285-3C6275F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66D-8E66-4652-882A-8BE65ABC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D05-F226-44B2-AF7B-97E3AA16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8EA-04E0-4A6A-B0C9-BA4DEFD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C82-1EF2-487E-9652-9328F508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938-3EA2-4D34-927F-E746DB5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15B-8B44-470D-B9A3-9F30029D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B79-E7DC-4943-8EAE-F40E3DD9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B807-BE0F-4842-87C6-65E12D353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ovavi\image003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765000"/>
            <a:ext cx="756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– детский сад № 3 г. Зеленоград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 робототех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rcRect l="0" t="0" r="0" b="16865"/>
          <a:stretch/>
        </p:blipFill>
        <p:spPr>
          <a:xfrm>
            <a:off x="849240" y="2865600"/>
            <a:ext cx="74455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87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Краткое 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2239920"/>
          <a:ext cx="7490160" cy="3962520"/>
        </p:xfrm>
        <a:graphic>
          <a:graphicData uri="http://schemas.openxmlformats.org/drawingml/2006/table">
            <a:tbl>
              <a:tblPr/>
              <a:tblGrid>
                <a:gridCol w="7490160"/>
              </a:tblGrid>
              <a:tr h="396432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озавры и их исчезновение являются одной из вечных загадок планеты Земля. В наше время о динозаврах пишут ученые; инженеры-робототехники создают копии в натуральную величину, а режиссеры и операторы снимают научные, художественные фильмы и мультфиль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шем детском саду есть «Парк динозавров». Дети, гуляя по парку, изучая жизнь динозавров: когда жили, чем питались и почему исчезли, решили создать макет 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g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оПарк» из лего-конструк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действующие механические модели динозавров диплодока и велоцираптора сконструировали из лего-конструктора и «оживили» через компьютерную программу LegoWeDo и LegoWeDo 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Рисунок 11" descr="https://res.cloudinary.com/teepublic/image/private/s--e18604vr--/t_Preview/b_rgb:ffffff,c_limit,f_jpg,h_630,q_90,w_630/v1531947328/production/designs/2907507_0.jpg"/>
          <p:cNvPicPr/>
          <p:nvPr/>
        </p:nvPicPr>
        <p:blipFill>
          <a:blip r:embed="rId2"/>
          <a:srcRect l="9367" t="22858" r="9050" b="22699"/>
          <a:stretch/>
        </p:blipFill>
        <p:spPr>
          <a:xfrm>
            <a:off x="797040" y="768240"/>
            <a:ext cx="20826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Calibri"/>
              </a:rPr>
              <a:t>Цель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2443320"/>
            <a:ext cx="77040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основных навыков робототехники путем создания макета «LegoДиноПарка» с действующими механическими моделями динозав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719280" y="1414440"/>
            <a:ext cx="7705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го интереса к робототехн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й и навыков конструирования, развитие исследовательской деятельности: обеспечить освоение детьми основных приемов сборки и программирования технических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индивидуальных способностей каждого ребенка, творческой активности, самостоятельности в принятии оптимальных решений, развитие внимания, оперативной памяти, воображения, логического и творческого мыш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ответственности, дисциплины, коммуникативных способнос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основ безопасности детей: представление о правилах безопасного поведения при работе с электротехник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ценностного отношения к собственному труду, труду других людей и его результат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умения анализировать предмет, выделять его характерные особенности, основные части, устанавливать связь между их назначением и стро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зубчатых передач, взаимосвязи зубчатого колеса с другими детал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руирование и программирование моделей динозавров из лего-конструтора LegoWeDo и LegoWeDo 2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2"/>
          <a:srcRect l="0" t="0" r="1294" b="776"/>
          <a:stretch/>
        </p:blipFill>
        <p:spPr>
          <a:xfrm>
            <a:off x="5610240" y="3797280"/>
            <a:ext cx="2527200" cy="234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99640" y="1341000"/>
            <a:ext cx="72723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динозавров, их особенностей. Создание макета «LegoДиноПарк» и первых его обитателей-динозавров: диплодока и велоцираптора из лего-конструктора, их программирование п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компьютер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LegoWeDo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oWeDo 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3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Сфера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971640" y="1628640"/>
            <a:ext cx="74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ет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Leg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оПарка» послужит наглядным пособием для дальнейшего изучения разных видов динозавров, игр с ними, а также для знакомства детей младших групп с робототехн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F:\movavi\рабочая папка\Робототехника\2\DSCN8427.JPG"/>
          <p:cNvPicPr/>
          <p:nvPr/>
        </p:nvPicPr>
        <p:blipFill>
          <a:blip r:embed="rId2"/>
          <a:srcRect l="11076" t="2022" r="18567" b="0"/>
          <a:stretch/>
        </p:blipFill>
        <p:spPr>
          <a:xfrm>
            <a:off x="2124000" y="3198960"/>
            <a:ext cx="4535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Методы и при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755640" y="162864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глядные методы: наблюдения на экскурсии в «Динопарк», просмотр мультфильмов, научно-документального фильма о жизни динозав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ловесные методы: обобщающая беседа о внешности динозавров, их среде обитания; пояснения о содержании и последовательности действий при конструировании и программировании, вопросы, оценка собственной рабо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ктические методы: разработка плана деятельности (порядок построения модельного вида динозавра из лего-конструкторов, создание компьютерной программы и запуск моделей с помощью компьютерных программ LegoWeDo и LegoWeDo 2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Информативно - рецептивный метод: воспитатель даёт информацию, а воспитанники её воспринимают, осмысливают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Исследовательский метод: самостоятельная оценка своей деятельности, обсуждение возникших труд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movavi\image003.jpg"/>
          <p:cNvPicPr/>
          <p:nvPr/>
        </p:nvPicPr>
        <p:blipFill>
          <a:blip r:embed="rId1"/>
          <a:stretch/>
        </p:blipFill>
        <p:spPr>
          <a:xfrm>
            <a:off x="-30240" y="-15840"/>
            <a:ext cx="9174240" cy="6873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9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934920" y="1738440"/>
            <a:ext cx="7274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ая проблему создания макет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eg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оПарка» из лего-конструкторов, мы рассмотрели разные виды динозавров в мультфильмах и познавательно-научных филь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освоили конструирование и возможности программирования моделей динозавров, использование в ней зубчатой пере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нами был создан проект макет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eg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оПарка» с действующими моделями динозавров из лего-конструкторов LegoWeDo и LegoWeDo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4T21:23:31Z</dcterms:created>
  <dc:creator>админ</dc:creator>
  <dc:description/>
  <dc:language>en-US</dc:language>
  <cp:lastModifiedBy>Пользователь Windows</cp:lastModifiedBy>
  <dcterms:modified xsi:type="dcterms:W3CDTF">2023-02-10T19:08:42Z</dcterms:modified>
  <cp:revision>19</cp:revision>
  <dc:subject/>
  <dc:title>Презентация PowerPoint</dc:title>
</cp:coreProperties>
</file>